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8B9736B-B0AA-4E4E-987F-03A6CA49BC87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58F-86ED-4EB2-A6FE-93D2F3DC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A69-D2FE-4941-A5B1-FE7FABB1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73E-F233-4745-9D50-487DFB25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ABA-30D6-49BE-9D74-E3211D81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5C0-EBDB-4994-B581-D6ECFD29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F11-E4AB-4FF2-880E-64086E65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17D-9371-45AF-A627-B855571B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EF33-CA00-4187-B5AB-BF08A161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32A-9142-4850-80B1-AD0CD3AC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DF9-106B-4846-A203-10BECDBC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5C7-A75B-4EE4-AC02-B7FE9EC0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D28-CE59-40CF-A5B7-EFF8817D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EABD-7A32-4E33-97EB-9514A2FDF9F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Resort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Cristian Fernandez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bien la compresión  X estará dada po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143000" y="2590920"/>
                <a:ext cx="58672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031760" y="510552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Lo que no variará si intercambiamos las mas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3200400"/>
            <a:ext cx="2362320" cy="990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sta en equilibrio  el sist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622680" cy="22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1030320" cy="1030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00600" y="365760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71600"/>
            <a:ext cx="807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vemos las dos masas y el resorte como un sistema, entonces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stem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209680"/>
                <a:ext cx="23619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↕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1225440" y="3886200"/>
          <a:ext cx="508644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3886200"/>
                    <a:ext cx="5086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5181480"/>
                <a:ext cx="2365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371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Tenemos que el equilibrio,  será cuand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2120" y="2133720"/>
                <a:ext cx="73404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 </m:t>
                    </m:r>
                    <m:r>
                      <m:t xml:space="preserve">∓</m:t>
                    </m:r>
                    <m:r>
                      <m:t xml:space="preserve">K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2120" y="4572000"/>
                <a:ext cx="914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88200" y="464832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que se acorta el resor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Necesitamos que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81280" y="1357200"/>
                <a:ext cx="1241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4476600"/>
                <a:ext cx="48006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∓</m:t>
                        </m:r>
                        <m:r>
                          <m:t xml:space="preserve">KΔx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62120" y="5695920"/>
                <a:ext cx="4343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ponemos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257800" y="5467320"/>
                <a:ext cx="1752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56440" y="2438280"/>
            <a:ext cx="31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gamos el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obre 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1143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37160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 decir necesitamos que se levante           sob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cuando se debe comprimi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llegar a esa altura , por energí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638680" y="1219320"/>
                <a:ext cx="6224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391520" y="1289160"/>
                <a:ext cx="590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86400" y="2514600"/>
                <a:ext cx="274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3809880"/>
                <a:ext cx="533376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00200" y="5257800"/>
                <a:ext cx="6080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90920" y="1371600"/>
                <a:ext cx="1796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2209680"/>
                <a:ext cx="39625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3520" y="1371600"/>
                <a:ext cx="8381880" cy="39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L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62120" y="13716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133720" y="1371600"/>
                <a:ext cx="154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95280" y="2362320"/>
                <a:ext cx="4343400" cy="19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219320" y="3505320"/>
            <a:ext cx="3504960" cy="838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4T23:29:21Z</dcterms:modified>
  <cp:revision>254</cp:revision>
  <dc:subject/>
  <dc:title>Presentación de PowerPoint</dc:title>
</cp:coreProperties>
</file>