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3.jpeg" ContentType="image/jpeg"/>
  <Override PartName="/ppt/media/image23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E9AE-52F0-4BF5-8226-72D229D34C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Cuadernillo temático- ícono del problema – nombre del probl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Indice temático con enunciad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Enunciado (completo) académico está en un 2º nive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VIDE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1 ) Enunciado coloquial, apoyado de un video, animación o gráfico.(enunciado completo ppt). Planteamiento de las incógnitas a     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   resol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2 ) Se plantean 2 métodos de solución y se explica por cual se resolvera. Al usar el método analítico se muestran los datos apoyados de la animación explicativa, junto con el sistema de refer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 3 ) Desarrol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Resolución de las ecuaciones que llegan al resultado final, y la discusión de un gráf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(4) Parte b) método gráfico del probl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 Unicode MS"/>
              </a:rPr>
              <a:t>Referencias a los temas del libro NZ (ref. cap 2, pag 73-78 libro N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44D-63B3-4500-AA0B-749A953D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6E0-AFE9-482B-A683-D43F4D90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5F8-BF69-4CB9-8E39-66E304A3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FAE-5DB3-463A-ADA6-41881ACB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4DC-7058-4485-A3C6-452F7BF0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0A8-C95F-475F-8645-319A793E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C91-753E-460E-87A2-3EA01F59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008-4210-45E2-9A80-8ACB3487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062-663E-4C39-BB8B-41BEF3E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91F-33D0-45D5-9603-30C62725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C37-0F91-499B-A826-CB5146A9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77D-6761-48AA-A762-7DB9AE90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nterior2%20copiar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4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99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CB8B-A90D-40D3-93C2-02856FF03D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2" name="portada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3048120"/>
            <a:ext cx="480060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2b2b2"/>
                </a:solidFill>
                <a:latin typeface="Verdana"/>
              </a:rPr>
              <a:t>Caída de un objeto desde</a:t>
            </a: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 el techo de un edificio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Nelson Zamora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Duración: 12mi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1066680"/>
            <a:ext cx="8153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n objeto se deja caer desde el techo de un edificio. Un observador parado frente a una ventana de altur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egistra el paso del objeto y nota que se demora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gundos en cruzarla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 partir de estos datos, encuentre a qué distancia se halla este observador del techo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   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b)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i el objeto continúa cayendo y  segundos después impacta el piso donde queda desplazado : ¿ a qué altura se encuentra la ventana sobre el pis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dere el retardo debido a la velocidad del sonido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572000"/>
            <a:ext cx="7620120" cy="22096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23360" y="502920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agen icónica del 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066680"/>
            <a:ext cx="82296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 analíti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stema de referenc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s conviene ubicar el origen de coordinadas en el techo del edific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81080" y="3429000"/>
          <a:ext cx="662940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66294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828800" y="3429000"/>
            <a:ext cx="6781680" cy="2590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586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Da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429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066680"/>
            <a:ext cx="82296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a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arroll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ecuación de la posición en función del tiempo para el caso de aceleración consta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btenemos, con los datos del problema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97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90920" y="2536920"/>
          <a:ext cx="274320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536920"/>
                    <a:ext cx="27432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90920" y="4025880"/>
          <a:ext cx="511488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4025880"/>
                    <a:ext cx="5114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362320" y="42847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55040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,</a:t>
            </a:r>
            <a:r>
              <a:rPr b="0" lang="en-US" sz="1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00600" y="5994360"/>
          <a:ext cx="297180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5994360"/>
                    <a:ext cx="2971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590920" y="4876920"/>
            <a:ext cx="548640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10666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iendo la primera ecuación por la segund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35268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182880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876920"/>
            <a:ext cx="3657600" cy="1752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66880" y="1568520"/>
          <a:ext cx="27432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568520"/>
                    <a:ext cx="27432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62120" y="25909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mand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y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obtenemo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666880" y="3041640"/>
                <a:ext cx="20941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762120" y="4191120"/>
            <a:ext cx="5943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que la distancia de la ventana al techo e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576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14600" y="4886280"/>
          <a:ext cx="327672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886280"/>
                    <a:ext cx="327672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graf1" descr=""/>
          <p:cNvPicPr/>
          <p:nvPr/>
        </p:nvPicPr>
        <p:blipFill>
          <a:blip r:embed="rId7"/>
          <a:stretch/>
        </p:blipFill>
        <p:spPr>
          <a:xfrm>
            <a:off x="6095880" y="1676520"/>
            <a:ext cx="2457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990720"/>
            <a:ext cx="8229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Utilizando los gráfic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l objeto parte del reposo desde el techo, su velocidad en cualquier instante antes de tocar el piso 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gráfico se desprende que el áre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churada representa la distanci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recorrida 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gundo entre       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efinición de velocidad medi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       y        e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13372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5638680"/>
            <a:ext cx="3733920" cy="838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733920" y="2057400"/>
          <a:ext cx="106668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057400"/>
                    <a:ext cx="1066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181480" y="3276720"/>
          <a:ext cx="3175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276720"/>
                    <a:ext cx="31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867280" y="3200400"/>
          <a:ext cx="3733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200400"/>
                    <a:ext cx="373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5651640"/>
          <a:ext cx="350496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651640"/>
                    <a:ext cx="35049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graf2" descr=""/>
          <p:cNvPicPr/>
          <p:nvPr/>
        </p:nvPicPr>
        <p:blipFill>
          <a:blip r:embed="rId11"/>
          <a:stretch/>
        </p:blipFill>
        <p:spPr>
          <a:xfrm>
            <a:off x="5486400" y="4267080"/>
            <a:ext cx="2362320" cy="2264040"/>
          </a:xfrm>
          <a:prstGeom prst="rect">
            <a:avLst/>
          </a:prstGeom>
          <a:ln w="0">
            <a:noFill/>
          </a:ln>
        </p:spPr>
      </p:pic>
      <p:pic>
        <p:nvPicPr>
          <p:cNvPr id="227" name="graf3" descr=""/>
          <p:cNvPicPr/>
          <p:nvPr/>
        </p:nvPicPr>
        <p:blipFill>
          <a:blip r:embed="rId12"/>
          <a:stretch/>
        </p:blipFill>
        <p:spPr>
          <a:xfrm>
            <a:off x="838080" y="2133720"/>
            <a:ext cx="2362320" cy="22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523880" y="4724280"/>
          <a:ext cx="3175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724280"/>
                    <a:ext cx="31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209680" y="4648320"/>
          <a:ext cx="37332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9680" y="4648320"/>
                    <a:ext cx="3733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990720"/>
            <a:ext cx="8229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acuerdo al gráfico la velocidad media se ubica en el punto indicado en la fig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l caso de la aceleración constante, este punto pertenece a la recta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de modo que: 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514600"/>
            <a:ext cx="2590560" cy="1676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90920" y="2619360"/>
          <a:ext cx="22096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619360"/>
                    <a:ext cx="22096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62120" y="1981080"/>
          <a:ext cx="91440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981080"/>
                    <a:ext cx="914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69720" y="4724280"/>
            <a:ext cx="695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área encerrada entre           y             representa la distancia recorrida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l objeto desde el techo hasta el borde superior de la ventana.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429000" y="4773600"/>
          <a:ext cx="609480" cy="33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73600"/>
                    <a:ext cx="6094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386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343400" y="4730760"/>
          <a:ext cx="76212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730760"/>
                    <a:ext cx="7621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64832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066680"/>
            <a:ext cx="2819520" cy="2819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73160" y="4572000"/>
            <a:ext cx="436104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Verificar dimensiones de la fórmul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 L = 1.2 m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g  =  10 m/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 = 1/8 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?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286000" y="1206360"/>
          <a:ext cx="22129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06360"/>
                    <a:ext cx="22129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286000" y="2054160"/>
                <a:ext cx="1917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286000" y="2968560"/>
                <a:ext cx="2286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838080" y="126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Área =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175248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102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4952880"/>
            <a:ext cx="3733560" cy="1752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53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066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tiempo que tarda en llegar al piso se puede obtener d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6960" y="1066680"/>
            <a:ext cx="35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  <a:ea typeface="Times New Roman"/>
              </a:rPr>
              <a:t>b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5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133720" y="1494000"/>
          <a:ext cx="1523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494000"/>
                    <a:ext cx="1523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762120" y="2514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n embargo, no conocemos ni     ni 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velocidad del sonido es U, debemos sumar lo que demora en escuchar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golpe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38480" y="2438280"/>
                <a:ext cx="317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673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057400" y="3276720"/>
          <a:ext cx="1676520" cy="84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276720"/>
                    <a:ext cx="167652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752480" y="3581280"/>
            <a:ext cx="15264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267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forma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71600" y="419400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514600" y="5035680"/>
                <a:ext cx="35053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τ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τ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4-16T23:00:29Z</dcterms:modified>
  <cp:revision>40</cp:revision>
  <dc:subject/>
  <dc:title>Presentación de PowerPoint</dc:title>
</cp:coreProperties>
</file>