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66F91B8-2A6A-4027-B882-7AE27C82E2B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No se si es necesario señalar todos los pasos en el video...(Yo no sesi es bueno o ma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ment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Falta señalar que la distancia entre ambos objetos en el instante inicial (t=0) es d ó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Tb se debe señalar que cuandose toca la linea y la parabola tienen la misma 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Por lo tanto la misma velo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viene señalar que es lo que sucede  cuando la vel. del  movil 1 cuando cruza la abcisa. Indicar como aparecen las condiciones iniciales en el grá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r el significado de los signos + y – en lo gra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graf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Necesitamos ani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Se necesita el abstract del enunc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Pregunta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Interpretacion im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falta el sistema de referencia y la especificación de los datos conoc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on eso se llega a escribir la ecuación de mov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Señalando claramente que sobrevive y que no. Importante es hacer emfasis en el sentido de la acelerac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Esto es valido para ambos móv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Yo pondría  una frase com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 partir de la definicion de aceleración constante podemos obtener esta expresión para la velocidad en cualquier instan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Quizas aquí se pueda intercalar la animacion. Para señalar claramente cuales son las condiciones del problema: los tranes apenas se tocan y el de A debe viajar a la misma velocidad cuando se tocan y despues aumentar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Cuando estan a punto de tocarse, se establece la ec.   4 (no tiene num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Ecuaciones para las velocidades de los trenes itener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Aquí se establece que ADEMAS en el mismo instante deben tener la misma velocidad para no enterrarse el uno en elñ otr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Despejo de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Arial Unicode MS"/>
              </a:rPr>
              <a:t>guion ta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Tom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Unicode MS"/>
              </a:rPr>
              <a:t>Reemplazo de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EB5-5245-4D98-8DAD-A9CB4A3B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9CC-7947-40DE-A4D5-6FBF0131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EC4-0760-49AF-A16B-D44C1042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761-2DB8-4768-852D-AD60A6C2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164-817D-49A8-9DA8-D1A082EF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8C3-FD0C-4965-AA78-ED1053E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0DB-7999-4641-8CA4-39E1667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687-657B-441D-9A28-8C98AFF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643-C6CA-4DC5-8556-18B44D3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BE0-45D7-4948-AC52-708A5EF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C2A-CC2E-4E5E-A839-49FEDF2D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751-928A-405A-B0D5-06D0B88F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39D-BD1A-4226-9A4A-A6E922E761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hoque de trenes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Tamara Cabre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1730520"/>
          <a:ext cx="5943600" cy="16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30520"/>
                    <a:ext cx="594360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362400" y="4151160"/>
          <a:ext cx="1911240" cy="10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2400" y="4151160"/>
                    <a:ext cx="1911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200400" y="4038480"/>
            <a:ext cx="2286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678000" y="54759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2" name="tamy%20graf1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4943520" cy="40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85680" y="11430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álisis gráf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tamy%20graf2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52760" cy="497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16200000">
            <a:off x="6525720" y="6008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áfico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52200" y="11430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95280" y="3352680"/>
          <a:ext cx="221004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352680"/>
                    <a:ext cx="2210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648320" y="3273480"/>
          <a:ext cx="243828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273480"/>
                    <a:ext cx="24382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998640"/>
            <a:ext cx="81532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unci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quinista de un tren que viaja a una rapidez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serva que, por la misma línea, se acerca un tren de carga. Estima que los separa una distanci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y que viaja con una rapidez menor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. Como el tren de carga no se puede detener, el maquinista aplica los frenos al máximo posible evitando provocar daño al tren y enseguida acelerar en el mismo sentido del tren de carga que se acerca para evitar ser alcanzado. El tren se detiene con una aceleración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n el instante en que el tren se detiene, de inmediato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s-CL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celera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990720"/>
            <a:ext cx="815364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 base a estos datos, demuestre qu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i                               entonces no habrá choque, pero si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desgraciadamente chocarán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Explique claramente su razonami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2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27440"/>
          <a:ext cx="1447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827440"/>
                    <a:ext cx="1447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035600"/>
          <a:ext cx="1447920" cy="68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5600"/>
                    <a:ext cx="144792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71600" y="2743200"/>
            <a:ext cx="1828800" cy="762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962520"/>
            <a:ext cx="1828800" cy="761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63520" y="1523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nalisis ima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6880" y="32925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40458c"/>
                </a:solidFill>
                <a:latin typeface="Arial Unicode MS"/>
              </a:rPr>
              <a:t>image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066680"/>
            <a:ext cx="82296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ción de las ecuaciones que regirán el movimiento del tren A y B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ones itinerario (o de posición ) para tren A y tren B</a:t>
            </a: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95480" y="3429000"/>
          <a:ext cx="32641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429000"/>
                    <a:ext cx="326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5359320"/>
          <a:ext cx="16002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359320"/>
                    <a:ext cx="16002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3244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cuación que rige la velocidad del tren A  y B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68720" y="3505320"/>
          <a:ext cx="1127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720" y="3505320"/>
                    <a:ext cx="1127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051440" y="2209680"/>
          <a:ext cx="204444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1440" y="2209680"/>
                    <a:ext cx="2044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72200" y="2286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581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ciones para resolver problem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1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remos que la posición de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a iguala la posición del tr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esta situación la llamaremos situación “limite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19520" y="3598920"/>
          <a:ext cx="342900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98920"/>
                    <a:ext cx="34290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743200" y="34290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8001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uego despejamos el tiempo de la ecuación de las velocidades imponiendo que la velocidad en ese punto en que los trenes se “topan ” es la misma velocidad para ambos , esto es una velocida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230720"/>
          <a:ext cx="1905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230720"/>
                    <a:ext cx="19051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581280" y="3124080"/>
          <a:ext cx="236232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23623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90720" y="2438280"/>
          <a:ext cx="2746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74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722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3 Reemplazamos el tiempo en la ecu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666880" y="2263680"/>
          <a:ext cx="3276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263680"/>
                    <a:ext cx="3276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14600" y="4164120"/>
          <a:ext cx="354348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164120"/>
                    <a:ext cx="354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38280" y="396252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73392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05-03T22:55:27Z</dcterms:modified>
  <cp:revision>75</cp:revision>
  <dc:subject/>
  <dc:title>Presentación de PowerPoint</dc:title>
</cp:coreProperties>
</file>