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4499-3C10-4F0B-B1E7-69F56C5F76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5899-D634-48A0-A666-8E1597F546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A49C-57F9-40CC-9220-CDC29EC76F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0514-5F4C-4AE6-B6A8-ACCEB5C564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374A-512F-4BA2-9400-7FC75E4F63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3DAB-E738-45F1-B527-EE7BCD8994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AA74-C0DB-446B-8314-D9FAC79A81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643B-545F-4A71-87C0-8EF769F81A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A78C-31D7-43ED-8CFB-1D43E0F93D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D462-43B5-48D2-BCEF-3ACF522EC8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FF40-F1F2-4445-8269-5447402B50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0FE4-1064-4D0A-8FD5-13D223D52F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6755-4A93-4593-B4F2-69D485B7BC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DB36-9432-4EF6-941E-7DF38A2828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EFF6-B0B4-4CD0-A3D2-253EE4524E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AE51-4D09-493A-9EFE-31F0D6B068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0F47-CF0B-46A4-993F-82973D6CAC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AEFC-2E22-422D-8C27-6F917EDCA9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DC02-BEBF-478E-809B-5D7F0D850A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5D3-E674-412A-8ABF-5584451F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E34-B30C-422D-873D-58637064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279-7287-4791-BA25-15DD078C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3E8-25A6-4D71-BEB6-8642B328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61F-236E-48BE-9747-53B61BD7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6D8-F5FD-4AFD-9E42-C0CA7668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141-9CCD-4134-8BC3-B54FEECA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0AC9-02AC-47B2-98EA-3490DEB1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690-44D4-402C-BB83-19315269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B01-8F52-43C3-B48E-D78615FE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AC9-45AC-4657-B044-3CE52304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639-73D2-4898-864D-4C13C2BA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780F-19BF-4538-8020-BDD7FDC41B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286240" y="3214800"/>
            <a:ext cx="0" cy="304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lase-14"/>
          <p:cNvPicPr/>
          <p:nvPr/>
        </p:nvPicPr>
        <p:blipFill>
          <a:blip r:embed="rId2"/>
          <a:stretch/>
        </p:blipFill>
        <p:spPr>
          <a:xfrm>
            <a:off x="571680" y="1000080"/>
            <a:ext cx="4057560" cy="5543640"/>
          </a:xfrm>
          <a:prstGeom prst="rect">
            <a:avLst/>
          </a:prstGeom>
          <a:ln w="0">
            <a:noFill/>
          </a:ln>
        </p:spPr>
      </p:pic>
      <p:sp>
        <p:nvSpPr>
          <p:cNvPr id="54" name="8 Rectángulo redondeado"/>
          <p:cNvSpPr/>
          <p:nvPr/>
        </p:nvSpPr>
        <p:spPr>
          <a:xfrm>
            <a:off x="4286160" y="1428840"/>
            <a:ext cx="4714920" cy="1571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4649040" y="1643040"/>
            <a:ext cx="39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Verdana"/>
              </a:rPr>
              <a:t>MOVIMIENTO CIRCULAR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Verdana"/>
              </a:rPr>
              <a:t>UNIFORME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572000" y="12142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se-14f"/>
          <p:cNvPicPr/>
          <p:nvPr/>
        </p:nvPicPr>
        <p:blipFill>
          <a:blip r:embed="rId2"/>
          <a:stretch/>
        </p:blipFill>
        <p:spPr>
          <a:xfrm>
            <a:off x="214200" y="1209600"/>
            <a:ext cx="4248360" cy="5648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3"/>
          <a:stretch/>
        </p:blipFill>
        <p:spPr>
          <a:xfrm>
            <a:off x="4722840" y="1714680"/>
            <a:ext cx="44211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71492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lase-14i"/>
          <p:cNvPicPr/>
          <p:nvPr/>
        </p:nvPicPr>
        <p:blipFill>
          <a:blip r:embed="rId2"/>
          <a:stretch/>
        </p:blipFill>
        <p:spPr>
          <a:xfrm>
            <a:off x="285840" y="914400"/>
            <a:ext cx="4330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67150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lase-14j"/>
          <p:cNvPicPr/>
          <p:nvPr/>
        </p:nvPicPr>
        <p:blipFill>
          <a:blip r:embed="rId2"/>
          <a:stretch/>
        </p:blipFill>
        <p:spPr>
          <a:xfrm>
            <a:off x="0" y="1500120"/>
            <a:ext cx="6480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52862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146160" y="1214280"/>
            <a:ext cx="5072040" cy="4569120"/>
          </a:xfrm>
          <a:prstGeom prst="rect">
            <a:avLst/>
          </a:prstGeom>
          <a:ln w="0">
            <a:noFill/>
          </a:ln>
        </p:spPr>
      </p:pic>
      <p:sp>
        <p:nvSpPr>
          <p:cNvPr id="150" name="8 CuadroTexto"/>
          <p:cNvSpPr/>
          <p:nvPr/>
        </p:nvSpPr>
        <p:spPr>
          <a:xfrm>
            <a:off x="5508720" y="1643040"/>
            <a:ext cx="3635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a Figura grafica la geometría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del lanzamiento de una nav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exploratoria dirigida al planeta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Marte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Note que de acuerdo a un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observador en la Tierra, Marte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está quedándose atrás con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respecto a nosotro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a nave debe apuntar hacia el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ugar donde Marte estará, apro-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ximadamente en 6 meses má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A partir de la Figura, ¿pued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99"/>
                </a:solidFill>
                <a:latin typeface="Verdana"/>
              </a:rPr>
              <a:t>estimar</a:t>
            </a:r>
            <a:r>
              <a:rPr b="0" lang="es-MX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uál es la relación entre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un año en la tierra y un “año” d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Marte? 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471492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G:\Disco G\Int. a la Física\Cursos Anteriores\FI-10A-04-2003-1\Curso Angel Franco\cinematica\circular1\lineal_angular.gif"/>
          <p:cNvPicPr/>
          <p:nvPr/>
        </p:nvPicPr>
        <p:blipFill>
          <a:blip r:embed="rId2"/>
          <a:stretch/>
        </p:blipFill>
        <p:spPr>
          <a:xfrm>
            <a:off x="428760" y="1714680"/>
            <a:ext cx="3724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507204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lase-14a"/>
          <p:cNvPicPr/>
          <p:nvPr/>
        </p:nvPicPr>
        <p:blipFill>
          <a:blip r:embed="rId2"/>
          <a:stretch/>
        </p:blipFill>
        <p:spPr>
          <a:xfrm>
            <a:off x="285840" y="1000080"/>
            <a:ext cx="444492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Line 4"/>
          <p:cNvSpPr/>
          <p:nvPr/>
        </p:nvSpPr>
        <p:spPr>
          <a:xfrm>
            <a:off x="514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lase-14b"/>
          <p:cNvPicPr/>
          <p:nvPr/>
        </p:nvPicPr>
        <p:blipFill>
          <a:blip r:embed="rId2"/>
          <a:stretch/>
        </p:blipFill>
        <p:spPr>
          <a:xfrm>
            <a:off x="228600" y="990720"/>
            <a:ext cx="4352760" cy="58197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>
            <a:off x="5292720" y="4941720"/>
            <a:ext cx="3600360" cy="1582920"/>
          </a:xfrm>
          <a:prstGeom prst="wedgeEllipseCallout">
            <a:avLst>
              <a:gd name="adj1" fmla="val -104277"/>
              <a:gd name="adj2" fmla="val 6768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765760" y="5013360"/>
            <a:ext cx="26146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ote que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la ecuación para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el gráfico de la Figura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Considera </a:t>
            </a:r>
            <a:r>
              <a:rPr b="0" lang="es-CL" sz="1800" spc="-1" strike="noStrike">
                <a:solidFill>
                  <a:srgbClr val="0066cc"/>
                </a:solidFill>
                <a:latin typeface="Symbol"/>
                <a:ea typeface="Symbol"/>
              </a:rPr>
              <a:t></a:t>
            </a:r>
            <a:r>
              <a:rPr b="0" lang="es-CL" sz="1800" spc="-1" strike="noStrike" baseline="-25000">
                <a:solidFill>
                  <a:srgbClr val="0066cc"/>
                </a:solidFill>
                <a:latin typeface="Verdana"/>
              </a:rPr>
              <a:t>o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egativo.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Line 4"/>
          <p:cNvSpPr/>
          <p:nvPr/>
        </p:nvSpPr>
        <p:spPr>
          <a:xfrm>
            <a:off x="50720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lase-14c"/>
          <p:cNvPicPr/>
          <p:nvPr/>
        </p:nvPicPr>
        <p:blipFill>
          <a:blip r:embed="rId2"/>
          <a:stretch/>
        </p:blipFill>
        <p:spPr>
          <a:xfrm>
            <a:off x="214200" y="1066680"/>
            <a:ext cx="441648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Line 4"/>
          <p:cNvSpPr/>
          <p:nvPr/>
        </p:nvSpPr>
        <p:spPr>
          <a:xfrm>
            <a:off x="5143680" y="92880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lase-14d"/>
          <p:cNvPicPr/>
          <p:nvPr/>
        </p:nvPicPr>
        <p:blipFill>
          <a:blip r:embed="rId2"/>
          <a:stretch/>
        </p:blipFill>
        <p:spPr>
          <a:xfrm>
            <a:off x="428760" y="928800"/>
            <a:ext cx="4451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7"/>
          <p:cNvGrpSpPr/>
          <p:nvPr/>
        </p:nvGrpSpPr>
        <p:grpSpPr>
          <a:xfrm>
            <a:off x="214200" y="1542600"/>
            <a:ext cx="4572000" cy="3886200"/>
            <a:chOff x="214200" y="1542600"/>
            <a:chExt cx="4572000" cy="3886200"/>
          </a:xfrm>
        </p:grpSpPr>
        <p:sp>
          <p:nvSpPr>
            <p:cNvPr id="87" name="Oval 8"/>
            <p:cNvSpPr/>
            <p:nvPr/>
          </p:nvSpPr>
          <p:spPr>
            <a:xfrm>
              <a:off x="752040" y="2080080"/>
              <a:ext cx="3137760" cy="30729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2296080" y="15426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214200" y="361656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 flipH="1" flipV="1">
              <a:off x="3351960" y="1989720"/>
              <a:ext cx="537840" cy="126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 flipH="1" flipV="1">
              <a:off x="2036880" y="1650600"/>
              <a:ext cx="1195200" cy="67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 flipV="1">
              <a:off x="2275920" y="3255120"/>
              <a:ext cx="1523880" cy="36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 flipV="1">
              <a:off x="2275920" y="2376000"/>
              <a:ext cx="903960" cy="1240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4" name="Arc 15"/>
            <p:cNvSpPr/>
            <p:nvPr/>
          </p:nvSpPr>
          <p:spPr>
            <a:xfrm>
              <a:off x="2724120" y="3074400"/>
              <a:ext cx="259920" cy="4518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fill="none" w="20877" h="21600">
                  <a:moveTo>
                    <a:pt x="-1" y="0"/>
                  </a:moveTo>
                  <a:cubicBezTo>
                    <a:pt x="9794" y="0"/>
                    <a:pt x="18363" y="6590"/>
                    <a:pt x="20876" y="16057"/>
                  </a:cubicBezTo>
                </a:path>
                <a:path stroke="0" w="20877" h="21600">
                  <a:moveTo>
                    <a:pt x="-1" y="0"/>
                  </a:moveTo>
                  <a:cubicBezTo>
                    <a:pt x="9794" y="0"/>
                    <a:pt x="18363" y="6590"/>
                    <a:pt x="20876" y="16057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5" name="Text Box 16"/>
            <p:cNvSpPr/>
            <p:nvPr/>
          </p:nvSpPr>
          <p:spPr>
            <a:xfrm>
              <a:off x="2544840" y="1718640"/>
              <a:ext cx="1344600" cy="17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                   </a:t>
              </a: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4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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96" name="24 Grupo"/>
          <p:cNvGrpSpPr/>
          <p:nvPr/>
        </p:nvGrpSpPr>
        <p:grpSpPr>
          <a:xfrm>
            <a:off x="5214960" y="3357720"/>
            <a:ext cx="3736800" cy="2985840"/>
            <a:chOff x="5214960" y="3357720"/>
            <a:chExt cx="3736800" cy="2985840"/>
          </a:xfrm>
        </p:grpSpPr>
        <p:sp>
          <p:nvSpPr>
            <p:cNvPr id="97" name="Text Box 17"/>
            <p:cNvSpPr/>
            <p:nvPr/>
          </p:nvSpPr>
          <p:spPr>
            <a:xfrm>
              <a:off x="5357520" y="3357720"/>
              <a:ext cx="3475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V|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=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| V</a:t>
              </a:r>
              <a:r>
                <a:rPr b="1" lang="es-CL" sz="16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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 = | V</a:t>
              </a:r>
              <a:r>
                <a:rPr b="1" lang="es-CL" sz="16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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 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V | =  a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t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 a | = 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| V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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 =  R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</a:t>
              </a:r>
              <a:r>
                <a:rPr b="1" lang="es-CL" sz="1600" spc="-1" strike="noStrike" baseline="30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= |V|</a:t>
              </a:r>
              <a:r>
                <a:rPr b="1" lang="es-CL" sz="1600" spc="-1" strike="noStrike" baseline="30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/ R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| a |  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aceleración centrípeta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5214960" y="3500280"/>
              <a:ext cx="3736800" cy="2843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99" name="23 Grupo"/>
          <p:cNvGrpSpPr/>
          <p:nvPr/>
        </p:nvGrpSpPr>
        <p:grpSpPr>
          <a:xfrm>
            <a:off x="4000680" y="1246320"/>
            <a:ext cx="1871640" cy="1295640"/>
            <a:chOff x="4000680" y="1246320"/>
            <a:chExt cx="1871640" cy="1295640"/>
          </a:xfrm>
        </p:grpSpPr>
        <p:sp>
          <p:nvSpPr>
            <p:cNvPr id="100" name="Line 19"/>
            <p:cNvSpPr/>
            <p:nvPr/>
          </p:nvSpPr>
          <p:spPr>
            <a:xfrm flipH="1" flipV="1">
              <a:off x="4005360" y="1847160"/>
              <a:ext cx="1213560" cy="68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H="1" flipV="1">
              <a:off x="4713120" y="1260360"/>
              <a:ext cx="547560" cy="128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2" name="Line 21"/>
            <p:cNvSpPr/>
            <p:nvPr/>
          </p:nvSpPr>
          <p:spPr>
            <a:xfrm flipV="1">
              <a:off x="4040280" y="1246320"/>
              <a:ext cx="657000" cy="604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3" name="Text Box 22"/>
            <p:cNvSpPr/>
            <p:nvPr/>
          </p:nvSpPr>
          <p:spPr>
            <a:xfrm>
              <a:off x="4000680" y="1285920"/>
              <a:ext cx="914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ES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1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4" name="Text Box 23"/>
            <p:cNvSpPr/>
            <p:nvPr/>
          </p:nvSpPr>
          <p:spPr>
            <a:xfrm>
              <a:off x="4500720" y="1500480"/>
              <a:ext cx="13716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         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-- V</a:t>
              </a:r>
              <a:r>
                <a:rPr b="1" lang="es-CL" sz="11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ff"/>
                  </a:solidFill>
                  <a:latin typeface="Calibri"/>
                </a:rPr>
                <a:t>                     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   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1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6000840" y="12859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285840" y="1143000"/>
            <a:ext cx="5692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7 CuadroTexto"/>
          <p:cNvSpPr/>
          <p:nvPr/>
        </p:nvSpPr>
        <p:spPr>
          <a:xfrm>
            <a:off x="6215040" y="1714680"/>
            <a:ext cx="2714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 partir de la geometría del problema,  la resta de las velocidades realizada en el punto simétrico, sabemos que la aceleración debe tener una dirección radial y apuntar hacia el centro de la circunferencia (el sentido del vector)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siguiente operación es establecer el único parámetro que nos resta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magnitud del vector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o se obtiene a partir de la semejanza entre el triángulo formado por las velocidades y el formado por los vectores posición de la partícula en dos instantes muy cercano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528624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0" y="1143000"/>
            <a:ext cx="517860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5643720" y="1000080"/>
            <a:ext cx="2295360" cy="2362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lase-14e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4243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4-26T01:57:18Z</dcterms:modified>
  <cp:revision>34</cp:revision>
  <dc:subject/>
  <dc:title>Introducción a la Física Newtoniana </dc:title>
</cp:coreProperties>
</file>