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E13-30C2-447E-BDC3-F2840B7D97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B6EC-D256-47B4-961B-74F9C7913A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65D2-C0AD-462B-AF4C-586B4743A9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CA53-AE6D-4368-A048-310D9FE116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1C13-8714-470A-BD91-058C95ADD75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B19A-7D8A-46DB-97E1-C5960BA29C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3821-3700-4276-AE17-9236C20023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BF0-D126-45DF-9B43-3DB865F653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5F3D-0661-4CC0-AA4F-AACD6FAD3A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2314-DA07-4523-B0FF-7F0700061A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AB4F-6F79-4B9B-A14E-1B8879ACCE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1E9E-E1E8-40F1-82EB-B391821AA2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C959-5037-4316-BB63-17E7D62194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520-39C6-49EF-8365-3617472FB9F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7B49-30DF-497D-A067-1F4E5810CF4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305F-A2AB-463C-8B69-250C8009B2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9B2B-0F44-496B-9F13-16936868FD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6862-B1E5-4D2F-83C0-2179E0E8C6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4E93-2638-48B0-B729-8DB288F085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D5F-50C9-400D-B99D-20D12A7C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78A-1FAD-4201-AADE-54EA142E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8A7-A673-4523-919B-C5D45992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51C-8A8A-4042-BB8D-FB4F6CB0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F23-8F24-49A8-98F0-CA55491B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194-3580-4267-8B5C-6ED095DA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ACE8-04EE-4B25-B10F-0CA1C111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563-DCCC-45BE-A085-21E72163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9A0-7FDE-4132-A753-53C67BB1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E1C-81E9-4377-8186-D9F9AE9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0D1-E1CA-436C-B393-98EB59C5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EEB-B735-41AD-8F0F-CEF0E9CF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642F-3432-406F-B6DA-AD12DA8378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286240" y="3214800"/>
            <a:ext cx="0" cy="304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lase-14"/>
          <p:cNvPicPr/>
          <p:nvPr/>
        </p:nvPicPr>
        <p:blipFill>
          <a:blip r:embed="rId2"/>
          <a:stretch/>
        </p:blipFill>
        <p:spPr>
          <a:xfrm>
            <a:off x="571680" y="1000080"/>
            <a:ext cx="4057560" cy="5543640"/>
          </a:xfrm>
          <a:prstGeom prst="rect">
            <a:avLst/>
          </a:prstGeom>
          <a:ln w="0">
            <a:noFill/>
          </a:ln>
        </p:spPr>
      </p:pic>
      <p:sp>
        <p:nvSpPr>
          <p:cNvPr id="54" name="8 Rectángulo redondeado"/>
          <p:cNvSpPr/>
          <p:nvPr/>
        </p:nvSpPr>
        <p:spPr>
          <a:xfrm>
            <a:off x="4286160" y="1428840"/>
            <a:ext cx="4714920" cy="1571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7 CuadroTexto"/>
          <p:cNvSpPr/>
          <p:nvPr/>
        </p:nvSpPr>
        <p:spPr>
          <a:xfrm>
            <a:off x="4649040" y="1643040"/>
            <a:ext cx="39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Verdana"/>
              </a:rPr>
              <a:t>MOVIMIENTO CIRCULAR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Verdana"/>
              </a:rPr>
              <a:t>UNIFORME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572000" y="12142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se-14f"/>
          <p:cNvPicPr/>
          <p:nvPr/>
        </p:nvPicPr>
        <p:blipFill>
          <a:blip r:embed="rId2"/>
          <a:stretch/>
        </p:blipFill>
        <p:spPr>
          <a:xfrm>
            <a:off x="214200" y="1209600"/>
            <a:ext cx="4248360" cy="564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3"/>
          <a:stretch/>
        </p:blipFill>
        <p:spPr>
          <a:xfrm>
            <a:off x="4722840" y="1714680"/>
            <a:ext cx="44211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471492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lase-14i"/>
          <p:cNvPicPr/>
          <p:nvPr/>
        </p:nvPicPr>
        <p:blipFill>
          <a:blip r:embed="rId2"/>
          <a:stretch/>
        </p:blipFill>
        <p:spPr>
          <a:xfrm>
            <a:off x="285840" y="914400"/>
            <a:ext cx="4330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67150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lase-14j"/>
          <p:cNvPicPr/>
          <p:nvPr/>
        </p:nvPicPr>
        <p:blipFill>
          <a:blip r:embed="rId2"/>
          <a:stretch/>
        </p:blipFill>
        <p:spPr>
          <a:xfrm>
            <a:off x="0" y="1500120"/>
            <a:ext cx="648000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52862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2"/>
          <a:stretch/>
        </p:blipFill>
        <p:spPr>
          <a:xfrm>
            <a:off x="146160" y="1214280"/>
            <a:ext cx="5072040" cy="4569120"/>
          </a:xfrm>
          <a:prstGeom prst="rect">
            <a:avLst/>
          </a:prstGeom>
          <a:ln w="0">
            <a:noFill/>
          </a:ln>
        </p:spPr>
      </p:pic>
      <p:sp>
        <p:nvSpPr>
          <p:cNvPr id="150" name="8 CuadroTexto"/>
          <p:cNvSpPr/>
          <p:nvPr/>
        </p:nvSpPr>
        <p:spPr>
          <a:xfrm>
            <a:off x="5508720" y="1643040"/>
            <a:ext cx="3635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a Figura grafica la geometría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del lanzamiento de una nav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xploratoria dirigida al planeta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Marte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Note que de acuerdo a u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observador en la Tierra, Marte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está quedándose atrás con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respecto a nosotro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a nave debe apuntar hacia el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Lugar donde Marte estará, apro-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Verdana"/>
              </a:rPr>
              <a:t>ximadamente en 6 meses más.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A partir de la Figura, ¿pued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99"/>
                </a:solidFill>
                <a:latin typeface="Verdana"/>
              </a:rPr>
              <a:t>estimar</a:t>
            </a:r>
            <a:r>
              <a:rPr b="0" lang="es-MX" sz="1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cuál es la relación entre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un año en la tierra y un “año” de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b050"/>
                </a:solidFill>
                <a:latin typeface="Verdana"/>
              </a:rPr>
              <a:t>Marte?  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471492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G:\Disco G\Int. a la Física\Cursos Anteriores\FI-10A-04-2003-1\Curso Angel Franco\cinematica\circular1\lineal_angular.gif"/>
          <p:cNvPicPr/>
          <p:nvPr/>
        </p:nvPicPr>
        <p:blipFill>
          <a:blip r:embed="rId2"/>
          <a:stretch/>
        </p:blipFill>
        <p:spPr>
          <a:xfrm>
            <a:off x="428760" y="1714680"/>
            <a:ext cx="3724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399564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07204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lase-14a"/>
          <p:cNvPicPr/>
          <p:nvPr/>
        </p:nvPicPr>
        <p:blipFill>
          <a:blip r:embed="rId2"/>
          <a:stretch/>
        </p:blipFill>
        <p:spPr>
          <a:xfrm>
            <a:off x="285840" y="1000080"/>
            <a:ext cx="444492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514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lase-14b"/>
          <p:cNvPicPr/>
          <p:nvPr/>
        </p:nvPicPr>
        <p:blipFill>
          <a:blip r:embed="rId2"/>
          <a:stretch/>
        </p:blipFill>
        <p:spPr>
          <a:xfrm>
            <a:off x="228600" y="990720"/>
            <a:ext cx="4352760" cy="58197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5292720" y="4941720"/>
            <a:ext cx="3600360" cy="1582920"/>
          </a:xfrm>
          <a:prstGeom prst="wedgeEllipseCallout">
            <a:avLst>
              <a:gd name="adj1" fmla="val -104277"/>
              <a:gd name="adj2" fmla="val 6768"/>
            </a:avLst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765760" y="5013360"/>
            <a:ext cx="26146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ote que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la ecuación para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el gráfico de la Figura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Considera </a:t>
            </a:r>
            <a:r>
              <a:rPr b="0" lang="es-CL" sz="1800" spc="-1" strike="noStrike">
                <a:solidFill>
                  <a:srgbClr val="0066cc"/>
                </a:solidFill>
                <a:latin typeface="Symbol"/>
                <a:ea typeface="Symbol"/>
              </a:rPr>
              <a:t></a:t>
            </a:r>
            <a:r>
              <a:rPr b="0" lang="es-CL" sz="1800" spc="-1" strike="noStrike" baseline="-25000">
                <a:solidFill>
                  <a:srgbClr val="0066cc"/>
                </a:solidFill>
                <a:latin typeface="Verdana"/>
              </a:rPr>
              <a:t>o </a:t>
            </a: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cc"/>
                </a:solidFill>
                <a:latin typeface="Verdana"/>
              </a:rPr>
              <a:t>negativo.</a:t>
            </a:r>
            <a:endParaRPr b="0" lang="en-US" sz="1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Line 4"/>
          <p:cNvSpPr/>
          <p:nvPr/>
        </p:nvSpPr>
        <p:spPr>
          <a:xfrm>
            <a:off x="50720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lase-14c"/>
          <p:cNvPicPr/>
          <p:nvPr/>
        </p:nvPicPr>
        <p:blipFill>
          <a:blip r:embed="rId2"/>
          <a:stretch/>
        </p:blipFill>
        <p:spPr>
          <a:xfrm>
            <a:off x="214200" y="1066680"/>
            <a:ext cx="44164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Line 4"/>
          <p:cNvSpPr/>
          <p:nvPr/>
        </p:nvSpPr>
        <p:spPr>
          <a:xfrm>
            <a:off x="5143680" y="92880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lase-14d"/>
          <p:cNvPicPr/>
          <p:nvPr/>
        </p:nvPicPr>
        <p:blipFill>
          <a:blip r:embed="rId2"/>
          <a:stretch/>
        </p:blipFill>
        <p:spPr>
          <a:xfrm>
            <a:off x="428760" y="928800"/>
            <a:ext cx="445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7"/>
          <p:cNvGrpSpPr/>
          <p:nvPr/>
        </p:nvGrpSpPr>
        <p:grpSpPr>
          <a:xfrm>
            <a:off x="214200" y="1542600"/>
            <a:ext cx="4572000" cy="3886200"/>
            <a:chOff x="214200" y="1542600"/>
            <a:chExt cx="4572000" cy="3886200"/>
          </a:xfrm>
        </p:grpSpPr>
        <p:sp>
          <p:nvSpPr>
            <p:cNvPr id="87" name="Oval 8"/>
            <p:cNvSpPr/>
            <p:nvPr/>
          </p:nvSpPr>
          <p:spPr>
            <a:xfrm>
              <a:off x="752040" y="2080080"/>
              <a:ext cx="3137760" cy="30729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88" name="Line 9"/>
            <p:cNvSpPr/>
            <p:nvPr/>
          </p:nvSpPr>
          <p:spPr>
            <a:xfrm>
              <a:off x="2296080" y="15426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214200" y="361656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 flipH="1" flipV="1">
              <a:off x="3351960" y="1989720"/>
              <a:ext cx="537840" cy="126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 flipH="1" flipV="1">
              <a:off x="2036880" y="1650600"/>
              <a:ext cx="1195200" cy="67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 flipV="1">
              <a:off x="2275920" y="3255120"/>
              <a:ext cx="1523880" cy="36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 flipV="1">
              <a:off x="2275920" y="2376000"/>
              <a:ext cx="903960" cy="1240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4" name="Arc 15"/>
            <p:cNvSpPr/>
            <p:nvPr/>
          </p:nvSpPr>
          <p:spPr>
            <a:xfrm>
              <a:off x="2724120" y="3074400"/>
              <a:ext cx="259920" cy="45180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fill="none" w="20877" h="21600">
                  <a:moveTo>
                    <a:pt x="-1" y="0"/>
                  </a:moveTo>
                  <a:cubicBezTo>
                    <a:pt x="9794" y="0"/>
                    <a:pt x="18363" y="6590"/>
                    <a:pt x="20876" y="16057"/>
                  </a:cubicBezTo>
                </a:path>
                <a:path stroke="0" w="20877" h="21600">
                  <a:moveTo>
                    <a:pt x="-1" y="0"/>
                  </a:moveTo>
                  <a:cubicBezTo>
                    <a:pt x="9794" y="0"/>
                    <a:pt x="18363" y="6590"/>
                    <a:pt x="20876" y="16057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2544840" y="1718640"/>
              <a:ext cx="1344600" cy="171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4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                   </a:t>
              </a:r>
              <a:r>
                <a:rPr b="1" lang="es-CL" sz="14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4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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6" name="24 Grupo"/>
          <p:cNvGrpSpPr/>
          <p:nvPr/>
        </p:nvGrpSpPr>
        <p:grpSpPr>
          <a:xfrm>
            <a:off x="5214960" y="3357720"/>
            <a:ext cx="3736800" cy="2985840"/>
            <a:chOff x="5214960" y="3357720"/>
            <a:chExt cx="3736800" cy="2985840"/>
          </a:xfrm>
        </p:grpSpPr>
        <p:sp>
          <p:nvSpPr>
            <p:cNvPr id="97" name="Text Box 17"/>
            <p:cNvSpPr/>
            <p:nvPr/>
          </p:nvSpPr>
          <p:spPr>
            <a:xfrm>
              <a:off x="5357520" y="3357720"/>
              <a:ext cx="3475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V|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=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| V</a:t>
              </a:r>
              <a:r>
                <a:rPr b="1" lang="es-CL" sz="16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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 = | V</a:t>
              </a:r>
              <a:r>
                <a:rPr b="1" lang="es-CL" sz="16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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 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V | =  a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t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Calibri"/>
                </a:rPr>
                <a:t>| a | =  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| V |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 =  R </a:t>
              </a:r>
              <a:r>
                <a:rPr b="1" lang="es-E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</a:t>
              </a:r>
              <a:r>
                <a:rPr b="1" lang="es-CL" sz="16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= |V|</a:t>
              </a:r>
              <a:r>
                <a:rPr b="1" lang="es-CL" sz="1600" spc="-1" strike="noStrike" baseline="30000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es-CL" sz="1600" spc="-1" strike="noStrike">
                  <a:solidFill>
                    <a:srgbClr val="0000ff"/>
                  </a:solidFill>
                  <a:latin typeface="Calibri"/>
                </a:rPr>
                <a:t> / R</a:t>
              </a: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| a |  </a:t>
              </a:r>
              <a:r>
                <a:rPr b="1" lang="es-E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</a:t>
              </a:r>
              <a:r>
                <a:rPr b="1" lang="es-ES" sz="1800" spc="-1" strike="noStrike">
                  <a:solidFill>
                    <a:srgbClr val="0000ff"/>
                  </a:solidFill>
                  <a:latin typeface="Calibri"/>
                </a:rPr>
                <a:t> aceleración centrípeta</a:t>
              </a:r>
              <a:endParaRPr b="0" lang="en-US" sz="18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5214960" y="3500280"/>
              <a:ext cx="3736800" cy="2843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grpSp>
        <p:nvGrpSpPr>
          <p:cNvPr id="99" name="23 Grupo"/>
          <p:cNvGrpSpPr/>
          <p:nvPr/>
        </p:nvGrpSpPr>
        <p:grpSpPr>
          <a:xfrm>
            <a:off x="4000680" y="1246320"/>
            <a:ext cx="1871640" cy="1295640"/>
            <a:chOff x="4000680" y="1246320"/>
            <a:chExt cx="1871640" cy="1295640"/>
          </a:xfrm>
        </p:grpSpPr>
        <p:sp>
          <p:nvSpPr>
            <p:cNvPr id="100" name="Line 19"/>
            <p:cNvSpPr/>
            <p:nvPr/>
          </p:nvSpPr>
          <p:spPr>
            <a:xfrm flipH="1" flipV="1">
              <a:off x="4005360" y="1847160"/>
              <a:ext cx="1213560" cy="68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H="1" flipV="1">
              <a:off x="4713120" y="1260360"/>
              <a:ext cx="547560" cy="128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2" name="Line 21"/>
            <p:cNvSpPr/>
            <p:nvPr/>
          </p:nvSpPr>
          <p:spPr>
            <a:xfrm flipV="1">
              <a:off x="4040280" y="1246320"/>
              <a:ext cx="657000" cy="604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3" name="Text Box 22"/>
            <p:cNvSpPr/>
            <p:nvPr/>
          </p:nvSpPr>
          <p:spPr>
            <a:xfrm>
              <a:off x="4000680" y="1285920"/>
              <a:ext cx="914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s-ES" sz="11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s-ES" sz="11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104" name="Text Box 23"/>
            <p:cNvSpPr/>
            <p:nvPr/>
          </p:nvSpPr>
          <p:spPr>
            <a:xfrm>
              <a:off x="4500720" y="1500480"/>
              <a:ext cx="13716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         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-- V</a:t>
              </a:r>
              <a:r>
                <a:rPr b="1" lang="es-CL" sz="1100" spc="-1" strike="noStrike" baseline="-25000">
                  <a:solidFill>
                    <a:srgbClr val="0000ff"/>
                  </a:solidFill>
                  <a:latin typeface="Calibri"/>
                </a:rPr>
                <a:t>1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ff"/>
                  </a:solidFill>
                  <a:latin typeface="Calibri"/>
                </a:rPr>
                <a:t>                     </a:t>
              </a: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     </a:t>
              </a:r>
              <a:r>
                <a:rPr b="1" lang="es-CL" sz="1100" spc="-1" strike="noStrike">
                  <a:solidFill>
                    <a:srgbClr val="0000ff"/>
                  </a:solidFill>
                  <a:latin typeface="Calibri"/>
                </a:rPr>
                <a:t>V</a:t>
              </a:r>
              <a:r>
                <a:rPr b="1" lang="es-CL" sz="1100" spc="-1" strike="noStrike" baseline="-25000">
                  <a:solidFill>
                    <a:srgbClr val="0000ff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6000840" y="12859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285840" y="1143000"/>
            <a:ext cx="5692680" cy="5143680"/>
          </a:xfrm>
          <a:prstGeom prst="rect">
            <a:avLst/>
          </a:prstGeom>
          <a:ln w="0">
            <a:noFill/>
          </a:ln>
        </p:spPr>
      </p:pic>
      <p:sp>
        <p:nvSpPr>
          <p:cNvPr id="111" name="7 CuadroTexto"/>
          <p:cNvSpPr/>
          <p:nvPr/>
        </p:nvSpPr>
        <p:spPr>
          <a:xfrm>
            <a:off x="6215040" y="1714680"/>
            <a:ext cx="2714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A partir de la geometría del problema,  la resta de las velocidades realizada en el punto simétrico, sabemos que la aceleración debe tener una dirección radial y apuntar hacia el centro de la circunferencia (el sentido del vector)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siguiente operación es establecer el único parámetro que nos resta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magnitud del vector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o se obtiene a partir de la semejanza entre el triángulo formado por las velocidades y el formado por los vectores posición de la partícula en dos instantes muy cercanos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286240" y="1071720"/>
            <a:ext cx="0" cy="5329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0" y="1143000"/>
            <a:ext cx="517860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5643720" y="1000080"/>
            <a:ext cx="2295360" cy="2362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9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lase-14e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424332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26T01:57:18Z</dcterms:modified>
  <cp:revision>34</cp:revision>
  <dc:subject/>
  <dc:title>Introducción a la Física Newtoniana </dc:title>
</cp:coreProperties>
</file>