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6AF0-DD14-40CC-87FD-B93ECAE683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2709-180F-4547-988C-F8FC6D5181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BB9C-17E1-4D24-92ED-10C4474AAB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9C85-4811-447F-9788-E6E91EB0F3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2CE-25D2-48FA-A9C5-9B9FE045DB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CF05-06CD-4AB7-9850-2F1DBCA966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A309-F988-4E8F-B86B-1D503357B5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CF12-5CF3-4D27-985A-93098E8CDF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49E1-DC49-47B9-9887-9691A5279F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8308-563B-4762-9A97-F48C9C6E51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2C95-A0D9-4302-98B2-F72398ADFE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EF60-2D03-4107-96C1-B560863AA0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13F9-84AE-4D99-B20E-B404DF151C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D0EE-A4F0-4FFA-957A-C75CDDA30E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0541-3ADD-49F6-A6C0-AFDC821285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34CD-FD99-4BF0-A601-5FF89026BE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28E-A97E-4424-8962-11692ACA23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4A42-577A-4C30-9CC7-F10A333871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5F5D-04B6-486B-98CD-FAB5E35514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27F-E567-43F3-A9D8-7CF1BEE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AC0-FAFD-4E2B-A08C-CCEE5C3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3CB-8B9B-4A8D-8ED0-CBC77A13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BCE-8E51-481D-9281-1E71A9C7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44E-DA23-4EDF-B311-E6D0366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BD0-D69B-4245-810F-03BBE3FE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AB3-6433-4813-A78C-0682BE18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2BF-2A4D-4A67-BC82-8705C20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007-D44F-41B7-BDCE-07EB8C0E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D2F-BBE1-4A3A-92B5-C572E8D7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FFA-A070-4D9C-B23B-97F5E17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F79-EFA8-4684-A6A6-028C4AD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EC81-0103-4A33-A670-1EEB40CEA4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lase-14"/>
          <p:cNvPicPr/>
          <p:nvPr/>
        </p:nvPicPr>
        <p:blipFill>
          <a:blip r:embed="rId2"/>
          <a:stretch/>
        </p:blipFill>
        <p:spPr>
          <a:xfrm>
            <a:off x="571680" y="1000080"/>
            <a:ext cx="4057560" cy="5543640"/>
          </a:xfrm>
          <a:prstGeom prst="rect">
            <a:avLst/>
          </a:prstGeom>
          <a:ln w="0">
            <a:noFill/>
          </a:ln>
        </p:spPr>
      </p:pic>
      <p:sp>
        <p:nvSpPr>
          <p:cNvPr id="54" name="8 Rectángulo redondeado"/>
          <p:cNvSpPr/>
          <p:nvPr/>
        </p:nvSpPr>
        <p:spPr>
          <a:xfrm>
            <a:off x="4286160" y="1428840"/>
            <a:ext cx="4714920" cy="1571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4649040" y="1643040"/>
            <a:ext cx="39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MOVIMIENTO CIRCULAR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UNIFORME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572000" y="12142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se-14f"/>
          <p:cNvPicPr/>
          <p:nvPr/>
        </p:nvPicPr>
        <p:blipFill>
          <a:blip r:embed="rId2"/>
          <a:stretch/>
        </p:blipFill>
        <p:spPr>
          <a:xfrm>
            <a:off x="214200" y="1209600"/>
            <a:ext cx="4248360" cy="564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"/>
          <a:stretch/>
        </p:blipFill>
        <p:spPr>
          <a:xfrm>
            <a:off x="4722840" y="1714680"/>
            <a:ext cx="4421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lase-14i"/>
          <p:cNvPicPr/>
          <p:nvPr/>
        </p:nvPicPr>
        <p:blipFill>
          <a:blip r:embed="rId2"/>
          <a:stretch/>
        </p:blipFill>
        <p:spPr>
          <a:xfrm>
            <a:off x="285840" y="914400"/>
            <a:ext cx="4330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67150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lase-14j"/>
          <p:cNvPicPr/>
          <p:nvPr/>
        </p:nvPicPr>
        <p:blipFill>
          <a:blip r:embed="rId2"/>
          <a:stretch/>
        </p:blipFill>
        <p:spPr>
          <a:xfrm>
            <a:off x="0" y="150012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5286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146160" y="1214280"/>
            <a:ext cx="5072040" cy="4569120"/>
          </a:xfrm>
          <a:prstGeom prst="rect">
            <a:avLst/>
          </a:prstGeom>
          <a:ln w="0">
            <a:noFill/>
          </a:ln>
        </p:spPr>
      </p:pic>
      <p:sp>
        <p:nvSpPr>
          <p:cNvPr id="150" name="8 CuadroTexto"/>
          <p:cNvSpPr/>
          <p:nvPr/>
        </p:nvSpPr>
        <p:spPr>
          <a:xfrm>
            <a:off x="5508720" y="1643040"/>
            <a:ext cx="3635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Figura grafica la geometría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del lanzamiento de una nav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xploratoria dirigida al planet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Marte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Note que de acuerdo a u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observador en la Tierra, Mart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stá quedándose atrás co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respecto a nosotro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nave debe apuntar hacia el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ugar donde Marte estará, apro-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ximadamente en 6 meses má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A partir de la Figura, ¿pue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99"/>
                </a:solidFill>
                <a:latin typeface="Verdana"/>
              </a:rPr>
              <a:t>estimar</a:t>
            </a:r>
            <a:r>
              <a:rPr b="0" lang="es-MX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uál es la relación entr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un año en la tierra y un “año” 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Marte? 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G:\Disco G\Int. a la Física\Cursos Anteriores\FI-10A-04-2003-1\Curso Angel Franco\cinematica\circular1\lineal_angular.gif"/>
          <p:cNvPicPr/>
          <p:nvPr/>
        </p:nvPicPr>
        <p:blipFill>
          <a:blip r:embed="rId2"/>
          <a:stretch/>
        </p:blipFill>
        <p:spPr>
          <a:xfrm>
            <a:off x="428760" y="1714680"/>
            <a:ext cx="3724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0720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lase-14a"/>
          <p:cNvPicPr/>
          <p:nvPr/>
        </p:nvPicPr>
        <p:blipFill>
          <a:blip r:embed="rId2"/>
          <a:stretch/>
        </p:blipFill>
        <p:spPr>
          <a:xfrm>
            <a:off x="285840" y="100008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lase-14b"/>
          <p:cNvPicPr/>
          <p:nvPr/>
        </p:nvPicPr>
        <p:blipFill>
          <a:blip r:embed="rId2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lase-14c"/>
          <p:cNvPicPr/>
          <p:nvPr/>
        </p:nvPicPr>
        <p:blipFill>
          <a:blip r:embed="rId2"/>
          <a:stretch/>
        </p:blipFill>
        <p:spPr>
          <a:xfrm>
            <a:off x="214200" y="1066680"/>
            <a:ext cx="44164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5143680" y="9288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lase-14d"/>
          <p:cNvPicPr/>
          <p:nvPr/>
        </p:nvPicPr>
        <p:blipFill>
          <a:blip r:embed="rId2"/>
          <a:stretch/>
        </p:blipFill>
        <p:spPr>
          <a:xfrm>
            <a:off x="428760" y="928800"/>
            <a:ext cx="445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"/>
          <p:cNvGrpSpPr/>
          <p:nvPr/>
        </p:nvGrpSpPr>
        <p:grpSpPr>
          <a:xfrm>
            <a:off x="214200" y="1542600"/>
            <a:ext cx="4572000" cy="3886200"/>
            <a:chOff x="214200" y="1542600"/>
            <a:chExt cx="4572000" cy="3886200"/>
          </a:xfrm>
        </p:grpSpPr>
        <p:sp>
          <p:nvSpPr>
            <p:cNvPr id="87" name="Oval 8"/>
            <p:cNvSpPr/>
            <p:nvPr/>
          </p:nvSpPr>
          <p:spPr>
            <a:xfrm>
              <a:off x="752040" y="2080080"/>
              <a:ext cx="3137760" cy="3072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296080" y="15426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214200" y="361656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 flipH="1" flipV="1">
              <a:off x="3351960" y="1989720"/>
              <a:ext cx="537840" cy="126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H="1" flipV="1">
              <a:off x="2036880" y="1650600"/>
              <a:ext cx="1195200" cy="67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V="1">
              <a:off x="2275920" y="3255120"/>
              <a:ext cx="1523880" cy="36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V="1">
              <a:off x="2275920" y="2376000"/>
              <a:ext cx="903960" cy="1240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4" name="Arc 15"/>
            <p:cNvSpPr/>
            <p:nvPr/>
          </p:nvSpPr>
          <p:spPr>
            <a:xfrm>
              <a:off x="2724120" y="3074400"/>
              <a:ext cx="259920" cy="4518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fill="none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</a:path>
                <a:path stroke="0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2544840" y="1718640"/>
              <a:ext cx="1344600" cy="17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                   </a:t>
              </a: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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6" name="24 Grupo"/>
          <p:cNvGrpSpPr/>
          <p:nvPr/>
        </p:nvGrpSpPr>
        <p:grpSpPr>
          <a:xfrm>
            <a:off x="5214960" y="3357720"/>
            <a:ext cx="3736800" cy="2985840"/>
            <a:chOff x="5214960" y="3357720"/>
            <a:chExt cx="3736800" cy="2985840"/>
          </a:xfrm>
        </p:grpSpPr>
        <p:sp>
          <p:nvSpPr>
            <p:cNvPr id="97" name="Text Box 17"/>
            <p:cNvSpPr/>
            <p:nvPr/>
          </p:nvSpPr>
          <p:spPr>
            <a:xfrm>
              <a:off x="5357520" y="3357720"/>
              <a:ext cx="3475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|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 | =  a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t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a | =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 R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 |V|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/ R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| a | 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aceleración centrípeta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5214960" y="3500280"/>
              <a:ext cx="3736800" cy="2843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9" name="23 Grupo"/>
          <p:cNvGrpSpPr/>
          <p:nvPr/>
        </p:nvGrpSpPr>
        <p:grpSpPr>
          <a:xfrm>
            <a:off x="4000680" y="1246320"/>
            <a:ext cx="1871640" cy="1295640"/>
            <a:chOff x="4000680" y="1246320"/>
            <a:chExt cx="1871640" cy="1295640"/>
          </a:xfrm>
        </p:grpSpPr>
        <p:sp>
          <p:nvSpPr>
            <p:cNvPr id="100" name="Line 19"/>
            <p:cNvSpPr/>
            <p:nvPr/>
          </p:nvSpPr>
          <p:spPr>
            <a:xfrm flipH="1" flipV="1">
              <a:off x="4005360" y="1847160"/>
              <a:ext cx="1213560" cy="68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H="1" flipV="1">
              <a:off x="4713120" y="1260360"/>
              <a:ext cx="547560" cy="128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 flipV="1">
              <a:off x="4040280" y="1246320"/>
              <a:ext cx="657000" cy="604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3" name="Text Box 22"/>
            <p:cNvSpPr/>
            <p:nvPr/>
          </p:nvSpPr>
          <p:spPr>
            <a:xfrm>
              <a:off x="4000680" y="128592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4" name="Text Box 23"/>
            <p:cNvSpPr/>
            <p:nvPr/>
          </p:nvSpPr>
          <p:spPr>
            <a:xfrm>
              <a:off x="4500720" y="1500480"/>
              <a:ext cx="1371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 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-- 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ff"/>
                  </a:solidFill>
                  <a:latin typeface="Calibri"/>
                </a:rPr>
                <a:t>                    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6000840" y="12859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5692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7 CuadroTexto"/>
          <p:cNvSpPr/>
          <p:nvPr/>
        </p:nvSpPr>
        <p:spPr>
          <a:xfrm>
            <a:off x="6215040" y="1714680"/>
            <a:ext cx="2714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 partir de la geometría del problema,  la resta de las velocidades realizada en el punto simétrico, sabemos que la aceleración debe tener una dirección radial y apuntar hacia el centro de la circunferencia (el sentido del vector)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siguiente operación es establecer el único parámetro que nos resta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magnitud del vector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o se obtiene a partir de la semejanza entre el triángulo formado por las velocidades y el formado por los vectores posición de la partícula en dos instantes muy cercan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2862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0" y="1143000"/>
            <a:ext cx="517860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643720" y="1000080"/>
            <a:ext cx="2295360" cy="2362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lase-14e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1:57:18Z</dcterms:modified>
  <cp:revision>34</cp:revision>
  <dc:subject/>
  <dc:title>Introducción a la Física Newtoniana </dc:title>
</cp:coreProperties>
</file>