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7E12-6865-4208-B541-9F492AA1AC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5231-95AE-4342-9C62-CD36EE2BB1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1C6-8AF8-4D0D-B6B5-735B02A8CF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07D2-8973-4837-BE93-0E03977768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8680-D507-4B41-90E2-573CC7132F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6B4-9A32-4D21-9E70-5D18E00BC2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1F90-1C3C-411F-A76D-EFAD281B12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EF80-F7D9-4A21-B1CA-62A3B1F2C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47B-3D22-4F51-B91D-878FC5799A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06C-3CC3-4342-9277-51FE463DFD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082F-965C-4BE1-96DF-4954396955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1333-51E4-4388-9E9E-4BCE5EA40D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E72-1B13-4A50-8822-C7FF81C745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7987-65BD-420D-BFF1-538E34C18A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B86-9E6B-4AD2-A4D3-07A7332E2C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56D5-FB00-4C4B-A3A7-A866ED0D0D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6AEB-A4A9-473E-A504-68D45A86D2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F1F-EB8F-47A6-8D70-5896F3077A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0EF2-1BF0-47AD-B0E5-4E7C11DF83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F48-7B0E-4A6C-837E-E500176A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7A7-4A64-4859-A2C0-E4A885E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A9F-237A-4E5B-A3AF-07E59DB6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A69-414D-4B3A-B12A-EFCFDC92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94F-5FFD-4CD0-BCFE-0A3ECE91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06A-AA48-4C0A-854D-10653B8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D74-1034-434F-B923-7D6C108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243-FD60-448C-97A6-89F4F5A3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227-8EC2-4E09-A0FC-72ED15D4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865-3843-4F0B-915D-CBB5C43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4D7-5FEB-4C03-9837-6FF3E70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5D4-695F-4667-9B3E-4CF5395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CA15-58B4-46A2-B5F5-9402865D42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lase-14"/>
          <p:cNvPicPr/>
          <p:nvPr/>
        </p:nvPicPr>
        <p:blipFill>
          <a:blip r:embed="rId2"/>
          <a:stretch/>
        </p:blipFill>
        <p:spPr>
          <a:xfrm>
            <a:off x="571680" y="1000080"/>
            <a:ext cx="4057560" cy="5543640"/>
          </a:xfrm>
          <a:prstGeom prst="rect">
            <a:avLst/>
          </a:prstGeom>
          <a:ln w="0">
            <a:noFill/>
          </a:ln>
        </p:spPr>
      </p:pic>
      <p:sp>
        <p:nvSpPr>
          <p:cNvPr id="54" name="8 Rectángulo redondeado"/>
          <p:cNvSpPr/>
          <p:nvPr/>
        </p:nvSpPr>
        <p:spPr>
          <a:xfrm>
            <a:off x="4286160" y="1428840"/>
            <a:ext cx="4714920" cy="1571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4649040" y="164304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MOVIMIENTO CIRCULAR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UNIFORME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0" y="12142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se-14f"/>
          <p:cNvPicPr/>
          <p:nvPr/>
        </p:nvPicPr>
        <p:blipFill>
          <a:blip r:embed="rId2"/>
          <a:stretch/>
        </p:blipFill>
        <p:spPr>
          <a:xfrm>
            <a:off x="214200" y="1209600"/>
            <a:ext cx="4248360" cy="564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4722840" y="1714680"/>
            <a:ext cx="4421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lase-14i"/>
          <p:cNvPicPr/>
          <p:nvPr/>
        </p:nvPicPr>
        <p:blipFill>
          <a:blip r:embed="rId2"/>
          <a:stretch/>
        </p:blipFill>
        <p:spPr>
          <a:xfrm>
            <a:off x="285840" y="914400"/>
            <a:ext cx="4330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7150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lase-14j"/>
          <p:cNvPicPr/>
          <p:nvPr/>
        </p:nvPicPr>
        <p:blipFill>
          <a:blip r:embed="rId2"/>
          <a:stretch/>
        </p:blipFill>
        <p:spPr>
          <a:xfrm>
            <a:off x="0" y="150012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286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146160" y="1214280"/>
            <a:ext cx="5072040" cy="456912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5508720" y="1643040"/>
            <a:ext cx="3635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Figura grafica la geometrí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del lanzamiento de una nav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xploratoria dirigida al planet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Marte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Note que de acuerdo a u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observador en la Tierra, Mart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tá quedándose atrás co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respecto a nosotr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nave debe apuntar hacia el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ugar donde Marte estará, apro-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ximadamente en 6 meses má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A partir de la Figura, ¿pue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Verdana"/>
              </a:rPr>
              <a:t>estimar</a:t>
            </a:r>
            <a:r>
              <a:rPr b="0" lang="es-MX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uál es la relación entr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un año en la tierra y un “año” 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Marte? 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G:\Disco G\Int. a la Física\Cursos Anteriores\FI-10A-04-2003-1\Curso Angel Franco\cinematica\circular1\lineal_angular.gif"/>
          <p:cNvPicPr/>
          <p:nvPr/>
        </p:nvPicPr>
        <p:blipFill>
          <a:blip r:embed="rId2"/>
          <a:stretch/>
        </p:blipFill>
        <p:spPr>
          <a:xfrm>
            <a:off x="428760" y="1714680"/>
            <a:ext cx="3724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0720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lase-14a"/>
          <p:cNvPicPr/>
          <p:nvPr/>
        </p:nvPicPr>
        <p:blipFill>
          <a:blip r:embed="rId2"/>
          <a:stretch/>
        </p:blipFill>
        <p:spPr>
          <a:xfrm>
            <a:off x="285840" y="100008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lase-14b"/>
          <p:cNvPicPr/>
          <p:nvPr/>
        </p:nvPicPr>
        <p:blipFill>
          <a:blip r:embed="rId2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lase-14c"/>
          <p:cNvPicPr/>
          <p:nvPr/>
        </p:nvPicPr>
        <p:blipFill>
          <a:blip r:embed="rId2"/>
          <a:stretch/>
        </p:blipFill>
        <p:spPr>
          <a:xfrm>
            <a:off x="214200" y="1066680"/>
            <a:ext cx="44164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143680" y="9288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lase-14d"/>
          <p:cNvPicPr/>
          <p:nvPr/>
        </p:nvPicPr>
        <p:blipFill>
          <a:blip r:embed="rId2"/>
          <a:stretch/>
        </p:blipFill>
        <p:spPr>
          <a:xfrm>
            <a:off x="428760" y="928800"/>
            <a:ext cx="445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"/>
          <p:cNvGrpSpPr/>
          <p:nvPr/>
        </p:nvGrpSpPr>
        <p:grpSpPr>
          <a:xfrm>
            <a:off x="214200" y="1542600"/>
            <a:ext cx="4572000" cy="3886200"/>
            <a:chOff x="214200" y="1542600"/>
            <a:chExt cx="4572000" cy="3886200"/>
          </a:xfrm>
        </p:grpSpPr>
        <p:sp>
          <p:nvSpPr>
            <p:cNvPr id="87" name="Oval 8"/>
            <p:cNvSpPr/>
            <p:nvPr/>
          </p:nvSpPr>
          <p:spPr>
            <a:xfrm>
              <a:off x="752040" y="2080080"/>
              <a:ext cx="3137760" cy="3072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96080" y="15426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214200" y="36165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H="1" flipV="1">
              <a:off x="3351960" y="1989720"/>
              <a:ext cx="537840" cy="126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 flipV="1">
              <a:off x="2036880" y="1650600"/>
              <a:ext cx="1195200" cy="67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V="1">
              <a:off x="2275920" y="3255120"/>
              <a:ext cx="1523880" cy="36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2275920" y="2376000"/>
              <a:ext cx="903960" cy="1240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Arc 15"/>
            <p:cNvSpPr/>
            <p:nvPr/>
          </p:nvSpPr>
          <p:spPr>
            <a:xfrm>
              <a:off x="2724120" y="3074400"/>
              <a:ext cx="259920" cy="451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fill="none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</a:path>
                <a:path stroke="0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2544840" y="1718640"/>
              <a:ext cx="1344600" cy="17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                   </a:t>
              </a: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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24 Grupo"/>
          <p:cNvGrpSpPr/>
          <p:nvPr/>
        </p:nvGrpSpPr>
        <p:grpSpPr>
          <a:xfrm>
            <a:off x="5214960" y="3357720"/>
            <a:ext cx="3736800" cy="2985840"/>
            <a:chOff x="5214960" y="3357720"/>
            <a:chExt cx="3736800" cy="2985840"/>
          </a:xfrm>
        </p:grpSpPr>
        <p:sp>
          <p:nvSpPr>
            <p:cNvPr id="97" name="Text Box 17"/>
            <p:cNvSpPr/>
            <p:nvPr/>
          </p:nvSpPr>
          <p:spPr>
            <a:xfrm>
              <a:off x="5357520" y="3357720"/>
              <a:ext cx="3475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|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 | =  a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a | =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 R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 |V|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/ R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| a | 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aceleración centrípeta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5214960" y="3500280"/>
              <a:ext cx="3736800" cy="2843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9" name="23 Grupo"/>
          <p:cNvGrpSpPr/>
          <p:nvPr/>
        </p:nvGrpSpPr>
        <p:grpSpPr>
          <a:xfrm>
            <a:off x="4000680" y="1246320"/>
            <a:ext cx="1871640" cy="1295640"/>
            <a:chOff x="4000680" y="1246320"/>
            <a:chExt cx="1871640" cy="1295640"/>
          </a:xfrm>
        </p:grpSpPr>
        <p:sp>
          <p:nvSpPr>
            <p:cNvPr id="100" name="Line 19"/>
            <p:cNvSpPr/>
            <p:nvPr/>
          </p:nvSpPr>
          <p:spPr>
            <a:xfrm flipH="1" flipV="1">
              <a:off x="4005360" y="1847160"/>
              <a:ext cx="1213560" cy="6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H="1" flipV="1">
              <a:off x="4713120" y="1260360"/>
              <a:ext cx="547560" cy="128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 flipV="1">
              <a:off x="4040280" y="1246320"/>
              <a:ext cx="657000" cy="60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4000680" y="128592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4500720" y="1500480"/>
              <a:ext cx="137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 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-- 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ff"/>
                  </a:solidFill>
                  <a:latin typeface="Calibri"/>
                </a:rPr>
                <a:t>                    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000840" y="12859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692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7 CuadroTexto"/>
          <p:cNvSpPr/>
          <p:nvPr/>
        </p:nvSpPr>
        <p:spPr>
          <a:xfrm>
            <a:off x="6215040" y="1714680"/>
            <a:ext cx="2714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partir de la geometría del problema,  la resta de las velocidades realizada en el punto simétrico, sabemos que la aceleración debe tener una dirección radial y apuntar hacia el centro de la circunferencia (el sentido del vector)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iguiente operación es establecer el único parámetro que nos rest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magnitud del vect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o se obtiene a partir de la semejanza entre el triángulo formado por las velocidades y el formado por los vectores posición de la partícula en dos instantes muy cercan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862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0" y="1143000"/>
            <a:ext cx="517860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643720" y="1000080"/>
            <a:ext cx="229536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lase-14e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1:57:18Z</dcterms:modified>
  <cp:revision>34</cp:revision>
  <dc:subject/>
  <dc:title>Introducción a la Física Newtoniana </dc:title>
</cp:coreProperties>
</file>