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CC8-2557-4E04-9256-6218967A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013-0E78-4C39-9228-D636ACB7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3F3-C1FB-4B3A-AE1F-8B21C8A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CF5-5CD6-4B75-B091-A1FDFE9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A63-C05D-49BF-84C4-CCDE11A2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7D6-5374-41D9-A222-9BA85EE3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A22-0BF4-4C5E-BC0F-79BFB05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73-70CC-4696-9135-86A958F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C86-DD9A-4F58-BFBA-910F709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B9D-22FF-4B5B-8DCE-49D8C0E6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7AC-D20B-4B98-BCC9-5B5ADA1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F7B-14BC-4750-975B-8C2C9C0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5A05-49A3-4712-8CB3-3AAFBC92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4464000" cy="1008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05264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Verdana"/>
              </a:rPr>
              <a:t>SUCESIONES Y SERIES DE NÚMEROS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2421000"/>
            <a:ext cx="36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cc"/>
                </a:solidFill>
                <a:latin typeface="Verdana"/>
              </a:rPr>
              <a:t>Una sucesión es un conjunto</a:t>
            </a: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 orden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términos, que cumplen una ley determi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213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Es una </a:t>
            </a:r>
            <a:r>
              <a:rPr b="0" i="1" lang="es-ES" sz="1400" spc="-1" strike="noStrike" u="sng">
                <a:solidFill>
                  <a:srgbClr val="ff6600"/>
                </a:solidFill>
                <a:uFillTx/>
                <a:latin typeface="Verdana"/>
              </a:rPr>
              <a:t>aplicación</a:t>
            </a: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cc"/>
                </a:solidFill>
                <a:latin typeface="Verdana"/>
              </a:rPr>
              <a:t>que representaremos por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8400" y="3789360"/>
            <a:ext cx="4880880" cy="2601720"/>
            <a:chOff x="248400" y="3789360"/>
            <a:chExt cx="4880880" cy="260172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136600" y="3789360"/>
                  <a:ext cx="111996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953640" y="4173120"/>
                  <a:ext cx="498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flipV="1">
              <a:off x="1202040" y="4269600"/>
              <a:ext cx="934560" cy="15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8400" y="570744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319200" y="4089600"/>
              <a:ext cx="1119960" cy="18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78720" y="599220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27120" y="39765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44514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2920" y="1679400"/>
            <a:ext cx="36910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{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} = 3/(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),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este es el término genérico. Otros de los elementos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0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cribir los 4 primeros términos de las siguientes suce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1.- {1/n1/2 }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2.- {n2 + n}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3.- {(-1)n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30351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FAC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1944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81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3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1882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230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extendido 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5280" y="37893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2170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2708280"/>
            <a:ext cx="8281800" cy="3147480"/>
            <a:chOff x="324000" y="2708280"/>
            <a:chExt cx="8281800" cy="31474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324000" y="2708280"/>
                  <a:ext cx="8281800" cy="11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260360" y="5082840"/>
                  <a:ext cx="56894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098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254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6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2314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70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3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5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7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20890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54200" y="4508640"/>
            <a:ext cx="1999800" cy="1766880"/>
            <a:chOff x="2554200" y="4508640"/>
            <a:chExt cx="1999800" cy="1766880"/>
          </a:xfrm>
        </p:grpSpPr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672360" y="4508640"/>
                  <a:ext cx="8816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54200" y="5291280"/>
                  <a:ext cx="192348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5" name=""/>
          <p:cNvSpPr/>
          <p:nvPr/>
        </p:nvSpPr>
        <p:spPr>
          <a:xfrm>
            <a:off x="908640" y="4581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Verdana"/>
              </a:rPr>
              <a:t>Para el caso en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0" y="765000"/>
            <a:ext cx="8748360" cy="5903640"/>
            <a:chOff x="0" y="765000"/>
            <a:chExt cx="8748360" cy="5903640"/>
          </a:xfrm>
        </p:grpSpPr>
        <p:sp>
          <p:nvSpPr>
            <p:cNvPr id="305" name=""/>
            <p:cNvSpPr/>
            <p:nvPr/>
          </p:nvSpPr>
          <p:spPr>
            <a:xfrm>
              <a:off x="928800" y="1162440"/>
              <a:ext cx="7432560" cy="272484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28800" y="1162440"/>
              <a:ext cx="2785320" cy="272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6280" y="2169720"/>
              <a:ext cx="1757880" cy="171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78840" y="2819520"/>
              <a:ext cx="1093680" cy="106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28800" y="4218480"/>
              <a:ext cx="27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6280" y="4398120"/>
              <a:ext cx="17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96840" y="4549680"/>
              <a:ext cx="10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6880" y="1162440"/>
              <a:ext cx="0" cy="27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3160" y="2146320"/>
              <a:ext cx="0" cy="174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3240" y="2449080"/>
              <a:ext cx="307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9600" y="3991320"/>
              <a:ext cx="309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2706120"/>
              <a:ext cx="3096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840" y="4322520"/>
              <a:ext cx="46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41680" y="4161600"/>
              <a:ext cx="30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1920" y="1162440"/>
              <a:ext cx="0" cy="9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22480" y="1389600"/>
              <a:ext cx="7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  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74240" y="214632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74240" y="22770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00" y="37645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440" y="76500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160" y="7837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83720" y="179604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82520" y="371844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871160"/>
              <a:ext cx="45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OC es semejante c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73640" y="5800320"/>
                  <a:ext cx="650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O</m:t>
                          </m:r>
                        </m:den>
                      </m:f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327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1268280"/>
            <a:ext cx="1944720" cy="28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6600"/>
                </a:solidFill>
                <a:latin typeface="Verdana"/>
              </a:rPr>
              <a:t>SUC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90792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85960" y="27669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7200" y="43070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98760" y="52722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09000" y="162864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Verdana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01080" y="155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627280" y="1268280"/>
            <a:ext cx="5184360" cy="5229000"/>
            <a:chOff x="2627280" y="1268280"/>
            <a:chExt cx="5184360" cy="5229000"/>
          </a:xfrm>
        </p:grpSpPr>
        <p:sp>
          <p:nvSpPr>
            <p:cNvPr id="335" name=""/>
            <p:cNvSpPr/>
            <p:nvPr/>
          </p:nvSpPr>
          <p:spPr>
            <a:xfrm>
              <a:off x="2627280" y="1268280"/>
              <a:ext cx="518184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560" y="1268280"/>
              <a:ext cx="259128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8560" y="3881880"/>
              <a:ext cx="2591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14560" y="3881880"/>
              <a:ext cx="1295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14560" y="5190480"/>
              <a:ext cx="129528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3280" y="5190480"/>
              <a:ext cx="64692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3280" y="5190480"/>
              <a:ext cx="64692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3280" y="5843160"/>
              <a:ext cx="32400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87640" y="5843160"/>
              <a:ext cx="32400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87640" y="6170400"/>
              <a:ext cx="16128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3160" y="6170400"/>
              <a:ext cx="161640" cy="1627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0920" y="1628640"/>
            <a:ext cx="2376360" cy="2497320"/>
            <a:chOff x="250920" y="1628640"/>
            <a:chExt cx="2376360" cy="2497320"/>
          </a:xfrm>
        </p:grpSpPr>
        <p:graphicFrame>
          <p:nvGraphicFramePr>
            <p:cNvPr id="347" name=""/>
            <p:cNvGraphicFramePr/>
            <p:nvPr/>
          </p:nvGraphicFramePr>
          <p:xfrm>
            <a:off x="250920" y="1628640"/>
            <a:ext cx="1857240" cy="10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1628640"/>
                      <a:ext cx="1857240" cy="1017720"/>
                    </a:xfrm>
                    <a:prstGeom prst="rect">
                      <a:avLst/>
                    </a:prstGeom>
                    <a:ln w="28440">
                      <a:solidFill>
                        <a:srgbClr val="ff66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9" name=""/>
            <p:cNvSpPr/>
            <p:nvPr/>
          </p:nvSpPr>
          <p:spPr>
            <a:xfrm>
              <a:off x="466920" y="2637000"/>
              <a:ext cx="2160360" cy="1488960"/>
            </a:xfrm>
            <a:custGeom>
              <a:avLst/>
              <a:gdLst/>
              <a:ahLst/>
              <a:rect l="l" t="t" r="r" b="b"/>
              <a:pathLst>
                <a:path w="1361" h="938">
                  <a:moveTo>
                    <a:pt x="544" y="0"/>
                  </a:moveTo>
                  <a:cubicBezTo>
                    <a:pt x="272" y="393"/>
                    <a:pt x="0" y="786"/>
                    <a:pt x="136" y="862"/>
                  </a:cubicBezTo>
                  <a:cubicBezTo>
                    <a:pt x="272" y="938"/>
                    <a:pt x="1157" y="522"/>
                    <a:pt x="1361" y="454"/>
                  </a:cubicBezTo>
                </a:path>
              </a:pathLst>
            </a:custGeom>
            <a:noFill/>
            <a:ln w="2844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38560" y="3357720"/>
              <a:ext cx="288720" cy="21564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266560" y="3357720"/>
              <a:ext cx="360360" cy="712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16000" y="1916280"/>
            <a:ext cx="2449440" cy="2376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340000" y="2708280"/>
            <a:ext cx="1152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40000" y="3141720"/>
            <a:ext cx="115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2708280"/>
            <a:ext cx="85680" cy="865080"/>
          </a:xfrm>
          <a:custGeom>
            <a:avLst/>
            <a:gdLst/>
            <a:ahLst/>
            <a:rect l="l" t="t" r="r" b="b"/>
            <a:pathLst>
              <a:path w="54" h="545">
                <a:moveTo>
                  <a:pt x="0" y="0"/>
                </a:moveTo>
                <a:cubicBezTo>
                  <a:pt x="19" y="61"/>
                  <a:pt x="38" y="122"/>
                  <a:pt x="46" y="182"/>
                </a:cubicBezTo>
                <a:cubicBezTo>
                  <a:pt x="54" y="242"/>
                  <a:pt x="54" y="303"/>
                  <a:pt x="46" y="363"/>
                </a:cubicBezTo>
                <a:cubicBezTo>
                  <a:pt x="38" y="423"/>
                  <a:pt x="8" y="515"/>
                  <a:pt x="0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197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61760" y="1125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89000"/>
            <a:ext cx="388764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6ff"/>
                </a:solidFill>
                <a:latin typeface="Verdana"/>
              </a:rPr>
              <a:t>Símbolo de la SUM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Supóngase dada una cantidad finit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núme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y consideramos la s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En general esta expresión se escri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utilizando el símbolo         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llamado sum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280" y="2708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280" y="342900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797360"/>
                <a:ext cx="1008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010120" y="19112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4920" y="2414520"/>
            <a:ext cx="36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4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…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59280" y="321300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632560" y="3422520"/>
            <a:ext cx="124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800" spc="-1" strike="noStrike" baseline="-25000">
                <a:solidFill>
                  <a:srgbClr val="0000ff"/>
                </a:solidFill>
                <a:latin typeface="Verdana"/>
              </a:rPr>
              <a:t>k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7840" y="40053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94920" y="2924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0720" y="45752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72428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3840" y="45752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5600" y="5151600"/>
            <a:ext cx="26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tonces la sumatoria es 1/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19280" y="2492280"/>
            <a:ext cx="6485040" cy="2952720"/>
            <a:chOff x="1619280" y="2492280"/>
            <a:chExt cx="6485040" cy="2952720"/>
          </a:xfrm>
        </p:grpSpPr>
        <p:grpSp>
          <p:nvGrpSpPr>
            <p:cNvPr id="99" name=""/>
            <p:cNvGrpSpPr/>
            <p:nvPr/>
          </p:nvGrpSpPr>
          <p:grpSpPr>
            <a:xfrm>
              <a:off x="1619280" y="2492280"/>
              <a:ext cx="6485040" cy="2816640"/>
              <a:chOff x="1619280" y="2492280"/>
              <a:chExt cx="6485040" cy="28166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619280" y="2971800"/>
                <a:ext cx="6485040" cy="2337120"/>
                <a:chOff x="1619280" y="2971800"/>
                <a:chExt cx="648504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01" name=""/>
                    <p:cNvSpPr txBox="1"/>
                    <p:nvPr/>
                  </p:nvSpPr>
                  <p:spPr>
                    <a:xfrm>
                      <a:off x="1619280" y="2971800"/>
                      <a:ext cx="648504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2" name=""/>
                <p:cNvSpPr/>
                <p:nvPr/>
              </p:nvSpPr>
              <p:spPr>
                <a:xfrm flipH="1" flipV="1">
                  <a:off x="2233440" y="4339800"/>
                  <a:ext cx="115236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393720" y="491004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2233440" y="2714760"/>
                <a:ext cx="1873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84920" y="249228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 flipV="1">
              <a:off x="2522160" y="3932280"/>
              <a:ext cx="7164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551664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188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134136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4330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Verdana"/>
              </a:rPr>
              <a:t>Ejemplo de sumatoria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28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29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0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1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87280" y="3500280"/>
            <a:ext cx="5065560" cy="2447640"/>
            <a:chOff x="1187280" y="3500280"/>
            <a:chExt cx="5065560" cy="244764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12840" y="3500280"/>
                  <a:ext cx="504000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187280" y="4866840"/>
                  <a:ext cx="494640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25909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Prop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1738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04T20:52:59Z</dcterms:modified>
  <cp:revision>31</cp:revision>
  <dc:subject/>
  <dc:title>Introducción a la Física Newtoniana </dc:title>
</cp:coreProperties>
</file>