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031-5B3D-4138-9901-AA0C3AD7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EBA-9401-487E-B6D1-67C4D9F0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337-8AAE-4CDC-BDA1-23D6181C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4A8-D36C-4DD8-B30A-CA249B9B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4E3-F4B7-4B0F-BA31-D3210D20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477-A6AD-4BCB-9259-A801E399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180-CCB2-45DC-81F8-D797F8B0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2C3-C48F-4E03-9444-48A3B251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449-B871-496C-8988-5EDEA449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49F-9F92-4B33-82D5-7562667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117-38F2-4B84-9A41-AB2D4264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116-59B3-4BD6-89CE-8B8BB01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D928-4087-439E-9074-956A754B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268280"/>
            <a:ext cx="4464000" cy="1008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90792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052640"/>
            <a:ext cx="47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Verdana"/>
              </a:rPr>
              <a:t>SUCESIONES Y SERIES DE NÚMEROS R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800" y="2421000"/>
            <a:ext cx="36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cc"/>
                </a:solidFill>
                <a:latin typeface="Verdana"/>
              </a:rPr>
              <a:t>Una sucesión es un conjunto</a:t>
            </a:r>
            <a:r>
              <a:rPr b="0" i="1" lang="es-ES" sz="1400" spc="-1" strike="noStrike">
                <a:solidFill>
                  <a:srgbClr val="0000cc"/>
                </a:solidFill>
                <a:latin typeface="Verdana"/>
              </a:rPr>
              <a:t> orden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cc"/>
                </a:solidFill>
                <a:latin typeface="Verdana"/>
              </a:rPr>
              <a:t>términos, que cumplen una ley determi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213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cc"/>
                </a:solidFill>
                <a:latin typeface="Verdana"/>
              </a:rPr>
              <a:t>Es una </a:t>
            </a:r>
            <a:r>
              <a:rPr b="0" i="1" lang="es-ES" sz="1400" spc="-1" strike="noStrike" u="sng">
                <a:solidFill>
                  <a:srgbClr val="ff6600"/>
                </a:solidFill>
                <a:uFillTx/>
                <a:latin typeface="Verdana"/>
              </a:rPr>
              <a:t>aplicación</a:t>
            </a:r>
            <a:r>
              <a:rPr b="0" lang="es-ES" sz="1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s-MX" sz="1400" spc="-1" strike="noStrike">
                <a:solidFill>
                  <a:srgbClr val="0000cc"/>
                </a:solidFill>
                <a:latin typeface="Verdana"/>
              </a:rPr>
              <a:t>que representaremos por</a:t>
            </a: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8400" y="3789360"/>
            <a:ext cx="4880880" cy="2601720"/>
            <a:chOff x="248400" y="3789360"/>
            <a:chExt cx="4880880" cy="2601720"/>
          </a:xfrm>
        </p:grpSpPr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136600" y="3789360"/>
                  <a:ext cx="111996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ℜ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953640" y="4173120"/>
                  <a:ext cx="4982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 flipV="1">
              <a:off x="1202040" y="4269600"/>
              <a:ext cx="934560" cy="150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8400" y="5707440"/>
              <a:ext cx="240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natur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319200" y="4089600"/>
              <a:ext cx="1119960" cy="180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78720" y="5992200"/>
              <a:ext cx="205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s rea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27120" y="39765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98760" y="44514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52920" y="1679400"/>
            <a:ext cx="36910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{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n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} = 3/(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),</a:t>
            </a: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 este es el término genérico. Otros de los elementos s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600" spc="-1" strike="noStrike" baseline="-25000">
                <a:solidFill>
                  <a:srgbClr val="0000ff"/>
                </a:solidFill>
                <a:latin typeface="Verdana"/>
              </a:rPr>
              <a:t>10</a:t>
            </a: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 = 3/10</a:t>
            </a:r>
            <a:r>
              <a:rPr b="1" lang="es-MX" sz="1600" spc="-1" strike="noStrike" baseline="30000">
                <a:solidFill>
                  <a:srgbClr val="0000ff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scribir los 4 primeros términos de las siguientes suce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1.- {1/n1/2 }  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2.- {n2 + n}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3.- {(-1)n 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30351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FAC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Pero que significa el símbolo ! 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lla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FACTOR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es-MX" sz="28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87280" y="2421000"/>
            <a:ext cx="6553440" cy="3095640"/>
            <a:chOff x="1187280" y="2421000"/>
            <a:chExt cx="6553440" cy="309564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187280" y="2421000"/>
                  <a:ext cx="1960560" cy="30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3924360" y="2781360"/>
              <a:ext cx="3816360" cy="2305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1944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82680" y="2630520"/>
            <a:ext cx="6365880" cy="3729240"/>
            <a:chOff x="1282680" y="2630520"/>
            <a:chExt cx="6365880" cy="3729240"/>
          </a:xfrm>
        </p:grpSpPr>
        <p:grpSp>
          <p:nvGrpSpPr>
            <p:cNvPr id="181" name=""/>
            <p:cNvGrpSpPr/>
            <p:nvPr/>
          </p:nvGrpSpPr>
          <p:grpSpPr>
            <a:xfrm>
              <a:off x="1282680" y="3357720"/>
              <a:ext cx="5626080" cy="3002040"/>
              <a:chOff x="1282680" y="3357720"/>
              <a:chExt cx="5626080" cy="3002040"/>
            </a:xfrm>
          </p:grpSpPr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1282680" y="3357720"/>
                    <a:ext cx="5586480" cy="184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=</m:t>
                            </m:r>
                          </m:e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83" name=""/>
              <p:cNvSpPr/>
              <p:nvPr/>
            </p:nvSpPr>
            <p:spPr>
              <a:xfrm flipV="1">
                <a:off x="2195640" y="5342040"/>
                <a:ext cx="93636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5292720" y="5415120"/>
                <a:ext cx="1008000" cy="71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49440" y="599148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53280" y="586584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k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2916000" y="3068640"/>
              <a:ext cx="1655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92600" y="26305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¿Cuántos términos hay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21700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3960" y="3352680"/>
            <a:ext cx="8510760" cy="3462120"/>
            <a:chOff x="453960" y="3352680"/>
            <a:chExt cx="8510760" cy="3462120"/>
          </a:xfrm>
        </p:grpSpPr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453960" y="3352680"/>
                  <a:ext cx="8510760" cy="194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V="1">
              <a:off x="1763640" y="5515920"/>
              <a:ext cx="72072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996000" y="5589000"/>
              <a:ext cx="215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5445000"/>
              <a:ext cx="647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60360" y="63734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97440" y="64465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29640" y="604008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18828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aplicamos esta fórmula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=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9280" y="3284640"/>
            <a:ext cx="8510760" cy="3252960"/>
            <a:chOff x="179280" y="3284640"/>
            <a:chExt cx="8510760" cy="3252960"/>
          </a:xfrm>
        </p:grpSpPr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79280" y="3284640"/>
                  <a:ext cx="8510760" cy="19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⋅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  <m:r>
                                <m:t xml:space="preserve">⋅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!</m:t>
                                  </m:r>
                                </m:den>
                              </m:f>
                            </m:e>
                          </m:nary>
                          <m:r>
                            <m:t xml:space="preserve">=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0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"/>
            <p:cNvSpPr/>
            <p:nvPr/>
          </p:nvSpPr>
          <p:spPr>
            <a:xfrm>
              <a:off x="2917800" y="6169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114560" y="5477040"/>
              <a:ext cx="5443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2801880" y="5549760"/>
              <a:ext cx="163440" cy="9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93880" y="540360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0000" y="5953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6720" y="600732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5773320" y="5421240"/>
              <a:ext cx="49068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6520" y="60249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=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230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binomio es extendido a cualquier n real (positivo o negativ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el caso n = -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95280" y="3789360"/>
                <a:ext cx="761040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2170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Otro ejemplo de seri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Para n=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24000" y="2708280"/>
            <a:ext cx="8281800" cy="3147480"/>
            <a:chOff x="324000" y="2708280"/>
            <a:chExt cx="8281800" cy="3147480"/>
          </a:xfrm>
        </p:grpSpPr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324000" y="2708280"/>
                  <a:ext cx="8281800" cy="11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1260360" y="5082840"/>
                  <a:ext cx="56894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</m:e>
                          </m:d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2098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lgunas series tienen infinitos (  ) términos, pero convergen a un número finito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Cómo vemos es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796000" y="170028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3" name=""/>
          <p:cNvGrpSpPr/>
          <p:nvPr/>
        </p:nvGrpSpPr>
        <p:grpSpPr>
          <a:xfrm>
            <a:off x="468360" y="3573360"/>
            <a:ext cx="7306920" cy="2303280"/>
            <a:chOff x="468360" y="3573360"/>
            <a:chExt cx="7306920" cy="2303280"/>
          </a:xfrm>
        </p:grpSpPr>
        <p:grpSp>
          <p:nvGrpSpPr>
            <p:cNvPr id="254" name=""/>
            <p:cNvGrpSpPr/>
            <p:nvPr/>
          </p:nvGrpSpPr>
          <p:grpSpPr>
            <a:xfrm>
              <a:off x="468360" y="3573360"/>
              <a:ext cx="6984720" cy="2303280"/>
              <a:chOff x="468360" y="3573360"/>
              <a:chExt cx="6984720" cy="2303280"/>
            </a:xfrm>
          </p:grpSpPr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468360" y="4730400"/>
                    <a:ext cx="6984720" cy="114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6" name=""/>
              <p:cNvSpPr/>
              <p:nvPr/>
            </p:nvSpPr>
            <p:spPr>
              <a:xfrm flipH="1">
                <a:off x="949320" y="3908880"/>
                <a:ext cx="1605600" cy="73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2160" y="3573360"/>
                <a:ext cx="210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Infinitos términ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661440" y="4149720"/>
              <a:ext cx="21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17120" y="3639960"/>
              <a:ext cx="255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6666ff"/>
                  </a:solidFill>
                  <a:latin typeface="Arial"/>
                </a:rPr>
                <a:t>Se puede demostra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2314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xisten muchas series conocidas que se usan en Físic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Aquí hay más ejempl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77720" y="2598840"/>
            <a:ext cx="7765920" cy="3709800"/>
            <a:chOff x="477720" y="2598840"/>
            <a:chExt cx="7765920" cy="3709800"/>
          </a:xfrm>
        </p:grpSpPr>
        <p:grpSp>
          <p:nvGrpSpPr>
            <p:cNvPr id="270" name=""/>
            <p:cNvGrpSpPr/>
            <p:nvPr/>
          </p:nvGrpSpPr>
          <p:grpSpPr>
            <a:xfrm>
              <a:off x="477720" y="2598840"/>
              <a:ext cx="7765920" cy="3709800"/>
              <a:chOff x="477720" y="2598840"/>
              <a:chExt cx="7765920" cy="370980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477720" y="2598840"/>
                <a:ext cx="4824360" cy="2496960"/>
                <a:chOff x="477720" y="2598840"/>
                <a:chExt cx="4824360" cy="2496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272" name=""/>
                    <p:cNvSpPr txBox="1"/>
                    <p:nvPr/>
                  </p:nvSpPr>
                  <p:spPr>
                    <a:xfrm>
                      <a:off x="477720" y="2598840"/>
                      <a:ext cx="4824360" cy="1052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5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7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7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73" name=""/>
                    <p:cNvSpPr txBox="1"/>
                    <p:nvPr/>
                  </p:nvSpPr>
                  <p:spPr>
                    <a:xfrm>
                      <a:off x="539640" y="4011480"/>
                      <a:ext cx="4699080" cy="108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α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506160" y="5191200"/>
                    <a:ext cx="7737480" cy="111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⋯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5" name=""/>
              <p:cNvSpPr/>
              <p:nvPr/>
            </p:nvSpPr>
            <p:spPr>
              <a:xfrm>
                <a:off x="5787000" y="3567240"/>
                <a:ext cx="245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está en RADIAN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5517720" y="3645000"/>
                    <a:ext cx="2876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7" name=""/>
            <p:cNvSpPr/>
            <p:nvPr/>
          </p:nvSpPr>
          <p:spPr>
            <a:xfrm>
              <a:off x="5794560" y="465300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úmero e de Eul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00720" y="5084640"/>
              <a:ext cx="43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8920" y="1052280"/>
            <a:ext cx="20890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Una serie muy usada en física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a serie está definida si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042920" y="2205000"/>
            <a:ext cx="7661160" cy="3434400"/>
            <a:chOff x="1042920" y="2205000"/>
            <a:chExt cx="7661160" cy="3434400"/>
          </a:xfrm>
        </p:grpSpPr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1042920" y="2205000"/>
                  <a:ext cx="561672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227480" y="3429000"/>
                  <a:ext cx="849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 flipV="1">
              <a:off x="4427640" y="3933360"/>
              <a:ext cx="1295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91840" y="4935600"/>
              <a:ext cx="2712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símbolo signific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DU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554200" y="4508640"/>
            <a:ext cx="1999800" cy="1766880"/>
            <a:chOff x="2554200" y="4508640"/>
            <a:chExt cx="1999800" cy="1766880"/>
          </a:xfrm>
        </p:grpSpPr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3672360" y="4508640"/>
                  <a:ext cx="88164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&lt;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4" name=""/>
                <p:cNvSpPr txBox="1"/>
                <p:nvPr/>
              </p:nvSpPr>
              <p:spPr>
                <a:xfrm>
                  <a:off x="2554200" y="5291280"/>
                  <a:ext cx="192348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5" name=""/>
          <p:cNvSpPr/>
          <p:nvPr/>
        </p:nvSpPr>
        <p:spPr>
          <a:xfrm>
            <a:off x="908640" y="4581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Verdana"/>
              </a:rPr>
              <a:t>Para el caso en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0" y="765000"/>
            <a:ext cx="8748360" cy="5903640"/>
            <a:chOff x="0" y="765000"/>
            <a:chExt cx="8748360" cy="5903640"/>
          </a:xfrm>
        </p:grpSpPr>
        <p:sp>
          <p:nvSpPr>
            <p:cNvPr id="305" name=""/>
            <p:cNvSpPr/>
            <p:nvPr/>
          </p:nvSpPr>
          <p:spPr>
            <a:xfrm>
              <a:off x="928800" y="1162440"/>
              <a:ext cx="7432560" cy="2724840"/>
            </a:xfrm>
            <a:prstGeom prst="rtTriangl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28800" y="1162440"/>
              <a:ext cx="2785320" cy="272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6280" y="2169720"/>
              <a:ext cx="1757880" cy="171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78840" y="2819520"/>
              <a:ext cx="1093680" cy="106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28800" y="4218480"/>
              <a:ext cx="27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6280" y="4398120"/>
              <a:ext cx="17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96840" y="4549680"/>
              <a:ext cx="108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6880" y="1162440"/>
              <a:ext cx="0" cy="272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3160" y="2146320"/>
              <a:ext cx="0" cy="174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3240" y="2449080"/>
              <a:ext cx="307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9600" y="3991320"/>
              <a:ext cx="309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2706120"/>
              <a:ext cx="309600" cy="459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840" y="4322520"/>
              <a:ext cx="46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41680" y="4161600"/>
              <a:ext cx="301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1920" y="1162440"/>
              <a:ext cx="0" cy="9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22480" y="1389600"/>
              <a:ext cx="77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-  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74240" y="2146320"/>
              <a:ext cx="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74240" y="227700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-r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9200" y="376452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7440" y="76500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03160" y="78372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83720" y="1796040"/>
              <a:ext cx="46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82520" y="371844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4871160"/>
              <a:ext cx="45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PS"/>
                  <a:ea typeface="SymbolPS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OC es semejante c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B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73640" y="5800320"/>
                  <a:ext cx="650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A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O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AO</m:t>
                          </m:r>
                        </m:den>
                      </m:f>
                      <m:r>
                        <m:t xml:space="preserve">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r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r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d>
                        </m:num>
                        <m:den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i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73272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1268280"/>
            <a:ext cx="1944720" cy="289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6600"/>
                </a:solidFill>
                <a:latin typeface="Verdana"/>
              </a:rPr>
              <a:t>SUCES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907920"/>
            <a:ext cx="0" cy="115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85960" y="276696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7200" y="43070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98760" y="52722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09000" y="162864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Verdana"/>
              </a:rPr>
              <a:t>Ejempl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101080" y="1552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2627280" y="1268280"/>
            <a:ext cx="5184360" cy="5229000"/>
            <a:chOff x="2627280" y="1268280"/>
            <a:chExt cx="5184360" cy="5229000"/>
          </a:xfrm>
        </p:grpSpPr>
        <p:sp>
          <p:nvSpPr>
            <p:cNvPr id="335" name=""/>
            <p:cNvSpPr/>
            <p:nvPr/>
          </p:nvSpPr>
          <p:spPr>
            <a:xfrm>
              <a:off x="2627280" y="1268280"/>
              <a:ext cx="5181840" cy="52261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18560" y="1268280"/>
              <a:ext cx="2591280" cy="52261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18560" y="3881880"/>
              <a:ext cx="2591280" cy="261396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14560" y="3881880"/>
              <a:ext cx="1295280" cy="261396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14560" y="5190480"/>
              <a:ext cx="1295280" cy="13068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63280" y="5190480"/>
              <a:ext cx="646920" cy="13068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63280" y="5190480"/>
              <a:ext cx="646920" cy="6526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63280" y="5843160"/>
              <a:ext cx="324000" cy="6526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87640" y="5843160"/>
              <a:ext cx="324000" cy="326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87640" y="6170400"/>
              <a:ext cx="161280" cy="326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3160" y="6170400"/>
              <a:ext cx="161640" cy="1627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50920" y="1628640"/>
            <a:ext cx="2376360" cy="2497320"/>
            <a:chOff x="250920" y="1628640"/>
            <a:chExt cx="2376360" cy="2497320"/>
          </a:xfrm>
        </p:grpSpPr>
        <p:graphicFrame>
          <p:nvGraphicFramePr>
            <p:cNvPr id="347" name=""/>
            <p:cNvGraphicFramePr/>
            <p:nvPr/>
          </p:nvGraphicFramePr>
          <p:xfrm>
            <a:off x="250920" y="1628640"/>
            <a:ext cx="1857240" cy="101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0920" y="1628640"/>
                      <a:ext cx="1857240" cy="1017720"/>
                    </a:xfrm>
                    <a:prstGeom prst="rect">
                      <a:avLst/>
                    </a:prstGeom>
                    <a:ln w="28440">
                      <a:solidFill>
                        <a:srgbClr val="ff66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49" name=""/>
            <p:cNvSpPr/>
            <p:nvPr/>
          </p:nvSpPr>
          <p:spPr>
            <a:xfrm>
              <a:off x="466920" y="2637000"/>
              <a:ext cx="2160360" cy="1488960"/>
            </a:xfrm>
            <a:custGeom>
              <a:avLst/>
              <a:gdLst/>
              <a:ahLst/>
              <a:rect l="l" t="t" r="r" b="b"/>
              <a:pathLst>
                <a:path w="1361" h="938">
                  <a:moveTo>
                    <a:pt x="544" y="0"/>
                  </a:moveTo>
                  <a:cubicBezTo>
                    <a:pt x="272" y="393"/>
                    <a:pt x="0" y="786"/>
                    <a:pt x="136" y="862"/>
                  </a:cubicBezTo>
                  <a:cubicBezTo>
                    <a:pt x="272" y="938"/>
                    <a:pt x="1157" y="522"/>
                    <a:pt x="1361" y="454"/>
                  </a:cubicBezTo>
                </a:path>
              </a:pathLst>
            </a:custGeom>
            <a:noFill/>
            <a:ln w="2844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38560" y="3357720"/>
              <a:ext cx="288720" cy="215640"/>
            </a:xfrm>
            <a:prstGeom prst="line">
              <a:avLst/>
            </a:prstGeom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266560" y="3357720"/>
              <a:ext cx="360360" cy="71280"/>
            </a:xfrm>
            <a:prstGeom prst="line">
              <a:avLst/>
            </a:prstGeom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116000" y="1916280"/>
            <a:ext cx="2449440" cy="23763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340000" y="2708280"/>
            <a:ext cx="1152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40000" y="3141720"/>
            <a:ext cx="1152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2708280"/>
            <a:ext cx="85680" cy="865080"/>
          </a:xfrm>
          <a:custGeom>
            <a:avLst/>
            <a:gdLst/>
            <a:ahLst/>
            <a:rect l="l" t="t" r="r" b="b"/>
            <a:pathLst>
              <a:path w="54" h="545">
                <a:moveTo>
                  <a:pt x="0" y="0"/>
                </a:moveTo>
                <a:cubicBezTo>
                  <a:pt x="19" y="61"/>
                  <a:pt x="38" y="122"/>
                  <a:pt x="46" y="182"/>
                </a:cubicBezTo>
                <a:cubicBezTo>
                  <a:pt x="54" y="242"/>
                  <a:pt x="54" y="303"/>
                  <a:pt x="46" y="363"/>
                </a:cubicBezTo>
                <a:cubicBezTo>
                  <a:pt x="38" y="423"/>
                  <a:pt x="8" y="515"/>
                  <a:pt x="0" y="5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41972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836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42920" y="1125360"/>
            <a:ext cx="3097440" cy="432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907920"/>
            <a:ext cx="0" cy="540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61760" y="1125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Verdana"/>
              </a:rPr>
              <a:t>SUM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989000"/>
            <a:ext cx="3887640" cy="39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66ff"/>
                </a:solidFill>
                <a:latin typeface="Verdana"/>
              </a:rPr>
              <a:t>Símbolo de la SUMATOR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Supóngase dada una cantidad finit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núme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y consideramos la su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En general esta expresión se escri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utilizando el símbolo         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" spc="-1" strike="noStrike">
                <a:solidFill>
                  <a:srgbClr val="6666ff"/>
                </a:solidFill>
                <a:latin typeface="Verdana"/>
              </a:rPr>
              <a:t>llamado sumato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11280" y="2708280"/>
                <a:ext cx="2160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11280" y="3429000"/>
                <a:ext cx="3600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71640" y="4797360"/>
                <a:ext cx="1008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010120" y="19112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jem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84920" y="2414520"/>
            <a:ext cx="36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0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  +a</a:t>
            </a:r>
            <a:r>
              <a:rPr b="0" lang="es-MX" sz="1800" spc="-1" strike="noStrike" baseline="-25000">
                <a:solidFill>
                  <a:srgbClr val="0000ff"/>
                </a:solidFill>
                <a:latin typeface="Verdana"/>
              </a:rPr>
              <a:t>4 </a:t>
            </a:r>
            <a:r>
              <a:rPr b="0" lang="es-MX" sz="1800" spc="-1" strike="noStrike">
                <a:solidFill>
                  <a:srgbClr val="0000ff"/>
                </a:solidFill>
                <a:latin typeface="Verdana"/>
              </a:rPr>
              <a:t>… =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859280" y="3213000"/>
                <a:ext cx="1008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632560" y="3422520"/>
            <a:ext cx="124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a</a:t>
            </a:r>
            <a:r>
              <a:rPr b="1" lang="es-MX" sz="1800" spc="-1" strike="noStrike" baseline="-25000">
                <a:solidFill>
                  <a:srgbClr val="0000ff"/>
                </a:solidFill>
                <a:latin typeface="Verdana"/>
              </a:rPr>
              <a:t>k </a:t>
            </a:r>
            <a:r>
              <a:rPr b="1" lang="es-MX" sz="1800" spc="-1" strike="noStrike">
                <a:solidFill>
                  <a:srgbClr val="0000ff"/>
                </a:solidFill>
                <a:latin typeface="Verdana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7840" y="400536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94920" y="29242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k=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0720" y="45752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Si 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72428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3840" y="457524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In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5600" y="5151600"/>
            <a:ext cx="26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ntonces la sumatoria es 1/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42920" y="1125360"/>
            <a:ext cx="3097440" cy="4320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Verdana"/>
              </a:rPr>
              <a:t>SUMA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ste símbolo se usa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El elemento          se llama </a:t>
            </a:r>
            <a:r>
              <a:rPr b="0" i="1" lang="es-MX" sz="2500" spc="-1" strike="noStrike" u="sng">
                <a:solidFill>
                  <a:srgbClr val="ff3300"/>
                </a:solidFill>
                <a:uFillTx/>
                <a:latin typeface="Arial"/>
              </a:rPr>
              <a:t>término general de la s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19280" y="2492280"/>
            <a:ext cx="6485040" cy="2952720"/>
            <a:chOff x="1619280" y="2492280"/>
            <a:chExt cx="6485040" cy="2952720"/>
          </a:xfrm>
        </p:grpSpPr>
        <p:grpSp>
          <p:nvGrpSpPr>
            <p:cNvPr id="99" name=""/>
            <p:cNvGrpSpPr/>
            <p:nvPr/>
          </p:nvGrpSpPr>
          <p:grpSpPr>
            <a:xfrm>
              <a:off x="1619280" y="2492280"/>
              <a:ext cx="6485040" cy="2816640"/>
              <a:chOff x="1619280" y="2492280"/>
              <a:chExt cx="6485040" cy="281664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619280" y="2971800"/>
                <a:ext cx="6485040" cy="2337120"/>
                <a:chOff x="1619280" y="2971800"/>
                <a:chExt cx="6485040" cy="23371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01" name=""/>
                    <p:cNvSpPr txBox="1"/>
                    <p:nvPr/>
                  </p:nvSpPr>
                  <p:spPr>
                    <a:xfrm>
                      <a:off x="1619280" y="2971800"/>
                      <a:ext cx="6485040" cy="1317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02" name=""/>
                <p:cNvSpPr/>
                <p:nvPr/>
              </p:nvSpPr>
              <p:spPr>
                <a:xfrm flipH="1" flipV="1">
                  <a:off x="2233440" y="4339800"/>
                  <a:ext cx="1152360" cy="86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393720" y="4910040"/>
                  <a:ext cx="1721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Límite inferio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flipH="1">
                <a:off x="2233440" y="2714760"/>
                <a:ext cx="18730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84920" y="2492280"/>
                <a:ext cx="18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Límite superi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 flipH="1" flipV="1">
              <a:off x="2522160" y="3932280"/>
              <a:ext cx="71640" cy="151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11280" y="5516640"/>
                <a:ext cx="51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1882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Se quiere expresar la suma de los cuadrados de los primeros 10 natura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s deci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En este caso, es fácil ver que el término general 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AR" sz="2500" spc="-1" strike="noStrike">
                <a:solidFill>
                  <a:srgbClr val="000000"/>
                </a:solidFill>
                <a:latin typeface="Arial"/>
              </a:rPr>
              <a:t>con lo que la suma (expresada con nuestro “nuevo” símbolo) 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95280" y="2565360"/>
            <a:ext cx="8317080" cy="4079880"/>
            <a:chOff x="395280" y="2565360"/>
            <a:chExt cx="8317080" cy="407988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3059280" y="2565360"/>
                  <a:ext cx="404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,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763640" y="3547800"/>
                  <a:ext cx="63374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755640" y="4700520"/>
                  <a:ext cx="1152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395280" y="5689440"/>
                  <a:ext cx="8317080" cy="95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  <m:e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</m:e>
                      </m:nary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8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8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12000" y="134136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43308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Verdana"/>
              </a:rPr>
              <a:t>Ejemplo de sumatorias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se desea considerar solamen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Entonces se puede escrib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82760" y="2276640"/>
            <a:ext cx="6161040" cy="3418200"/>
            <a:chOff x="1382760" y="2276640"/>
            <a:chExt cx="6161040" cy="3418200"/>
          </a:xfrm>
        </p:grpSpPr>
        <p:grpSp>
          <p:nvGrpSpPr>
            <p:cNvPr id="128" name=""/>
            <p:cNvGrpSpPr/>
            <p:nvPr/>
          </p:nvGrpSpPr>
          <p:grpSpPr>
            <a:xfrm>
              <a:off x="1382760" y="2276640"/>
              <a:ext cx="6161040" cy="2276280"/>
              <a:chOff x="1382760" y="2276640"/>
              <a:chExt cx="6161040" cy="2276280"/>
            </a:xfrm>
          </p:grpSpPr>
          <mc:AlternateContent>
            <mc:Choice xmlns:a14="http://schemas.microsoft.com/office/drawing/2010/main" Requires="a14">
              <p:sp>
                <p:nvSpPr>
                  <p:cNvPr id="129" name=""/>
                  <p:cNvSpPr txBox="1"/>
                  <p:nvPr/>
                </p:nvSpPr>
                <p:spPr>
                  <a:xfrm>
                    <a:off x="2158920" y="2276640"/>
                    <a:ext cx="4176720" cy="36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0" name=""/>
                  <p:cNvSpPr txBox="1"/>
                  <p:nvPr/>
                </p:nvSpPr>
                <p:spPr>
                  <a:xfrm>
                    <a:off x="1382760" y="3716280"/>
                    <a:ext cx="6161040" cy="83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</m:e>
                        </m:nary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31" name=""/>
            <p:cNvSpPr/>
            <p:nvPr/>
          </p:nvSpPr>
          <p:spPr>
            <a:xfrm flipH="1" flipV="1">
              <a:off x="1835280" y="4508280"/>
              <a:ext cx="72072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76600" y="5295960"/>
              <a:ext cx="360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ste es el término que camb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de sumatoria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87280" y="3500280"/>
            <a:ext cx="5065560" cy="2447640"/>
            <a:chOff x="1187280" y="3500280"/>
            <a:chExt cx="5065560" cy="244764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12840" y="3500280"/>
                  <a:ext cx="5040000" cy="104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4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5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3611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1187280" y="4866840"/>
                  <a:ext cx="494640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5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</m:e>
                      </m:nary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37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25909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Prop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Un ejemplo s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916280"/>
            <a:ext cx="7993080" cy="3889080"/>
            <a:chOff x="539640" y="1916280"/>
            <a:chExt cx="7993080" cy="388908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2771640" y="1916280"/>
                  <a:ext cx="3456000" cy="12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λ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λ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39640" y="4492800"/>
                  <a:ext cx="7993080" cy="13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</m:e>
                          </m:nary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e>
                        <m:e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3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4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5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7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9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77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17384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99"/>
                </a:solidFill>
                <a:latin typeface="Verdana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¿Qué es una serie?  …. Consiste en encontrar funciones polinómicas que se aproximen (que se parezcan) a una cierta función f(x)….   </a:t>
            </a:r>
            <a:r>
              <a:rPr b="1" lang="es-MX" sz="2500" spc="-1" strike="noStrike">
                <a:solidFill>
                  <a:srgbClr val="ff3300"/>
                </a:solidFill>
                <a:latin typeface="Arial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, esta serie se conoce como binomio de Newt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4248000"/>
            <a:ext cx="7848360" cy="2420640"/>
            <a:chOff x="324000" y="4248000"/>
            <a:chExt cx="7848360" cy="2420640"/>
          </a:xfrm>
        </p:grpSpPr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24000" y="4248000"/>
                  <a:ext cx="78483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  <m:sSup>
                        <m:e>
                          <m:r>
                            <m:t xml:space="preserve"> 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467080" y="5591160"/>
                  <a:ext cx="3209760" cy="107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n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  <m:r>
                            <m:t xml:space="preserve">⋅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1200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4-- NZ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44360"/>
            <a:ext cx="72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3664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04T20:52:59Z</dcterms:modified>
  <cp:revision>31</cp:revision>
  <dc:subject/>
  <dc:title>Introducción a la Física Newtoniana </dc:title>
</cp:coreProperties>
</file>