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8B6-FC61-4969-9848-CFEF886B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0C5-054F-40A2-B22C-C56F9F36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433-4586-43B6-B78F-3F82A75F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211F-81CF-4A37-B3BD-34353862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BB7-E94B-45AE-9297-B512F3E4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9084-E164-4A65-A799-134D785E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847E-BB8A-4D20-AA7D-32ED91EA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7CD-EAFE-41B2-827D-42B92D09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CB6-1070-4C0E-9389-549B3545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8CAE-BAC1-4EBE-92E4-483F26DE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6CD-CD20-4B30-813C-7D6C2FAF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693-03AE-4902-8E10-89ACB470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DA03-8CCE-43F2-9AB9-C970880E2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1052640"/>
            <a:ext cx="453708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H="1">
            <a:off x="1909800" y="2111400"/>
            <a:ext cx="776160" cy="143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24200" y="3552840"/>
            <a:ext cx="16761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959120"/>
            <a:ext cx="3268440" cy="3047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95800" y="2187720"/>
            <a:ext cx="511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17720" y="2411280"/>
            <a:ext cx="511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3520" y="3478320"/>
            <a:ext cx="511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1125360"/>
            <a:ext cx="4648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sto es 1 radian (1 rad) 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0920" y="2873520"/>
            <a:ext cx="1075680" cy="136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333399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197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imes New Roman"/>
              </a:rPr>
              <a:t>¿Qué es 1 radiá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57560" y="4245120"/>
            <a:ext cx="4416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¿A cuánto grados sexagesimales (º) corresponde 1 r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rot="5400000">
            <a:off x="202320" y="1806840"/>
            <a:ext cx="329040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69832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698327"/>
              </a:path>
            </a:pathLst>
          </a:cu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86360" y="5616720"/>
            <a:ext cx="2835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rad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57,295 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940360" y="3384720"/>
                <a:ext cx="13939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π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990880" y="5464080"/>
                <a:ext cx="23623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π r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rad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422600" y="2205000"/>
            <a:ext cx="3749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¿Cuántos radianes hay en la circunferencia completa? Es decir ¿Cuántos radianes hay en 360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17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564000" y="1989000"/>
            <a:ext cx="503280" cy="36036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7018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82680" y="981000"/>
            <a:ext cx="45496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905120" y="2209680"/>
            <a:ext cx="5562360" cy="17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279f"/>
                </a:solidFill>
                <a:latin typeface="Arial Black"/>
              </a:rPr>
              <a:t>Funci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279f"/>
              </a:solid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09480" y="609480"/>
            <a:ext cx="8384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c0128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c0128"/>
              </a:solidFill>
              <a:latin typeface="Arial Black"/>
              <a:ea typeface="Arial Black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57200" y="5638320"/>
            <a:ext cx="8280360" cy="470160"/>
            <a:chOff x="457200" y="5638320"/>
            <a:chExt cx="8280360" cy="470160"/>
          </a:xfrm>
        </p:grpSpPr>
        <p:sp>
          <p:nvSpPr>
            <p:cNvPr id="158" name=""/>
            <p:cNvSpPr/>
            <p:nvPr/>
          </p:nvSpPr>
          <p:spPr>
            <a:xfrm>
              <a:off x="457200" y="5664240"/>
              <a:ext cx="44355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9999"/>
                  </a:solidFill>
                  <a:latin typeface="Arial"/>
                </a:rPr>
                <a:t>Rafael Cautivo Sánche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5800" y="6095880"/>
              <a:ext cx="4114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00600" y="563868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00600" y="5638680"/>
              <a:ext cx="817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19920" y="5638680"/>
              <a:ext cx="815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53280" y="5638680"/>
              <a:ext cx="1484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600" y="5867280"/>
              <a:ext cx="817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53280" y="5867280"/>
              <a:ext cx="817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2720" y="6095880"/>
              <a:ext cx="24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638680" y="5638320"/>
              <a:ext cx="0" cy="241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19920" y="563868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880" y="5638680"/>
              <a:ext cx="0" cy="22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77320" y="5867280"/>
              <a:ext cx="0" cy="22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5334120" y="5866920"/>
              <a:ext cx="250560" cy="241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320" y="1909800"/>
            <a:ext cx="899136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 algebraic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 trigonométric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cos(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 exponencial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 logarítmic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log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tr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tg(lo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762120"/>
            <a:ext cx="5648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Funciones de una 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0600" y="1371600"/>
            <a:ext cx="221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po de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1720" y="1371600"/>
            <a:ext cx="176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7360" y="1757520"/>
            <a:ext cx="844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2061720"/>
            <a:ext cx="906768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º Grad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t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mx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º Grad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ábol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º Grad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ábola cubica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x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 -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pérbol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 -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pérbola cuadrátic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85800"/>
            <a:ext cx="4200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Times New Roman"/>
              </a:rPr>
              <a:t>Funciones Algebra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00" y="1447920"/>
            <a:ext cx="884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den o gra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rv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760" y="1986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primer orden o lin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3200" spc="-1" strike="noStrike">
                <a:solidFill>
                  <a:srgbClr val="fc0128"/>
                </a:solidFill>
                <a:latin typeface="Times New Roman"/>
              </a:rPr>
              <a:t>y = mx +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652920" y="5405400"/>
            <a:ext cx="2066760" cy="840600"/>
            <a:chOff x="3652920" y="5405400"/>
            <a:chExt cx="2066760" cy="840600"/>
          </a:xfrm>
        </p:grpSpPr>
        <p:grpSp>
          <p:nvGrpSpPr>
            <p:cNvPr id="188" name=""/>
            <p:cNvGrpSpPr/>
            <p:nvPr/>
          </p:nvGrpSpPr>
          <p:grpSpPr>
            <a:xfrm>
              <a:off x="3652920" y="5405400"/>
              <a:ext cx="2066760" cy="505080"/>
              <a:chOff x="3652920" y="5405400"/>
              <a:chExt cx="2066760" cy="505080"/>
            </a:xfrm>
          </p:grpSpPr>
          <p:sp>
            <p:nvSpPr>
              <p:cNvPr id="189" name=""/>
              <p:cNvSpPr/>
              <p:nvPr/>
            </p:nvSpPr>
            <p:spPr>
              <a:xfrm>
                <a:off x="3652920" y="5405400"/>
                <a:ext cx="6192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00480" y="5405400"/>
                <a:ext cx="6192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816360" y="5867280"/>
                <a:ext cx="1587600" cy="0"/>
              </a:xfrm>
              <a:prstGeom prst="line">
                <a:avLst/>
              </a:prstGeom>
              <a:ln w="12600">
                <a:solidFill>
                  <a:srgbClr val="bbe0e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262400" y="5791320"/>
              <a:ext cx="847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366920" y="4262400"/>
            <a:ext cx="1903320" cy="454680"/>
            <a:chOff x="1366920" y="4262400"/>
            <a:chExt cx="1903320" cy="454680"/>
          </a:xfrm>
        </p:grpSpPr>
        <p:sp>
          <p:nvSpPr>
            <p:cNvPr id="194" name=""/>
            <p:cNvSpPr/>
            <p:nvPr/>
          </p:nvSpPr>
          <p:spPr>
            <a:xfrm>
              <a:off x="1366920" y="4262400"/>
              <a:ext cx="466560" cy="4546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35280" y="4502160"/>
              <a:ext cx="1434960" cy="633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976400" y="3119400"/>
            <a:ext cx="1457280" cy="1419480"/>
            <a:chOff x="1976400" y="3119400"/>
            <a:chExt cx="1457280" cy="1419480"/>
          </a:xfrm>
        </p:grpSpPr>
        <p:sp>
          <p:nvSpPr>
            <p:cNvPr id="197" name=""/>
            <p:cNvSpPr/>
            <p:nvPr/>
          </p:nvSpPr>
          <p:spPr>
            <a:xfrm>
              <a:off x="2814480" y="4033800"/>
              <a:ext cx="619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14480" y="3119400"/>
              <a:ext cx="619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66880" y="3359160"/>
              <a:ext cx="0" cy="90180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76400" y="3652920"/>
              <a:ext cx="619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477120" y="2819520"/>
                <a:ext cx="182232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553080" y="3932280"/>
                <a:ext cx="12351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3" name=""/>
          <p:cNvGrpSpPr/>
          <p:nvPr/>
        </p:nvGrpSpPr>
        <p:grpSpPr>
          <a:xfrm>
            <a:off x="6477120" y="5029200"/>
            <a:ext cx="2666880" cy="1017720"/>
            <a:chOff x="6477120" y="5029200"/>
            <a:chExt cx="2666880" cy="1017720"/>
          </a:xfrm>
        </p:grpSpPr>
        <p:sp>
          <p:nvSpPr>
            <p:cNvPr id="204" name=""/>
            <p:cNvSpPr/>
            <p:nvPr/>
          </p:nvSpPr>
          <p:spPr>
            <a:xfrm>
              <a:off x="6477120" y="50292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espués verem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6553080" y="5562720"/>
                  <a:ext cx="154332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tg</m:t>
                      </m:r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292480" y="2814480"/>
            <a:ext cx="3736800" cy="2982600"/>
            <a:chOff x="2292480" y="2814480"/>
            <a:chExt cx="3736800" cy="2982600"/>
          </a:xfrm>
        </p:grpSpPr>
        <p:sp>
          <p:nvSpPr>
            <p:cNvPr id="208" name=""/>
            <p:cNvSpPr/>
            <p:nvPr/>
          </p:nvSpPr>
          <p:spPr>
            <a:xfrm flipV="1">
              <a:off x="3276720" y="2964960"/>
              <a:ext cx="0" cy="28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2292480" y="2814480"/>
              <a:ext cx="3736800" cy="2525760"/>
              <a:chOff x="2292480" y="2814480"/>
              <a:chExt cx="3736800" cy="2525760"/>
            </a:xfrm>
          </p:grpSpPr>
          <p:sp>
            <p:nvSpPr>
              <p:cNvPr id="210" name=""/>
              <p:cNvSpPr/>
              <p:nvPr/>
            </p:nvSpPr>
            <p:spPr>
              <a:xfrm>
                <a:off x="2292480" y="533412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24320" y="2814480"/>
                <a:ext cx="3142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38680" y="4800600"/>
                <a:ext cx="3906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2832120" y="3263760"/>
                <a:ext cx="2641680" cy="1625760"/>
              </a:xfrm>
              <a:prstGeom prst="line">
                <a:avLst/>
              </a:prstGeom>
              <a:ln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3269880" y="3346560"/>
                <a:ext cx="2146680" cy="1993680"/>
                <a:chOff x="3269880" y="3346560"/>
                <a:chExt cx="2146680" cy="1993680"/>
              </a:xfrm>
            </p:grpSpPr>
            <p:sp>
              <p:nvSpPr>
                <p:cNvPr id="215" name=""/>
                <p:cNvSpPr/>
                <p:nvPr/>
              </p:nvSpPr>
              <p:spPr>
                <a:xfrm flipV="1">
                  <a:off x="3886200" y="4260960"/>
                  <a:ext cx="0" cy="1079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3269880" y="4267080"/>
                  <a:ext cx="622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>
                  <a:off x="5410080" y="3346560"/>
                  <a:ext cx="0" cy="1993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3270240" y="3352680"/>
                  <a:ext cx="214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"/>
          <p:cNvGrpSpPr/>
          <p:nvPr/>
        </p:nvGrpSpPr>
        <p:grpSpPr>
          <a:xfrm>
            <a:off x="3200400" y="3584880"/>
            <a:ext cx="1905120" cy="1370520"/>
            <a:chOff x="3200400" y="3584880"/>
            <a:chExt cx="1905120" cy="1370520"/>
          </a:xfrm>
        </p:grpSpPr>
        <p:sp>
          <p:nvSpPr>
            <p:cNvPr id="220" name=""/>
            <p:cNvSpPr/>
            <p:nvPr/>
          </p:nvSpPr>
          <p:spPr>
            <a:xfrm>
              <a:off x="3886200" y="4267080"/>
              <a:ext cx="121932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00400" y="3584880"/>
              <a:ext cx="1371240" cy="137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049" y="5224"/>
                  </a:moveTo>
                  <a:arcTo wR="10800" hR="10800" stAng="-1864904" swAng="1864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049" y="5224"/>
                  </a:moveTo>
                  <a:arcTo wR="10800" hR="10800" stAng="-1864904" swAng="1864904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112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35080" y="1898640"/>
            <a:ext cx="2830320" cy="2908440"/>
            <a:chOff x="235080" y="1898640"/>
            <a:chExt cx="2830320" cy="2908440"/>
          </a:xfrm>
        </p:grpSpPr>
        <p:sp>
          <p:nvSpPr>
            <p:cNvPr id="225" name=""/>
            <p:cNvSpPr/>
            <p:nvPr/>
          </p:nvSpPr>
          <p:spPr>
            <a:xfrm>
              <a:off x="235080" y="4354560"/>
              <a:ext cx="257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914400" y="2048040"/>
              <a:ext cx="0" cy="27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87480" y="189864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74800" y="360684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609480" y="2338560"/>
              <a:ext cx="1822680" cy="158256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206880" y="4354560"/>
            <a:ext cx="257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886200" y="2048040"/>
            <a:ext cx="0" cy="275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9280" y="189864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46600" y="360684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70200" y="3124080"/>
            <a:ext cx="1803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78680" y="4354560"/>
            <a:ext cx="257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858000" y="2048040"/>
            <a:ext cx="0" cy="275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31080" y="189864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618400" y="360684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66040" y="2984400"/>
            <a:ext cx="1955520" cy="157500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7080" y="909720"/>
            <a:ext cx="7929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ómo es la pendiente en cada uno de estos cas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7080" y="5176800"/>
            <a:ext cx="1990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28880" y="5176800"/>
            <a:ext cx="1990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24720" y="5176800"/>
            <a:ext cx="1990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6200" y="833400"/>
            <a:ext cx="86965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derar que, si se conoce 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” o 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”, la función se convierte en una ecuación de primer gr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la función 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d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,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·2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d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 = 2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178680" y="1974960"/>
            <a:ext cx="2830320" cy="2908080"/>
            <a:chOff x="6178680" y="1974960"/>
            <a:chExt cx="2830320" cy="2908080"/>
          </a:xfrm>
        </p:grpSpPr>
        <p:sp>
          <p:nvSpPr>
            <p:cNvPr id="248" name=""/>
            <p:cNvSpPr/>
            <p:nvPr/>
          </p:nvSpPr>
          <p:spPr>
            <a:xfrm>
              <a:off x="6178680" y="4430880"/>
              <a:ext cx="257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858000" y="2124000"/>
              <a:ext cx="0" cy="27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31080" y="197496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618400" y="368316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6553080" y="2414160"/>
              <a:ext cx="1822680" cy="158292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 flipV="1">
            <a:off x="7848720" y="2889360"/>
            <a:ext cx="0" cy="1536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775560" y="2895480"/>
            <a:ext cx="1079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91400" y="4491000"/>
            <a:ext cx="54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96120" y="2662200"/>
            <a:ext cx="54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4114800"/>
            <a:ext cx="45050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decir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y  = mx  +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y’ = mx’ +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o permite determinar “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6200" y="833400"/>
            <a:ext cx="869652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Sea una recta cuya pendiente e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 y pasa por el punto P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2, 4) ¿Cuál es la ecuación de dicha recta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función debe s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punto 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 = (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)·(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2)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la ecuación buscad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su grafica deb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257800" y="2819520"/>
            <a:ext cx="3429000" cy="2971440"/>
            <a:chOff x="5257800" y="2819520"/>
            <a:chExt cx="3429000" cy="2971440"/>
          </a:xfrm>
        </p:grpSpPr>
        <p:sp>
          <p:nvSpPr>
            <p:cNvPr id="262" name=""/>
            <p:cNvSpPr/>
            <p:nvPr/>
          </p:nvSpPr>
          <p:spPr>
            <a:xfrm>
              <a:off x="5257800" y="419112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535800" y="2968920"/>
              <a:ext cx="0" cy="27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08880" y="281952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296200" y="365796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5562720" y="3276360"/>
              <a:ext cx="2133360" cy="251460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5715000" y="342936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715000" y="3429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0080" y="4191120"/>
              <a:ext cx="60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95880" y="3048120"/>
              <a:ext cx="45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6200" y="833400"/>
            <a:ext cx="869652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Sea la recta del grafico ¿Cuál es su ecuación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función debe s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 pendiente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895480" y="1905120"/>
                <a:ext cx="18226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5715000" y="33526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993000" y="2130480"/>
            <a:ext cx="0" cy="275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66080" y="198108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53400" y="28195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790960" y="2209680"/>
            <a:ext cx="2971800" cy="304812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172200" y="327636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933960" y="25909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362320"/>
            <a:ext cx="60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72200" y="4876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81880" y="2590920"/>
            <a:ext cx="0" cy="7617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324480" y="4419720"/>
            <a:ext cx="68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53280" y="3429000"/>
            <a:ext cx="53352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3429000"/>
            <a:ext cx="6858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776160" y="2971800"/>
                <a:ext cx="37800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04920" y="396252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uego, la ecuación debe ser tal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derando uno de los puntos conoci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0 =  10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7 +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ueg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0, y la ecuación buscada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9810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2663640" cy="2468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348000" cy="2251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904640" y="11253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cc00"/>
                </a:solidFill>
                <a:latin typeface="Verdana"/>
              </a:rPr>
              <a:t>Pitág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81560" y="1844640"/>
            <a:ext cx="417672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Todo está en  los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Descubrió la importancia de los números en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música y la conexión que estableció entre el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aún sobrevive: progresión armónica, el med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armónico. Imaginó los números como form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Así denominamos al cuadrado de un némer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</a:rPr>
              <a:t>al cub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93880" y="6127920"/>
            <a:ext cx="359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B. Russell, History of Western Philoso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55360" y="3933720"/>
            <a:ext cx="4606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egún Russell es la persona más influyente de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Histori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tableció la superioridad del pensa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templativo: el espectador es más valioso que 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ctor en la cancha. Nuestro pensamiento actu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(el jugador es el ídolo) se inspira en el industrialis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te ideal contemplativo lo condujo a la crea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s matemáticas puras. Y su prestigio derivó de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Utilidad que esta ciencia mostr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6200" y="833400"/>
            <a:ext cx="869652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Sea la recta del grafico ¿Cuál es su ecuación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función debe s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x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 pendiente 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 parámetro de posició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562720" y="419112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993000" y="2130480"/>
            <a:ext cx="0" cy="275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66080" y="198108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753400" y="365760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790960" y="3048120"/>
            <a:ext cx="29718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2590920"/>
            <a:ext cx="60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81880" y="3124080"/>
            <a:ext cx="0" cy="9907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29600" y="4270320"/>
            <a:ext cx="53352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312408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uego, la ecuación debe ser tal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0 x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6200" y="833400"/>
            <a:ext cx="869652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¿En qué punto la recta corta al eje 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función e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x +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0 y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recta esta descrita por: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3124080"/>
            <a:ext cx="7467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unto buscado es aquel en qu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u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33526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993000" y="2130480"/>
            <a:ext cx="0" cy="275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66080" y="198108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753400" y="28195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790960" y="2209680"/>
            <a:ext cx="2971800" cy="304812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172200" y="327636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933960" y="25909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362320"/>
            <a:ext cx="60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72200" y="4876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381880" y="2590920"/>
            <a:ext cx="0" cy="7617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67280" y="3429000"/>
            <a:ext cx="6858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24480" y="4419720"/>
            <a:ext cx="76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153280" y="3429000"/>
            <a:ext cx="53352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3505320"/>
            <a:ext cx="6019920" cy="2057400"/>
          </a:xfrm>
          <a:custGeom>
            <a:avLst/>
            <a:gdLst/>
            <a:ahLst/>
            <a:rect l="l" t="t" r="r" b="b"/>
            <a:pathLst>
              <a:path w="3792" h="1296">
                <a:moveTo>
                  <a:pt x="0" y="912"/>
                </a:moveTo>
                <a:lnTo>
                  <a:pt x="2496" y="1296"/>
                </a:lnTo>
                <a:lnTo>
                  <a:pt x="3792" y="1104"/>
                </a:lnTo>
                <a:lnTo>
                  <a:pt x="360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6200" y="833400"/>
            <a:ext cx="869652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¿En qué punto se cruzan las rectas del gráfi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funcion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9999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9999"/>
                </a:solidFill>
                <a:latin typeface="Times New Roman"/>
              </a:rPr>
              <a:t> = 7,5 </a:t>
            </a:r>
            <a:r>
              <a:rPr b="0" i="1" lang="es-ES_tradnl" sz="24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9999"/>
                </a:solidFill>
                <a:latin typeface="Times New Roman"/>
              </a:rPr>
              <a:t> – 1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279f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 6 </a:t>
            </a:r>
            <a:r>
              <a:rPr b="0" i="1" lang="es-ES_tradnl" sz="2400" spc="-1" strike="noStrike">
                <a:solidFill>
                  <a:srgbClr val="00279f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2895480"/>
            <a:ext cx="5943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unto P(x,y) en que se cruzan deb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9999"/>
                </a:solidFill>
                <a:latin typeface="Times New Roman"/>
              </a:rPr>
              <a:t>7,5 </a:t>
            </a:r>
            <a:r>
              <a:rPr b="0" i="1" lang="es-ES_tradnl" sz="24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9999"/>
                </a:solidFill>
                <a:latin typeface="Times New Roman"/>
              </a:rPr>
              <a:t> – 12,5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 6 </a:t>
            </a:r>
            <a:r>
              <a:rPr b="0" i="1" lang="es-ES_tradnl" sz="2400" spc="-1" strike="noStrike">
                <a:solidFill>
                  <a:srgbClr val="00279f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,5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6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0 + 1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3,5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1,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715000" y="1981080"/>
            <a:ext cx="3429000" cy="3276720"/>
            <a:chOff x="5715000" y="1981080"/>
            <a:chExt cx="3429000" cy="3276720"/>
          </a:xfrm>
        </p:grpSpPr>
        <p:sp>
          <p:nvSpPr>
            <p:cNvPr id="326" name=""/>
            <p:cNvSpPr/>
            <p:nvPr/>
          </p:nvSpPr>
          <p:spPr>
            <a:xfrm>
              <a:off x="5715000" y="335268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993000" y="2130480"/>
              <a:ext cx="0" cy="27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66080" y="198108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53400" y="281952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790960" y="2209680"/>
              <a:ext cx="2971800" cy="304812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172200" y="259092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172200" y="2590920"/>
              <a:ext cx="2209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77120" y="2362320"/>
              <a:ext cx="60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72200" y="48769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81880" y="2590920"/>
              <a:ext cx="0" cy="16002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24480" y="4419720"/>
              <a:ext cx="68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 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29600" y="3429000"/>
              <a:ext cx="53352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67280" y="3444840"/>
              <a:ext cx="60984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15000" y="2286000"/>
              <a:ext cx="2971800" cy="220968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010280" y="4267080"/>
              <a:ext cx="13716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038480"/>
              <a:ext cx="68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 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095880" y="3657240"/>
            <a:ext cx="2667240" cy="2259720"/>
            <a:chOff x="6095880" y="3657240"/>
            <a:chExt cx="2667240" cy="2259720"/>
          </a:xfrm>
        </p:grpSpPr>
        <p:sp>
          <p:nvSpPr>
            <p:cNvPr id="343" name=""/>
            <p:cNvSpPr/>
            <p:nvPr/>
          </p:nvSpPr>
          <p:spPr>
            <a:xfrm>
              <a:off x="6095880" y="5335560"/>
              <a:ext cx="2667240" cy="5814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P = (1,66; 0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7467480" y="3657240"/>
              <a:ext cx="76320" cy="167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800600" y="59436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ótese que el gráfico está mal hech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04920" y="304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c0128"/>
                </a:solidFill>
                <a:latin typeface="Times New Roman"/>
              </a:rPr>
              <a:t>Le ecuación de la recta en las calculadoras cientí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38080"/>
            <a:ext cx="914400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o a usar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resión Lineal (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ada de dos punto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ndi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ámetro de posi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lor de y para 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lor de x para y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robar para este ca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49640" y="3695760"/>
            <a:ext cx="127080" cy="44280"/>
          </a:xfrm>
          <a:custGeom>
            <a:avLst/>
            <a:gdLst/>
            <a:ahLst/>
            <a:rect l="l" t="t" r="r" b="b"/>
            <a:pathLst>
              <a:path w="80" h="28">
                <a:moveTo>
                  <a:pt x="0" y="28"/>
                </a:moveTo>
                <a:lnTo>
                  <a:pt x="40" y="0"/>
                </a:lnTo>
                <a:lnTo>
                  <a:pt x="80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149640" y="4222800"/>
            <a:ext cx="127080" cy="44280"/>
          </a:xfrm>
          <a:custGeom>
            <a:avLst/>
            <a:gdLst/>
            <a:ahLst/>
            <a:rect l="l" t="t" r="r" b="b"/>
            <a:pathLst>
              <a:path w="80" h="28">
                <a:moveTo>
                  <a:pt x="0" y="28"/>
                </a:moveTo>
                <a:lnTo>
                  <a:pt x="40" y="0"/>
                </a:lnTo>
                <a:lnTo>
                  <a:pt x="80" y="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715000" y="1981080"/>
            <a:ext cx="3429000" cy="3276720"/>
            <a:chOff x="5715000" y="1981080"/>
            <a:chExt cx="3429000" cy="3276720"/>
          </a:xfrm>
        </p:grpSpPr>
        <p:sp>
          <p:nvSpPr>
            <p:cNvPr id="352" name=""/>
            <p:cNvSpPr/>
            <p:nvPr/>
          </p:nvSpPr>
          <p:spPr>
            <a:xfrm>
              <a:off x="5715000" y="335268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010280" y="213336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66080" y="198108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53400" y="281952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5790960" y="2209680"/>
              <a:ext cx="2971800" cy="304812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172200" y="327636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6933960" y="259092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77120" y="2362320"/>
              <a:ext cx="60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72200" y="48769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81880" y="2590920"/>
              <a:ext cx="0" cy="76176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67280" y="3429000"/>
              <a:ext cx="53352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86600" y="4575240"/>
              <a:ext cx="68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 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53280" y="3429000"/>
              <a:ext cx="53352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5791320" y="5105520"/>
            <a:ext cx="2057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 = 10 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04920" y="304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c0128"/>
                </a:solidFill>
                <a:latin typeface="Times New Roman"/>
              </a:rPr>
              <a:t>Le ecuación de la recta en cinemática </a:t>
            </a:r>
            <a:r>
              <a:rPr b="1" lang="es-ES_tradnl" sz="2800" spc="-1" strike="noStrike">
                <a:solidFill>
                  <a:srgbClr val="00279f"/>
                </a:solidFill>
                <a:latin typeface="Times New Roman"/>
              </a:rPr>
              <a:t>(ejemp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334120" y="990720"/>
            <a:ext cx="3429000" cy="3276000"/>
            <a:chOff x="5334120" y="990720"/>
            <a:chExt cx="3429000" cy="3276000"/>
          </a:xfrm>
        </p:grpSpPr>
        <p:sp>
          <p:nvSpPr>
            <p:cNvPr id="368" name=""/>
            <p:cNvSpPr/>
            <p:nvPr/>
          </p:nvSpPr>
          <p:spPr>
            <a:xfrm>
              <a:off x="5334120" y="236196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612120" y="1139400"/>
              <a:ext cx="0" cy="27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85200" y="990720"/>
              <a:ext cx="123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m/s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5410080" y="1218960"/>
              <a:ext cx="2971800" cy="304776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5791320" y="2286000"/>
              <a:ext cx="0" cy="1599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553080" y="160020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96240" y="1371600"/>
              <a:ext cx="60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91320" y="38862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01000" y="1600200"/>
              <a:ext cx="0" cy="7614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86400" y="2438280"/>
              <a:ext cx="68580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43600" y="3429000"/>
              <a:ext cx="762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72400" y="2438280"/>
              <a:ext cx="53352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153640" y="1904760"/>
              <a:ext cx="60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s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6320" y="1066680"/>
            <a:ext cx="46479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vehículo se mueve por una recta según el siguiente grá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Cuál es su aceler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Qué velocidad posee en t = 0 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¿En qué instante está deteni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320" y="3657600"/>
            <a:ext cx="761976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spues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aceletación corresponde a la pendiente (</a:t>
            </a:r>
            <a:r>
              <a:rPr b="0" i="1" lang="es-MX" sz="2400" spc="-1" strike="noStrike">
                <a:solidFill>
                  <a:srgbClr val="fc0128"/>
                </a:solidFill>
                <a:latin typeface="Times New Roman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; es decir,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10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/s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velocidad en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0 orresponde a </a:t>
            </a:r>
            <a:r>
              <a:rPr b="0" i="1" lang="es-MX" sz="2400" spc="-1" strike="noStrike">
                <a:solidFill>
                  <a:srgbClr val="fc0128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; es decir,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– 30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/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30, para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; t = 3 [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900080" y="3881520"/>
            <a:ext cx="1376640" cy="454680"/>
            <a:chOff x="1900080" y="3881520"/>
            <a:chExt cx="1376640" cy="454680"/>
          </a:xfrm>
        </p:grpSpPr>
        <p:sp>
          <p:nvSpPr>
            <p:cNvPr id="386" name=""/>
            <p:cNvSpPr/>
            <p:nvPr/>
          </p:nvSpPr>
          <p:spPr>
            <a:xfrm>
              <a:off x="1900080" y="3881520"/>
              <a:ext cx="314640" cy="4546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16160" y="4121280"/>
              <a:ext cx="1060560" cy="1458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572000" y="2438280"/>
            <a:ext cx="1305000" cy="2908080"/>
            <a:chOff x="4572000" y="2438280"/>
            <a:chExt cx="1305000" cy="2908080"/>
          </a:xfrm>
        </p:grpSpPr>
        <p:sp>
          <p:nvSpPr>
            <p:cNvPr id="389" name=""/>
            <p:cNvSpPr/>
            <p:nvPr/>
          </p:nvSpPr>
          <p:spPr>
            <a:xfrm flipV="1">
              <a:off x="4572000" y="2514240"/>
              <a:ext cx="0" cy="28321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4724280" y="2438280"/>
              <a:ext cx="1152720" cy="454680"/>
              <a:chOff x="4724280" y="2438280"/>
              <a:chExt cx="1152720" cy="454680"/>
            </a:xfrm>
          </p:grpSpPr>
          <p:sp>
            <p:nvSpPr>
              <p:cNvPr id="391" name=""/>
              <p:cNvSpPr/>
              <p:nvPr/>
            </p:nvSpPr>
            <p:spPr>
              <a:xfrm>
                <a:off x="5181480" y="2438280"/>
                <a:ext cx="695520" cy="45468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  <a:effectLst>
                <a:outerShdw dist="17819" dir="2700000" blurRad="0" rotWithShape="0">
                  <a:srgbClr val="96976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Ej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4724280" y="2743200"/>
                <a:ext cx="393840" cy="6336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604800" y="4643280"/>
            <a:ext cx="3967200" cy="1186200"/>
            <a:chOff x="604800" y="4643280"/>
            <a:chExt cx="3967200" cy="1186200"/>
          </a:xfrm>
        </p:grpSpPr>
        <p:sp>
          <p:nvSpPr>
            <p:cNvPr id="394" name=""/>
            <p:cNvSpPr/>
            <p:nvPr/>
          </p:nvSpPr>
          <p:spPr>
            <a:xfrm>
              <a:off x="1981080" y="4952880"/>
              <a:ext cx="1219320" cy="763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4800" y="4643280"/>
              <a:ext cx="1381320" cy="11862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7819" dir="2700000" blurRad="0" rotWithShape="0">
                <a:srgbClr val="96976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ínimo o máxim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3276720" y="50292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743200" y="2814480"/>
            <a:ext cx="3666960" cy="2671560"/>
            <a:chOff x="2743200" y="2814480"/>
            <a:chExt cx="3666960" cy="2671560"/>
          </a:xfrm>
        </p:grpSpPr>
        <p:sp>
          <p:nvSpPr>
            <p:cNvPr id="398" name=""/>
            <p:cNvSpPr/>
            <p:nvPr/>
          </p:nvSpPr>
          <p:spPr>
            <a:xfrm>
              <a:off x="3424320" y="281448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71800" y="5334120"/>
              <a:ext cx="33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276720" y="2964960"/>
              <a:ext cx="0" cy="252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2743200" y="3090960"/>
              <a:ext cx="3657240" cy="1938240"/>
              <a:chOff x="2743200" y="3090960"/>
              <a:chExt cx="3657240" cy="1938240"/>
            </a:xfrm>
          </p:grpSpPr>
          <p:sp>
            <p:nvSpPr>
              <p:cNvPr id="402" name=""/>
              <p:cNvSpPr/>
              <p:nvPr/>
            </p:nvSpPr>
            <p:spPr>
              <a:xfrm>
                <a:off x="2743200" y="3090960"/>
                <a:ext cx="1833480" cy="1938240"/>
              </a:xfrm>
              <a:custGeom>
                <a:avLst/>
                <a:gdLst/>
                <a:ahLst/>
                <a:rect l="l" t="t" r="r" b="b"/>
                <a:pathLst>
                  <a:path w="1155" h="1221">
                    <a:moveTo>
                      <a:pt x="0" y="0"/>
                    </a:moveTo>
                    <a:cubicBezTo>
                      <a:pt x="56" y="188"/>
                      <a:pt x="112" y="376"/>
                      <a:pt x="192" y="528"/>
                    </a:cubicBezTo>
                    <a:cubicBezTo>
                      <a:pt x="272" y="680"/>
                      <a:pt x="392" y="816"/>
                      <a:pt x="480" y="912"/>
                    </a:cubicBezTo>
                    <a:cubicBezTo>
                      <a:pt x="568" y="1008"/>
                      <a:pt x="632" y="1056"/>
                      <a:pt x="720" y="1104"/>
                    </a:cubicBezTo>
                    <a:cubicBezTo>
                      <a:pt x="808" y="1152"/>
                      <a:pt x="940" y="1181"/>
                      <a:pt x="1008" y="1200"/>
                    </a:cubicBezTo>
                    <a:cubicBezTo>
                      <a:pt x="1076" y="1219"/>
                      <a:pt x="1106" y="1215"/>
                      <a:pt x="1130" y="1218"/>
                    </a:cubicBezTo>
                    <a:cubicBezTo>
                      <a:pt x="1154" y="1221"/>
                      <a:pt x="1150" y="1218"/>
                      <a:pt x="1155" y="1218"/>
                    </a:cubicBezTo>
                  </a:path>
                </a:pathLst>
              </a:custGeom>
              <a:noFill/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4566600" y="3090960"/>
                <a:ext cx="1833480" cy="1938240"/>
              </a:xfrm>
              <a:custGeom>
                <a:avLst/>
                <a:gdLst/>
                <a:ahLst/>
                <a:rect l="l" t="t" r="r" b="b"/>
                <a:pathLst>
                  <a:path w="1155" h="1221">
                    <a:moveTo>
                      <a:pt x="0" y="0"/>
                    </a:moveTo>
                    <a:cubicBezTo>
                      <a:pt x="56" y="188"/>
                      <a:pt x="112" y="376"/>
                      <a:pt x="192" y="528"/>
                    </a:cubicBezTo>
                    <a:cubicBezTo>
                      <a:pt x="272" y="680"/>
                      <a:pt x="392" y="816"/>
                      <a:pt x="480" y="912"/>
                    </a:cubicBezTo>
                    <a:cubicBezTo>
                      <a:pt x="568" y="1008"/>
                      <a:pt x="632" y="1056"/>
                      <a:pt x="720" y="1104"/>
                    </a:cubicBezTo>
                    <a:cubicBezTo>
                      <a:pt x="808" y="1152"/>
                      <a:pt x="940" y="1181"/>
                      <a:pt x="1008" y="1200"/>
                    </a:cubicBezTo>
                    <a:cubicBezTo>
                      <a:pt x="1076" y="1219"/>
                      <a:pt x="1106" y="1215"/>
                      <a:pt x="1130" y="1218"/>
                    </a:cubicBezTo>
                    <a:cubicBezTo>
                      <a:pt x="1154" y="1221"/>
                      <a:pt x="1150" y="1218"/>
                      <a:pt x="1155" y="1218"/>
                    </a:cubicBezTo>
                  </a:path>
                </a:pathLst>
              </a:custGeom>
              <a:noFill/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6019920" y="4800600"/>
              <a:ext cx="390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301760" y="1366560"/>
            <a:ext cx="2502000" cy="4430880"/>
            <a:chOff x="1301760" y="1366560"/>
            <a:chExt cx="2502000" cy="4430880"/>
          </a:xfrm>
        </p:grpSpPr>
        <p:sp>
          <p:nvSpPr>
            <p:cNvPr id="409" name=""/>
            <p:cNvSpPr/>
            <p:nvPr/>
          </p:nvSpPr>
          <p:spPr>
            <a:xfrm>
              <a:off x="1301760" y="5369040"/>
              <a:ext cx="222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1889280" y="3176640"/>
              <a:ext cx="0" cy="262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40040" y="3035160"/>
              <a:ext cx="31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02000" y="465624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85800" y="1366560"/>
              <a:ext cx="1892160" cy="335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90"/>
                  </a:moveTo>
                  <a:arcTo wR="10800" hR="10800" stAng="-3254" swAng="540902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90"/>
                  </a:moveTo>
                  <a:arcTo wR="10800" hR="10800" stAng="-3254" swAng="5409020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84360" y="1366560"/>
              <a:ext cx="1895400" cy="335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2" y="21600"/>
                  </a:moveTo>
                  <a:arcTo wR="10800" hR="10800" stAng="5405766" swAng="53974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2" y="21600"/>
                  </a:moveTo>
                  <a:arcTo wR="10800" hR="10800" stAng="5405766" swAng="5397482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313080" y="3049560"/>
              <a:ext cx="490680" cy="33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01760" y="2978280"/>
              <a:ext cx="490680" cy="33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4502160" y="5369040"/>
            <a:ext cx="2227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089680" y="3176640"/>
            <a:ext cx="0" cy="2620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140440" y="303516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602400" y="465624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0800000">
            <a:off x="4720320" y="4187880"/>
            <a:ext cx="1894680" cy="3355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2" y="21600"/>
                </a:moveTo>
                <a:arcTo wR="10800" hR="10800" stAng="5405766" swAng="5397482"/>
                <a:lnTo>
                  <a:pt x="10800" y="10800"/>
                </a:lnTo>
                <a:close/>
              </a:path>
              <a:path fill="none" w="21600" h="21600">
                <a:moveTo>
                  <a:pt x="10782" y="21600"/>
                </a:moveTo>
                <a:arcTo wR="10800" hR="10800" stAng="5405766" swAng="5397482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0800000">
            <a:off x="4695840" y="4185000"/>
            <a:ext cx="1892160" cy="335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90"/>
                </a:moveTo>
                <a:arcTo wR="10800" hR="10800" stAng="-3254" swAng="5409020"/>
                <a:lnTo>
                  <a:pt x="10800" y="10800"/>
                </a:lnTo>
                <a:close/>
              </a:path>
              <a:path fill="none" w="21600" h="21600">
                <a:moveTo>
                  <a:pt x="21600" y="10790"/>
                </a:moveTo>
                <a:arcTo wR="10800" hR="10800" stAng="-3254" swAng="5409020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502160" y="2978280"/>
            <a:ext cx="490680" cy="33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2720" y="5786280"/>
            <a:ext cx="1228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53120" y="5786280"/>
            <a:ext cx="1228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172200" y="24382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se puede decir d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292480" y="533412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276720" y="2964960"/>
            <a:ext cx="0" cy="283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348000" y="266220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2600" y="45673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755800" y="1003680"/>
            <a:ext cx="3174840" cy="363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757600" y="1003680"/>
            <a:ext cx="3174120" cy="363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645160" y="282564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92480" y="27496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343400" y="2964960"/>
            <a:ext cx="0" cy="23749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24080" y="1625400"/>
            <a:ext cx="2438280" cy="299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00400" y="1625400"/>
            <a:ext cx="2288520" cy="299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57600" y="5486400"/>
            <a:ext cx="16095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4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s-ES_tradnl" sz="4400" spc="-1" strike="noStrike">
                <a:solidFill>
                  <a:srgbClr val="0099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553080" y="23623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se puede decir de </a:t>
            </a:r>
            <a:r>
              <a:rPr b="0" i="1" lang="es-ES_tradnl" sz="2400" spc="-1" strike="noStrike">
                <a:solidFill>
                  <a:srgbClr val="fc0128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553080" y="3429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se puede decir de </a:t>
            </a:r>
            <a:r>
              <a:rPr b="0" i="1" lang="es-ES_tradnl" sz="2400" spc="-1" strike="noStrike">
                <a:solidFill>
                  <a:srgbClr val="00279f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553080" y="44197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se puede decir de </a:t>
            </a:r>
            <a:r>
              <a:rPr b="0" i="1" lang="es-ES_tradnl" sz="24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685800"/>
            <a:ext cx="9067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función se convierte en una ecuación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(c - d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58760" y="1918080"/>
            <a:ext cx="4178160" cy="4793400"/>
            <a:chOff x="158760" y="1918080"/>
            <a:chExt cx="4178160" cy="4793400"/>
          </a:xfrm>
        </p:grpSpPr>
        <p:sp>
          <p:nvSpPr>
            <p:cNvPr id="449" name=""/>
            <p:cNvSpPr/>
            <p:nvPr/>
          </p:nvSpPr>
          <p:spPr>
            <a:xfrm>
              <a:off x="158760" y="6248520"/>
              <a:ext cx="37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1143000" y="3879360"/>
              <a:ext cx="0" cy="28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14280" y="3576600"/>
              <a:ext cx="31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28880" y="548172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2080" y="1918080"/>
              <a:ext cx="3174840" cy="36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3880" y="1918080"/>
              <a:ext cx="3174840" cy="36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11440" y="3740040"/>
              <a:ext cx="825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8760" y="3664080"/>
              <a:ext cx="825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643280" y="3652920"/>
            <a:ext cx="404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s solucion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04800" y="5100480"/>
            <a:ext cx="2900160" cy="1648080"/>
            <a:chOff x="604800" y="5100480"/>
            <a:chExt cx="2900160" cy="1648080"/>
          </a:xfrm>
        </p:grpSpPr>
        <p:grpSp>
          <p:nvGrpSpPr>
            <p:cNvPr id="459" name=""/>
            <p:cNvGrpSpPr/>
            <p:nvPr/>
          </p:nvGrpSpPr>
          <p:grpSpPr>
            <a:xfrm>
              <a:off x="987480" y="5334120"/>
              <a:ext cx="2517480" cy="1414440"/>
              <a:chOff x="987480" y="5334120"/>
              <a:chExt cx="2517480" cy="1414440"/>
            </a:xfrm>
          </p:grpSpPr>
          <p:sp>
            <p:nvSpPr>
              <p:cNvPr id="460" name=""/>
              <p:cNvSpPr/>
              <p:nvPr/>
            </p:nvSpPr>
            <p:spPr>
              <a:xfrm>
                <a:off x="987480" y="5334120"/>
                <a:ext cx="251748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27760" y="5340240"/>
                <a:ext cx="0" cy="97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990160" y="5340240"/>
                <a:ext cx="0" cy="97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274040" y="6243480"/>
                <a:ext cx="52992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61920" y="6243480"/>
                <a:ext cx="530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604800" y="5100480"/>
              <a:ext cx="306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710320" y="5557680"/>
            <a:ext cx="1762200" cy="1307880"/>
            <a:chOff x="5710320" y="5557680"/>
            <a:chExt cx="1762200" cy="1307880"/>
          </a:xfrm>
        </p:grpSpPr>
        <p:sp>
          <p:nvSpPr>
            <p:cNvPr id="467" name=""/>
            <p:cNvSpPr/>
            <p:nvPr/>
          </p:nvSpPr>
          <p:spPr>
            <a:xfrm>
              <a:off x="5710320" y="5557680"/>
              <a:ext cx="1762200" cy="13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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81680" y="5769000"/>
              <a:ext cx="1800" cy="330120"/>
            </a:xfrm>
            <a:custGeom>
              <a:avLst/>
              <a:gdLst/>
              <a:ahLst/>
              <a:rect l="l" t="t" r="r" b="b"/>
              <a:pathLst>
                <a:path w="1" h="208">
                  <a:moveTo>
                    <a:pt x="0" y="0"/>
                  </a:moveTo>
                  <a:lnTo>
                    <a:pt x="0" y="208"/>
                  </a:ln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029200" y="4343400"/>
                <a:ext cx="342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pull dir="d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685800"/>
            <a:ext cx="9067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función se convierte en una ecuación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(c - d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3280" y="3652920"/>
            <a:ext cx="404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s solucion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5710320" y="5557680"/>
            <a:ext cx="3209760" cy="782280"/>
            <a:chOff x="5710320" y="5557680"/>
            <a:chExt cx="3209760" cy="782280"/>
          </a:xfrm>
        </p:grpSpPr>
        <p:sp>
          <p:nvSpPr>
            <p:cNvPr id="475" name=""/>
            <p:cNvSpPr/>
            <p:nvPr/>
          </p:nvSpPr>
          <p:spPr>
            <a:xfrm>
              <a:off x="5710320" y="5557680"/>
              <a:ext cx="320976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s-ES_tradnl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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791480" y="5764320"/>
              <a:ext cx="1440" cy="3348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lnTo>
                    <a:pt x="0" y="211"/>
                  </a:ln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5029200" y="4343400"/>
                <a:ext cx="342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78" name=""/>
          <p:cNvGrpSpPr/>
          <p:nvPr/>
        </p:nvGrpSpPr>
        <p:grpSpPr>
          <a:xfrm>
            <a:off x="158760" y="1918080"/>
            <a:ext cx="4178160" cy="4906800"/>
            <a:chOff x="158760" y="1918080"/>
            <a:chExt cx="4178160" cy="4906800"/>
          </a:xfrm>
        </p:grpSpPr>
        <p:grpSp>
          <p:nvGrpSpPr>
            <p:cNvPr id="479" name=""/>
            <p:cNvGrpSpPr/>
            <p:nvPr/>
          </p:nvGrpSpPr>
          <p:grpSpPr>
            <a:xfrm>
              <a:off x="158760" y="1918080"/>
              <a:ext cx="4178160" cy="4793400"/>
              <a:chOff x="158760" y="1918080"/>
              <a:chExt cx="4178160" cy="4793400"/>
            </a:xfrm>
          </p:grpSpPr>
          <p:sp>
            <p:nvSpPr>
              <p:cNvPr id="480" name=""/>
              <p:cNvSpPr/>
              <p:nvPr/>
            </p:nvSpPr>
            <p:spPr>
              <a:xfrm>
                <a:off x="158760" y="624852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1143000" y="3879360"/>
                <a:ext cx="0" cy="283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214280" y="3576600"/>
                <a:ext cx="314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728880" y="5481720"/>
                <a:ext cx="3906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22080" y="1918080"/>
                <a:ext cx="3174840" cy="363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23880" y="1918080"/>
                <a:ext cx="3174840" cy="363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511440" y="3740040"/>
                <a:ext cx="82548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58760" y="3664080"/>
                <a:ext cx="82548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996840" y="5562720"/>
              <a:ext cx="25783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1952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4800" y="5329080"/>
              <a:ext cx="314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24120" y="6319800"/>
              <a:ext cx="10000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09680" y="556884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219640" y="4292640"/>
            <a:ext cx="3492720" cy="23032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3816360" cy="3556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920" y="4653000"/>
            <a:ext cx="4859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De acuerdo a “Classics of  Mathematics” ed. R. Cali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Por el año 2350 los sumerios comenzaron a agrupar números. Esto es un progreso tremendo con respecto a simplemente contar. Parece tan importante como la invención de la escritura. Tenían notación en base 60 y en base 10. La base 60 terminó imponiénd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0000" y="1052640"/>
            <a:ext cx="27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5050"/>
                </a:solidFill>
                <a:latin typeface="Arial"/>
              </a:rPr>
              <a:t>El Teorema de Pitágoras era conocido por los Sumer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62280" y="1916280"/>
            <a:ext cx="41979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existencia de los números irracional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venció a los griegos que las matemát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(la teoría de los nímeros de Pitágoras) deb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epararse de la geometr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tableció los ideales (la línea perfecta, s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grosor como superior a la realidad (la que 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uede dibuja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geometría domina el pensamiento de Plató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Newton…y el método de Euclides está en tod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79560" y="4437000"/>
            <a:ext cx="3215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El razonamiento exacto se apl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al mundo ideal. Éste es más no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que el percibido a través de 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sentido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Todo se puede calcular y demostr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con geometr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Descartes vuelve a unir álgebra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5050"/>
                </a:solidFill>
                <a:latin typeface="Verdana"/>
              </a:rPr>
              <a:t>Geometr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685800"/>
            <a:ext cx="9067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segundo orden o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función se convierte en una ecuación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 + (c - d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38098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643280" y="3652920"/>
            <a:ext cx="404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s solucion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57200" y="2063520"/>
            <a:ext cx="3720960" cy="4794120"/>
            <a:chOff x="457200" y="2063520"/>
            <a:chExt cx="3720960" cy="4794120"/>
          </a:xfrm>
        </p:grpSpPr>
        <p:sp>
          <p:nvSpPr>
            <p:cNvPr id="499" name=""/>
            <p:cNvSpPr/>
            <p:nvPr/>
          </p:nvSpPr>
          <p:spPr>
            <a:xfrm flipV="1">
              <a:off x="984240" y="4025520"/>
              <a:ext cx="0" cy="28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457200" y="6394320"/>
              <a:ext cx="32637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55520" y="3722760"/>
              <a:ext cx="31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70120" y="5946840"/>
              <a:ext cx="39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3320" y="2063520"/>
              <a:ext cx="3174840" cy="363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5120" y="2063520"/>
              <a:ext cx="3174840" cy="363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52680" y="3886200"/>
              <a:ext cx="825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048120" y="534024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1952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533520" y="5656320"/>
            <a:ext cx="2969640" cy="515520"/>
            <a:chOff x="533520" y="5656320"/>
            <a:chExt cx="2969640" cy="515520"/>
          </a:xfrm>
        </p:grpSpPr>
        <p:sp>
          <p:nvSpPr>
            <p:cNvPr id="509" name=""/>
            <p:cNvSpPr/>
            <p:nvPr/>
          </p:nvSpPr>
          <p:spPr>
            <a:xfrm>
              <a:off x="925200" y="5889600"/>
              <a:ext cx="257796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3520" y="5656320"/>
              <a:ext cx="31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710320" y="5557680"/>
            <a:ext cx="2595600" cy="782280"/>
            <a:chOff x="5710320" y="5557680"/>
            <a:chExt cx="2595600" cy="782280"/>
          </a:xfrm>
        </p:grpSpPr>
        <p:sp>
          <p:nvSpPr>
            <p:cNvPr id="512" name=""/>
            <p:cNvSpPr/>
            <p:nvPr/>
          </p:nvSpPr>
          <p:spPr>
            <a:xfrm>
              <a:off x="5710320" y="5557680"/>
              <a:ext cx="259560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s-ES_tradnl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s-ES_tradnl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_tradnl" sz="4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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853400" y="5843520"/>
              <a:ext cx="1440" cy="252360"/>
            </a:xfrm>
            <a:custGeom>
              <a:avLst/>
              <a:gdLst/>
              <a:ahLst/>
              <a:rect l="l" t="t" r="r" b="b"/>
              <a:pathLst>
                <a:path w="1" h="159">
                  <a:moveTo>
                    <a:pt x="0" y="0"/>
                  </a:moveTo>
                  <a:lnTo>
                    <a:pt x="0" y="159"/>
                  </a:ln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5029200" y="4343400"/>
                <a:ext cx="342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over dir="r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tercer orden o cub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cx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25440" y="5867280"/>
            <a:ext cx="3721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057400" y="343224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95920" y="510048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8480" y="34354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5440" y="328284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96840" y="518796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297080" y="3402000"/>
            <a:ext cx="3573360" cy="2211480"/>
          </a:xfrm>
          <a:custGeom>
            <a:avLst/>
            <a:gdLst/>
            <a:ahLst/>
            <a:rect l="l" t="t" r="r" b="b"/>
            <a:pathLst>
              <a:path w="2251" h="1393">
                <a:moveTo>
                  <a:pt x="0" y="1393"/>
                </a:moveTo>
                <a:cubicBezTo>
                  <a:pt x="29" y="1316"/>
                  <a:pt x="117" y="1056"/>
                  <a:pt x="191" y="929"/>
                </a:cubicBezTo>
                <a:cubicBezTo>
                  <a:pt x="265" y="802"/>
                  <a:pt x="346" y="694"/>
                  <a:pt x="442" y="630"/>
                </a:cubicBezTo>
                <a:cubicBezTo>
                  <a:pt x="538" y="566"/>
                  <a:pt x="673" y="551"/>
                  <a:pt x="767" y="545"/>
                </a:cubicBezTo>
                <a:cubicBezTo>
                  <a:pt x="861" y="539"/>
                  <a:pt x="938" y="568"/>
                  <a:pt x="1007" y="593"/>
                </a:cubicBezTo>
                <a:cubicBezTo>
                  <a:pt x="1076" y="618"/>
                  <a:pt x="1107" y="673"/>
                  <a:pt x="1179" y="697"/>
                </a:cubicBezTo>
                <a:cubicBezTo>
                  <a:pt x="1251" y="721"/>
                  <a:pt x="1339" y="748"/>
                  <a:pt x="1439" y="737"/>
                </a:cubicBezTo>
                <a:cubicBezTo>
                  <a:pt x="1539" y="726"/>
                  <a:pt x="1678" y="694"/>
                  <a:pt x="1782" y="630"/>
                </a:cubicBezTo>
                <a:cubicBezTo>
                  <a:pt x="1886" y="566"/>
                  <a:pt x="1985" y="458"/>
                  <a:pt x="2063" y="353"/>
                </a:cubicBezTo>
                <a:cubicBezTo>
                  <a:pt x="2141" y="248"/>
                  <a:pt x="2212" y="74"/>
                  <a:pt x="2251" y="0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905120" y="3574800"/>
            <a:ext cx="0" cy="283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tercer orden o cub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cx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ec. correspond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20880" y="594360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905120" y="3574800"/>
            <a:ext cx="0" cy="283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052720" y="342432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43400" y="53341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273560" y="351144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20880" y="335916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92280" y="52642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371600" y="4343400"/>
            <a:ext cx="38037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791320" y="2819520"/>
            <a:ext cx="32097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ee tres solu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846920" y="3598920"/>
            <a:ext cx="1800" cy="269640"/>
          </a:xfrm>
          <a:custGeom>
            <a:avLst/>
            <a:gdLst/>
            <a:ahLst/>
            <a:rect l="l" t="t" r="r" b="b"/>
            <a:pathLst>
              <a:path w="1" h="170">
                <a:moveTo>
                  <a:pt x="0" y="0"/>
                </a:moveTo>
                <a:lnTo>
                  <a:pt x="0" y="17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297080" y="3402000"/>
            <a:ext cx="3573360" cy="2211480"/>
          </a:xfrm>
          <a:custGeom>
            <a:avLst/>
            <a:gdLst/>
            <a:ahLst/>
            <a:rect l="l" t="t" r="r" b="b"/>
            <a:pathLst>
              <a:path w="2251" h="1393">
                <a:moveTo>
                  <a:pt x="0" y="1393"/>
                </a:moveTo>
                <a:cubicBezTo>
                  <a:pt x="29" y="1316"/>
                  <a:pt x="117" y="1056"/>
                  <a:pt x="191" y="929"/>
                </a:cubicBezTo>
                <a:cubicBezTo>
                  <a:pt x="265" y="802"/>
                  <a:pt x="346" y="694"/>
                  <a:pt x="442" y="630"/>
                </a:cubicBezTo>
                <a:cubicBezTo>
                  <a:pt x="538" y="566"/>
                  <a:pt x="673" y="551"/>
                  <a:pt x="767" y="545"/>
                </a:cubicBezTo>
                <a:cubicBezTo>
                  <a:pt x="861" y="539"/>
                  <a:pt x="938" y="568"/>
                  <a:pt x="1007" y="593"/>
                </a:cubicBezTo>
                <a:cubicBezTo>
                  <a:pt x="1076" y="618"/>
                  <a:pt x="1107" y="673"/>
                  <a:pt x="1179" y="697"/>
                </a:cubicBezTo>
                <a:cubicBezTo>
                  <a:pt x="1251" y="721"/>
                  <a:pt x="1339" y="748"/>
                  <a:pt x="1439" y="737"/>
                </a:cubicBezTo>
                <a:cubicBezTo>
                  <a:pt x="1539" y="726"/>
                  <a:pt x="1678" y="694"/>
                  <a:pt x="1782" y="630"/>
                </a:cubicBezTo>
                <a:cubicBezTo>
                  <a:pt x="1886" y="566"/>
                  <a:pt x="1985" y="458"/>
                  <a:pt x="2063" y="353"/>
                </a:cubicBezTo>
                <a:cubicBezTo>
                  <a:pt x="2141" y="248"/>
                  <a:pt x="2212" y="74"/>
                  <a:pt x="2251" y="0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3434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19520" y="43434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191120" y="43434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81080" y="594360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990720" y="4038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tercer orden o cub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cx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ec. correspond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20880" y="594360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905120" y="3574800"/>
            <a:ext cx="0" cy="283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052720" y="342432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343400" y="53341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273560" y="351144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920880" y="335916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92280" y="52642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371600" y="4572000"/>
            <a:ext cx="38037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91320" y="2819520"/>
            <a:ext cx="320976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ee tres solu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192800" y="3606840"/>
            <a:ext cx="1800" cy="263520"/>
          </a:xfrm>
          <a:custGeom>
            <a:avLst/>
            <a:gdLst/>
            <a:ahLst/>
            <a:rect l="l" t="t" r="r" b="b"/>
            <a:pathLst>
              <a:path w="1" h="166">
                <a:moveTo>
                  <a:pt x="0" y="0"/>
                </a:moveTo>
                <a:lnTo>
                  <a:pt x="0" y="166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58000" y="4343400"/>
            <a:ext cx="1440" cy="266760"/>
          </a:xfrm>
          <a:custGeom>
            <a:avLst/>
            <a:gdLst/>
            <a:ahLst/>
            <a:rect l="l" t="t" r="r" b="b"/>
            <a:pathLst>
              <a:path w="1" h="168">
                <a:moveTo>
                  <a:pt x="0" y="0"/>
                </a:moveTo>
                <a:lnTo>
                  <a:pt x="0" y="1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97080" y="3402000"/>
            <a:ext cx="3573360" cy="2211480"/>
          </a:xfrm>
          <a:custGeom>
            <a:avLst/>
            <a:gdLst/>
            <a:ahLst/>
            <a:rect l="l" t="t" r="r" b="b"/>
            <a:pathLst>
              <a:path w="2251" h="1393">
                <a:moveTo>
                  <a:pt x="0" y="1393"/>
                </a:moveTo>
                <a:cubicBezTo>
                  <a:pt x="29" y="1316"/>
                  <a:pt x="117" y="1056"/>
                  <a:pt x="191" y="929"/>
                </a:cubicBezTo>
                <a:cubicBezTo>
                  <a:pt x="265" y="802"/>
                  <a:pt x="346" y="694"/>
                  <a:pt x="442" y="630"/>
                </a:cubicBezTo>
                <a:cubicBezTo>
                  <a:pt x="538" y="566"/>
                  <a:pt x="673" y="551"/>
                  <a:pt x="767" y="545"/>
                </a:cubicBezTo>
                <a:cubicBezTo>
                  <a:pt x="861" y="539"/>
                  <a:pt x="938" y="568"/>
                  <a:pt x="1007" y="593"/>
                </a:cubicBezTo>
                <a:cubicBezTo>
                  <a:pt x="1076" y="618"/>
                  <a:pt x="1107" y="673"/>
                  <a:pt x="1179" y="697"/>
                </a:cubicBezTo>
                <a:cubicBezTo>
                  <a:pt x="1251" y="721"/>
                  <a:pt x="1339" y="748"/>
                  <a:pt x="1439" y="737"/>
                </a:cubicBezTo>
                <a:cubicBezTo>
                  <a:pt x="1539" y="726"/>
                  <a:pt x="1678" y="694"/>
                  <a:pt x="1782" y="630"/>
                </a:cubicBezTo>
                <a:cubicBezTo>
                  <a:pt x="1886" y="566"/>
                  <a:pt x="1985" y="458"/>
                  <a:pt x="2063" y="353"/>
                </a:cubicBezTo>
                <a:cubicBezTo>
                  <a:pt x="2141" y="248"/>
                  <a:pt x="2212" y="74"/>
                  <a:pt x="2251" y="0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4267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752480" y="4572000"/>
            <a:ext cx="0" cy="14479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505320" y="4572000"/>
            <a:ext cx="0" cy="1371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523880" y="594360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tercer orden o cub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+ cx +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la ec. correspond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20880" y="5943600"/>
            <a:ext cx="3720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905120" y="3574800"/>
            <a:ext cx="0" cy="283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052720" y="342432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343400" y="53341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73560" y="351144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20880" y="335916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92280" y="5264280"/>
            <a:ext cx="825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71600" y="3886200"/>
            <a:ext cx="38797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791320" y="2819520"/>
            <a:ext cx="320976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ee tres solu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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777000" y="3606840"/>
            <a:ext cx="1800" cy="261720"/>
          </a:xfrm>
          <a:custGeom>
            <a:avLst/>
            <a:gdLst/>
            <a:ahLst/>
            <a:rect l="l" t="t" r="r" b="b"/>
            <a:pathLst>
              <a:path w="1" h="165">
                <a:moveTo>
                  <a:pt x="0" y="0"/>
                </a:moveTo>
                <a:lnTo>
                  <a:pt x="0" y="165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467480" y="4343400"/>
            <a:ext cx="1800" cy="257040"/>
          </a:xfrm>
          <a:custGeom>
            <a:avLst/>
            <a:gdLst/>
            <a:ahLst/>
            <a:rect l="l" t="t" r="r" b="b"/>
            <a:pathLst>
              <a:path w="1" h="162">
                <a:moveTo>
                  <a:pt x="0" y="0"/>
                </a:moveTo>
                <a:lnTo>
                  <a:pt x="0" y="162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297080" y="3402000"/>
            <a:ext cx="3573360" cy="2211480"/>
          </a:xfrm>
          <a:custGeom>
            <a:avLst/>
            <a:gdLst/>
            <a:ahLst/>
            <a:rect l="l" t="t" r="r" b="b"/>
            <a:pathLst>
              <a:path w="2251" h="1393">
                <a:moveTo>
                  <a:pt x="0" y="1393"/>
                </a:moveTo>
                <a:cubicBezTo>
                  <a:pt x="29" y="1316"/>
                  <a:pt x="117" y="1056"/>
                  <a:pt x="191" y="929"/>
                </a:cubicBezTo>
                <a:cubicBezTo>
                  <a:pt x="265" y="802"/>
                  <a:pt x="346" y="694"/>
                  <a:pt x="442" y="630"/>
                </a:cubicBezTo>
                <a:cubicBezTo>
                  <a:pt x="538" y="566"/>
                  <a:pt x="673" y="551"/>
                  <a:pt x="767" y="545"/>
                </a:cubicBezTo>
                <a:cubicBezTo>
                  <a:pt x="861" y="539"/>
                  <a:pt x="938" y="568"/>
                  <a:pt x="1007" y="593"/>
                </a:cubicBezTo>
                <a:cubicBezTo>
                  <a:pt x="1076" y="618"/>
                  <a:pt x="1107" y="673"/>
                  <a:pt x="1179" y="697"/>
                </a:cubicBezTo>
                <a:cubicBezTo>
                  <a:pt x="1251" y="721"/>
                  <a:pt x="1339" y="748"/>
                  <a:pt x="1439" y="737"/>
                </a:cubicBezTo>
                <a:cubicBezTo>
                  <a:pt x="1539" y="726"/>
                  <a:pt x="1678" y="694"/>
                  <a:pt x="1782" y="630"/>
                </a:cubicBezTo>
                <a:cubicBezTo>
                  <a:pt x="1886" y="566"/>
                  <a:pt x="1985" y="458"/>
                  <a:pt x="2063" y="353"/>
                </a:cubicBezTo>
                <a:cubicBezTo>
                  <a:pt x="2141" y="248"/>
                  <a:pt x="2212" y="74"/>
                  <a:pt x="2251" y="0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371600" y="5029200"/>
            <a:ext cx="38037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907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907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orden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1 o hipérb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25640" y="4703760"/>
            <a:ext cx="488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5126040" y="2493720"/>
            <a:ext cx="0" cy="40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32320" y="227808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639200" y="419904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356080" y="1019520"/>
            <a:ext cx="4302360" cy="35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21600"/>
                </a:moveTo>
                <a:arcTo wR="10800" hR="10800" stAng="5402538" swAng="5397462"/>
                <a:lnTo>
                  <a:pt x="10800" y="10800"/>
                </a:lnTo>
                <a:close/>
              </a:path>
              <a:path fill="none" w="21600" h="21600">
                <a:moveTo>
                  <a:pt x="10792" y="21600"/>
                </a:moveTo>
                <a:arcTo wR="10800" hR="10800" stAng="5402538" swAng="5397462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367760" y="2363760"/>
            <a:ext cx="779400" cy="34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195800" y="2292480"/>
            <a:ext cx="779400" cy="34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0800000">
            <a:off x="682560" y="4775400"/>
            <a:ext cx="4302360" cy="35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21600"/>
                </a:moveTo>
                <a:arcTo wR="10800" hR="10800" stAng="5402538" swAng="5397462"/>
                <a:lnTo>
                  <a:pt x="10800" y="10800"/>
                </a:lnTo>
                <a:close/>
              </a:path>
              <a:path fill="none" w="21600" h="21600">
                <a:moveTo>
                  <a:pt x="10792" y="21600"/>
                </a:moveTo>
                <a:arcTo wR="10800" hR="10800" stAng="5402538" swAng="5397462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09720" y="2814480"/>
            <a:ext cx="168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orden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1 o hipérb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25640" y="4703760"/>
            <a:ext cx="488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5126040" y="2493720"/>
            <a:ext cx="0" cy="40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332320" y="227808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639200" y="419904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10800000">
            <a:off x="5266080" y="4842000"/>
            <a:ext cx="4302000" cy="35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253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2538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367760" y="2363760"/>
            <a:ext cx="779400" cy="34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195800" y="2292480"/>
            <a:ext cx="779400" cy="34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70320" y="1028520"/>
            <a:ext cx="4301280" cy="35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253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2538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09720" y="2814480"/>
            <a:ext cx="168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orden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2 o hipérbola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222640" y="5016600"/>
            <a:ext cx="488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495680" y="2514240"/>
            <a:ext cx="0" cy="328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729320" y="259092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035840" y="451152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753080" y="1331640"/>
            <a:ext cx="4301640" cy="35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21600"/>
                </a:moveTo>
                <a:arcTo wR="10800" hR="10800" stAng="5402538" swAng="5397462"/>
                <a:lnTo>
                  <a:pt x="10800" y="10800"/>
                </a:lnTo>
                <a:close/>
              </a:path>
              <a:path fill="none" w="21600" h="21600">
                <a:moveTo>
                  <a:pt x="10792" y="21600"/>
                </a:moveTo>
                <a:arcTo wR="10800" hR="10800" stAng="5402538" swAng="5397462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764400" y="2676600"/>
            <a:ext cx="779400" cy="34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92440" y="2604960"/>
            <a:ext cx="779400" cy="34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-9720" y="1341720"/>
            <a:ext cx="4302000" cy="35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253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2538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09720" y="2814480"/>
            <a:ext cx="168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52280" y="0"/>
            <a:ext cx="892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spectro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99072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nción de orden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2 o hipérbola cuad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ráf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987560" y="3865680"/>
            <a:ext cx="488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267080" y="2437920"/>
            <a:ext cx="0" cy="335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343400" y="2362320"/>
            <a:ext cx="31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724800" y="336060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10800000">
            <a:off x="4503960" y="4003920"/>
            <a:ext cx="4302000" cy="35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253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2538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10800000">
            <a:off x="-231840" y="4013280"/>
            <a:ext cx="4302360" cy="35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21600"/>
                </a:moveTo>
                <a:arcTo wR="10800" hR="10800" stAng="5402538" swAng="5397462"/>
                <a:lnTo>
                  <a:pt x="10800" y="10800"/>
                </a:lnTo>
                <a:close/>
              </a:path>
              <a:path fill="none" w="21600" h="21600">
                <a:moveTo>
                  <a:pt x="10792" y="21600"/>
                </a:moveTo>
                <a:arcTo wR="10800" hR="10800" stAng="5402538" swAng="5397462"/>
              </a:path>
            </a:pathLst>
          </a:custGeom>
          <a:noFill/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09720" y="2814480"/>
            <a:ext cx="168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380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Gráficos de las Funciones trigonomét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90600" y="2444760"/>
            <a:ext cx="2908080" cy="2654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4240" y="3809880"/>
            <a:ext cx="382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844640" y="2127240"/>
            <a:ext cx="0" cy="313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998720" y="198288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613320" y="3354480"/>
            <a:ext cx="30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851120" y="2660760"/>
            <a:ext cx="833400" cy="11556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689200" y="267336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1838160" y="2666880"/>
            <a:ext cx="858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38280" y="381168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690640" y="228744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382840" y="5259240"/>
            <a:ext cx="1535040" cy="576360"/>
          </a:xfrm>
          <a:prstGeom prst="rect">
            <a:avLst/>
          </a:prstGeom>
          <a:solidFill>
            <a:srgbClr val="c1ceff"/>
          </a:solidFill>
          <a:ln w="0">
            <a:noFill/>
          </a:ln>
          <a:effectLst>
            <a:outerShdw dist="107932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P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465280" y="5334120"/>
            <a:ext cx="52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536920" y="3887640"/>
            <a:ext cx="22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538280" y="2516040"/>
            <a:ext cx="22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151160" y="2211480"/>
            <a:ext cx="4914720" cy="3052440"/>
            <a:chOff x="4151160" y="2211480"/>
            <a:chExt cx="4914720" cy="3052440"/>
          </a:xfrm>
        </p:grpSpPr>
        <p:sp>
          <p:nvSpPr>
            <p:cNvPr id="645" name=""/>
            <p:cNvSpPr/>
            <p:nvPr/>
          </p:nvSpPr>
          <p:spPr>
            <a:xfrm>
              <a:off x="4540320" y="3809880"/>
              <a:ext cx="452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610520" y="2355480"/>
              <a:ext cx="0" cy="290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40320" y="2819520"/>
              <a:ext cx="3752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40320" y="4800600"/>
              <a:ext cx="3752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02080" y="2825640"/>
              <a:ext cx="0" cy="19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94000" y="2825640"/>
              <a:ext cx="0" cy="19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85560" y="2825640"/>
              <a:ext cx="0" cy="19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77120" y="2825640"/>
              <a:ext cx="0" cy="19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68680" y="2978280"/>
              <a:ext cx="0" cy="1815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89000" y="221148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y = sen (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685360" y="3354480"/>
              <a:ext cx="380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637880" y="2846520"/>
              <a:ext cx="133056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736"/>
                </a:path>
              </a:pathLst>
            </a:custGeom>
            <a:noFill/>
            <a:ln cap="rnd"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610880" y="2846520"/>
              <a:ext cx="138240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77120" y="2846520"/>
              <a:ext cx="138528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736"/>
                </a:path>
              </a:pathLst>
            </a:custGeom>
            <a:noFill/>
            <a:ln cap="rnd"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021000" y="2844720"/>
              <a:ext cx="133056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020280" y="2844720"/>
              <a:ext cx="133056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35280" y="3887640"/>
              <a:ext cx="4146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0º      90º    180º    270º   360º   450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227840" y="2668680"/>
              <a:ext cx="227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51160" y="4573440"/>
              <a:ext cx="534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5226120" y="5259240"/>
            <a:ext cx="2763720" cy="5155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1 &lt; sen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) &l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n(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112536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611280" y="1341360"/>
            <a:ext cx="3360960" cy="3095280"/>
            <a:chOff x="611280" y="1341360"/>
            <a:chExt cx="3360960" cy="3095280"/>
          </a:xfrm>
        </p:grpSpPr>
        <p:sp>
          <p:nvSpPr>
            <p:cNvPr id="90" name=""/>
            <p:cNvSpPr/>
            <p:nvPr/>
          </p:nvSpPr>
          <p:spPr>
            <a:xfrm flipV="1">
              <a:off x="611280" y="1876680"/>
              <a:ext cx="2907720" cy="1667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1280" y="3544200"/>
              <a:ext cx="308196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658520" y="1698480"/>
              <a:ext cx="755280" cy="27381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472480" y="1638000"/>
              <a:ext cx="754920" cy="27381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47120" y="140040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30920" y="134136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L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35640" y="18126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87840" y="348012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ff"/>
                  </a:solidFill>
                  <a:latin typeface="Verdana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003640" y="1844640"/>
            <a:ext cx="3361320" cy="3095280"/>
            <a:chOff x="5003640" y="1844640"/>
            <a:chExt cx="3361320" cy="3095280"/>
          </a:xfrm>
        </p:grpSpPr>
        <p:sp>
          <p:nvSpPr>
            <p:cNvPr id="99" name=""/>
            <p:cNvSpPr/>
            <p:nvPr/>
          </p:nvSpPr>
          <p:spPr>
            <a:xfrm flipV="1">
              <a:off x="5003640" y="2379960"/>
              <a:ext cx="2908080" cy="1667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03640" y="4047480"/>
              <a:ext cx="30823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050880" y="2201760"/>
              <a:ext cx="755280" cy="27381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864840" y="2141280"/>
              <a:ext cx="754920" cy="27381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39840" y="190368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23280" y="18446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L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28000" y="231588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cc"/>
                  </a:solidFill>
                  <a:latin typeface="Verdana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80560" y="398340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ff"/>
                  </a:solidFill>
                  <a:latin typeface="Verdana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52280" y="1897200"/>
            <a:ext cx="8826480" cy="3968640"/>
          </a:xfrm>
          <a:prstGeom prst="rect">
            <a:avLst/>
          </a:prstGeom>
          <a:solidFill>
            <a:srgbClr val="c0c0c0"/>
          </a:solidFill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35240" y="2443320"/>
            <a:ext cx="7065720" cy="287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35240" y="5319720"/>
            <a:ext cx="706572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335240" y="4606920"/>
            <a:ext cx="706572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1335240" y="3886200"/>
            <a:ext cx="7643520" cy="648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35240" y="3156120"/>
            <a:ext cx="706572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335240" y="2443320"/>
            <a:ext cx="706572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335240" y="2443320"/>
            <a:ext cx="7065720" cy="2876400"/>
          </a:xfrm>
          <a:prstGeom prst="rect">
            <a:avLst/>
          </a:prstGeom>
          <a:noFill/>
          <a:ln w="23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335240" y="2443320"/>
            <a:ext cx="1440" cy="28764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216080" y="5319720"/>
            <a:ext cx="11916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216080" y="4606920"/>
            <a:ext cx="11916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216080" y="3892680"/>
            <a:ext cx="11916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16080" y="3156120"/>
            <a:ext cx="11916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16080" y="2443320"/>
            <a:ext cx="11916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359000" y="3632040"/>
            <a:ext cx="210960" cy="2541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1569960" y="3393720"/>
            <a:ext cx="14292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1712880" y="3155760"/>
            <a:ext cx="16524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1878120" y="2966760"/>
            <a:ext cx="141120" cy="1890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2019240" y="2776320"/>
            <a:ext cx="166680" cy="190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2185920" y="2633400"/>
            <a:ext cx="141480" cy="1429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327400" y="2538000"/>
            <a:ext cx="164880" cy="954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2492280" y="2467080"/>
            <a:ext cx="141480" cy="7128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633760" y="2443320"/>
            <a:ext cx="166680" cy="237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800440" y="2443320"/>
            <a:ext cx="141120" cy="237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41560" y="2467080"/>
            <a:ext cx="165240" cy="7128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106800" y="2538360"/>
            <a:ext cx="142920" cy="954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249720" y="2633760"/>
            <a:ext cx="164880" cy="1429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414600" y="2776680"/>
            <a:ext cx="141480" cy="190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556080" y="2967120"/>
            <a:ext cx="164880" cy="1890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720960" y="3156120"/>
            <a:ext cx="14292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863880" y="3394080"/>
            <a:ext cx="16524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029120" y="3632040"/>
            <a:ext cx="141120" cy="2606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170240" y="3892680"/>
            <a:ext cx="16524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335480" y="4130640"/>
            <a:ext cx="142920" cy="2383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478400" y="4368960"/>
            <a:ext cx="16488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643280" y="4606920"/>
            <a:ext cx="141480" cy="1890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784760" y="4795920"/>
            <a:ext cx="165240" cy="190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950000" y="4986360"/>
            <a:ext cx="142560" cy="1429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92560" y="5129280"/>
            <a:ext cx="165240" cy="950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257800" y="5224320"/>
            <a:ext cx="141120" cy="716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98920" y="5295960"/>
            <a:ext cx="165240" cy="237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5564160" y="5295960"/>
            <a:ext cx="142920" cy="237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5707080" y="5223960"/>
            <a:ext cx="165240" cy="716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5872320" y="5129280"/>
            <a:ext cx="141120" cy="950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013440" y="4986000"/>
            <a:ext cx="166680" cy="1429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6180120" y="4795560"/>
            <a:ext cx="141480" cy="190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6321600" y="4606560"/>
            <a:ext cx="164880" cy="1890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6486480" y="4368600"/>
            <a:ext cx="14148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6627960" y="4130640"/>
            <a:ext cx="166680" cy="2383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794640" y="3870000"/>
            <a:ext cx="141120" cy="26028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6935760" y="3632040"/>
            <a:ext cx="165240" cy="2383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7101000" y="3393720"/>
            <a:ext cx="14292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243920" y="3155760"/>
            <a:ext cx="164880" cy="2379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7408800" y="2966760"/>
            <a:ext cx="141480" cy="1890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7550280" y="2776320"/>
            <a:ext cx="164880" cy="190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7715160" y="2633400"/>
            <a:ext cx="142920" cy="14292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7858080" y="2538000"/>
            <a:ext cx="165240" cy="954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8023320" y="2467080"/>
            <a:ext cx="141120" cy="7128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8164440" y="2443320"/>
            <a:ext cx="165240" cy="2376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0080" y="5129280"/>
            <a:ext cx="614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-1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60080" y="4416480"/>
            <a:ext cx="614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-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77440" y="3703680"/>
            <a:ext cx="49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0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77440" y="2967120"/>
            <a:ext cx="49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77440" y="2252520"/>
            <a:ext cx="49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1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52280" y="1897200"/>
            <a:ext cx="8826480" cy="3968640"/>
          </a:xfrm>
          <a:prstGeom prst="rect">
            <a:avLst/>
          </a:prstGeom>
          <a:noFill/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380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Gráficos de las Funciones trigonomét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n(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8610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077320" y="3886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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629400" y="3886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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0384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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590920" y="3886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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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2952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0" y="380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Gráficos de las Funciones trigonomét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10666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92040" y="2444760"/>
            <a:ext cx="2906640" cy="2654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4240" y="3809880"/>
            <a:ext cx="382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1844640" y="2127240"/>
            <a:ext cx="0" cy="313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198288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613320" y="3354480"/>
            <a:ext cx="30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1851120" y="2660760"/>
            <a:ext cx="833400" cy="115560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90640" y="267336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1838160" y="2666880"/>
            <a:ext cx="858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539720" y="3811680"/>
            <a:ext cx="30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692440" y="2287440"/>
            <a:ext cx="303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384280" y="5259240"/>
            <a:ext cx="1533600" cy="576360"/>
          </a:xfrm>
          <a:prstGeom prst="rect">
            <a:avLst/>
          </a:prstGeom>
          <a:solidFill>
            <a:srgbClr val="c1ceff"/>
          </a:solidFill>
          <a:ln w="0">
            <a:noFill/>
          </a:ln>
          <a:effectLst>
            <a:outerShdw dist="107932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P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465280" y="5334120"/>
            <a:ext cx="52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538360" y="3887640"/>
            <a:ext cx="22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539720" y="2516040"/>
            <a:ext cx="22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540320" y="3809880"/>
            <a:ext cx="452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4610160" y="2355480"/>
            <a:ext cx="0" cy="290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616280" y="2819520"/>
            <a:ext cx="3753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540320" y="4800600"/>
            <a:ext cx="37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34120" y="28195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019920" y="2819520"/>
            <a:ext cx="0" cy="1968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705720" y="2819520"/>
            <a:ext cx="0" cy="1968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77120" y="2825640"/>
            <a:ext cx="0" cy="1968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8069400" y="2819520"/>
            <a:ext cx="7920" cy="1974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689360" y="2211480"/>
            <a:ext cx="184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cos (</a:t>
            </a:r>
            <a:r>
              <a:rPr b="1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685360" y="3354480"/>
            <a:ext cx="38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886560" y="2819520"/>
            <a:ext cx="1447200" cy="19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334120" y="2819160"/>
            <a:ext cx="132372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706080" y="2819520"/>
            <a:ext cx="1370880" cy="19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334120" y="2819160"/>
            <a:ext cx="137124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705720" y="2819520"/>
            <a:ext cx="1329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73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736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535640" y="3887640"/>
            <a:ext cx="414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º      90º    180º    270º   360º   450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151160" y="4573440"/>
            <a:ext cx="53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227480" y="2668680"/>
            <a:ext cx="22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227560" y="5259240"/>
            <a:ext cx="2762280" cy="5155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1 &lt; cos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) &l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"/>
          <p:cNvGrpSpPr/>
          <p:nvPr/>
        </p:nvGrpSpPr>
        <p:grpSpPr>
          <a:xfrm>
            <a:off x="0" y="380880"/>
            <a:ext cx="9144000" cy="5820480"/>
            <a:chOff x="0" y="380880"/>
            <a:chExt cx="9144000" cy="5820480"/>
          </a:xfrm>
        </p:grpSpPr>
        <p:sp>
          <p:nvSpPr>
            <p:cNvPr id="780" name=""/>
            <p:cNvSpPr/>
            <p:nvPr/>
          </p:nvSpPr>
          <p:spPr>
            <a:xfrm>
              <a:off x="0" y="380880"/>
              <a:ext cx="9144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imes New Roman"/>
                </a:rPr>
                <a:t>Gráficos de las Funciones trigonométrica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0" y="1066680"/>
              <a:ext cx="9144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tg(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83880" y="1682640"/>
              <a:ext cx="8980920" cy="4518720"/>
              <a:chOff x="83880" y="1682640"/>
              <a:chExt cx="8980920" cy="4518720"/>
            </a:xfrm>
          </p:grpSpPr>
          <p:sp>
            <p:nvSpPr>
              <p:cNvPr id="783" name=""/>
              <p:cNvSpPr/>
              <p:nvPr/>
            </p:nvSpPr>
            <p:spPr>
              <a:xfrm>
                <a:off x="391320" y="2444760"/>
                <a:ext cx="2906640" cy="2654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3880" y="3809880"/>
                <a:ext cx="38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1844640" y="2127240"/>
                <a:ext cx="0" cy="313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999800" y="1982880"/>
                <a:ext cx="303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613320" y="3354480"/>
                <a:ext cx="303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V="1">
                <a:off x="1851120" y="2660760"/>
                <a:ext cx="832320" cy="115560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689560" y="2673360"/>
                <a:ext cx="0" cy="113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1837800" y="2666880"/>
                <a:ext cx="85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539000" y="3811680"/>
                <a:ext cx="303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691360" y="2287440"/>
                <a:ext cx="303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83920" y="5259240"/>
                <a:ext cx="1533600" cy="576360"/>
              </a:xfrm>
              <a:prstGeom prst="rect">
                <a:avLst/>
              </a:prstGeom>
              <a:solidFill>
                <a:srgbClr val="c1ceff"/>
              </a:solidFill>
              <a:ln w="0">
                <a:noFill/>
              </a:ln>
              <a:effectLst>
                <a:outerShdw dist="107932" dir="2700000" blurRad="0" rotWithShape="0">
                  <a:srgbClr val="bbe0e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3200" spc="-1" strike="noStrike">
                    <a:solidFill>
                      <a:srgbClr val="000000"/>
                    </a:solidFill>
                    <a:latin typeface="Times New Roman"/>
                  </a:rPr>
                  <a:t>OP 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465640" y="5334120"/>
                <a:ext cx="52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37640" y="3887640"/>
                <a:ext cx="227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539000" y="2516040"/>
                <a:ext cx="2271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7" name=""/>
              <p:cNvGrpSpPr/>
              <p:nvPr/>
            </p:nvGrpSpPr>
            <p:grpSpPr>
              <a:xfrm>
                <a:off x="4002480" y="1682640"/>
                <a:ext cx="5062320" cy="3951360"/>
                <a:chOff x="4002480" y="1682640"/>
                <a:chExt cx="5062320" cy="395136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4540320" y="3809880"/>
                  <a:ext cx="4519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V="1">
                  <a:off x="4610520" y="2355480"/>
                  <a:ext cx="0" cy="290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302080" y="2825640"/>
                  <a:ext cx="0" cy="19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993640" y="2825640"/>
                  <a:ext cx="0" cy="19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6684840" y="2825640"/>
                  <a:ext cx="0" cy="19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7376400" y="2825640"/>
                  <a:ext cx="0" cy="19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8067960" y="2825640"/>
                  <a:ext cx="0" cy="19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689000" y="2211480"/>
                  <a:ext cx="1840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i="1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 = tg(</a:t>
                  </a:r>
                  <a:r>
                    <a:rPr b="1" i="1" lang="es-ES_tradnl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8684280" y="3354480"/>
                  <a:ext cx="3805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002480" y="1682640"/>
                  <a:ext cx="1215720" cy="2120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463720" y="3817800"/>
                  <a:ext cx="1062360" cy="181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8964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89645"/>
                    </a:path>
                  </a:pathLst>
                </a:custGeom>
                <a:noFill/>
                <a:ln cap="rnd"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385600" y="1835640"/>
                  <a:ext cx="1215720" cy="1967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769800" y="3817800"/>
                  <a:ext cx="1215000" cy="181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909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90954"/>
                    </a:path>
                  </a:pathLst>
                </a:custGeom>
                <a:noFill/>
                <a:ln cap="rnd"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922080" y="1835640"/>
                  <a:ext cx="1062360" cy="1967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4535640" y="3887640"/>
                  <a:ext cx="414540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</a:rPr>
                    <a:t>0º      90º    180º    270º   360º   450º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3" name=""/>
              <p:cNvSpPr/>
              <p:nvPr/>
            </p:nvSpPr>
            <p:spPr>
              <a:xfrm>
                <a:off x="5226840" y="5259240"/>
                <a:ext cx="3300480" cy="94212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- 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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&lt; tg(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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4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0" y="304920"/>
            <a:ext cx="9144000" cy="5790960"/>
            <a:chOff x="0" y="304920"/>
            <a:chExt cx="9144000" cy="5790960"/>
          </a:xfrm>
        </p:grpSpPr>
        <p:sp>
          <p:nvSpPr>
            <p:cNvPr id="816" name=""/>
            <p:cNvSpPr/>
            <p:nvPr/>
          </p:nvSpPr>
          <p:spPr>
            <a:xfrm>
              <a:off x="0" y="304920"/>
              <a:ext cx="9144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4000" spc="-1" strike="noStrike">
                  <a:solidFill>
                    <a:srgbClr val="000000"/>
                  </a:solidFill>
                  <a:latin typeface="Times New Roman"/>
                </a:rPr>
                <a:t>Aplicaciones de las Fc. Trigonométrica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0" y="1371600"/>
              <a:ext cx="914400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Una de las principales aplicaciones se encuentran en la descripción de fenómenos periódico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Oscilacion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éndu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esor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Ond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ecán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lectromagnét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648320" y="25146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114800" y="3809880"/>
              <a:ext cx="380520" cy="3049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4342680" y="2514600"/>
              <a:ext cx="60948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5638680" y="2819520"/>
              <a:ext cx="3200400" cy="838080"/>
              <a:chOff x="5638680" y="2819520"/>
              <a:chExt cx="3200400" cy="838080"/>
            </a:xfrm>
          </p:grpSpPr>
          <p:sp>
            <p:nvSpPr>
              <p:cNvPr id="822" name=""/>
              <p:cNvSpPr/>
              <p:nvPr/>
            </p:nvSpPr>
            <p:spPr>
              <a:xfrm>
                <a:off x="6324480" y="3048120"/>
                <a:ext cx="1143000" cy="3808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400800" y="3276720"/>
                <a:ext cx="304920" cy="304560"/>
              </a:xfrm>
              <a:prstGeom prst="ellipse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010280" y="3276720"/>
                <a:ext cx="304920" cy="304560"/>
              </a:xfrm>
              <a:prstGeom prst="ellipse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5" name=""/>
              <p:cNvGrpSpPr/>
              <p:nvPr/>
            </p:nvGrpSpPr>
            <p:grpSpPr>
              <a:xfrm>
                <a:off x="7391520" y="2971800"/>
                <a:ext cx="1447560" cy="533520"/>
                <a:chOff x="7391520" y="2971800"/>
                <a:chExt cx="1447560" cy="533520"/>
              </a:xfrm>
            </p:grpSpPr>
            <p:sp>
              <p:nvSpPr>
                <p:cNvPr id="826" name=""/>
                <p:cNvSpPr/>
                <p:nvPr/>
              </p:nvSpPr>
              <p:spPr>
                <a:xfrm flipV="1">
                  <a:off x="7620120" y="2971800"/>
                  <a:ext cx="15228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V="1">
                  <a:off x="7772400" y="2971800"/>
                  <a:ext cx="15228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V="1">
                  <a:off x="7924680" y="2971800"/>
                  <a:ext cx="15264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V="1">
                  <a:off x="8077320" y="2971800"/>
                  <a:ext cx="15228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V="1">
                  <a:off x="8229600" y="2971800"/>
                  <a:ext cx="15228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V="1">
                  <a:off x="8381880" y="2971800"/>
                  <a:ext cx="15264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V="1">
                  <a:off x="8534520" y="2971800"/>
                  <a:ext cx="15228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777240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2468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807732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822960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838188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534520" y="2971800"/>
                  <a:ext cx="0" cy="53352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V="1">
                  <a:off x="7620120" y="320004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8686800" y="29718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8686800" y="3276720"/>
                  <a:ext cx="152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391520" y="320040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"/>
              <p:cNvSpPr/>
              <p:nvPr/>
            </p:nvSpPr>
            <p:spPr>
              <a:xfrm>
                <a:off x="8839080" y="281952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638680" y="3581280"/>
                <a:ext cx="3200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2731680" y="5104800"/>
              <a:ext cx="5337000" cy="762840"/>
              <a:chOff x="2731680" y="5104800"/>
              <a:chExt cx="5337000" cy="762840"/>
            </a:xfrm>
          </p:grpSpPr>
          <p:grpSp>
            <p:nvGrpSpPr>
              <p:cNvPr id="846" name=""/>
              <p:cNvGrpSpPr/>
              <p:nvPr/>
            </p:nvGrpSpPr>
            <p:grpSpPr>
              <a:xfrm>
                <a:off x="2731680" y="5104800"/>
                <a:ext cx="2975040" cy="762840"/>
                <a:chOff x="2731680" y="5104800"/>
                <a:chExt cx="2975040" cy="762840"/>
              </a:xfrm>
            </p:grpSpPr>
            <p:grpSp>
              <p:nvGrpSpPr>
                <p:cNvPr id="847" name=""/>
                <p:cNvGrpSpPr/>
                <p:nvPr/>
              </p:nvGrpSpPr>
              <p:grpSpPr>
                <a:xfrm>
                  <a:off x="2731680" y="5104800"/>
                  <a:ext cx="1785240" cy="762840"/>
                  <a:chOff x="2731680" y="5104800"/>
                  <a:chExt cx="1785240" cy="76284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2743200" y="510552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2731680" y="5105520"/>
                    <a:ext cx="59400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3921480" y="5105520"/>
                    <a:ext cx="5954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333792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333756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3" name=""/>
                <p:cNvGrpSpPr/>
                <p:nvPr/>
              </p:nvGrpSpPr>
              <p:grpSpPr>
                <a:xfrm>
                  <a:off x="3921480" y="5104800"/>
                  <a:ext cx="1785240" cy="762840"/>
                  <a:chOff x="3921480" y="5104800"/>
                  <a:chExt cx="1785240" cy="76284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>
                    <a:off x="3933000" y="510552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3921480" y="5105520"/>
                    <a:ext cx="59400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5111280" y="5105520"/>
                    <a:ext cx="5954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452772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452736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9" name=""/>
              <p:cNvGrpSpPr/>
              <p:nvPr/>
            </p:nvGrpSpPr>
            <p:grpSpPr>
              <a:xfrm>
                <a:off x="5093640" y="5104800"/>
                <a:ext cx="2975040" cy="762840"/>
                <a:chOff x="5093640" y="5104800"/>
                <a:chExt cx="2975040" cy="762840"/>
              </a:xfrm>
            </p:grpSpPr>
            <p:grpSp>
              <p:nvGrpSpPr>
                <p:cNvPr id="860" name=""/>
                <p:cNvGrpSpPr/>
                <p:nvPr/>
              </p:nvGrpSpPr>
              <p:grpSpPr>
                <a:xfrm>
                  <a:off x="5093640" y="5104800"/>
                  <a:ext cx="1785240" cy="762840"/>
                  <a:chOff x="5093640" y="5104800"/>
                  <a:chExt cx="1785240" cy="76284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>
                    <a:off x="5105160" y="510552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5093640" y="5105520"/>
                    <a:ext cx="59400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6283440" y="5105520"/>
                    <a:ext cx="5954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569988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569952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6" name=""/>
                <p:cNvGrpSpPr/>
                <p:nvPr/>
              </p:nvGrpSpPr>
              <p:grpSpPr>
                <a:xfrm>
                  <a:off x="6283440" y="5104800"/>
                  <a:ext cx="1785240" cy="762840"/>
                  <a:chOff x="6283440" y="5104800"/>
                  <a:chExt cx="1785240" cy="76284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>
                    <a:off x="6294960" y="510552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6283440" y="5105520"/>
                    <a:ext cx="59400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7473240" y="5105520"/>
                    <a:ext cx="5954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917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91736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688968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6889320" y="5104800"/>
                    <a:ext cx="572040" cy="76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5076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72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es </a:t>
            </a:r>
            <a:r>
              <a:rPr b="0" lang="es-ES_tradnl" sz="4400" spc="-1" strike="noStrike" baseline="30000">
                <a:solidFill>
                  <a:srgbClr val="000000"/>
                </a:solidFill>
                <a:latin typeface="Arial"/>
              </a:rPr>
              <a:t>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y = a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&gt; 1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es el gráfico de la fun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87240" y="2897280"/>
            <a:ext cx="1140120" cy="323568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  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   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   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52520" y="2357280"/>
            <a:ext cx="1685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, x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unciones 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914400"/>
            <a:ext cx="90676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es el gráfico de la fun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87240" y="2897280"/>
            <a:ext cx="1140120" cy="323568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  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   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   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287880" y="614844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3433680" y="2484000"/>
            <a:ext cx="0" cy="374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272120" y="6078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186520" y="6078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100920" y="6078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015320" y="6078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363840" y="531036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363840" y="44719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363840" y="371016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238880" y="5610240"/>
            <a:ext cx="54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505320" y="24084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363840" y="28717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048120" y="431496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895480" y="2638440"/>
            <a:ext cx="6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352680" y="6296040"/>
            <a:ext cx="5343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0              1                2                3             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592440" y="5310360"/>
            <a:ext cx="158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440160" y="569124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272120" y="569736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186520" y="53164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592440" y="44719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6100920" y="4465800"/>
            <a:ext cx="0" cy="1612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516480" y="2871720"/>
            <a:ext cx="3492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7015320" y="286524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429000" y="2865600"/>
            <a:ext cx="3581280" cy="3047760"/>
          </a:xfrm>
          <a:custGeom>
            <a:avLst/>
            <a:gdLst/>
            <a:ahLst/>
            <a:rect l="l" t="t" r="r" b="b"/>
            <a:pathLst>
              <a:path w="2256" h="1920">
                <a:moveTo>
                  <a:pt x="0" y="1920"/>
                </a:moveTo>
                <a:cubicBezTo>
                  <a:pt x="172" y="1880"/>
                  <a:pt x="344" y="1840"/>
                  <a:pt x="528" y="1776"/>
                </a:cubicBezTo>
                <a:cubicBezTo>
                  <a:pt x="712" y="1712"/>
                  <a:pt x="912" y="1664"/>
                  <a:pt x="1104" y="1536"/>
                </a:cubicBezTo>
                <a:cubicBezTo>
                  <a:pt x="1296" y="1408"/>
                  <a:pt x="1488" y="1264"/>
                  <a:pt x="1680" y="1008"/>
                </a:cubicBezTo>
                <a:cubicBezTo>
                  <a:pt x="1872" y="752"/>
                  <a:pt x="2064" y="376"/>
                  <a:pt x="2256" y="0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52520" y="2357280"/>
            <a:ext cx="1685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, x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unciones 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0" y="914400"/>
            <a:ext cx="90676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y = a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es el gráfico de la fun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825640" y="56386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6553080" y="2050560"/>
            <a:ext cx="0" cy="374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09880" y="5568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724280" y="5568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638680" y="5568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553080" y="5568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483240" y="48006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483240" y="39625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777000" y="5100480"/>
            <a:ext cx="54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7005600" y="2052720"/>
            <a:ext cx="46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624720" y="3728880"/>
            <a:ext cx="92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00680" y="2128680"/>
            <a:ext cx="6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90800" y="5786280"/>
            <a:ext cx="5343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4          -3                -2              -1       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807080" y="4800600"/>
            <a:ext cx="15872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816360" y="518148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809880" y="51879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724280" y="4807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5638680" y="3956040"/>
            <a:ext cx="0" cy="1612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6553080" y="235548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58640" y="2903400"/>
            <a:ext cx="1597320" cy="323568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  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1     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2     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3     0,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4    0,06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645160" y="39625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2971800" y="54039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71800" y="533412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483240" y="23623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971800" y="2362320"/>
            <a:ext cx="3581280" cy="2971800"/>
          </a:xfrm>
          <a:custGeom>
            <a:avLst/>
            <a:gdLst/>
            <a:ahLst/>
            <a:rect l="l" t="t" r="r" b="b"/>
            <a:pathLst>
              <a:path w="2256" h="1872">
                <a:moveTo>
                  <a:pt x="2256" y="0"/>
                </a:moveTo>
                <a:cubicBezTo>
                  <a:pt x="2064" y="376"/>
                  <a:pt x="1872" y="752"/>
                  <a:pt x="1680" y="1008"/>
                </a:cubicBezTo>
                <a:cubicBezTo>
                  <a:pt x="1488" y="1264"/>
                  <a:pt x="1304" y="1408"/>
                  <a:pt x="1104" y="1536"/>
                </a:cubicBezTo>
                <a:cubicBezTo>
                  <a:pt x="904" y="1664"/>
                  <a:pt x="664" y="1720"/>
                  <a:pt x="480" y="1776"/>
                </a:cubicBezTo>
                <a:cubicBezTo>
                  <a:pt x="296" y="1832"/>
                  <a:pt x="80" y="1864"/>
                  <a:pt x="0" y="1872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52520" y="2357280"/>
            <a:ext cx="1685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2, x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unciones 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3809880" y="1288800"/>
            <a:ext cx="0" cy="374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740040" y="41148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740040" y="32767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740040" y="25146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7615080" y="4414680"/>
            <a:ext cx="54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881520" y="11383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740040" y="16765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424320" y="311940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271680" y="1442880"/>
            <a:ext cx="6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968640" y="4114800"/>
            <a:ext cx="1587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816360" y="44956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48320" y="45021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562720" y="41212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968640" y="32767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6477120" y="3270240"/>
            <a:ext cx="0" cy="1612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892680" y="1676520"/>
            <a:ext cx="3492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7391520" y="1669680"/>
            <a:ext cx="0" cy="321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35080" y="4883040"/>
            <a:ext cx="7683480" cy="549720"/>
            <a:chOff x="235080" y="4883040"/>
            <a:chExt cx="7683480" cy="549720"/>
          </a:xfrm>
        </p:grpSpPr>
        <p:sp>
          <p:nvSpPr>
            <p:cNvPr id="955" name=""/>
            <p:cNvSpPr/>
            <p:nvPr/>
          </p:nvSpPr>
          <p:spPr>
            <a:xfrm>
              <a:off x="235080" y="4952880"/>
              <a:ext cx="768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6483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5627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4771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3915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04800" y="5100480"/>
              <a:ext cx="7248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-4          -3             -2            -1            0              1                2                3               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481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28600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4479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62120" y="48830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681120" y="1290600"/>
            <a:ext cx="1914480" cy="5763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y = a</a:t>
            </a:r>
            <a:r>
              <a:rPr b="1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876240" y="2629080"/>
            <a:ext cx="2400480" cy="3390840"/>
            <a:chOff x="876240" y="2629080"/>
            <a:chExt cx="2400480" cy="3390840"/>
          </a:xfrm>
        </p:grpSpPr>
        <p:sp>
          <p:nvSpPr>
            <p:cNvPr id="967" name=""/>
            <p:cNvSpPr/>
            <p:nvPr/>
          </p:nvSpPr>
          <p:spPr>
            <a:xfrm>
              <a:off x="876240" y="2629080"/>
              <a:ext cx="2210040" cy="1904760"/>
            </a:xfrm>
            <a:prstGeom prst="ellipse">
              <a:avLst/>
            </a:prstGeom>
            <a:noFill/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62320" y="4419720"/>
              <a:ext cx="914400" cy="160020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905120" y="2692440"/>
              <a:ext cx="0" cy="1778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625760" y="365760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214280" y="3195720"/>
              <a:ext cx="61920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920880" y="3346200"/>
              <a:ext cx="219708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3606840" y="4597560"/>
            <a:ext cx="457200" cy="609480"/>
            <a:chOff x="3606840" y="4597560"/>
            <a:chExt cx="457200" cy="609480"/>
          </a:xfrm>
        </p:grpSpPr>
        <p:sp>
          <p:nvSpPr>
            <p:cNvPr id="974" name=""/>
            <p:cNvSpPr/>
            <p:nvPr/>
          </p:nvSpPr>
          <p:spPr>
            <a:xfrm>
              <a:off x="3809880" y="4800600"/>
              <a:ext cx="254160" cy="40644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606840" y="4597560"/>
              <a:ext cx="330120" cy="253800"/>
            </a:xfrm>
            <a:prstGeom prst="ellipse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762120" y="1676520"/>
            <a:ext cx="6629400" cy="3136680"/>
          </a:xfrm>
          <a:custGeom>
            <a:avLst/>
            <a:gdLst/>
            <a:ahLst/>
            <a:rect l="l" t="t" r="r" b="b"/>
            <a:pathLst>
              <a:path w="4176" h="1976">
                <a:moveTo>
                  <a:pt x="4176" y="0"/>
                </a:moveTo>
                <a:cubicBezTo>
                  <a:pt x="3984" y="376"/>
                  <a:pt x="3792" y="752"/>
                  <a:pt x="3600" y="1008"/>
                </a:cubicBezTo>
                <a:cubicBezTo>
                  <a:pt x="3408" y="1264"/>
                  <a:pt x="3216" y="1408"/>
                  <a:pt x="3024" y="1536"/>
                </a:cubicBezTo>
                <a:cubicBezTo>
                  <a:pt x="2832" y="1664"/>
                  <a:pt x="2632" y="1712"/>
                  <a:pt x="2448" y="1776"/>
                </a:cubicBezTo>
                <a:cubicBezTo>
                  <a:pt x="2264" y="1840"/>
                  <a:pt x="2168" y="1888"/>
                  <a:pt x="1920" y="1920"/>
                </a:cubicBezTo>
                <a:cubicBezTo>
                  <a:pt x="1672" y="1952"/>
                  <a:pt x="1280" y="1960"/>
                  <a:pt x="960" y="1968"/>
                </a:cubicBezTo>
                <a:cubicBezTo>
                  <a:pt x="640" y="1976"/>
                  <a:pt x="320" y="1972"/>
                  <a:pt x="0" y="1968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5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unciones 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35080" y="4952880"/>
            <a:ext cx="768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3809880" y="1288800"/>
            <a:ext cx="0" cy="374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6483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627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4771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73915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740040" y="41148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40040" y="32767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740040" y="25146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615080" y="4414680"/>
            <a:ext cx="54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881520" y="11383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740040" y="16765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04800" y="5100480"/>
            <a:ext cx="7248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4          -3             -2            -1            0              1                2                3             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0481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28600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4479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62120" y="4883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04920" y="1981080"/>
            <a:ext cx="2971800" cy="1384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¡Tod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s fc. exponenciales pasan por aqu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-5099400" y="-1670400"/>
            <a:ext cx="11417400" cy="638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-6623280" y="2139840"/>
            <a:ext cx="14465160" cy="212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-6546960" y="-1593720"/>
            <a:ext cx="14312520" cy="608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521080" y="3359160"/>
            <a:ext cx="105408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unciones expon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81120" y="757080"/>
            <a:ext cx="6562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 exponenciales en las calculado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366920" y="1366920"/>
            <a:ext cx="22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clas comu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82880" y="2058840"/>
            <a:ext cx="987480" cy="6984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4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354480" y="2058840"/>
            <a:ext cx="987480" cy="6984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4000" spc="-1" strike="noStrike" baseline="30000">
                <a:solidFill>
                  <a:srgbClr val="000000"/>
                </a:solidFill>
                <a:latin typeface="Times New Roman"/>
              </a:rPr>
              <a:t>1/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726080" y="2058840"/>
            <a:ext cx="987480" cy="6984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s-ES_tradnl" sz="4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173640" y="2058840"/>
            <a:ext cx="987480" cy="6984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4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138320" y="3119400"/>
            <a:ext cx="420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uerdese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468600" y="3213000"/>
                <a:ext cx="372276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860640" y="4299120"/>
                <a:ext cx="2971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12" name=""/>
          <p:cNvSpPr/>
          <p:nvPr/>
        </p:nvSpPr>
        <p:spPr>
          <a:xfrm>
            <a:off x="8839080" y="6629400"/>
            <a:ext cx="162000" cy="1587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1628640" cy="1590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3141720"/>
            <a:ext cx="2016000" cy="2017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3500280"/>
            <a:ext cx="0" cy="129708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34200" y="1865160"/>
            <a:ext cx="24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Construcción d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Pentágono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2087640" cy="1904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39480" y="2852640"/>
            <a:ext cx="4294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sidere un triángulo isósceles cuyo  ángu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l vértice tiene un valor de 36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, sus la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guales tienen una longitud unitaria y su base u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rgo x, cuyo valor desconocem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 estos datos y sólo con ellos, encuentre 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rgo de x, sin utilizar el valor de sin36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o 36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o cualquier ot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9760" y="4797360"/>
            <a:ext cx="4542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n base al valor anterior, y sin mirar en tablas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calculadoras, establezca el valor para el seno (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coseno) de 18º . A partir de este result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ncuentre el valor de la función trigonométrica p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todos los múltiplos de 18º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¿Cuántos valores debe encontr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272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250920" y="1413000"/>
          <a:ext cx="4897440" cy="332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4897440" cy="33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6000" y="1125360"/>
            <a:ext cx="478764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3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30200" y="1052640"/>
            <a:ext cx="46465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3-29T12:56:04Z</dcterms:modified>
  <cp:revision>28</cp:revision>
  <dc:subject/>
  <dc:title>Introducción a la Física Newtoniana </dc:title>
</cp:coreProperties>
</file>