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A89E-CCB2-4ECA-9D16-2D0FFF2E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735-6978-4153-A1DC-FF66092C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D22-07E6-41EC-B19E-E72D6383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E9C2-681B-4851-8C1C-87027097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08C-15A7-4911-80BE-20622549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573-2049-4630-AF32-409D92AB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7BDE-768F-4BC3-86AA-9BC8396B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BE0-CE0C-4A0A-8D6C-C8EB0226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722-A0A4-4A6B-B234-764A6548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0AD1-0F37-4D7E-B1A9-F18410CC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9076-CC16-4464-8703-10F369B8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CAA-28C2-44D0-A6EF-CEC38A6C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890E-C3F4-4D6A-9FC7-683E25FC5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javascript:pop_me_up2(&apos;http://www.nytimes.com/imagepages/2007/08/06/science/07essa_ready.html&apos;,%20&apos;07essa_ready&apos;,%20&apos;width=545,height=600,scrollbars=yes,toolbars=no,resizable=yes&apos;)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981000"/>
            <a:ext cx="727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l estudiar la naturaleza, históricamente, aparecen dos conceptos: la masa y la lu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mbos están presentes en la historia del hombre. Ambos son un miste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La masa relaciona la fuerza con el movimientos de una partícula. La luz no ocupa lugar, como la masa, y sólo detectamos una forma de ella con nuestr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sent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2414520"/>
            <a:ext cx="7236000" cy="44434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7380360" y="2421000"/>
            <a:ext cx="1763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o que llamam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entido comú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e forja a trav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 una vis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restringida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mundo extern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489744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Verdana"/>
              </a:rPr>
              <a:t>¿Qué relación exis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5280" y="2565360"/>
                <a:ext cx="330192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5" name=""/>
          <p:cNvGrpSpPr/>
          <p:nvPr/>
        </p:nvGrpSpPr>
        <p:grpSpPr>
          <a:xfrm>
            <a:off x="3059280" y="3068280"/>
            <a:ext cx="5111640" cy="3456360"/>
            <a:chOff x="3059280" y="3068280"/>
            <a:chExt cx="5111640" cy="3456360"/>
          </a:xfrm>
        </p:grpSpPr>
        <p:sp>
          <p:nvSpPr>
            <p:cNvPr id="206" name=""/>
            <p:cNvSpPr/>
            <p:nvPr/>
          </p:nvSpPr>
          <p:spPr>
            <a:xfrm>
              <a:off x="3718080" y="3421080"/>
              <a:ext cx="3373560" cy="3103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7844040" y="4973760"/>
                  <a:ext cx="2937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"/>
            <p:cNvSpPr/>
            <p:nvPr/>
          </p:nvSpPr>
          <p:spPr>
            <a:xfrm>
              <a:off x="5405400" y="4902120"/>
              <a:ext cx="276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5405400" y="3068280"/>
              <a:ext cx="0" cy="18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5405400" y="3701880"/>
              <a:ext cx="2046600" cy="120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808960" y="4532400"/>
              <a:ext cx="472320" cy="701640"/>
              <a:chOff x="5808960" y="4532400"/>
              <a:chExt cx="472320" cy="701640"/>
            </a:xfrm>
          </p:grpSpPr>
          <mc:AlternateContent>
            <mc:Choice xmlns:a14="http://schemas.microsoft.com/office/drawing/2010/main" Requires="a14">
              <p:sp>
                <p:nvSpPr>
                  <p:cNvPr id="212" name=""/>
                  <p:cNvSpPr txBox="1"/>
                  <p:nvPr/>
                </p:nvSpPr>
                <p:spPr>
                  <a:xfrm>
                    <a:off x="5808960" y="4624200"/>
                    <a:ext cx="336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3" name=""/>
              <p:cNvSpPr/>
              <p:nvPr/>
            </p:nvSpPr>
            <p:spPr>
              <a:xfrm>
                <a:off x="5876640" y="4532400"/>
                <a:ext cx="404640" cy="70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4929480" y="4560840"/>
                  <a:ext cx="2840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6772320" y="3633840"/>
                  <a:ext cx="2523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5540400" y="3068640"/>
                  <a:ext cx="29700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 flipH="1">
              <a:off x="5405400" y="4125960"/>
              <a:ext cx="141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21640" y="4125960"/>
              <a:ext cx="0" cy="776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6618600" y="4902120"/>
                  <a:ext cx="32040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5008680" y="3697200"/>
                  <a:ext cx="3160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1" name=""/>
            <p:cNvSpPr/>
            <p:nvPr/>
          </p:nvSpPr>
          <p:spPr>
            <a:xfrm flipH="1">
              <a:off x="6620040" y="468936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20040" y="468936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268440" y="4902120"/>
              <a:ext cx="21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3059280" y="4973760"/>
                  <a:ext cx="2919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"/>
            <p:cNvSpPr/>
            <p:nvPr/>
          </p:nvSpPr>
          <p:spPr>
            <a:xfrm>
              <a:off x="5418360" y="4873680"/>
              <a:ext cx="1789200" cy="11001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5796000" y="4941720"/>
                  <a:ext cx="5889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>
              <a:off x="6301440" y="4940280"/>
              <a:ext cx="141840" cy="115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66978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Verdana"/>
              </a:rPr>
              <a:t>Relaciones trigonométr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2080" y="1773360"/>
            <a:ext cx="8881200" cy="4605480"/>
            <a:chOff x="262080" y="1773360"/>
            <a:chExt cx="8881200" cy="4605480"/>
          </a:xfrm>
        </p:grpSpPr>
        <p:grpSp>
          <p:nvGrpSpPr>
            <p:cNvPr id="235" name=""/>
            <p:cNvGrpSpPr/>
            <p:nvPr/>
          </p:nvGrpSpPr>
          <p:grpSpPr>
            <a:xfrm>
              <a:off x="262080" y="1773360"/>
              <a:ext cx="4321080" cy="1952640"/>
              <a:chOff x="262080" y="1773360"/>
              <a:chExt cx="4321080" cy="1952640"/>
            </a:xfrm>
          </p:grpSpPr>
          <mc:AlternateContent>
            <mc:Choice xmlns:a14="http://schemas.microsoft.com/office/drawing/2010/main" Requires="a14">
              <p:sp>
                <p:nvSpPr>
                  <p:cNvPr id="236" name=""/>
                  <p:cNvSpPr txBox="1"/>
                  <p:nvPr/>
                </p:nvSpPr>
                <p:spPr>
                  <a:xfrm>
                    <a:off x="262080" y="1773360"/>
                    <a:ext cx="4321080" cy="76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7" name=""/>
                  <p:cNvSpPr txBox="1"/>
                  <p:nvPr/>
                </p:nvSpPr>
                <p:spPr>
                  <a:xfrm>
                    <a:off x="406440" y="2551320"/>
                    <a:ext cx="2735280" cy="117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38" name=""/>
            <p:cNvGrpSpPr/>
            <p:nvPr/>
          </p:nvGrpSpPr>
          <p:grpSpPr>
            <a:xfrm>
              <a:off x="1708200" y="2626920"/>
              <a:ext cx="7435080" cy="3751920"/>
              <a:chOff x="1708200" y="2626920"/>
              <a:chExt cx="7435080" cy="37519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4151520" y="2626920"/>
                <a:ext cx="4991760" cy="3751920"/>
                <a:chOff x="4151520" y="2626920"/>
                <a:chExt cx="4991760" cy="37519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4151520" y="2626920"/>
                  <a:ext cx="4991760" cy="3751920"/>
                  <a:chOff x="4151520" y="2626920"/>
                  <a:chExt cx="4991760" cy="375192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4151520" y="3010320"/>
                    <a:ext cx="3600360" cy="33685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578560" y="2626920"/>
                    <a:ext cx="3564720" cy="2450160"/>
                    <a:chOff x="5578560" y="2626920"/>
                    <a:chExt cx="3564720" cy="245016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951160" y="4617000"/>
                      <a:ext cx="295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flipV="1">
                      <a:off x="5951160" y="2626920"/>
                      <a:ext cx="0" cy="1989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V="1">
                      <a:off x="5951160" y="3010320"/>
                      <a:ext cx="2736360" cy="160632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246" name=""/>
                        <p:cNvSpPr txBox="1"/>
                        <p:nvPr/>
                      </p:nvSpPr>
                      <p:spPr>
                        <a:xfrm>
                          <a:off x="6382800" y="4257000"/>
                          <a:ext cx="360000" cy="3596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α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6456600" y="4235400"/>
                      <a:ext cx="430560" cy="76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248" name=""/>
                        <p:cNvSpPr txBox="1"/>
                        <p:nvPr/>
                      </p:nvSpPr>
                      <p:spPr>
                        <a:xfrm>
                          <a:off x="5578560" y="4464720"/>
                          <a:ext cx="301320" cy="3808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O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49" name=""/>
                        <p:cNvSpPr txBox="1"/>
                        <p:nvPr/>
                      </p:nvSpPr>
                      <p:spPr>
                        <a:xfrm>
                          <a:off x="7410240" y="3239280"/>
                          <a:ext cx="269280" cy="3052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P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50" name=""/>
                        <p:cNvSpPr txBox="1"/>
                        <p:nvPr/>
                      </p:nvSpPr>
                      <p:spPr>
                        <a:xfrm>
                          <a:off x="6095520" y="2627280"/>
                          <a:ext cx="31716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y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51" name=""/>
                        <p:cNvSpPr txBox="1"/>
                        <p:nvPr/>
                      </p:nvSpPr>
                      <p:spPr>
                        <a:xfrm>
                          <a:off x="8830800" y="4694040"/>
                          <a:ext cx="31248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x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252" name=""/>
                    <p:cNvSpPr/>
                    <p:nvPr/>
                  </p:nvSpPr>
                  <p:spPr>
                    <a:xfrm flipH="1">
                      <a:off x="5950800" y="3774600"/>
                      <a:ext cx="151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7463880" y="3774600"/>
                      <a:ext cx="0" cy="842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254" name=""/>
                        <p:cNvSpPr txBox="1"/>
                        <p:nvPr/>
                      </p:nvSpPr>
                      <p:spPr>
                        <a:xfrm>
                          <a:off x="7246440" y="4617000"/>
                          <a:ext cx="342720" cy="4600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55" name=""/>
                        <p:cNvSpPr txBox="1"/>
                        <p:nvPr/>
                      </p:nvSpPr>
                      <p:spPr>
                        <a:xfrm>
                          <a:off x="5590800" y="3468960"/>
                          <a:ext cx="27432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256" name=""/>
                        <p:cNvSpPr txBox="1"/>
                        <p:nvPr/>
                      </p:nvSpPr>
                      <p:spPr>
                        <a:xfrm>
                          <a:off x="6151320" y="3852000"/>
                          <a:ext cx="591480" cy="32040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248600" y="4387320"/>
                  <a:ext cx="215280" cy="228960"/>
                  <a:chOff x="7248600" y="4387320"/>
                  <a:chExt cx="215280" cy="2289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flipH="1">
                    <a:off x="7248600" y="4387320"/>
                    <a:ext cx="21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7248600" y="4387320"/>
                    <a:ext cx="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" name=""/>
              <p:cNvSpPr/>
              <p:nvPr/>
            </p:nvSpPr>
            <p:spPr>
              <a:xfrm>
                <a:off x="1708200" y="5943960"/>
                <a:ext cx="32227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Circunferencia unitari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5761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740720" y="134136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57610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7920000" y="1484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500720" cy="56898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 rot="2686200">
            <a:off x="4511160" y="1128600"/>
            <a:ext cx="173160" cy="168480"/>
          </a:xfrm>
          <a:custGeom>
            <a:avLst/>
            <a:gdLst/>
            <a:ahLst/>
            <a:rect l="l" t="t" r="r" b="b"/>
            <a:pathLst>
              <a:path w="109" h="106">
                <a:moveTo>
                  <a:pt x="0" y="2"/>
                </a:moveTo>
                <a:cubicBezTo>
                  <a:pt x="5" y="14"/>
                  <a:pt x="11" y="26"/>
                  <a:pt x="15" y="39"/>
                </a:cubicBezTo>
                <a:cubicBezTo>
                  <a:pt x="19" y="51"/>
                  <a:pt x="15" y="66"/>
                  <a:pt x="23" y="76"/>
                </a:cubicBezTo>
                <a:cubicBezTo>
                  <a:pt x="34" y="90"/>
                  <a:pt x="67" y="106"/>
                  <a:pt x="67" y="106"/>
                </a:cubicBezTo>
                <a:cubicBezTo>
                  <a:pt x="102" y="95"/>
                  <a:pt x="109" y="66"/>
                  <a:pt x="82" y="31"/>
                </a:cubicBezTo>
                <a:cubicBezTo>
                  <a:pt x="70" y="15"/>
                  <a:pt x="46" y="13"/>
                  <a:pt x="30" y="2"/>
                </a:cubicBezTo>
                <a:cubicBezTo>
                  <a:pt x="4" y="40"/>
                  <a:pt x="23" y="24"/>
                  <a:pt x="8" y="2"/>
                </a:cubicBezTo>
                <a:cubicBezTo>
                  <a:pt x="6" y="0"/>
                  <a:pt x="3" y="2"/>
                  <a:pt x="0" y="2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40360" y="1506600"/>
            <a:ext cx="57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84720" y="99216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16360" y="981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92960" y="2127240"/>
            <a:ext cx="324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dea de la Demostra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f.de semejanza entre figur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l-GR" sz="1400" spc="-1" strike="noStrike">
                <a:solidFill>
                  <a:srgbClr val="0000ff"/>
                </a:solidFill>
                <a:latin typeface="Verdana"/>
              </a:rPr>
              <a:t>Δ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‘s semej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</a:t>
            </a:r>
            <a:r>
              <a:rPr b="0" lang="el-GR" sz="1400" spc="-1" strike="noStrike">
                <a:solidFill>
                  <a:srgbClr val="0000ff"/>
                </a:solidFill>
                <a:latin typeface="Verdana"/>
              </a:rPr>
              <a:t>Δ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BC es semejante al </a:t>
            </a:r>
            <a:r>
              <a:rPr b="0" lang="el-GR" sz="1400" spc="-1" strike="noStrike">
                <a:solidFill>
                  <a:srgbClr val="0000ff"/>
                </a:solidFill>
                <a:latin typeface="Verdana"/>
              </a:rPr>
              <a:t>Δ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D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or definición, sus lados son propo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ion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32360" y="1844640"/>
            <a:ext cx="4032360" cy="25923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8120" y="3860640"/>
            <a:ext cx="2244600" cy="1033560"/>
          </a:xfrm>
          <a:custGeom>
            <a:avLst/>
            <a:gdLst/>
            <a:ahLst/>
            <a:rect l="l" t="t" r="r" b="b"/>
            <a:pathLst>
              <a:path w="1414" h="651">
                <a:moveTo>
                  <a:pt x="1414" y="0"/>
                </a:moveTo>
                <a:cubicBezTo>
                  <a:pt x="1157" y="0"/>
                  <a:pt x="900" y="1"/>
                  <a:pt x="824" y="46"/>
                </a:cubicBezTo>
                <a:cubicBezTo>
                  <a:pt x="748" y="91"/>
                  <a:pt x="1073" y="181"/>
                  <a:pt x="960" y="272"/>
                </a:cubicBezTo>
                <a:cubicBezTo>
                  <a:pt x="847" y="363"/>
                  <a:pt x="288" y="529"/>
                  <a:pt x="144" y="590"/>
                </a:cubicBezTo>
                <a:cubicBezTo>
                  <a:pt x="0" y="651"/>
                  <a:pt x="49" y="643"/>
                  <a:pt x="98" y="635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32000" y="4797000"/>
            <a:ext cx="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812000" y="134136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6851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Verdana"/>
              </a:rPr>
              <a:t>Teorema de Tales de Mi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0920" y="2149200"/>
            <a:ext cx="4835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Una familia de rectas paralelas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n-US" sz="27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700" spc="-1" strike="noStrike">
                <a:solidFill>
                  <a:srgbClr val="0000ff"/>
                </a:solidFill>
                <a:latin typeface="Arial"/>
              </a:rPr>
              <a:t>,…, que cortan a dos rectas concurrentes, s y t, determinan en ellas segmentos proporcionale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868720" y="3068640"/>
            <a:ext cx="2808360" cy="43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797080" y="3573360"/>
            <a:ext cx="280836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724000" y="4076640"/>
            <a:ext cx="280836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372360" y="2708280"/>
            <a:ext cx="57600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453440" y="2637000"/>
            <a:ext cx="28728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6586560" y="3089160"/>
                <a:ext cx="270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280280" y="3014640"/>
                <a:ext cx="28728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448320" y="3602160"/>
                <a:ext cx="270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7223040" y="3486240"/>
                <a:ext cx="360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346800" y="4129200"/>
                <a:ext cx="2412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184880" y="4013280"/>
                <a:ext cx="28908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732720" y="2349360"/>
                <a:ext cx="2300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380360" y="2276640"/>
                <a:ext cx="203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435640" y="4365720"/>
                <a:ext cx="225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5508720" y="3860640"/>
                <a:ext cx="234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580000" y="3357720"/>
                <a:ext cx="204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501920" y="4724280"/>
          <a:ext cx="1603080" cy="7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4724280"/>
                    <a:ext cx="16030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300360" y="2205000"/>
            <a:ext cx="792360" cy="3168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7093080" y="2276640"/>
            <a:ext cx="287280" cy="3097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2920" y="5773680"/>
            <a:ext cx="7148520" cy="58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5050"/>
                </a:solidFill>
                <a:latin typeface="Verdana"/>
              </a:rPr>
              <a:t>¿Cómo demostraría este resultado?  Indicación: trace una paralela a t p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5050"/>
                </a:solidFill>
                <a:latin typeface="Verdana"/>
              </a:rPr>
              <a:t>                                                     </a:t>
            </a:r>
            <a:r>
              <a:rPr b="0" lang="es-CL" sz="1600" spc="-1" strike="noStrike">
                <a:solidFill>
                  <a:srgbClr val="ff5050"/>
                </a:solidFill>
                <a:latin typeface="Verdana"/>
              </a:rPr>
              <a:t>el punto A y use el teorema del s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501840" y="1484280"/>
            <a:ext cx="4275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Verdana"/>
              </a:rPr>
              <a:t>Si </a:t>
            </a: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en un triángulo ABC se traza una rec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paralela al lado AB, de tal manera que intersec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al lado AC  en el punto P y al lado BC en el punto Q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se obtienen las siguientes proporciones: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4535280" cy="22683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79840" y="1773360"/>
            <a:ext cx="363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Triángulos semejantes tienen todos 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ángulos respectivamente iguales y to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sus lados son proporcionales con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misma factor de proporcionalida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546520" y="2781360"/>
            <a:ext cx="332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jempl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Calcu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xprese su resultado como una raz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ntre otros lados del triángu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Solu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Usando el teorema del seno, se ti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588000" y="2781360"/>
          <a:ext cx="83196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2781360"/>
                    <a:ext cx="8319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724360" y="4365720"/>
          <a:ext cx="2787840" cy="150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4365720"/>
                    <a:ext cx="278784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5524200" y="5943600"/>
            <a:ext cx="271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Ud. termine la demostración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208764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39480" y="2852640"/>
            <a:ext cx="4294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sidere un triángulo isósceles cuyo  ángu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l vértice tiene un valor de 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, sus l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guales tienen una longitud unitaria y su base u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x, cuyo valor desconocem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estos datos y sólo con ellos, encuentre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de x, sin utilizar el valor de sin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o 36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o cualquier ot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9760" y="4797360"/>
            <a:ext cx="4542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 base al valor anterior, y sin mirar en tablas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alculadoras, establezca el valor para el seno (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oseno) de 18º . A partir de este result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cuentre el valor de la función trigonométrica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todos los múltiplos de 18º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¿Cuántos valores debe encontr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860640"/>
            <a:ext cx="5003640" cy="93672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92720" y="4581360"/>
            <a:ext cx="3672000" cy="194328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907920"/>
            <a:ext cx="0" cy="4753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2800" y="1052640"/>
            <a:ext cx="457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LHC pretende descubrir la partícula de Higgs qu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 acuerdo a las teorías predominantes hoy, se c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 la responsable de dar masa a los objetos 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ocem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essay_190.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1052640"/>
            <a:ext cx="2581200" cy="2708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4040" y="3978360"/>
            <a:ext cx="349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God’s Particle: el bosón de Higgs, la partícula que 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otorga la masa a todos las otras partículas elemental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del universo</a:t>
            </a:r>
            <a:r>
              <a:rPr b="0" lang="es-MX" sz="10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90920" y="2060640"/>
            <a:ext cx="95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Michael Criley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he New Yor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i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9640" y="4508640"/>
            <a:ext cx="3764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n conclusión,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os descubrimientos de Newton y Maxwell, y de muchos otros personajes brillantes, abrieron un mundo nuevo a la imaginación del hombre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. Continúa: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A medida que la descripción de los procesos fundamen-tales se torna más completa, nuestra visión es más amplia y adquirimos una nueva perspectiva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.”</a:t>
            </a:r>
            <a:r>
              <a:rPr b="0" lang="es-MX" sz="1400" spc="-1" strike="noStrike" baseline="30000">
                <a:solidFill>
                  <a:srgbClr val="ff6600"/>
                </a:solidFill>
                <a:latin typeface="Verdana"/>
              </a:rPr>
              <a:t>*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2240" y="3860640"/>
            <a:ext cx="4278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a estructura íntima del mundo es complet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diferente de su estructura superficial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The Lightness of Being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 Frank Wilcze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Basic Books, 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1360" y="2486160"/>
            <a:ext cx="403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La masa no se conserva aun cuando Lavoisi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fundó la química en este princip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7160" y="3351240"/>
            <a:ext cx="26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La ENERGÏA total se conser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2133720"/>
            <a:ext cx="3456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Pl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Trigonomet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Deriv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Integ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Cine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Diná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197000"/>
            <a:ext cx="453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Verdana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91640" y="141300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724360" y="3645000"/>
            <a:ext cx="3168720" cy="3024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5013360"/>
            <a:ext cx="4535280" cy="1297080"/>
          </a:xfrm>
          <a:prstGeom prst="cloudCallout">
            <a:avLst>
              <a:gd name="adj1" fmla="val 70162"/>
              <a:gd name="adj2" fmla="val -83046"/>
            </a:avLst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752720" cy="1906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53320" y="3638520"/>
            <a:ext cx="42127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El Postulado de las Parale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ada una línea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un punto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fuera de la línea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 ℓ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 existe una única línea </a:t>
            </a:r>
            <a:r>
              <a:rPr b="0" lang="en-US" sz="14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en el mismo plano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que pasa por el punto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P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no intercepta a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580000" y="2203200"/>
            <a:ext cx="2664000" cy="1657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659280" y="2205000"/>
            <a:ext cx="14436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93040" y="2232000"/>
            <a:ext cx="288720" cy="144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19640" y="1733040"/>
            <a:ext cx="2448000" cy="15512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49560" y="30686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85680" y="2017800"/>
            <a:ext cx="3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35720" y="1838160"/>
            <a:ext cx="2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720" y="5367240"/>
            <a:ext cx="372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alabras Clav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Que </a:t>
            </a:r>
            <a:r>
              <a:rPr b="1" i="1" lang="es-MX" sz="1400" spc="-1" strike="noStrike">
                <a:solidFill>
                  <a:srgbClr val="0000ff"/>
                </a:solidFill>
                <a:latin typeface="Verdana"/>
              </a:rPr>
              <a:t>existe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línea paralela </a:t>
            </a:r>
            <a:r>
              <a:rPr b="0" lang="en-US" sz="14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Que es </a:t>
            </a:r>
            <a:r>
              <a:rPr b="1" i="1" lang="es-MX" sz="1400" spc="-1" strike="noStrike">
                <a:solidFill>
                  <a:srgbClr val="0000ff"/>
                </a:solidFill>
                <a:latin typeface="Verdana"/>
              </a:rPr>
              <a:t>ú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3645000"/>
            <a:ext cx="324036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i eliminamos la primera condi-ción: que </a:t>
            </a:r>
            <a:r>
              <a:rPr b="0" lang="en-US" sz="14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N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intercepta a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, un mundo de posibilidades igno-radas previamente se descub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sueño griego de explicar el uni- verso solo en base a un razona-miento lógico, se hace insosteni-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or ejemplo, debemos medir los ángulos internos de un triángulo para saber si el universo es Euclídeo o NO-Euclideo 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91640" y="134136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559040" cy="5400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991640" y="141300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12760" y="1335240"/>
            <a:ext cx="6302520" cy="3663720"/>
            <a:chOff x="212760" y="1335240"/>
            <a:chExt cx="6302520" cy="3663720"/>
          </a:xfrm>
        </p:grpSpPr>
        <p:sp>
          <p:nvSpPr>
            <p:cNvPr id="98" name=""/>
            <p:cNvSpPr/>
            <p:nvPr/>
          </p:nvSpPr>
          <p:spPr>
            <a:xfrm>
              <a:off x="4175280" y="3946680"/>
              <a:ext cx="23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99"/>
                  </a:solidFill>
                  <a:latin typeface="Arial"/>
                </a:rPr>
                <a:t>Cateto adyacente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2760" y="1335240"/>
              <a:ext cx="224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Verdana"/>
                </a:rPr>
                <a:t>Cateto opuesto</a:t>
              </a:r>
              <a:r>
                <a:rPr b="0" lang="es-MX" sz="1400" spc="-1" strike="noStrike">
                  <a:solidFill>
                    <a:srgbClr val="333399"/>
                  </a:solidFill>
                  <a:latin typeface="Verdana"/>
                </a:rPr>
                <a:t> </a:t>
              </a:r>
              <a:r>
                <a:rPr b="1" lang="es-MX" sz="1400" spc="-1" strike="noStrike">
                  <a:solidFill>
                    <a:srgbClr val="333399"/>
                  </a:solidFill>
                  <a:latin typeface="Verdana"/>
                </a:rPr>
                <a:t>a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508120" y="1863720"/>
              <a:ext cx="2562120" cy="1937880"/>
              <a:chOff x="2508120" y="1863720"/>
              <a:chExt cx="2562120" cy="19378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2923200" y="1863720"/>
                <a:ext cx="2147040" cy="1571040"/>
                <a:chOff x="2923200" y="1863720"/>
                <a:chExt cx="2147040" cy="15710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923200" y="1863720"/>
                  <a:ext cx="0" cy="157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923200" y="3434760"/>
                  <a:ext cx="2147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923200" y="1863720"/>
                  <a:ext cx="2147040" cy="157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05" name=""/>
                  <p:cNvSpPr txBox="1"/>
                  <p:nvPr/>
                </p:nvSpPr>
                <p:spPr>
                  <a:xfrm>
                    <a:off x="2508120" y="2492640"/>
                    <a:ext cx="239400" cy="20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6" name=""/>
                  <p:cNvSpPr txBox="1"/>
                  <p:nvPr/>
                </p:nvSpPr>
                <p:spPr>
                  <a:xfrm>
                    <a:off x="3754080" y="3539880"/>
                    <a:ext cx="236880" cy="261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7" name=""/>
                  <p:cNvSpPr txBox="1"/>
                  <p:nvPr/>
                </p:nvSpPr>
                <p:spPr>
                  <a:xfrm>
                    <a:off x="4100760" y="2335680"/>
                    <a:ext cx="276120" cy="26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8" name=""/>
              <p:cNvSpPr/>
              <p:nvPr/>
            </p:nvSpPr>
            <p:spPr>
              <a:xfrm>
                <a:off x="2923200" y="327780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130920" y="3277800"/>
                <a:ext cx="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1054080" y="2462040"/>
                  <a:ext cx="117792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teto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4390920" y="3171960"/>
                  <a:ext cx="26352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 flipH="1">
              <a:off x="4170240" y="3067200"/>
              <a:ext cx="69192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4169880" y="3592440"/>
              <a:ext cx="75420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979640" y="1341360"/>
                  <a:ext cx="62244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2438280" y="1704960"/>
              <a:ext cx="41616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4687920" y="4668840"/>
                  <a:ext cx="5000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" name=""/>
          <p:cNvSpPr/>
          <p:nvPr/>
        </p:nvSpPr>
        <p:spPr>
          <a:xfrm>
            <a:off x="4715280" y="212724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Hipoten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2421000"/>
            <a:ext cx="129564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2852640"/>
            <a:ext cx="1847880" cy="1633680"/>
          </a:xfrm>
          <a:custGeom>
            <a:avLst/>
            <a:gdLst/>
            <a:ahLst/>
            <a:rect l="l" t="t" r="r" b="b"/>
            <a:pathLst>
              <a:path w="1164" h="1029">
                <a:moveTo>
                  <a:pt x="0" y="0"/>
                </a:moveTo>
                <a:cubicBezTo>
                  <a:pt x="94" y="438"/>
                  <a:pt x="189" y="877"/>
                  <a:pt x="363" y="953"/>
                </a:cubicBezTo>
                <a:cubicBezTo>
                  <a:pt x="537" y="1029"/>
                  <a:pt x="922" y="545"/>
                  <a:pt x="1043" y="454"/>
                </a:cubicBezTo>
                <a:cubicBezTo>
                  <a:pt x="1164" y="363"/>
                  <a:pt x="1081" y="416"/>
                  <a:pt x="1089" y="40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54400" y="3478320"/>
            <a:ext cx="7128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93840" y="3489480"/>
            <a:ext cx="21564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87440" y="2036880"/>
            <a:ext cx="1595520" cy="600120"/>
          </a:xfrm>
          <a:custGeom>
            <a:avLst/>
            <a:gdLst/>
            <a:ahLst/>
            <a:rect l="l" t="t" r="r" b="b"/>
            <a:pathLst>
              <a:path w="1005" h="378">
                <a:moveTo>
                  <a:pt x="0" y="242"/>
                </a:moveTo>
                <a:cubicBezTo>
                  <a:pt x="60" y="121"/>
                  <a:pt x="121" y="0"/>
                  <a:pt x="272" y="15"/>
                </a:cubicBezTo>
                <a:cubicBezTo>
                  <a:pt x="423" y="30"/>
                  <a:pt x="809" y="288"/>
                  <a:pt x="907" y="333"/>
                </a:cubicBezTo>
                <a:cubicBezTo>
                  <a:pt x="1005" y="378"/>
                  <a:pt x="933" y="332"/>
                  <a:pt x="861" y="28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705040" y="2542680"/>
            <a:ext cx="216000" cy="7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803160" y="2362320"/>
            <a:ext cx="7153200" cy="3009960"/>
            <a:chOff x="803160" y="2362320"/>
            <a:chExt cx="7153200" cy="3009960"/>
          </a:xfrm>
        </p:grpSpPr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803160" y="2362320"/>
                  <a:ext cx="3940200" cy="29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β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b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</m:e>
                              </m:d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</m:e>
                              </m: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0" name=""/>
            <p:cNvGrpSpPr/>
            <p:nvPr/>
          </p:nvGrpSpPr>
          <p:grpSpPr>
            <a:xfrm>
              <a:off x="5292720" y="2706840"/>
              <a:ext cx="2663640" cy="2665440"/>
              <a:chOff x="5292720" y="2706840"/>
              <a:chExt cx="2663640" cy="26654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5292720" y="2706840"/>
                <a:ext cx="2663640" cy="2665440"/>
                <a:chOff x="5292720" y="2706840"/>
                <a:chExt cx="2663640" cy="2665440"/>
              </a:xfrm>
            </p:grpSpPr>
            <p:grpSp>
              <p:nvGrpSpPr>
                <p:cNvPr id="132" name=""/>
                <p:cNvGrpSpPr/>
                <p:nvPr/>
              </p:nvGrpSpPr>
              <p:grpSpPr>
                <a:xfrm>
                  <a:off x="5724360" y="2706840"/>
                  <a:ext cx="2232000" cy="2160360"/>
                  <a:chOff x="5724360" y="2706840"/>
                  <a:chExt cx="2232000" cy="21603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5724360" y="2706840"/>
                    <a:ext cx="0" cy="216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5724360" y="4867200"/>
                    <a:ext cx="2232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5724360" y="2706840"/>
                    <a:ext cx="2232000" cy="216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36" name=""/>
                    <p:cNvSpPr txBox="1"/>
                    <p:nvPr/>
                  </p:nvSpPr>
                  <p:spPr>
                    <a:xfrm>
                      <a:off x="5292720" y="3571920"/>
                      <a:ext cx="249120" cy="287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a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37" name=""/>
                    <p:cNvSpPr txBox="1"/>
                    <p:nvPr/>
                  </p:nvSpPr>
                  <p:spPr>
                    <a:xfrm>
                      <a:off x="6588000" y="5011920"/>
                      <a:ext cx="246240" cy="360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b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38" name=""/>
                    <p:cNvSpPr txBox="1"/>
                    <p:nvPr/>
                  </p:nvSpPr>
                  <p:spPr>
                    <a:xfrm>
                      <a:off x="6948360" y="3356280"/>
                      <a:ext cx="287280" cy="358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c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39" name=""/>
                <p:cNvSpPr/>
                <p:nvPr/>
              </p:nvSpPr>
              <p:spPr>
                <a:xfrm>
                  <a:off x="5724360" y="465156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940360" y="465156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41" name=""/>
                  <p:cNvSpPr txBox="1"/>
                  <p:nvPr/>
                </p:nvSpPr>
                <p:spPr>
                  <a:xfrm>
                    <a:off x="7381800" y="4506840"/>
                    <a:ext cx="27468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2" name=""/>
              <p:cNvSpPr/>
              <p:nvPr/>
            </p:nvSpPr>
            <p:spPr>
              <a:xfrm flipH="1">
                <a:off x="7093080" y="4362480"/>
                <a:ext cx="720000" cy="10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9280" y="898560"/>
            <a:ext cx="4897440" cy="36100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23440" y="4508640"/>
            <a:ext cx="426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Verdana"/>
              </a:rPr>
              <a:t>La relevancia del círculo de radio un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4292640"/>
            <a:ext cx="5040360" cy="79200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91640" y="141300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8548560" y="495936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4896000" y="3537000"/>
            <a:ext cx="2985840" cy="28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89640" y="48942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389640" y="3213000"/>
            <a:ext cx="0" cy="168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389640" y="3789000"/>
            <a:ext cx="1927440" cy="1104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746760" y="4656240"/>
                <a:ext cx="2984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6807600" y="4572000"/>
            <a:ext cx="357840" cy="64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337440" y="4896000"/>
                <a:ext cx="2505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599240" y="3730680"/>
                <a:ext cx="2239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508800" y="3213000"/>
                <a:ext cx="2635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H="1">
            <a:off x="638964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43880" y="418320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462800" y="4894200"/>
                <a:ext cx="284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039000" y="3789360"/>
                <a:ext cx="279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 flipH="1">
            <a:off x="7464600" y="46990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464600" y="46990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09580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618080" y="3924360"/>
            <a:ext cx="1790640" cy="96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498560" y="4894200"/>
            <a:ext cx="19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1640" y="3537000"/>
            <a:ext cx="2986200" cy="28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25640" y="48942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25640" y="3213000"/>
            <a:ext cx="0" cy="168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73080" y="4896000"/>
                <a:ext cx="2509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135240" y="3730680"/>
                <a:ext cx="2239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19280" y="3068640"/>
                <a:ext cx="2635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313160" y="495936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H="1">
            <a:off x="192564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79880" y="418320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998800" y="4894200"/>
                <a:ext cx="284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574640" y="3789360"/>
                <a:ext cx="2797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H="1">
            <a:off x="2999880" y="469908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00240" y="46990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3180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49400" y="3921120"/>
            <a:ext cx="1790640" cy="96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4560" y="4894200"/>
            <a:ext cx="19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978200" y="4510080"/>
                <a:ext cx="328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 flipH="1">
            <a:off x="1619280" y="4294080"/>
            <a:ext cx="100584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286000" y="2133720"/>
                <a:ext cx="360036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149640" y="6021360"/>
                <a:ext cx="2016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05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Verdana"/>
              </a:rPr>
              <a:t>¿Qué relación existe en los ángulos de los dibuj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62560" y="4294080"/>
            <a:ext cx="7200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19160" y="3284280"/>
            <a:ext cx="649440" cy="15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56000" y="3357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411280" y="335772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3-26T23:29:25Z</dcterms:modified>
  <cp:revision>18</cp:revision>
  <dc:subject/>
  <dc:title>Introducción a la Física Newtoniana </dc:title>
</cp:coreProperties>
</file>