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075-5B76-4C2B-90C4-EC0891D1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17C-C05F-427B-999D-9AE407E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F30-FCC1-45BF-A3F5-B1CF6AD3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E8D-ABA6-4CF4-895D-ADB5063F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521-A952-46A7-8A10-CAF5CD37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E66-94CF-4302-8D05-C591AA52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223-497D-4995-93EE-872B86A5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059-1EBA-442F-945E-B8FD9F5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75D-E805-4DB6-8AC7-A998C003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244-010C-4355-B9D4-B4CBE34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038-2703-4651-9DA9-3A94EB7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E7B-2774-4C40-979B-05D3FDC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683-F126-473A-A72E-8FAE644A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6720" y="1341360"/>
            <a:ext cx="3240360" cy="1800360"/>
          </a:xfrm>
          <a:prstGeom prst="wedgeEllipseCallout">
            <a:avLst>
              <a:gd name="adj1" fmla="val -115212"/>
              <a:gd name="adj2" fmla="val 52912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92720" y="3500280"/>
          <a:ext cx="225576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500280"/>
                    <a:ext cx="225576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1200" y="1314360"/>
            <a:ext cx="451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trás de los cursos de física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matemática es entender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iálogo (experimentos y modelos propuestos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–además-, moldear la naturaleza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nuestro beneficio: puentes, edificios, opera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laser, scaner tomográfico, Internet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ni a nuest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xistencia. Perduran las preguntas etern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históricamente, aparec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hom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 La luz no ocupa lugar, como la mas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Y sólo detectamos una frnja de ela con nues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sen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90440" y="162864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508464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508464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5661000"/>
            <a:ext cx="5004000" cy="936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4825800" cy="2963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292720" y="4581360"/>
            <a:ext cx="3672000" cy="1943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920" y="1052640"/>
            <a:ext cx="4580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responsable de dar masa a los objetos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común, se forja a travé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visión restringida del mundo extern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essay_190.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052640"/>
            <a:ext cx="2581200" cy="270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4040" y="3978360"/>
            <a:ext cx="349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90920" y="2060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508640"/>
            <a:ext cx="3764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240" y="5661000"/>
            <a:ext cx="427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133720"/>
            <a:ext cx="3456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3-27T19:53:29Z</dcterms:modified>
  <cp:revision>14</cp:revision>
  <dc:subject/>
  <dc:title>Introducción a la Física Newtoniana </dc:title>
</cp:coreProperties>
</file>