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744F-F9C5-40EE-A3D5-E97FEA177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2E7C-40D3-4D56-B758-6B98FB8B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DBDF-0550-4454-BED4-348B51516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970F-7906-4192-8157-0B42FA023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50B2-6260-4B01-94C3-8DC8ADB7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895D-C5D1-46F1-AFED-DDF845EA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59E5-33DA-4187-B619-F2B799A8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65B6-1197-4F7C-B4DE-9053EDD2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F540-43F8-419F-9B96-EB8157E4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663F-7DAC-461E-B684-EE4A8B3D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0B49-D9FA-4A7B-A4BD-C769C7B4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8317-628B-4843-BEB2-B48FB12D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5C90-FD19-4ADC-BE51-BC72AE4E7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hyperlink" Target="javascript:pop_me_up2(&apos;http://www.nytimes.com/imagepages/2007/08/06/science/07essa_ready.html&apos;,%20&apos;07essa_ready&apos;,%20&apos;width=545,height=600,scrollbars=yes,toolbars=no,resizable=yes&apos;)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76720" y="1341360"/>
            <a:ext cx="3240360" cy="1800360"/>
          </a:xfrm>
          <a:prstGeom prst="wedgeEllipseCallout">
            <a:avLst>
              <a:gd name="adj1" fmla="val -115212"/>
              <a:gd name="adj2" fmla="val 52912"/>
            </a:avLst>
          </a:prstGeom>
          <a:solidFill>
            <a:srgbClr val="fefc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292720" y="3500280"/>
          <a:ext cx="2255760" cy="32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3500280"/>
                    <a:ext cx="2255760" cy="32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21200" y="1314360"/>
            <a:ext cx="45151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 idea central detrás de los cursos de física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matemática es entender la naturalez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s aprender a dialogar con la naturalez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 estas herramientas (lenguaje matemático)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ste diálogo (experimentos y modelos propuestos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Podemos –además-, moldear la naturaleza 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nuestro beneficio: puentes, edificios, operacion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 laser, scaner tomográfico, Internet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339933"/>
                </a:solidFill>
                <a:latin typeface="Verdana"/>
              </a:rPr>
              <a:t>Esta aproximación a la naturaleza no resuelve to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339933"/>
                </a:solidFill>
                <a:latin typeface="Verdana"/>
              </a:rPr>
              <a:t>Los problemas existenciales del hombre perdur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339933"/>
                </a:solidFill>
                <a:latin typeface="Verdana"/>
              </a:rPr>
              <a:t>No le otorga un significado a la vida ni a nuest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339933"/>
                </a:solidFill>
                <a:latin typeface="Verdana"/>
              </a:rPr>
              <a:t>existencia. Perduran las preguntas etern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339933"/>
                </a:solidFill>
                <a:latin typeface="Verdana"/>
              </a:rPr>
              <a:t>¿Quienes somos? ¿Para qué estamos aquí?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Al estudiar la naturaleza, históricamente, aparec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dos conceptos: la masa y la lu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Ambos están presentes en la historia del homb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Ambos son un miste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La masa relaciona la fuerza con el movimiento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una partícula. La luz no ocupa lugar, como la mas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Y sólo detectamos una frnja de ela con nuestr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senti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90440" y="1628640"/>
            <a:ext cx="25412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Los positrones son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anti-partícula del electr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Al colisionar con un electr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se transforman en ray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gama, que es pu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       </a:t>
            </a: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radi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308720" y="5084640"/>
          <a:ext cx="1629000" cy="15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08720" y="5084640"/>
                    <a:ext cx="162900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9280" y="5661000"/>
            <a:ext cx="5004000" cy="936720"/>
          </a:xfrm>
          <a:prstGeom prst="rect">
            <a:avLst/>
          </a:prstGeom>
          <a:solidFill>
            <a:srgbClr val="ffffcc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37000"/>
            <a:ext cx="4825800" cy="29638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5292720" y="4581360"/>
            <a:ext cx="3672000" cy="1943280"/>
          </a:xfrm>
          <a:prstGeom prst="rect">
            <a:avLst/>
          </a:prstGeom>
          <a:solidFill>
            <a:srgbClr val="ffffcc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48360" y="907920"/>
            <a:ext cx="0" cy="4753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58920" y="1052640"/>
            <a:ext cx="4580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l LHC pretende descubrir la partícula de Higgs qu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 acuerdo a las teorías predominantes hoy, se c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s la responsable de dar masa a los objetos qu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ocem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o que llamamos sentido común, se forja a travé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una visión restringida del mundo externo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essay_190.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1052640"/>
            <a:ext cx="2581200" cy="2708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414040" y="3978360"/>
            <a:ext cx="349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6600"/>
                </a:solidFill>
                <a:latin typeface="Verdana"/>
              </a:rPr>
              <a:t>God’s Particle: el bosón de Higgs, la partícula que 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6600"/>
                </a:solidFill>
                <a:latin typeface="Verdana"/>
              </a:rPr>
              <a:t>otorga la masa a todos las otras partículas elemental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6600"/>
                </a:solidFill>
                <a:latin typeface="Verdana"/>
              </a:rPr>
              <a:t>del universo</a:t>
            </a:r>
            <a:r>
              <a:rPr b="0" lang="es-MX" sz="1000" spc="-1" strike="noStrike">
                <a:solidFill>
                  <a:srgbClr val="0000ff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90920" y="2060640"/>
            <a:ext cx="955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6600"/>
                </a:solidFill>
                <a:latin typeface="Verdana"/>
              </a:rPr>
              <a:t>Michael Criley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6600"/>
                </a:solidFill>
                <a:latin typeface="Verdana"/>
              </a:rPr>
              <a:t>The New York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6600"/>
                </a:solidFill>
                <a:latin typeface="Verdana"/>
              </a:rPr>
              <a:t>Tim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19640" y="4508640"/>
            <a:ext cx="37641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n conclusión, “</a:t>
            </a: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los descubrimientos de Newton y Maxwell, y de muchos otros personajes brillantes, abrieron un mundo nuevo a la imaginación del hombre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”. Continúa: “</a:t>
            </a: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A medida que la descripción de los procesos fundamen-tales se torna más completa, nuestra visión es más amplia y adquirimos una nueva perspectiva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.”</a:t>
            </a:r>
            <a:r>
              <a:rPr b="0" lang="es-MX" sz="1400" spc="-1" strike="noStrike" baseline="30000">
                <a:solidFill>
                  <a:srgbClr val="ff6600"/>
                </a:solidFill>
                <a:latin typeface="Verdana"/>
              </a:rPr>
              <a:t>*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2240" y="5661000"/>
            <a:ext cx="4278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“</a:t>
            </a: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La estructura íntima del mundo es completa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diferente de su estructura superficial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”</a:t>
            </a:r>
            <a:r>
              <a:rPr b="0" lang="es-MX" sz="1400" spc="-1" strike="noStrike" baseline="30000">
                <a:solidFill>
                  <a:srgbClr val="0000ff"/>
                </a:solidFill>
                <a:latin typeface="Verdana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The Lightness of Being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, Frank Wilczek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Basic Books,  200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9640" y="2133720"/>
            <a:ext cx="3456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Pl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Trigonomet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Deriv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Integ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Cinem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Diná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Apl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197000"/>
            <a:ext cx="4537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Verdana"/>
              </a:rPr>
              <a:t>Programa del cu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3-27T19:53:29Z</dcterms:modified>
  <cp:revision>14</cp:revision>
  <dc:subject/>
  <dc:title>Introducción a la Física Newtoniana </dc:title>
</cp:coreProperties>
</file>