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8BE-BCD6-4E5A-9DEC-A5CDC1B3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69B-7A74-432F-A66C-6FF8A92A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9C4-F461-47F9-AC4D-406D5562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083-39BB-4FC1-B600-5B1BF60E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6C1A-1C97-449D-BA51-64A9B0B9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200-4728-42F0-912D-12AD9C55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543-1530-4B7A-AC56-804B0C42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5AD-DDC8-4DA9-A435-4197573A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669-4AB7-490B-85C8-557F5627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7788-274B-46AA-BAF2-E23E0265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9E0-9BE6-4633-9DD3-8D6D5A14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039-B7E3-440B-BF91-DF4D72CC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71F2-0EDA-482A-AB65-07655FB2C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hyperlink" Target="javascript:pop_me_up2(&apos;http://www.nytimes.com/imagepages/2007/08/06/science/07essa_ready.html&apos;,%20&apos;07essa_ready&apos;,%20&apos;width=545,height=600,scrollbars=yes,toolbars=no,resizable=yes&apos;)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6720" y="1341360"/>
            <a:ext cx="3240360" cy="1800360"/>
          </a:xfrm>
          <a:prstGeom prst="wedgeEllipseCallout">
            <a:avLst>
              <a:gd name="adj1" fmla="val -115212"/>
              <a:gd name="adj2" fmla="val 52912"/>
            </a:avLst>
          </a:prstGeom>
          <a:solidFill>
            <a:srgbClr val="fefc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292720" y="3500280"/>
          <a:ext cx="2255760" cy="32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3500280"/>
                    <a:ext cx="2255760" cy="32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21200" y="1314360"/>
            <a:ext cx="4515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idea central detrás de los cursos de física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matemática es entender la natural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aprender a dialogar con la natural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as herramientas (lenguaje matemático)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e diálogo (experimentos y modelos propuestos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demos –además-, moldear la naturaleza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nuestro beneficio: puentes, edificios, operacio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laser, scaner tomográfico, Internet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Esta aproximación a la naturaleza no resuelve to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Los problemas existenciales del hombre perdur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No le otorga un significado a la vida ni a nuest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existencia. Perduran las preguntas etern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¿Quienes somos? ¿Para qué estamos aquí?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l estudiar la naturaleza, históricamente, aparec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dos conceptos: la masa y la lu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están presentes en la historia del homb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son un miste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La masa relaciona la fuerza con el movimiento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una partícula. La luz no ocupa lugar, como la mas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Y sólo detectamos una frnja de ela con nuest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sent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90440" y="1628640"/>
            <a:ext cx="2541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Los positrones so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anti-partícula del electr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Al colisionar con un electr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se transforman en ray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gama, que es pu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       </a:t>
            </a: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radi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308720" y="5084640"/>
          <a:ext cx="1629000" cy="15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08720" y="5084640"/>
                    <a:ext cx="162900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5661000"/>
            <a:ext cx="5004000" cy="93672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4825800" cy="2963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292720" y="4581360"/>
            <a:ext cx="3672000" cy="194328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907920"/>
            <a:ext cx="0" cy="475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8920" y="1052640"/>
            <a:ext cx="4580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LHC pretende descubrir la partícula de Higgs qu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acuerdo a las teorías predominantes hoy, se c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la responsable de dar masa a los objetos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o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o que llamamos sentido común, se forja a travé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una visión restringida del mundo extern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essay_190.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052640"/>
            <a:ext cx="2581200" cy="2708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14040" y="3978360"/>
            <a:ext cx="349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God’s Particle: el bosón de Higgs, la partícula que 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otorga la masa a todos las otras partículas elemental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del universo</a:t>
            </a:r>
            <a:r>
              <a:rPr b="0" lang="es-MX" sz="10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90920" y="2060640"/>
            <a:ext cx="95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Michael Criley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he New Yor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i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4508640"/>
            <a:ext cx="3764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 conclusión,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os descubrimientos de Newton y Maxwell, y de muchos otros personajes brillantes, abrieron un mundo nuevo a la imaginación del hombre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. Continúa: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A medida que la descripción de los procesos fundamen-tales se torna más completa, nuestra visión es más amplia y adquirimos una nueva perspectiva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”</a:t>
            </a:r>
            <a:r>
              <a:rPr b="0" lang="es-MX" sz="1400" spc="-1" strike="noStrike" baseline="30000">
                <a:solidFill>
                  <a:srgbClr val="ff6600"/>
                </a:solidFill>
                <a:latin typeface="Verdana"/>
              </a:rPr>
              <a:t>*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2240" y="5661000"/>
            <a:ext cx="4278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a estructura íntima del mundo es comple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diferente de su estructura superficial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The Lightness of Being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Frank Wilcze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asic Books, 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2133720"/>
            <a:ext cx="3456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Pl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Trigonomet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Deri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Integ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Cine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Din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197000"/>
            <a:ext cx="453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3-27T19:53:29Z</dcterms:modified>
  <cp:revision>14</cp:revision>
  <dc:subject/>
  <dc:title>Introducción a la Física Newtoniana </dc:title>
</cp:coreProperties>
</file>