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354-6DD2-4CD5-887B-D797DD5E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A63-3FCD-4CBC-B202-D120A5A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CDA-85FD-4D90-94D0-83DEC2FC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BE8-AEC7-4A8F-A853-BCAA9D72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457-0C75-41C6-B7A3-A86C31A6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0AC-81E2-4A90-8D50-2061FDA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51B-A20D-4342-B70B-DFC72530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CAF-CC44-405C-AAF7-E1658AC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977-E226-485E-9837-1C7216A6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BBB-3D5B-4D4D-8EBF-44033DD3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C7C-4BD5-49FE-98D1-08D721A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3C2-83BF-4DD2-95B3-ABAC54E1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C5A-DF0C-4645-A840-CD8DEB3B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727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 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 una partícula. La luz no ocupa lugar, como la masa, y sólo detectamos una forma de el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414520"/>
            <a:ext cx="7236000" cy="444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380360" y="2421000"/>
            <a:ext cx="176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ntido comú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 forja a trav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stringid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206" name="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08960" y="4532400"/>
              <a:ext cx="472320" cy="701640"/>
              <a:chOff x="5808960" y="453240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"/>
              <p:cNvSpPr/>
              <p:nvPr/>
            </p:nvSpPr>
            <p:spPr>
              <a:xfrm>
                <a:off x="5876640" y="453240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6301440" y="494028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080" y="1773360"/>
            <a:ext cx="8881200" cy="4605480"/>
            <a:chOff x="262080" y="1773360"/>
            <a:chExt cx="8881200" cy="4605480"/>
          </a:xfrm>
        </p:grpSpPr>
        <p:grpSp>
          <p:nvGrpSpPr>
            <p:cNvPr id="235" name=""/>
            <p:cNvGrpSpPr/>
            <p:nvPr/>
          </p:nvGrpSpPr>
          <p:grpSpPr>
            <a:xfrm>
              <a:off x="262080" y="1773360"/>
              <a:ext cx="4321080" cy="1952640"/>
              <a:chOff x="26208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6208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40644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8" name=""/>
            <p:cNvGrpSpPr/>
            <p:nvPr/>
          </p:nvGrpSpPr>
          <p:grpSpPr>
            <a:xfrm>
              <a:off x="1708200" y="2626920"/>
              <a:ext cx="7435080" cy="3751920"/>
              <a:chOff x="1708200" y="2626920"/>
              <a:chExt cx="7435080" cy="37519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151520" y="2626920"/>
                <a:ext cx="4991760" cy="3751920"/>
                <a:chOff x="4151520" y="2626920"/>
                <a:chExt cx="4991760" cy="37519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151520" y="2626920"/>
                  <a:ext cx="4991760" cy="3751920"/>
                  <a:chOff x="4151520" y="2626920"/>
                  <a:chExt cx="4991760" cy="37519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15152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578560" y="2626920"/>
                    <a:ext cx="3564720" cy="2450160"/>
                    <a:chOff x="5578560" y="2626920"/>
                    <a:chExt cx="3564720" cy="24501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95116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V="1">
                      <a:off x="595116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V="1">
                      <a:off x="595116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6" name=""/>
                        <p:cNvSpPr txBox="1"/>
                        <p:nvPr/>
                      </p:nvSpPr>
                      <p:spPr>
                        <a:xfrm>
                          <a:off x="638280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5660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8" name=""/>
                        <p:cNvSpPr txBox="1"/>
                        <p:nvPr/>
                      </p:nvSpPr>
                      <p:spPr>
                        <a:xfrm>
                          <a:off x="557856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9" name=""/>
                        <p:cNvSpPr txBox="1"/>
                        <p:nvPr/>
                      </p:nvSpPr>
                      <p:spPr>
                        <a:xfrm>
                          <a:off x="741024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0" name=""/>
                        <p:cNvSpPr txBox="1"/>
                        <p:nvPr/>
                      </p:nvSpPr>
                      <p:spPr>
                        <a:xfrm>
                          <a:off x="609552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1" name=""/>
                        <p:cNvSpPr txBox="1"/>
                        <p:nvPr/>
                      </p:nvSpPr>
                      <p:spPr>
                        <a:xfrm>
                          <a:off x="883080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595080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46388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54" name=""/>
                        <p:cNvSpPr txBox="1"/>
                        <p:nvPr/>
                      </p:nvSpPr>
                      <p:spPr>
                        <a:xfrm>
                          <a:off x="724644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5" name=""/>
                        <p:cNvSpPr txBox="1"/>
                        <p:nvPr/>
                      </p:nvSpPr>
                      <p:spPr>
                        <a:xfrm>
                          <a:off x="559080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6" name=""/>
                        <p:cNvSpPr txBox="1"/>
                        <p:nvPr/>
                      </p:nvSpPr>
                      <p:spPr>
                        <a:xfrm>
                          <a:off x="615132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248600" y="4387320"/>
                  <a:ext cx="215280" cy="228960"/>
                  <a:chOff x="7248600" y="4387320"/>
                  <a:chExt cx="215280" cy="228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>
                    <a:off x="724860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24860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70820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74072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920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2686200">
            <a:off x="4511160" y="1128600"/>
            <a:ext cx="173160" cy="168480"/>
          </a:xfrm>
          <a:custGeom>
            <a:avLst/>
            <a:gdLst/>
            <a:ahLst/>
            <a:rect l="l" t="t" r="r" b="b"/>
            <a:pathLst>
              <a:path w="109" h="106">
                <a:moveTo>
                  <a:pt x="0" y="2"/>
                </a:moveTo>
                <a:cubicBezTo>
                  <a:pt x="5" y="14"/>
                  <a:pt x="11" y="26"/>
                  <a:pt x="15" y="39"/>
                </a:cubicBezTo>
                <a:cubicBezTo>
                  <a:pt x="19" y="51"/>
                  <a:pt x="15" y="66"/>
                  <a:pt x="23" y="76"/>
                </a:cubicBezTo>
                <a:cubicBezTo>
                  <a:pt x="34" y="90"/>
                  <a:pt x="67" y="106"/>
                  <a:pt x="67" y="106"/>
                </a:cubicBezTo>
                <a:cubicBezTo>
                  <a:pt x="102" y="95"/>
                  <a:pt x="109" y="66"/>
                  <a:pt x="82" y="31"/>
                </a:cubicBezTo>
                <a:cubicBezTo>
                  <a:pt x="70" y="15"/>
                  <a:pt x="46" y="13"/>
                  <a:pt x="30" y="2"/>
                </a:cubicBezTo>
                <a:cubicBezTo>
                  <a:pt x="4" y="40"/>
                  <a:pt x="23" y="24"/>
                  <a:pt x="8" y="2"/>
                </a:cubicBezTo>
                <a:cubicBezTo>
                  <a:pt x="6" y="0"/>
                  <a:pt x="3" y="2"/>
                  <a:pt x="0" y="2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9296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860640"/>
            <a:ext cx="2244600" cy="1033560"/>
          </a:xfrm>
          <a:custGeom>
            <a:avLst/>
            <a:gdLst/>
            <a:ahLst/>
            <a:rect l="l" t="t" r="r" b="b"/>
            <a:pathLst>
              <a:path w="1414" h="651">
                <a:moveTo>
                  <a:pt x="1414" y="0"/>
                </a:moveTo>
                <a:cubicBezTo>
                  <a:pt x="1157" y="0"/>
                  <a:pt x="900" y="1"/>
                  <a:pt x="824" y="46"/>
                </a:cubicBezTo>
                <a:cubicBezTo>
                  <a:pt x="748" y="91"/>
                  <a:pt x="1073" y="181"/>
                  <a:pt x="960" y="272"/>
                </a:cubicBezTo>
                <a:cubicBezTo>
                  <a:pt x="847" y="363"/>
                  <a:pt x="288" y="529"/>
                  <a:pt x="144" y="590"/>
                </a:cubicBezTo>
                <a:cubicBezTo>
                  <a:pt x="0" y="651"/>
                  <a:pt x="49" y="643"/>
                  <a:pt x="98" y="63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134136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60640"/>
            <a:ext cx="500364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2800" y="1052640"/>
            <a:ext cx="457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ssay_190.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240" y="386064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360" y="2486160"/>
            <a:ext cx="403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masa no se conserva aun cuando Lavois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fundó la química en este princi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7160" y="33512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ENERGÏA total se conser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24360" y="3645000"/>
            <a:ext cx="3168720" cy="3024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4535280" cy="1297080"/>
          </a:xfrm>
          <a:prstGeom prst="cloudCallout">
            <a:avLst>
              <a:gd name="adj1" fmla="val 70162"/>
              <a:gd name="adj2" fmla="val -83046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3320" y="3638520"/>
            <a:ext cx="4212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en el mismo plano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80000" y="2203200"/>
            <a:ext cx="2664000" cy="1657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59280" y="2205000"/>
            <a:ext cx="14436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93040" y="2232000"/>
            <a:ext cx="28872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19640" y="1733040"/>
            <a:ext cx="2448000" cy="155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9560" y="3068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85680" y="20178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18381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720" y="5367240"/>
            <a:ext cx="372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3645000"/>
            <a:ext cx="32403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un mundo de posibilidades igno-radas previamente se descu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sueño griego de explicar el uni- verso solo en base a un razona-miento lógico, se hace insosteni-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ejemplo, debemos medir los ángulos internos de un triángulo para saber si el universo es Euclídeo o NO-Euclideo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590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12760" y="1335240"/>
            <a:ext cx="6302520" cy="3663720"/>
            <a:chOff x="212760" y="1335240"/>
            <a:chExt cx="6302520" cy="3663720"/>
          </a:xfrm>
        </p:grpSpPr>
        <p:sp>
          <p:nvSpPr>
            <p:cNvPr id="98" name=""/>
            <p:cNvSpPr/>
            <p:nvPr/>
          </p:nvSpPr>
          <p:spPr>
            <a:xfrm>
              <a:off x="4175280" y="39466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760" y="1335240"/>
              <a:ext cx="22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 opuesto</a:t>
              </a:r>
              <a:r>
                <a:rPr b="0" lang="es-MX" sz="14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08120" y="1863720"/>
              <a:ext cx="2562120" cy="1937880"/>
              <a:chOff x="2508120" y="1863720"/>
              <a:chExt cx="2562120" cy="19378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923200" y="1863720"/>
                <a:ext cx="2147040" cy="1571040"/>
                <a:chOff x="2923200" y="1863720"/>
                <a:chExt cx="2147040" cy="1571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923200" y="1863720"/>
                  <a:ext cx="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923200" y="3434760"/>
                  <a:ext cx="214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23200" y="1863720"/>
                  <a:ext cx="214704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2508120" y="249264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3754080" y="3539880"/>
                    <a:ext cx="23688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4100760" y="233568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" name=""/>
              <p:cNvSpPr/>
              <p:nvPr/>
            </p:nvSpPr>
            <p:spPr>
              <a:xfrm>
                <a:off x="2923200" y="327780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0920" y="32778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054080" y="2462040"/>
                  <a:ext cx="1177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390920" y="3171960"/>
                  <a:ext cx="263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H="1">
              <a:off x="4170240" y="306720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169880" y="3592440"/>
              <a:ext cx="75420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979640" y="1341360"/>
                  <a:ext cx="62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2438280" y="1704960"/>
              <a:ext cx="41616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687920" y="4668840"/>
                  <a:ext cx="5000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2852640"/>
            <a:ext cx="1847880" cy="1633680"/>
          </a:xfrm>
          <a:custGeom>
            <a:avLst/>
            <a:gdLst/>
            <a:ahLst/>
            <a:rect l="l" t="t" r="r" b="b"/>
            <a:pathLst>
              <a:path w="1164" h="1029">
                <a:moveTo>
                  <a:pt x="0" y="0"/>
                </a:moveTo>
                <a:cubicBezTo>
                  <a:pt x="94" y="438"/>
                  <a:pt x="189" y="877"/>
                  <a:pt x="363" y="953"/>
                </a:cubicBezTo>
                <a:cubicBezTo>
                  <a:pt x="537" y="1029"/>
                  <a:pt x="922" y="545"/>
                  <a:pt x="1043" y="454"/>
                </a:cubicBezTo>
                <a:cubicBezTo>
                  <a:pt x="1164" y="363"/>
                  <a:pt x="1081" y="416"/>
                  <a:pt x="1089" y="40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7440" y="2036880"/>
            <a:ext cx="1595520" cy="600120"/>
          </a:xfrm>
          <a:custGeom>
            <a:avLst/>
            <a:gdLst/>
            <a:ahLst/>
            <a:rect l="l" t="t" r="r" b="b"/>
            <a:pathLst>
              <a:path w="1005" h="378">
                <a:moveTo>
                  <a:pt x="0" y="242"/>
                </a:moveTo>
                <a:cubicBezTo>
                  <a:pt x="60" y="121"/>
                  <a:pt x="121" y="0"/>
                  <a:pt x="272" y="15"/>
                </a:cubicBezTo>
                <a:cubicBezTo>
                  <a:pt x="423" y="30"/>
                  <a:pt x="809" y="288"/>
                  <a:pt x="907" y="333"/>
                </a:cubicBezTo>
                <a:cubicBezTo>
                  <a:pt x="1005" y="378"/>
                  <a:pt x="933" y="332"/>
                  <a:pt x="861" y="2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0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9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898560"/>
            <a:ext cx="489744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3440" y="45086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292640"/>
            <a:ext cx="5040360" cy="79200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807600" y="4572000"/>
            <a:ext cx="357840" cy="64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H="1">
            <a:off x="1619280" y="429408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2560" y="429408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6T23:29:25Z</dcterms:modified>
  <cp:revision>18</cp:revision>
  <dc:subject/>
  <dc:title>Introducción a la Física Newtoniana </dc:title>
</cp:coreProperties>
</file>