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8C2-B6FC-4D74-AEB6-C5C4AE5F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0F6-B9B5-43AA-B44D-F09B9CA5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8BA-BDDD-49DA-A665-5DF7602F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868-DC10-4A31-9D78-CC7F3A18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7E1-A0EC-4812-A31A-A824792E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099-2EBE-4F87-9EA5-4B5A8558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0B5-63AE-4DA8-AEF0-8222D561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A3E-D8B4-400B-97BB-1B686FE9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532-E9A7-44C5-AFAF-EC65AE51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E3E-EA4F-4747-A3C7-61A0138C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9CD-69F3-43BB-A27E-0FE99273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951-EABF-47E8-B843-ADD557A6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FB1F-8D7C-4705-AEF3-F4F236676B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7360" y="-109440"/>
            <a:ext cx="1212840" cy="1785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27160" y="1773360"/>
            <a:ext cx="51372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EL 6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TRACCION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333399"/>
                </a:solidFill>
                <a:latin typeface="Arial"/>
              </a:rPr>
              <a:t>SISTEMA DE TRACCIÓN FERROVIARIO (MET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33520"/>
            <a:ext cx="50292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ESCUELA DE INGENIERIA Y CI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DEPARTAMENTO DE INGENIERIA ELEC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46926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rofesor :  Ing. Augusto Lucero Al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210520" y="303120"/>
          <a:ext cx="476280" cy="103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10520" y="303120"/>
                    <a:ext cx="476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562720" y="304920"/>
            <a:ext cx="24382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2286000" y="5389560"/>
            <a:ext cx="457200" cy="571680"/>
            <a:chOff x="2286000" y="5389560"/>
            <a:chExt cx="457200" cy="571680"/>
          </a:xfrm>
        </p:grpSpPr>
        <p:sp>
          <p:nvSpPr>
            <p:cNvPr id="342" name=""/>
            <p:cNvSpPr/>
            <p:nvPr/>
          </p:nvSpPr>
          <p:spPr>
            <a:xfrm>
              <a:off x="2346120" y="5389560"/>
              <a:ext cx="3427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54120" y="5618160"/>
              <a:ext cx="114120" cy="34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6000" y="59612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562720" y="5389560"/>
            <a:ext cx="457200" cy="571680"/>
            <a:chOff x="5562720" y="5389560"/>
            <a:chExt cx="457200" cy="571680"/>
          </a:xfrm>
        </p:grpSpPr>
        <p:sp>
          <p:nvSpPr>
            <p:cNvPr id="346" name=""/>
            <p:cNvSpPr/>
            <p:nvPr/>
          </p:nvSpPr>
          <p:spPr>
            <a:xfrm>
              <a:off x="5622840" y="5389560"/>
              <a:ext cx="3427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30840" y="5618160"/>
              <a:ext cx="114120" cy="342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62720" y="59612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066680" y="6058080"/>
            <a:ext cx="6058080" cy="571320"/>
            <a:chOff x="1066680" y="6058080"/>
            <a:chExt cx="6058080" cy="571320"/>
          </a:xfrm>
        </p:grpSpPr>
        <p:sp>
          <p:nvSpPr>
            <p:cNvPr id="350" name=""/>
            <p:cNvSpPr/>
            <p:nvPr/>
          </p:nvSpPr>
          <p:spPr>
            <a:xfrm>
              <a:off x="1066680" y="6058080"/>
              <a:ext cx="605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18044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33272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853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63764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78992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9425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09484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24712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3997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55204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7046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569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00924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1618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3141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46644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6190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7713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92400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0762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2285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38120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5334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6857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83840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9906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1429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29560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54478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6001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75280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9050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0573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21000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3622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51456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66720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819480" y="60580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66800" y="6058080"/>
              <a:ext cx="1371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66800" y="6629400"/>
              <a:ext cx="138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66800" y="605808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38760" y="605808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076640" y="1143000"/>
            <a:ext cx="169920" cy="169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91440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34240" y="228600"/>
            <a:ext cx="0" cy="6248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58280" y="228600"/>
            <a:ext cx="0" cy="6248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191120" y="41904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12160" y="6058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49560" y="1295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46880" y="49068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490680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1905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enes rodado en acero por caten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152280"/>
            <a:ext cx="2590920" cy="5202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ORMAS DE TOMAR LA CORR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360360"/>
            <a:ext cx="81356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efinición de capacidad de trans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Variables que intervie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Número de co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Capacidad de cada coch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[pasajero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Intervalo de explotación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[seg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Demanda en la hora de punt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[pasajeros/hor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n el tramo más car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cepto de tramo más car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3213000"/>
            <a:ext cx="7924680" cy="3530880"/>
            <a:chOff x="468360" y="3213000"/>
            <a:chExt cx="7924680" cy="3530880"/>
          </a:xfrm>
        </p:grpSpPr>
        <p:sp>
          <p:nvSpPr>
            <p:cNvPr id="50" name=""/>
            <p:cNvSpPr/>
            <p:nvPr/>
          </p:nvSpPr>
          <p:spPr>
            <a:xfrm>
              <a:off x="468360" y="4553280"/>
              <a:ext cx="691560" cy="172800"/>
            </a:xfrm>
            <a:prstGeom prst="rightArrow">
              <a:avLst>
                <a:gd name="adj1" fmla="val 50000"/>
                <a:gd name="adj2" fmla="val 1000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01480" y="4509720"/>
              <a:ext cx="691560" cy="172800"/>
            </a:xfrm>
            <a:prstGeom prst="rightArrow">
              <a:avLst>
                <a:gd name="adj1" fmla="val 50000"/>
                <a:gd name="adj2" fmla="val 1000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756000" y="3213000"/>
              <a:ext cx="7117920" cy="3530880"/>
              <a:chOff x="756000" y="3213000"/>
              <a:chExt cx="7117920" cy="3530880"/>
            </a:xfrm>
          </p:grpSpPr>
          <p:sp>
            <p:nvSpPr>
              <p:cNvPr id="53" name=""/>
              <p:cNvSpPr/>
              <p:nvPr/>
            </p:nvSpPr>
            <p:spPr>
              <a:xfrm>
                <a:off x="957600" y="4248720"/>
                <a:ext cx="6915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57600" y="4940280"/>
                <a:ext cx="6915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1130400" y="5115240"/>
                <a:ext cx="518760" cy="345600"/>
                <a:chOff x="1130400" y="5115240"/>
                <a:chExt cx="518760" cy="34560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130400" y="5115240"/>
                  <a:ext cx="51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130400" y="511524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648080" y="511524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3032640" y="5115240"/>
                <a:ext cx="518400" cy="345600"/>
                <a:chOff x="3032640" y="5115240"/>
                <a:chExt cx="518400" cy="345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3032640" y="511524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032640" y="511524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549960" y="511524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5107320" y="5115240"/>
                <a:ext cx="518400" cy="345600"/>
                <a:chOff x="5107320" y="5115240"/>
                <a:chExt cx="518400" cy="3456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5107320" y="511524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107320" y="511524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624640" y="511524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182360" y="5115240"/>
                <a:ext cx="518400" cy="345600"/>
                <a:chOff x="7182360" y="5115240"/>
                <a:chExt cx="518400" cy="3456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182360" y="511524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182360" y="511524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699680" y="511524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130400" y="3731760"/>
                <a:ext cx="518760" cy="345600"/>
                <a:chOff x="1130400" y="3731760"/>
                <a:chExt cx="518760" cy="3456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130400" y="4077360"/>
                  <a:ext cx="51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V="1">
                  <a:off x="1130400" y="37317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1648080" y="37317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032640" y="3731760"/>
                <a:ext cx="518400" cy="345600"/>
                <a:chOff x="3032640" y="3731760"/>
                <a:chExt cx="518400" cy="3456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032640" y="407736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3032640" y="37317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3549960" y="37317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107320" y="3731760"/>
                <a:ext cx="518400" cy="345600"/>
                <a:chOff x="5107320" y="3731760"/>
                <a:chExt cx="518400" cy="3456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5107320" y="407736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5107320" y="37317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5624640" y="37317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7182360" y="3731760"/>
                <a:ext cx="518400" cy="345600"/>
                <a:chOff x="7182360" y="3731760"/>
                <a:chExt cx="518400" cy="3456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7182360" y="4077360"/>
                  <a:ext cx="51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7182360" y="37317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7699680" y="37317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1130400" y="3213000"/>
                <a:ext cx="691560" cy="51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k-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32640" y="3270600"/>
                <a:ext cx="691560" cy="51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107320" y="3213000"/>
                <a:ext cx="691560" cy="51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k+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82360" y="3213000"/>
                <a:ext cx="691560" cy="51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k+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37160" y="4438080"/>
                <a:ext cx="691560" cy="345600"/>
              </a:xfrm>
              <a:prstGeom prst="rightArrow">
                <a:avLst>
                  <a:gd name="adj1" fmla="val 50000"/>
                  <a:gd name="adj2" fmla="val 500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10600" y="4351320"/>
                <a:ext cx="1037520" cy="51876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86880" y="4380120"/>
                <a:ext cx="691560" cy="446760"/>
              </a:xfrm>
              <a:prstGeom prst="rightArrow">
                <a:avLst>
                  <a:gd name="adj1" fmla="val 50000"/>
                  <a:gd name="adj2" fmla="val 3869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1130400" y="5807160"/>
                <a:ext cx="331200" cy="345600"/>
                <a:chOff x="1130400" y="5807160"/>
                <a:chExt cx="331200" cy="345600"/>
              </a:xfrm>
            </p:grpSpPr>
            <p:sp>
              <p:nvSpPr>
                <p:cNvPr id="95" name=""/>
                <p:cNvSpPr/>
                <p:nvPr/>
              </p:nvSpPr>
              <p:spPr>
                <a:xfrm flipV="1">
                  <a:off x="1130400" y="58071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1244520" y="5807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1359720" y="5807160"/>
                  <a:ext cx="108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1460520" y="5807160"/>
                  <a:ext cx="108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649880" y="5850360"/>
                <a:ext cx="230040" cy="345600"/>
                <a:chOff x="1649880" y="5850360"/>
                <a:chExt cx="230040" cy="3456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879920" y="58503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1765080" y="58503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1649880" y="58503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686680" y="5807160"/>
                <a:ext cx="806400" cy="417600"/>
                <a:chOff x="2686680" y="5807160"/>
                <a:chExt cx="806400" cy="41760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2686680" y="5807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2800800" y="5807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2916000" y="5807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3016800" y="5807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3103560" y="5807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V="1">
                  <a:off x="3205080" y="5807160"/>
                  <a:ext cx="108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3492360" y="5879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3377160" y="587808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948920" y="5807160"/>
                <a:ext cx="777600" cy="416880"/>
                <a:chOff x="4948920" y="5807160"/>
                <a:chExt cx="777600" cy="416880"/>
              </a:xfrm>
            </p:grpSpPr>
            <p:sp>
              <p:nvSpPr>
                <p:cNvPr id="113" name=""/>
                <p:cNvSpPr/>
                <p:nvPr/>
              </p:nvSpPr>
              <p:spPr>
                <a:xfrm flipV="1">
                  <a:off x="4948920" y="58071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5063040" y="5807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5178240" y="5807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5394600" y="5877360"/>
                  <a:ext cx="331920" cy="346680"/>
                  <a:chOff x="5394600" y="5877360"/>
                  <a:chExt cx="331920" cy="34668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flipH="1">
                    <a:off x="5394600" y="5877360"/>
                    <a:ext cx="720" cy="34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5496480" y="5878800"/>
                    <a:ext cx="230040" cy="345240"/>
                    <a:chOff x="5496480" y="5878800"/>
                    <a:chExt cx="230040" cy="34524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5726520" y="5878800"/>
                      <a:ext cx="0" cy="34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flipH="1">
                      <a:off x="5611680" y="5878800"/>
                      <a:ext cx="720" cy="34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flipH="1">
                      <a:off x="5496480" y="5878800"/>
                      <a:ext cx="720" cy="34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7023600" y="5807160"/>
                <a:ext cx="748440" cy="389520"/>
                <a:chOff x="7023600" y="5807160"/>
                <a:chExt cx="748440" cy="389520"/>
              </a:xfrm>
            </p:grpSpPr>
            <p:sp>
              <p:nvSpPr>
                <p:cNvPr id="123" name=""/>
                <p:cNvSpPr/>
                <p:nvPr/>
              </p:nvSpPr>
              <p:spPr>
                <a:xfrm flipV="1">
                  <a:off x="7023600" y="58071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7137720" y="5807160"/>
                  <a:ext cx="72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7324920" y="5850360"/>
                  <a:ext cx="331200" cy="346320"/>
                  <a:chOff x="7324920" y="5850360"/>
                  <a:chExt cx="331200" cy="3463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H="1">
                    <a:off x="7324920" y="5850360"/>
                    <a:ext cx="720" cy="345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7426440" y="5851080"/>
                    <a:ext cx="229680" cy="345600"/>
                    <a:chOff x="7426440" y="5851080"/>
                    <a:chExt cx="229680" cy="34560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7656120" y="5851080"/>
                      <a:ext cx="0" cy="34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 flipH="1">
                      <a:off x="7541280" y="5851080"/>
                      <a:ext cx="720" cy="34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 flipH="1">
                      <a:off x="7426440" y="5851080"/>
                      <a:ext cx="720" cy="34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1" name=""/>
                <p:cNvSpPr/>
                <p:nvPr/>
              </p:nvSpPr>
              <p:spPr>
                <a:xfrm flipH="1">
                  <a:off x="7771320" y="5849640"/>
                  <a:ext cx="720" cy="34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756000" y="6195960"/>
                <a:ext cx="1555920" cy="51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uben   Baj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4113000" y="5461200"/>
                <a:ext cx="345600" cy="864360"/>
              </a:xfrm>
              <a:custGeom>
                <a:avLst/>
                <a:gdLst>
                  <a:gd name="textAreaLeft" fmla="*/ 220680 w 345600"/>
                  <a:gd name="textAreaRight" fmla="*/ 345960 w 345600"/>
                  <a:gd name="textAreaTop" fmla="*/ 22320 h 864360"/>
                  <a:gd name="textAreaBottom" fmla="*/ 842040 h 86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51400" y="6153120"/>
                <a:ext cx="1555920" cy="59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ramo más cargad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4000" y="360360"/>
            <a:ext cx="8135640" cy="299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c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55640" y="965160"/>
          <a:ext cx="8204040" cy="23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65160"/>
                    <a:ext cx="820404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55640" y="3571920"/>
            <a:ext cx="7993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ea una demanda de 18.000 pas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on trenes de una capacidad de N</a:t>
            </a:r>
            <a:r>
              <a:rPr b="0" i="1" lang="es-CL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 CC = 850 pas/t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La frecuencia de paso necesaria es: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trenes/h = 18.000/850 = 21,18 trenes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El intervalo de explotación necesario es T=3.600/21,18 = 169, 97 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Sea T = 160 seg el intervalo que se empleará,      trenes/h=3600/160=22,5 trenes/h, por lo tanto la oferta de transporte será 22,5*850=19.125 pas/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Luego, con un intervalo T=160 seg. Se pueden transportar 19.125 pas/hora (Ofer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omo sólo hay 18.000 pas/h de demanda, hay una sobreoferta en este caso y un factor de ocupación de 18.000/19.125=0,94 que es una medición del conf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26920" y="54936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iene relación la medición del confort, con los pasajeros/m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¾ de carg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4 pas/m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lena carg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6 pas/m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obrecarg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8 pas/m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71640" y="2041560"/>
            <a:ext cx="7427880" cy="4556160"/>
            <a:chOff x="971640" y="2041560"/>
            <a:chExt cx="7427880" cy="4556160"/>
          </a:xfrm>
        </p:grpSpPr>
        <p:sp>
          <p:nvSpPr>
            <p:cNvPr id="141" name=""/>
            <p:cNvSpPr/>
            <p:nvPr/>
          </p:nvSpPr>
          <p:spPr>
            <a:xfrm>
              <a:off x="3036960" y="6258240"/>
              <a:ext cx="254664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mo más carg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971640" y="2041560"/>
              <a:ext cx="7427880" cy="4499640"/>
              <a:chOff x="971640" y="2041560"/>
              <a:chExt cx="7427880" cy="4499640"/>
            </a:xfrm>
          </p:grpSpPr>
          <p:sp>
            <p:nvSpPr>
              <p:cNvPr id="143" name=""/>
              <p:cNvSpPr/>
              <p:nvPr/>
            </p:nvSpPr>
            <p:spPr>
              <a:xfrm>
                <a:off x="7211160" y="5803560"/>
                <a:ext cx="1188360" cy="33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stacion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971640" y="2041560"/>
                <a:ext cx="6847560" cy="4499640"/>
                <a:chOff x="971640" y="2041560"/>
                <a:chExt cx="6847560" cy="44996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197720" y="2041560"/>
                  <a:ext cx="1357920" cy="33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saj/hor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971640" y="2041560"/>
                  <a:ext cx="6847560" cy="4499640"/>
                  <a:chOff x="971640" y="2041560"/>
                  <a:chExt cx="6847560" cy="449964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1145880" y="2041560"/>
                    <a:ext cx="6673320" cy="4145400"/>
                    <a:chOff x="1145880" y="2041560"/>
                    <a:chExt cx="6673320" cy="414540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1197360" y="2212200"/>
                      <a:ext cx="0" cy="39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1197360" y="6116760"/>
                      <a:ext cx="62820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004120" y="6064560"/>
                      <a:ext cx="122400" cy="12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838600" y="6059880"/>
                      <a:ext cx="122400" cy="12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4512960" y="6045840"/>
                      <a:ext cx="122760" cy="12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687840" y="6036480"/>
                      <a:ext cx="122400" cy="12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5343120" y="6045840"/>
                      <a:ext cx="122400" cy="12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409080" y="6064560"/>
                      <a:ext cx="122400" cy="12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145880" y="6050520"/>
                      <a:ext cx="122400" cy="12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257960" y="6059880"/>
                      <a:ext cx="122400" cy="122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197360" y="5607000"/>
                      <a:ext cx="848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046600" y="5267520"/>
                      <a:ext cx="0" cy="848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046600" y="5267520"/>
                      <a:ext cx="84888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895480" y="4758120"/>
                      <a:ext cx="848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895480" y="4758120"/>
                      <a:ext cx="720" cy="135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744360" y="3909240"/>
                      <a:ext cx="720" cy="220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3729960" y="3895200"/>
                      <a:ext cx="84888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4578120" y="3909240"/>
                      <a:ext cx="720" cy="220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4564800" y="4376160"/>
                      <a:ext cx="84888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412960" y="4404240"/>
                      <a:ext cx="720" cy="1698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flipH="1">
                      <a:off x="5413680" y="5097600"/>
                      <a:ext cx="101844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6459840" y="5097600"/>
                      <a:ext cx="720" cy="1018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6460920" y="5451480"/>
                      <a:ext cx="84852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 flipV="1">
                      <a:off x="7308720" y="5437440"/>
                      <a:ext cx="720" cy="67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309800" y="6116760"/>
                      <a:ext cx="5094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V="1">
                      <a:off x="1197360" y="2041560"/>
                      <a:ext cx="720" cy="50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4" name=""/>
                  <p:cNvSpPr/>
                  <p:nvPr/>
                </p:nvSpPr>
                <p:spPr>
                  <a:xfrm>
                    <a:off x="1197720" y="3569400"/>
                    <a:ext cx="6112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971640" y="6201720"/>
                    <a:ext cx="509040" cy="339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055640" y="6173280"/>
                    <a:ext cx="509040" cy="339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8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"/>
                <p:cNvSpPr/>
                <p:nvPr/>
              </p:nvSpPr>
              <p:spPr>
                <a:xfrm>
                  <a:off x="5951880" y="3229920"/>
                  <a:ext cx="1188360" cy="33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Ofert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781960" y="4418640"/>
                  <a:ext cx="1357920" cy="33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eman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6200000">
                  <a:off x="4084200" y="6003000"/>
                  <a:ext cx="169560" cy="509400"/>
                </a:xfrm>
                <a:custGeom>
                  <a:avLst/>
                  <a:gdLst>
                    <a:gd name="textAreaLeft" fmla="*/ 108360 w 169560"/>
                    <a:gd name="textAreaRight" fmla="*/ 169920 w 169560"/>
                    <a:gd name="textAreaTop" fmla="*/ 12960 h 509400"/>
                    <a:gd name="textAreaBottom" fmla="*/ 496440 h 50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0" name=""/>
          <p:cNvSpPr/>
          <p:nvPr/>
        </p:nvSpPr>
        <p:spPr>
          <a:xfrm>
            <a:off x="2666880" y="377676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.000 pas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97360" y="32130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.125 pas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1280" y="333360"/>
            <a:ext cx="7561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antidad de trenes en la l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ea N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TL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la cantidad de trenes en la lí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ea T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el tiempo de la vuelta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44480" y="1798560"/>
            <a:ext cx="6851880" cy="622440"/>
            <a:chOff x="744480" y="1798560"/>
            <a:chExt cx="6851880" cy="622440"/>
          </a:xfrm>
        </p:grpSpPr>
        <p:sp>
          <p:nvSpPr>
            <p:cNvPr id="184" name=""/>
            <p:cNvSpPr/>
            <p:nvPr/>
          </p:nvSpPr>
          <p:spPr>
            <a:xfrm>
              <a:off x="744480" y="1798560"/>
              <a:ext cx="62280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73560" y="1798560"/>
              <a:ext cx="62280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7280" y="1915200"/>
              <a:ext cx="56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7280" y="2317320"/>
              <a:ext cx="56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5960" y="2317320"/>
              <a:ext cx="4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924640" y="1915200"/>
              <a:ext cx="3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84360" y="2781360"/>
            <a:ext cx="7704000" cy="412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ren 1 sale de un Terminal y se demora T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en ir y volver (una vuel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 seg. Después de salir el Tren 1 sale el Tre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 seg. Después de salir el Tren 2 sale el Tren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uando sale el Tren N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TL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recién ha vuelto el Tren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Luego el número de trenes en la línea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TL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igual al tiempo de la vuelta dividido por el interva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i L es la longitud de la línea y v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 la velocidad media o velocidad comercial;  toma en cuenta aceleración, tiempo a la vela o marcha inercial, detención en estaciones y tiempo de maniobra en terminales, el tiempo de la vuelta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=2L/v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La velocidad comercial puede ser por ejemplo 32 km/h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609480"/>
            <a:ext cx="7345440" cy="59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=15 km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2x15/32=0,9375 hrs. = 3375 s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Duración teórica de la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número de trenes que se necesita tener circulando en la hora de punta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T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T=3375/160 = 21,09 tr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que ser número entero. Se asignarán 22 trenes y hay una holg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 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T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22 trenes y recalcul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ción real de la vu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v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T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T=22x160=3.520 s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mpo auxiliar: 145 seg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signa a los terminales para absorber atr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cálculo se hace pa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T y ≠ 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6920" y="9079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decir para distintos intervalos de explotación y distintas capacidades de tre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468360" y="685800"/>
          <a:ext cx="8294760" cy="5315040"/>
        </p:xfrm>
        <a:graphic>
          <a:graphicData uri="http://schemas.openxmlformats.org/drawingml/2006/table">
            <a:tbl>
              <a:tblPr/>
              <a:tblGrid>
                <a:gridCol w="863640"/>
                <a:gridCol w="1079280"/>
                <a:gridCol w="865440"/>
                <a:gridCol w="849240"/>
                <a:gridCol w="1284120"/>
                <a:gridCol w="838440"/>
                <a:gridCol w="838080"/>
                <a:gridCol w="838080"/>
                <a:gridCol w="838440"/>
              </a:tblGrid>
              <a:tr h="91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[seg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00/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rta [pas/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de trenes en lí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s-E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v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necesaria para tra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de SS/EE R de X M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67   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6   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       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47   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33   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1   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38088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uede confeccionar el siguiente cuad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1748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1360" y="38228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5143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5829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958000"/>
            <a:ext cx="8675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3.520 segundos, Tren 5 coches 850 pasajeros, Tren 8 coches 1360 pasaj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interés es determinar Potencia para Tracción y cantidad de SS/EE y su 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743200" y="2077920"/>
            <a:ext cx="426960" cy="398520"/>
            <a:chOff x="2743200" y="2077920"/>
            <a:chExt cx="426960" cy="398520"/>
          </a:xfrm>
        </p:grpSpPr>
        <p:sp>
          <p:nvSpPr>
            <p:cNvPr id="203" name=""/>
            <p:cNvSpPr/>
            <p:nvPr/>
          </p:nvSpPr>
          <p:spPr>
            <a:xfrm>
              <a:off x="2799360" y="2077920"/>
              <a:ext cx="320040" cy="15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00160" y="2237400"/>
              <a:ext cx="106560" cy="239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2476440"/>
              <a:ext cx="426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410080" y="2077920"/>
            <a:ext cx="427320" cy="398520"/>
            <a:chOff x="5410080" y="2077920"/>
            <a:chExt cx="427320" cy="398520"/>
          </a:xfrm>
        </p:grpSpPr>
        <p:sp>
          <p:nvSpPr>
            <p:cNvPr id="207" name=""/>
            <p:cNvSpPr/>
            <p:nvPr/>
          </p:nvSpPr>
          <p:spPr>
            <a:xfrm>
              <a:off x="5466240" y="2077920"/>
              <a:ext cx="320400" cy="15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7400" y="2237400"/>
              <a:ext cx="106560" cy="239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10080" y="2476440"/>
              <a:ext cx="427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010880" y="1143000"/>
            <a:ext cx="552960" cy="1398240"/>
            <a:chOff x="1010880" y="1143000"/>
            <a:chExt cx="552960" cy="1398240"/>
          </a:xfrm>
        </p:grpSpPr>
        <p:sp>
          <p:nvSpPr>
            <p:cNvPr id="211" name=""/>
            <p:cNvSpPr/>
            <p:nvPr/>
          </p:nvSpPr>
          <p:spPr>
            <a:xfrm rot="10800000">
              <a:off x="1010880" y="1294200"/>
              <a:ext cx="513720" cy="1247040"/>
            </a:xfrm>
            <a:custGeom>
              <a:avLst/>
              <a:gdLst>
                <a:gd name="textAreaLeft" fmla="*/ 113040 w 513720"/>
                <a:gd name="textAreaRight" fmla="*/ 400680 w 513720"/>
                <a:gd name="textAreaTop" fmla="*/ 273960 h 1247040"/>
                <a:gd name="textAreaBottom" fmla="*/ 973080 h 124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25960" y="1143000"/>
              <a:ext cx="137880" cy="55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1217880" y="935640"/>
              <a:ext cx="138240" cy="55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056000" y="1219320"/>
            <a:ext cx="554040" cy="1306440"/>
            <a:chOff x="7056000" y="1219320"/>
            <a:chExt cx="554040" cy="1306440"/>
          </a:xfrm>
        </p:grpSpPr>
        <p:sp>
          <p:nvSpPr>
            <p:cNvPr id="215" name=""/>
            <p:cNvSpPr/>
            <p:nvPr/>
          </p:nvSpPr>
          <p:spPr>
            <a:xfrm rot="10800000">
              <a:off x="7082280" y="1360800"/>
              <a:ext cx="514800" cy="1164960"/>
            </a:xfrm>
            <a:custGeom>
              <a:avLst/>
              <a:gdLst>
                <a:gd name="textAreaLeft" fmla="*/ 113040 w 514800"/>
                <a:gd name="textAreaRight" fmla="*/ 401760 w 514800"/>
                <a:gd name="textAreaTop" fmla="*/ 255960 h 1164960"/>
                <a:gd name="textAreaBottom" fmla="*/ 909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56360" y="1219320"/>
              <a:ext cx="138240" cy="51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400000">
              <a:off x="7268400" y="1006920"/>
              <a:ext cx="129240" cy="55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401840" y="2544840"/>
            <a:ext cx="5654520" cy="398520"/>
            <a:chOff x="1401840" y="2544840"/>
            <a:chExt cx="5654520" cy="398520"/>
          </a:xfrm>
        </p:grpSpPr>
        <p:sp>
          <p:nvSpPr>
            <p:cNvPr id="219" name=""/>
            <p:cNvSpPr/>
            <p:nvPr/>
          </p:nvSpPr>
          <p:spPr>
            <a:xfrm>
              <a:off x="1401840" y="2544840"/>
              <a:ext cx="565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5084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6506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7928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9350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0772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21976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36196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50416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64636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78856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93076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07296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21552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35772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49992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4212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78432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92652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06908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21128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35348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49568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63788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78008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92264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06484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20704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34924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49144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63364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7762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9184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0606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2028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3450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48720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62976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771960" y="2544840"/>
              <a:ext cx="1065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42120" y="2544840"/>
              <a:ext cx="12801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42120" y="2943360"/>
              <a:ext cx="12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42120" y="25448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22640" y="25448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373720" y="155412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5680" y="1523880"/>
            <a:ext cx="4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38240" y="60948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56360" y="6858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18040" y="2084400"/>
            <a:ext cx="709920" cy="439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69920" y="2084400"/>
            <a:ext cx="712800" cy="439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96080" y="1898640"/>
            <a:ext cx="1067040" cy="639360"/>
            <a:chOff x="7696080" y="1898640"/>
            <a:chExt cx="1067040" cy="639360"/>
          </a:xfrm>
        </p:grpSpPr>
        <p:sp>
          <p:nvSpPr>
            <p:cNvPr id="269" name=""/>
            <p:cNvSpPr/>
            <p:nvPr/>
          </p:nvSpPr>
          <p:spPr>
            <a:xfrm flipH="1">
              <a:off x="7837920" y="1951920"/>
              <a:ext cx="924840" cy="586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696080" y="1898640"/>
              <a:ext cx="1067040" cy="5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41360" y="253836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8640" y="304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228600"/>
            <a:ext cx="2590560" cy="5202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ORMAS DE TOMAR LA CORR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304812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enes rodado sobre neumáticos por las barras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38080" y="3733920"/>
            <a:ext cx="8000640" cy="4495680"/>
            <a:chOff x="838080" y="3733920"/>
            <a:chExt cx="8000640" cy="4495680"/>
          </a:xfrm>
        </p:grpSpPr>
        <p:grpSp>
          <p:nvGrpSpPr>
            <p:cNvPr id="276" name=""/>
            <p:cNvGrpSpPr/>
            <p:nvPr/>
          </p:nvGrpSpPr>
          <p:grpSpPr>
            <a:xfrm>
              <a:off x="2274840" y="4932360"/>
              <a:ext cx="457200" cy="571680"/>
              <a:chOff x="2274840" y="4932360"/>
              <a:chExt cx="457200" cy="571680"/>
            </a:xfrm>
          </p:grpSpPr>
          <p:sp>
            <p:nvSpPr>
              <p:cNvPr id="277" name=""/>
              <p:cNvSpPr/>
              <p:nvPr/>
            </p:nvSpPr>
            <p:spPr>
              <a:xfrm>
                <a:off x="2334960" y="4932360"/>
                <a:ext cx="3427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42960" y="5160960"/>
                <a:ext cx="114120" cy="342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74840" y="550404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132160" y="4932360"/>
              <a:ext cx="457200" cy="571680"/>
              <a:chOff x="5132160" y="4932360"/>
              <a:chExt cx="457200" cy="571680"/>
            </a:xfrm>
          </p:grpSpPr>
          <p:sp>
            <p:nvSpPr>
              <p:cNvPr id="281" name=""/>
              <p:cNvSpPr/>
              <p:nvPr/>
            </p:nvSpPr>
            <p:spPr>
              <a:xfrm>
                <a:off x="5192280" y="4932360"/>
                <a:ext cx="3427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00280" y="5160960"/>
                <a:ext cx="114120" cy="342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32160" y="550404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838080" y="5600880"/>
              <a:ext cx="6058080" cy="571320"/>
              <a:chOff x="838080" y="5600880"/>
              <a:chExt cx="6058080" cy="571320"/>
            </a:xfrm>
          </p:grpSpPr>
          <p:sp>
            <p:nvSpPr>
              <p:cNvPr id="285" name=""/>
              <p:cNvSpPr/>
              <p:nvPr/>
            </p:nvSpPr>
            <p:spPr>
              <a:xfrm>
                <a:off x="838080" y="5600880"/>
                <a:ext cx="605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95184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110412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12567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140904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156132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17139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186624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01852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1711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2344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4760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6283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78064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9332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0855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323784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33904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5427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69540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8476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39999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15260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43048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4571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460980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47620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49143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06700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2192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3715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52420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6764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8287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98140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1336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28596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643860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590880" y="56008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38200" y="5600880"/>
                <a:ext cx="13716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38200" y="6172200"/>
                <a:ext cx="138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38200" y="56008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10160" y="56008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858000" y="4343400"/>
              <a:ext cx="457200" cy="1246320"/>
              <a:chOff x="6858000" y="4343400"/>
              <a:chExt cx="457200" cy="1246320"/>
            </a:xfrm>
          </p:grpSpPr>
          <p:sp>
            <p:nvSpPr>
              <p:cNvPr id="329" name=""/>
              <p:cNvSpPr/>
              <p:nvPr/>
            </p:nvSpPr>
            <p:spPr>
              <a:xfrm rot="10800000">
                <a:off x="6879960" y="4560840"/>
                <a:ext cx="423720" cy="1028880"/>
              </a:xfrm>
              <a:custGeom>
                <a:avLst/>
                <a:gdLst>
                  <a:gd name="textAreaLeft" fmla="*/ 93240 w 423720"/>
                  <a:gd name="textAreaRight" fmla="*/ 330480 w 423720"/>
                  <a:gd name="textAreaTop" fmla="*/ 226080 h 1028880"/>
                  <a:gd name="textAreaBottom" fmla="*/ 802800 h 102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5400000">
                <a:off x="6983280" y="4218120"/>
                <a:ext cx="206640" cy="45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021440" y="4343400"/>
                <a:ext cx="114480" cy="45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194600" y="5588280"/>
              <a:ext cx="8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45040" y="3733920"/>
              <a:ext cx="47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0" y="4373640"/>
              <a:ext cx="47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05160" y="4373640"/>
              <a:ext cx="47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4343400"/>
              <a:ext cx="0" cy="38862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86000" y="6172200"/>
              <a:ext cx="32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Trenes rodado en acero por tercer ri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7772040" y="4953240"/>
              <a:ext cx="1066680" cy="639360"/>
              <a:chOff x="7772040" y="4953240"/>
              <a:chExt cx="1066680" cy="639360"/>
            </a:xfrm>
          </p:grpSpPr>
          <p:sp>
            <p:nvSpPr>
              <p:cNvPr id="339" name=""/>
              <p:cNvSpPr/>
              <p:nvPr/>
            </p:nvSpPr>
            <p:spPr>
              <a:xfrm flipH="1">
                <a:off x="7914240" y="5006520"/>
                <a:ext cx="924480" cy="586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771680" y="4953240"/>
                <a:ext cx="1066680" cy="53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2:33:07Z</dcterms:created>
  <dc:creator>alucero</dc:creator>
  <dc:description/>
  <dc:language>en-US</dc:language>
  <cp:lastModifiedBy>alucero</cp:lastModifiedBy>
  <dcterms:modified xsi:type="dcterms:W3CDTF">2010-04-06T12:03:16Z</dcterms:modified>
  <cp:revision>33</cp:revision>
  <dc:subject/>
  <dc:title>Diapositiva 1</dc:title>
</cp:coreProperties>
</file>