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wmf" ContentType="image/x-wmf"/>
  <Override PartName="/ppt/media/image3.png" ContentType="image/png"/>
  <Override PartName="/ppt/media/image25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Haettenschweile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B6F2-A29C-4121-9170-C22C0985F7C2}" type="slidenum">
              <a:rPr b="0" lang="es-ES" sz="1200" spc="-1" strike="noStrike">
                <a:solidFill>
                  <a:srgbClr val="000000"/>
                </a:solidFill>
                <a:latin typeface="Haettenschweile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8393-EB5E-4D23-98D8-892756765221}" type="slidenum">
              <a:rPr b="0" lang="es-ES" sz="1200" spc="-1" strike="noStrike">
                <a:solidFill>
                  <a:srgbClr val="000000"/>
                </a:solidFill>
                <a:latin typeface="Haettenschweile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3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343368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0" y="658332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Arial"/>
              </a:rPr>
              <a:t>EL4001 - Conversión de la Energía y Sistemas Eléctr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000000"/>
                </a:solidFill>
                <a:latin typeface="Bradley Hand ITC"/>
              </a:rPr>
              <a:t>Máquinas Sincrónicas</a:t>
            </a:r>
            <a:endParaRPr b="1" lang="en-US" sz="60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49" name="Picture 4" descr="C:\Documents and Settings\Propietario\Escritorio\GeneradorSincrónico\Gen1.JPG"/>
          <p:cNvPicPr/>
          <p:nvPr/>
        </p:nvPicPr>
        <p:blipFill>
          <a:blip r:embed="rId1"/>
          <a:stretch/>
        </p:blipFill>
        <p:spPr>
          <a:xfrm>
            <a:off x="1143000" y="1600200"/>
            <a:ext cx="67438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odelo del generador sincrón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0" y="1371600"/>
          <a:ext cx="388620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388620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4191120" y="1905120"/>
                <a:ext cx="426708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  <m:r>
                              <m:t xml:space="preserve">&lt;</m:t>
                            </m:r>
                            <m:r>
                              <m:t xml:space="preserve">δ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1409760" y="3975120"/>
                <a:ext cx="608976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e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*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e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6"/>
          <p:cNvSpPr/>
          <p:nvPr/>
        </p:nvSpPr>
        <p:spPr>
          <a:xfrm>
            <a:off x="457200" y="571500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¡Recordar que estamos usando el modelo en p.u., con tensiones entre fases y potencia trifásica! Luego, la corriente calculada es corriente de línea (multiplicando por la corriente base) y la potencia aparente es trifásica (multiplicando por la base respectiv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odelo del generador sincrón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3348000" y="1628640"/>
          <a:ext cx="2362320" cy="16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628640"/>
                    <a:ext cx="23623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4"/>
          <p:cNvGraphicFramePr/>
          <p:nvPr/>
        </p:nvGraphicFramePr>
        <p:xfrm>
          <a:off x="250920" y="1413000"/>
          <a:ext cx="2895480" cy="21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413000"/>
                    <a:ext cx="2895480" cy="21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5"/>
          <p:cNvGraphicFramePr/>
          <p:nvPr/>
        </p:nvGraphicFramePr>
        <p:xfrm>
          <a:off x="6019920" y="1600200"/>
          <a:ext cx="2666880" cy="18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1600200"/>
                    <a:ext cx="266688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6"/>
          <p:cNvSpPr/>
          <p:nvPr/>
        </p:nvSpPr>
        <p:spPr>
          <a:xfrm>
            <a:off x="380880" y="3505320"/>
            <a:ext cx="37339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enerador “Sobre-excit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&lt; 0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 en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enerador in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potencia en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ge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181480" y="3505320"/>
            <a:ext cx="37339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enerador “Sub-excit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&gt; 0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 en adel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enerador capac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potencia en adel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ge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odelo del motor sincrón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52280" y="1447920"/>
          <a:ext cx="36576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3657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4078440" y="1905120"/>
                <a:ext cx="449424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r>
                              <m:t xml:space="preserve">&lt;</m:t>
                            </m:r>
                            <m:r>
                              <m:t xml:space="preserve">δ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1371600" y="4114800"/>
                <a:ext cx="624996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*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-V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odelo del motor sincrón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80880" y="3505320"/>
            <a:ext cx="37339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otor “Sobre-excit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&gt; 0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 en adel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tor capac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potencia en adel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co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181480" y="3505320"/>
            <a:ext cx="37339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otor “Sub-excit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&lt; 0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 en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tor in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potencia en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co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3429000" y="1523880"/>
          <a:ext cx="2286000" cy="16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523880"/>
                    <a:ext cx="2286000" cy="16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9"/>
          <p:cNvGraphicFramePr/>
          <p:nvPr/>
        </p:nvGraphicFramePr>
        <p:xfrm>
          <a:off x="457200" y="1295280"/>
          <a:ext cx="2895480" cy="21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295280"/>
                    <a:ext cx="289548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0"/>
          <p:cNvGraphicFramePr/>
          <p:nvPr/>
        </p:nvGraphicFramePr>
        <p:xfrm>
          <a:off x="6095880" y="1600200"/>
          <a:ext cx="2743200" cy="18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1600200"/>
                    <a:ext cx="274320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Operación en 4 cuadrant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108" name="Picture 3" descr="C:\Documents and Settings\Propietario\Escritorio\GeneradorSincrónico\Cuadrantes.JPG"/>
          <p:cNvPicPr/>
          <p:nvPr/>
        </p:nvPicPr>
        <p:blipFill>
          <a:blip r:embed="rId1"/>
          <a:stretch/>
        </p:blipFill>
        <p:spPr>
          <a:xfrm>
            <a:off x="1219320" y="1219320"/>
            <a:ext cx="65530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09480" y="1447920"/>
            <a:ext cx="82296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1) Máxima corriente de est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 &lt; 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V I &lt; V 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 &lt; S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rmalmente, la máxima potencia a extraer en régimen permanente será la nominal, limitando el calentamiento del est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&lt; S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&lt; S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&lt; 1 [p.u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57200" y="1523880"/>
            <a:ext cx="83818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2) Máxima corriente de ca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o “E” es creciente con la corriente de cam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&lt; 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 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 &lt; 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mita el calentamiento del r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152280" y="3809880"/>
                <a:ext cx="86853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Q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E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209680" y="5029200"/>
                <a:ext cx="449280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80880" y="1447920"/>
            <a:ext cx="84582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3) Límite de es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generador puede entregar potencia máxima e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90°. Sin embargo, si existe alguna perturbación tal que la potencia mecánica no pueda entregarse toda a la red, la máquina se acelera y puede perder sincronismo. Se utiliza un margen de seguridad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127080" y="3657600"/>
                <a:ext cx="879768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Q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2959200" y="5029200"/>
                <a:ext cx="35701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&lt;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57200" y="167652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4) Límite de excitación mí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ínima tensión induc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 de flujo magnético rema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5"/>
              <p:cNvSpPr txBox="1"/>
              <p:nvPr/>
            </p:nvSpPr>
            <p:spPr>
              <a:xfrm>
                <a:off x="2225520" y="3809880"/>
                <a:ext cx="4459320" cy="13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57200" y="1600200"/>
            <a:ext cx="815328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5) Potencia activa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mitación de potencia activa en el eje del gener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 &lt;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6) Potencia activa mí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ínima potencia para mover la máquina sin probl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blemas de cavitación: vibraciones en la máqu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do como “Mínimo técnic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&lt;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Tema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09480" y="213372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ner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pos de máquinas sincró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delo de la máquina sincrónica (conectada a la 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d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blema 2: Auxiliar 9 (25/06/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Carta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125" name="Picture 4" descr="C:\Documents and Settings\Propietario\Escritorio\GeneradorSincrónico\Carta de operación.JPG"/>
          <p:cNvPicPr/>
          <p:nvPr/>
        </p:nvPicPr>
        <p:blipFill>
          <a:blip r:embed="rId1"/>
          <a:stretch/>
        </p:blipFill>
        <p:spPr>
          <a:xfrm>
            <a:off x="152280" y="1295280"/>
            <a:ext cx="89154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Problema 2: Auxiliar 9 (25/06/2010)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33520" y="205740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tiene un generador sincrónico de rotor cilíndrico de 13.8 kV y 240 MVA conectado directamente a una barra infinita. El generador puede entregar una potencia máxima de 216 MW. La reactancia sincrónica es de 1.25 p.u. y el límite de seguridad por estabilidad para el ángulo entre la f.e.m. y la tensión en bornes es de 70°. El valor máximo de la f.e.m. es 2.0837 p.u. Este generador está operando a tensión nominal y entregando 168 MW a la red con factor de potencia 0.9 en 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lan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uponga además que la potencia mínima entregada es cero. Trabajando en p.u. base de la máquina sincrón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Problema 2: Auxiliar 9 (25/06/2010)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04920" y="1371600"/>
            <a:ext cx="86104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buje la carta de operación e indique el punto de operación del gener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e E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el punto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rmine en qué porcentaje se puede reducir la corriente de campo sin salir de la zona de operación seg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r cambios en la demanda, el generador ahora debe entregar una potencia de 216 MW, con un factor de potencia 0.9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58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n 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Calcule E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ga que para el cambio anterior primero se incrementa la corriente de campo y posteriormente se eleva la potencia de entrada a la turbina. Dibuje la trayectoria del punto de operación en la ca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 de calentamiento del estator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131" name="Picture 3" descr="C:\Documents and Settings\Propietario\Mis documentos\1-EDUARDO\Dibujos Auxiliares\Carta1.JPG"/>
          <p:cNvPicPr/>
          <p:nvPr/>
        </p:nvPicPr>
        <p:blipFill>
          <a:blip r:embed="rId1"/>
          <a:stretch/>
        </p:blipFill>
        <p:spPr>
          <a:xfrm>
            <a:off x="609480" y="2286000"/>
            <a:ext cx="7877160" cy="42102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762120" y="137160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xima corriente de estator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áxima potencia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en general, S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 de calentamiento del rotor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1371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xima corriente de rotor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áxima tensión inducida (E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C:\Documents and Settings\Propietario\Mis documentos\1-EDUARDO\Dibujos Auxiliares\Carta2.JPG"/>
          <p:cNvPicPr/>
          <p:nvPr/>
        </p:nvPicPr>
        <p:blipFill>
          <a:blip r:embed="rId1"/>
          <a:stretch/>
        </p:blipFill>
        <p:spPr>
          <a:xfrm>
            <a:off x="609480" y="2286000"/>
            <a:ext cx="78580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 de estabilidad angular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6212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bilidad ante perturbacione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áxim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C:\Documents and Settings\Propietario\Mis documentos\1-EDUARDO\Dibujos Auxiliares\Carta3.JPG"/>
          <p:cNvPicPr/>
          <p:nvPr/>
        </p:nvPicPr>
        <p:blipFill>
          <a:blip r:embed="rId1"/>
          <a:stretch/>
        </p:blipFill>
        <p:spPr>
          <a:xfrm>
            <a:off x="609480" y="2286000"/>
            <a:ext cx="78580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 de potencia activa máxima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76212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mitación de entrada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C:\Documents and Settings\Propietario\Mis documentos\1-EDUARDO\Dibujos Auxiliares\Carta4.JPG"/>
          <p:cNvPicPr/>
          <p:nvPr/>
        </p:nvPicPr>
        <p:blipFill>
          <a:blip r:embed="rId1"/>
          <a:stretch/>
        </p:blipFill>
        <p:spPr>
          <a:xfrm>
            <a:off x="609480" y="2286000"/>
            <a:ext cx="78580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Punto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6212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punto de operación:  P = 0.7; Q = -0.3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C:\Documents and Settings\Propietario\Mis documentos\1-EDUARDO\Dibujos Auxiliares\Carta5.JPG"/>
          <p:cNvPicPr/>
          <p:nvPr/>
        </p:nvPicPr>
        <p:blipFill>
          <a:blip r:embed="rId1"/>
          <a:stretch/>
        </p:blipFill>
        <p:spPr>
          <a:xfrm>
            <a:off x="533520" y="2286000"/>
            <a:ext cx="78865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Nuevo punto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62120" y="1371600"/>
            <a:ext cx="77724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nuevo punto de operación:  P = 0.9; Q = 0.3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cremento de la corriente de campo y potencia activa 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C:\Documents and Settings\Propietario\Mis documentos\1-EDUARDO\Dibujos Auxiliares\Carta6.JPG"/>
          <p:cNvPicPr/>
          <p:nvPr/>
        </p:nvPicPr>
        <p:blipFill>
          <a:blip r:embed="rId1"/>
          <a:stretch/>
        </p:blipFill>
        <p:spPr>
          <a:xfrm>
            <a:off x="533520" y="2286000"/>
            <a:ext cx="7877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Generalidad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800600" y="1752480"/>
            <a:ext cx="39625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Rotor con corriente continua: induce campo magnético rotatorio de magnitud proporcional a la corriente de ca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Se induce tensión en los enrollados de estator: flujo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4640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Generalidad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0880" y="1447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aracterística de ten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173480" cy="3532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" y="23623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nsión inducida en bornes es función de la velocidad y amplitud del campo magnético rota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28600" y="4114800"/>
            <a:ext cx="39625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urva satura a medida que se satura el núcleo. En zona line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</a:rPr>
              <a:t>fn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= G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Generalidad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523880"/>
            <a:ext cx="830592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bserv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recuencia de las corrientes y tensiones siempre corresponde a la sincrón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ele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e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* (n°polos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 la máquina sincrónica está conectada a la red (barra infinita), su velocidad queda fija según la frecuencia de la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áquina sincrónica solo presenta torque no nulo a velocidad síncr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fectos del modelo, despreciamos la resistencia de estator y usamos solo la reactancia sincró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áquinas de polos salient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200400" y="1981080"/>
            <a:ext cx="5715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ísicamente los polos (N-S) sobresa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ductancia mutua rotor – estator no es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complejidad al modelar inducta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457200" y="45720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se usan máquinas de polos salientes con varios polos (por ejemplo 36), en generadores hidráulicos. Operan a baja velocidad y poseen rotores de gran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C:\Documents and Settings\Propietario\Escritorio\GeneradorSincrónico\Gen2.JPG"/>
          <p:cNvPicPr/>
          <p:nvPr/>
        </p:nvPicPr>
        <p:blipFill>
          <a:blip r:embed="rId1"/>
          <a:stretch/>
        </p:blipFill>
        <p:spPr>
          <a:xfrm>
            <a:off x="380880" y="1676520"/>
            <a:ext cx="27432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áquinas de polos salient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67" name="Picture 6" descr="C:\Documents and Settings\Propietario\Escritorio\GeneradorSincrónico\Gen4.JPG"/>
          <p:cNvPicPr/>
          <p:nvPr/>
        </p:nvPicPr>
        <p:blipFill>
          <a:blip r:embed="rId1"/>
          <a:stretch/>
        </p:blipFill>
        <p:spPr>
          <a:xfrm>
            <a:off x="152280" y="1295280"/>
            <a:ext cx="4572000" cy="3562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Documents and Settings\Propietario\Escritorio\GeneradorSincrónico\Gen3.JPG"/>
          <p:cNvPicPr/>
          <p:nvPr/>
        </p:nvPicPr>
        <p:blipFill>
          <a:blip r:embed="rId2"/>
          <a:stretch/>
        </p:blipFill>
        <p:spPr>
          <a:xfrm>
            <a:off x="5334120" y="1295280"/>
            <a:ext cx="3713040" cy="4648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Documents and Settings\Propietario\Escritorio\GeneradorSincrónico\Gen5.JPG"/>
          <p:cNvPicPr/>
          <p:nvPr/>
        </p:nvPicPr>
        <p:blipFill>
          <a:blip r:embed="rId3"/>
          <a:stretch/>
        </p:blipFill>
        <p:spPr>
          <a:xfrm>
            <a:off x="914400" y="4495680"/>
            <a:ext cx="41148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áquinas de rotor cilíndr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124080" y="1447920"/>
            <a:ext cx="5715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otor li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ductancia mutua rotor – estator es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simetría del rotor facilita la modelación de la máqu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udiaremos modelo de la máquina de rotor cilínd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57200" y="48006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se usan máquinas de rotor cilíndrico, con pocos polos (2, 4 o 6), en generadores térmicos operando a alta velocidad. A esta velocidad las pérdidas por roce se reducen en un rotor liso. Poseen rotores alargados y de poco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C:\Documents and Settings\Propietario\Escritorio\GeneradorSincrónico\Gen6.JPG"/>
          <p:cNvPicPr/>
          <p:nvPr/>
        </p:nvPicPr>
        <p:blipFill>
          <a:blip r:embed="rId1"/>
          <a:stretch/>
        </p:blipFill>
        <p:spPr>
          <a:xfrm>
            <a:off x="228600" y="1676520"/>
            <a:ext cx="28195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áquinas de rotor cilíndr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75" name="Picture 8" descr="C:\Documents and Settings\Propietario\Escritorio\GeneradorSincrónico\Gen9.JPG"/>
          <p:cNvPicPr/>
          <p:nvPr/>
        </p:nvPicPr>
        <p:blipFill>
          <a:blip r:embed="rId1"/>
          <a:stretch/>
        </p:blipFill>
        <p:spPr>
          <a:xfrm>
            <a:off x="4952880" y="2819520"/>
            <a:ext cx="4191120" cy="277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Documents and Settings\Propietario\Escritorio\GeneradorSincrónico\Gen7.JPG"/>
          <p:cNvPicPr/>
          <p:nvPr/>
        </p:nvPicPr>
        <p:blipFill>
          <a:blip r:embed="rId2"/>
          <a:stretch/>
        </p:blipFill>
        <p:spPr>
          <a:xfrm>
            <a:off x="152280" y="1295280"/>
            <a:ext cx="5334120" cy="351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Documents and Settings\Propietario\Escritorio\GeneradorSincrónico\Gen8.JPG"/>
          <p:cNvPicPr/>
          <p:nvPr/>
        </p:nvPicPr>
        <p:blipFill>
          <a:blip r:embed="rId3"/>
          <a:stretch/>
        </p:blipFill>
        <p:spPr>
          <a:xfrm>
            <a:off x="609480" y="4267080"/>
            <a:ext cx="43056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19:13:18Z</dcterms:created>
  <dc:creator>eduardo zamora</dc:creator>
  <dc:description/>
  <dc:language>en-US</dc:language>
  <cp:lastModifiedBy>ezamora</cp:lastModifiedBy>
  <dcterms:modified xsi:type="dcterms:W3CDTF">2010-07-19T15:37:34Z</dcterms:modified>
  <cp:revision>32</cp:revision>
  <dc:subject/>
  <dc:title>Generador Sincrónico</dc:title>
</cp:coreProperties>
</file>