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549F-0E7B-4243-833E-891ECDC579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l proceso en estudio, abarcara desde la recolección de la materia prima (residuo agrícola) hasta la producción de Bioetanol, Pasando por la logística del transporte y el diseño de la planta, que servirá para procesar la materia pri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Pero este único proceso no es suficiente para hacer sustentable el negocio, ya que al producir solamente bioetanol, esto implicaría que el negocio no fuese ren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 por esto que es necesario estudiar posibles productos secundarios, los cuales permitan que el negocio pueda ser rentable ante la atenta mirada de un inversionis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8CB9-51C1-48EB-A3B4-407B73FCAD99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quí se muestran los objetivos específicos que abarcara el estudio realizado (Memori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A5C3-B623-4020-A993-434A0CAD6E0B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2A8-04FD-4048-9919-FC7D22A2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639A-CE0B-406A-8942-055FDC35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404E-FEEC-45FF-A62A-A9949410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140F-B60E-4C29-B89D-695C9797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421D-EA41-4CA2-A090-B6D9E0E1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295F-AA3D-4480-AB88-9EBF59D0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420C-5EF9-40C1-95C2-84FFE79F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BCE2-BF13-49DC-87E7-D73CA6AF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F203-43FB-498E-86C7-805AAC7C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6CFC-20C0-49D8-9418-5E122337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104B-4C34-4675-9861-B7AB3DBF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DB5C-72A0-4490-9214-4CF26D09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2A2F-E9F7-475F-9787-E3F211DE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EFE3-F3AF-486E-9C49-ADC9A2EA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539F-B00C-44C9-8AE5-40C3C6A9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CC5A-AC62-4D43-8059-382FC691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77EE-16C5-4AB5-AC22-FE532FC5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AA3-3376-4765-ADBF-1A56172F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171C-B5CA-494E-BAA0-15EC51AE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D7C-E641-481D-BE8F-3C01F834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F7B1-E6E5-45E5-8147-BBCF43D5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4934-4D91-4E3D-968B-128D3870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346E-BB04-457D-9D4C-29DAA57F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7ABC-FAF6-4B3D-B8D1-72C74961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68BC-9C41-49E2-8E87-ECE801EED99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D448-B8A8-499C-9020-B25BECBFCC4B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lienque@ing.uchile.cl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1960" y="1357200"/>
            <a:ext cx="7340400" cy="1285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iseño de procesos para la producción de Biocombustib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Conceptual de Procesos y Diagramas I-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00040" y="3642840"/>
            <a:ext cx="8072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s. M.Elena Lienqueo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laza Ercilla 84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mlienque@ing.uchile.cl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59"/>
                </a:solidFill>
                <a:latin typeface="Arial"/>
              </a:rPr>
              <a:t>ESTRUCTURA GENERAL DE UN PROCESO PRODUCTIV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1071720" y="1428840"/>
          <a:ext cx="7315200" cy="48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428840"/>
                    <a:ext cx="7315200" cy="48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4"/>
          <p:cNvSpPr/>
          <p:nvPr/>
        </p:nvSpPr>
        <p:spPr>
          <a:xfrm>
            <a:off x="714240" y="1357200"/>
            <a:ext cx="1440000" cy="642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59"/>
                </a:solidFill>
                <a:latin typeface="Verdana"/>
              </a:rPr>
              <a:t>Materias Prim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572160" y="1571760"/>
            <a:ext cx="165600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500120" y="564372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Verdana"/>
              </a:rPr>
              <a:t>Tratamientos de RILes, RISe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494000"/>
            <a:ext cx="8412120" cy="5010120"/>
          </a:xfrm>
          <a:prstGeom prst="rect">
            <a:avLst/>
          </a:prstGeom>
          <a:ln w="0">
            <a:noFill/>
          </a:ln>
        </p:spPr>
      </p:pic>
      <p:grpSp>
        <p:nvGrpSpPr>
          <p:cNvPr id="169" name="1 Título"/>
          <p:cNvGrpSpPr/>
          <p:nvPr/>
        </p:nvGrpSpPr>
        <p:grpSpPr>
          <a:xfrm>
            <a:off x="225360" y="493560"/>
            <a:ext cx="2200320" cy="725760"/>
            <a:chOff x="225360" y="493560"/>
            <a:chExt cx="2200320" cy="725760"/>
          </a:xfrm>
        </p:grpSpPr>
        <p:pic>
          <p:nvPicPr>
            <p:cNvPr id="170" name="1 Título" descr=""/>
            <p:cNvPicPr/>
            <p:nvPr/>
          </p:nvPicPr>
          <p:blipFill>
            <a:blip r:embed="rId2"/>
            <a:stretch/>
          </p:blipFill>
          <p:spPr>
            <a:xfrm>
              <a:off x="225360" y="493560"/>
              <a:ext cx="22003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200" spc="-1" strike="noStrike">
                  <a:solidFill>
                    <a:srgbClr val="eaeaea"/>
                  </a:solidFill>
                  <a:latin typeface="Verdana"/>
                </a:rPr>
                <a:t>Agenda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428840"/>
            <a:ext cx="8915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Resultado</a:t>
            </a:r>
            <a:r>
              <a:rPr b="1" lang="es-ES_tradnl" sz="4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de una</a:t>
            </a:r>
            <a:r>
              <a:rPr b="1" lang="es-ES_tradnl" sz="4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aeaea"/>
                </a:solidFill>
                <a:latin typeface="Verdana"/>
              </a:rPr>
              <a:t>Actividad Recursiva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 de </a:t>
            </a:r>
            <a:r>
              <a:rPr b="1" lang="es-ES_tradnl" sz="2400" spc="-1" strike="noStrike">
                <a:solidFill>
                  <a:srgbClr val="eaeaea"/>
                </a:solidFill>
                <a:latin typeface="Verdana"/>
              </a:rPr>
              <a:t>Síntesis-Análisis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 para Definir la </a:t>
            </a:r>
            <a:r>
              <a:rPr b="1" lang="es-ES_tradnl" sz="2400" spc="-1" strike="noStrike">
                <a:solidFill>
                  <a:srgbClr val="eaeaea"/>
                </a:solidFill>
                <a:latin typeface="Verdana"/>
              </a:rPr>
              <a:t>Transformación de Recursos e Insumos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 en Productos, Operaciones y Procesos Productivos que Resuelven </a:t>
            </a:r>
            <a:r>
              <a:rPr b="1" i="1" lang="es-ES_tradnl" sz="2400" spc="-1" strike="noStrike">
                <a:solidFill>
                  <a:srgbClr val="eaeaea"/>
                </a:solidFill>
                <a:latin typeface="Verdana"/>
              </a:rPr>
              <a:t>Necesidades Humanas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28760" y="2858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59"/>
                </a:solidFill>
                <a:latin typeface="Verdana"/>
              </a:rPr>
              <a:t>Diseño Conceptual de Procesos Industrial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2714760" y="40719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285840" y="155160"/>
            <a:ext cx="82152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59"/>
              </a:buClr>
              <a:buFont typeface="Verdana"/>
              <a:buChar char="•"/>
              <a:tabLst>
                <a:tab algn="l" pos="103581360"/>
              </a:tabLst>
            </a:pPr>
            <a:r>
              <a:rPr b="1" lang="es-ES_tradnl" sz="2800" spc="-1" strike="noStrike">
                <a:solidFill>
                  <a:srgbClr val="ffff59"/>
                </a:solidFill>
                <a:latin typeface="Verdana"/>
              </a:rPr>
              <a:t>Requerimientos (objetivos):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i="1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ntecedentes técnico-económicos para diseñar una planta de producción de X ton/año de biocombustibl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ffff59"/>
              </a:buClr>
              <a:buFont typeface="Verdana"/>
              <a:buChar char="•"/>
              <a:tabLst>
                <a:tab algn="l" pos="103581360"/>
              </a:tabLst>
            </a:pPr>
            <a:r>
              <a:rPr b="1" lang="es-ES_tradnl" sz="2800" spc="-1" strike="noStrike">
                <a:solidFill>
                  <a:srgbClr val="ffff59"/>
                </a:solidFill>
                <a:latin typeface="Verdana"/>
              </a:rPr>
              <a:t>Definición Conceptual del Proceso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-Operaciones unitarias principal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-Recuperación de subproduct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-Confinamiento de desech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335240"/>
            <a:ext cx="8412120" cy="5187960"/>
          </a:xfrm>
          <a:prstGeom prst="rect">
            <a:avLst/>
          </a:prstGeom>
          <a:ln w="0">
            <a:noFill/>
          </a:ln>
        </p:spPr>
      </p:pic>
      <p:grpSp>
        <p:nvGrpSpPr>
          <p:cNvPr id="177" name="1 Título"/>
          <p:cNvGrpSpPr/>
          <p:nvPr/>
        </p:nvGrpSpPr>
        <p:grpSpPr>
          <a:xfrm>
            <a:off x="139680" y="536400"/>
            <a:ext cx="3700440" cy="682920"/>
            <a:chOff x="139680" y="536400"/>
            <a:chExt cx="3700440" cy="682920"/>
          </a:xfrm>
        </p:grpSpPr>
        <p:pic>
          <p:nvPicPr>
            <p:cNvPr id="178" name="1 Título" descr=""/>
            <p:cNvPicPr/>
            <p:nvPr/>
          </p:nvPicPr>
          <p:blipFill>
            <a:blip r:embed="rId2"/>
            <a:stretch/>
          </p:blipFill>
          <p:spPr>
            <a:xfrm>
              <a:off x="139680" y="536400"/>
              <a:ext cx="37004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85840" y="571680"/>
              <a:ext cx="35002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2700" spc="-1" strike="noStrike">
                  <a:solidFill>
                    <a:srgbClr val="eaeaea"/>
                  </a:solidFill>
                  <a:latin typeface="Verdana"/>
                </a:rPr>
                <a:t>Diseño Conceptual</a:t>
              </a:r>
              <a:endParaRPr b="0" lang="en-US" sz="27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2"/>
          <p:cNvGraphicFramePr/>
          <p:nvPr/>
        </p:nvGraphicFramePr>
        <p:xfrm>
          <a:off x="-765000" y="465120"/>
          <a:ext cx="10944000" cy="5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5000" y="465120"/>
                    <a:ext cx="109440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3"/>
          <p:cNvGraphicFramePr/>
          <p:nvPr/>
        </p:nvGraphicFramePr>
        <p:xfrm>
          <a:off x="457200" y="1371600"/>
          <a:ext cx="830592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371600"/>
                    <a:ext cx="8305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Picture 4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943600" y="3352680"/>
            <a:ext cx="293364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6"/>
          <p:cNvGrpSpPr/>
          <p:nvPr/>
        </p:nvGrpSpPr>
        <p:grpSpPr>
          <a:xfrm>
            <a:off x="152280" y="3733920"/>
            <a:ext cx="2705040" cy="1447200"/>
            <a:chOff x="152280" y="3733920"/>
            <a:chExt cx="2705040" cy="1447200"/>
          </a:xfrm>
        </p:grpSpPr>
        <p:sp>
          <p:nvSpPr>
            <p:cNvPr id="186" name="Text Box 7"/>
            <p:cNvSpPr/>
            <p:nvPr/>
          </p:nvSpPr>
          <p:spPr>
            <a:xfrm>
              <a:off x="1933560" y="3990960"/>
              <a:ext cx="923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ffff59"/>
                  </a:solidFill>
                  <a:latin typeface="Verdana"/>
                </a:rPr>
                <a:t>Productos</a:t>
              </a:r>
              <a:endParaRPr b="0" lang="en-US" sz="1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187" name="Group 8"/>
            <p:cNvGrpSpPr/>
            <p:nvPr/>
          </p:nvGrpSpPr>
          <p:grpSpPr>
            <a:xfrm>
              <a:off x="218160" y="3990960"/>
              <a:ext cx="2440800" cy="1019880"/>
              <a:chOff x="218160" y="3990960"/>
              <a:chExt cx="2440800" cy="1019880"/>
            </a:xfrm>
          </p:grpSpPr>
          <p:sp>
            <p:nvSpPr>
              <p:cNvPr id="188" name="Oval 9"/>
              <p:cNvSpPr/>
              <p:nvPr/>
            </p:nvSpPr>
            <p:spPr>
              <a:xfrm>
                <a:off x="942840" y="4074120"/>
                <a:ext cx="990000" cy="936720"/>
              </a:xfrm>
              <a:prstGeom prst="ellipse">
                <a:avLst/>
              </a:prstGeom>
              <a:noFill/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89" name="Line 10"/>
              <p:cNvSpPr/>
              <p:nvPr/>
            </p:nvSpPr>
            <p:spPr>
              <a:xfrm>
                <a:off x="218160" y="4500000"/>
                <a:ext cx="726120" cy="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90" name="Line 11"/>
              <p:cNvSpPr/>
              <p:nvPr/>
            </p:nvSpPr>
            <p:spPr>
              <a:xfrm>
                <a:off x="1932840" y="4500000"/>
                <a:ext cx="726120" cy="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91" name="Text Box 12"/>
              <p:cNvSpPr/>
              <p:nvPr/>
            </p:nvSpPr>
            <p:spPr>
              <a:xfrm>
                <a:off x="218160" y="3990960"/>
                <a:ext cx="793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ffff59"/>
                    </a:solidFill>
                    <a:latin typeface="Verdana"/>
                  </a:rPr>
                  <a:t>insumos</a:t>
                </a:r>
                <a:endParaRPr b="0" lang="en-US" sz="11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92" name="Text Box 13"/>
              <p:cNvSpPr/>
              <p:nvPr/>
            </p:nvSpPr>
            <p:spPr>
              <a:xfrm>
                <a:off x="942840" y="43315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59"/>
                    </a:solidFill>
                    <a:latin typeface="Verdana"/>
                  </a:rPr>
                  <a:t>PROCESO</a:t>
                </a:r>
                <a:endParaRPr b="0" lang="en-US" sz="1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193" name="Rectangle 14"/>
            <p:cNvSpPr/>
            <p:nvPr/>
          </p:nvSpPr>
          <p:spPr>
            <a:xfrm>
              <a:off x="152280" y="3733920"/>
              <a:ext cx="2638080" cy="144720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94" name="Rectangle 15"/>
          <p:cNvSpPr/>
          <p:nvPr/>
        </p:nvSpPr>
        <p:spPr>
          <a:xfrm>
            <a:off x="5715000" y="3276720"/>
            <a:ext cx="3200400" cy="28191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228600" y="5257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59"/>
                </a:solidFill>
                <a:latin typeface="Verdana"/>
              </a:rPr>
              <a:t>Entrada-Salid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3571920" y="62150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59"/>
                </a:solidFill>
                <a:latin typeface="Verdana"/>
              </a:rPr>
              <a:t>Bloqu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6019920" y="61722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59"/>
                </a:solidFill>
                <a:latin typeface="Verdana"/>
              </a:rPr>
              <a:t>Diagrama de Flujo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6"/>
          <a:stretch/>
        </p:blipFill>
        <p:spPr>
          <a:xfrm>
            <a:off x="2928960" y="350028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59"/>
                </a:solidFill>
                <a:latin typeface="Courier New"/>
              </a:rPr>
              <a:t>Secuencia de Desarrollo de un Nuevo Proc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57120" y="2514600"/>
            <a:ext cx="8358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Descubrimiento Científic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Estudios Experimentales  1-5 añ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Estudios Piloto 1-3 añ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Patente 10- 15 añ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onocimiento Públic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494000"/>
            <a:ext cx="8412120" cy="5010120"/>
          </a:xfrm>
          <a:prstGeom prst="rect">
            <a:avLst/>
          </a:prstGeom>
          <a:ln w="0">
            <a:noFill/>
          </a:ln>
        </p:spPr>
      </p:pic>
      <p:grpSp>
        <p:nvGrpSpPr>
          <p:cNvPr id="202" name="1 Título"/>
          <p:cNvGrpSpPr/>
          <p:nvPr/>
        </p:nvGrpSpPr>
        <p:grpSpPr>
          <a:xfrm>
            <a:off x="225360" y="493560"/>
            <a:ext cx="2200320" cy="725760"/>
            <a:chOff x="225360" y="493560"/>
            <a:chExt cx="2200320" cy="725760"/>
          </a:xfrm>
        </p:grpSpPr>
        <p:pic>
          <p:nvPicPr>
            <p:cNvPr id="203" name="1 Título" descr=""/>
            <p:cNvPicPr/>
            <p:nvPr/>
          </p:nvPicPr>
          <p:blipFill>
            <a:blip r:embed="rId2"/>
            <a:stretch/>
          </p:blipFill>
          <p:spPr>
            <a:xfrm>
              <a:off x="225360" y="493560"/>
              <a:ext cx="22003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200" spc="-1" strike="noStrike">
                  <a:solidFill>
                    <a:srgbClr val="eaeaea"/>
                  </a:solidFill>
                  <a:latin typeface="Verdana"/>
                </a:rPr>
                <a:t>Agenda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124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 anchorCtr="1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es-ES_tradnl" sz="3400" spc="-1" strike="noStrike">
                <a:solidFill>
                  <a:srgbClr val="ffffcc"/>
                </a:solidFill>
                <a:latin typeface="Arial"/>
              </a:rPr>
              <a:t>Producción de Biocombustible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06" name="Group 14"/>
          <p:cNvGrpSpPr/>
          <p:nvPr/>
        </p:nvGrpSpPr>
        <p:grpSpPr>
          <a:xfrm>
            <a:off x="414000" y="1143000"/>
            <a:ext cx="8515440" cy="5681520"/>
            <a:chOff x="414000" y="1143000"/>
            <a:chExt cx="8515440" cy="5681520"/>
          </a:xfrm>
        </p:grpSpPr>
        <p:sp>
          <p:nvSpPr>
            <p:cNvPr id="207" name="Oval 3"/>
            <p:cNvSpPr/>
            <p:nvPr/>
          </p:nvSpPr>
          <p:spPr>
            <a:xfrm>
              <a:off x="3692880" y="1391040"/>
              <a:ext cx="2111400" cy="1990440"/>
            </a:xfrm>
            <a:prstGeom prst="ellipse">
              <a:avLst/>
            </a:prstGeom>
            <a:noFill/>
            <a:ln w="50760">
              <a:solidFill>
                <a:srgbClr val="ffff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8" name="Line 4"/>
            <p:cNvSpPr/>
            <p:nvPr/>
          </p:nvSpPr>
          <p:spPr>
            <a:xfrm>
              <a:off x="1631160" y="2314800"/>
              <a:ext cx="200160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9" name="Line 5"/>
            <p:cNvSpPr/>
            <p:nvPr/>
          </p:nvSpPr>
          <p:spPr>
            <a:xfrm>
              <a:off x="5816520" y="2314800"/>
              <a:ext cx="200304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814680" y="1500840"/>
              <a:ext cx="18655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Materia Prim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253160" y="2617560"/>
              <a:ext cx="1295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INSUM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5858280" y="1143000"/>
              <a:ext cx="307116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Biocombustible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SUB-PRODUCT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3798360" y="1962000"/>
              <a:ext cx="21254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2800" spc="-1" strike="noStrike">
                  <a:solidFill>
                    <a:srgbClr val="ffffcc"/>
                  </a:solidFill>
                  <a:latin typeface="Verdana"/>
                </a:rPr>
                <a:t>PROCESO</a:t>
              </a: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 flipV="1">
              <a:off x="2714760" y="3373920"/>
              <a:ext cx="1364040" cy="62604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414000" y="3870360"/>
              <a:ext cx="2101680" cy="10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CONOCIMIENTO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200" spc="-1" strike="noStrike">
                  <a:solidFill>
                    <a:srgbClr val="eaeaea"/>
                  </a:solidFill>
                  <a:latin typeface="Verdana"/>
                </a:rPr>
                <a:t>INGENIERÍA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200" spc="-1" strike="noStrike">
                  <a:solidFill>
                    <a:srgbClr val="eaeaea"/>
                  </a:solidFill>
                  <a:latin typeface="Verdana"/>
                </a:rPr>
                <a:t>RECURSOS HUMANOS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200" spc="-1" strike="noStrike">
                  <a:solidFill>
                    <a:srgbClr val="eaeaea"/>
                  </a:solidFill>
                  <a:latin typeface="Verdana"/>
                </a:rPr>
                <a:t>ENERGÍA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200" spc="-1" strike="noStrike">
                  <a:solidFill>
                    <a:srgbClr val="eaeaea"/>
                  </a:solidFill>
                  <a:latin typeface="Verdana"/>
                </a:rPr>
                <a:t>CAPITAL, $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4009680" y="3539520"/>
              <a:ext cx="4620960" cy="32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3100" spc="-1" strike="noStrike">
                  <a:solidFill>
                    <a:srgbClr val="ffff59"/>
                  </a:solidFill>
                  <a:latin typeface="Verdana"/>
                </a:rPr>
                <a:t>Información</a:t>
              </a:r>
              <a:endParaRPr b="0" lang="en-US" sz="31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Características de la materia prima,  productos y sub-product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Propiedades fisicoquímica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Propiedades bioquímica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Purez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Preci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Seguridad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Toxicidad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Etc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Caracterización Materia Prima y subproduct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57200" y="1500120"/>
            <a:ext cx="82296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414440"/>
            <a:ext cx="8382240" cy="5089680"/>
          </a:xfrm>
          <a:prstGeom prst="rect">
            <a:avLst/>
          </a:prstGeom>
          <a:ln w="0">
            <a:noFill/>
          </a:ln>
        </p:spPr>
      </p:pic>
      <p:grpSp>
        <p:nvGrpSpPr>
          <p:cNvPr id="124" name="1 Título"/>
          <p:cNvGrpSpPr/>
          <p:nvPr/>
        </p:nvGrpSpPr>
        <p:grpSpPr>
          <a:xfrm>
            <a:off x="225360" y="493560"/>
            <a:ext cx="2200320" cy="725760"/>
            <a:chOff x="225360" y="493560"/>
            <a:chExt cx="2200320" cy="725760"/>
          </a:xfrm>
        </p:grpSpPr>
        <p:pic>
          <p:nvPicPr>
            <p:cNvPr id="125" name="1 Título" descr=""/>
            <p:cNvPicPr/>
            <p:nvPr/>
          </p:nvPicPr>
          <p:blipFill>
            <a:blip r:embed="rId2"/>
            <a:stretch/>
          </p:blipFill>
          <p:spPr>
            <a:xfrm>
              <a:off x="225360" y="493560"/>
              <a:ext cx="22003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200" spc="-1" strike="noStrike">
                  <a:solidFill>
                    <a:srgbClr val="eaeaea"/>
                  </a:solidFill>
                  <a:latin typeface="Verdana"/>
                </a:rPr>
                <a:t>Agenda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aracterísticas del producto (Etanol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857160" y="1785960"/>
          <a:ext cx="7786800" cy="4429080"/>
        </p:xfrm>
        <a:graphic>
          <a:graphicData uri="http://schemas.openxmlformats.org/drawingml/2006/table">
            <a:tbl>
              <a:tblPr/>
              <a:tblGrid>
                <a:gridCol w="4583160"/>
                <a:gridCol w="3203640"/>
              </a:tblGrid>
              <a:tr h="36360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Propiedade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Etano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Punto de ebullició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172-17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Densidad [lb/gal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Presión de mezclado [psi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18-2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</a:tr>
              <a:tr h="45900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Calor de vaporización [BTU/lb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362-4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just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Punto de autoignición  [º C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365-42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Limite de flamabilidad [%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3,3-1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32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Temperatura de llama [ºC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193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Calor de combustión [BTU/gal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75.700-76.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Número de octanaje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96-11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124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 anchorCtr="1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es-ES_tradnl" sz="3400" spc="-1" strike="noStrike">
                <a:solidFill>
                  <a:srgbClr val="ffffcc"/>
                </a:solidFill>
                <a:latin typeface="Arial"/>
              </a:rPr>
              <a:t>Producción de Biocombustible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22" name="Group 14"/>
          <p:cNvGrpSpPr/>
          <p:nvPr/>
        </p:nvGrpSpPr>
        <p:grpSpPr>
          <a:xfrm>
            <a:off x="424440" y="1143000"/>
            <a:ext cx="8505000" cy="5793120"/>
            <a:chOff x="424440" y="1143000"/>
            <a:chExt cx="8505000" cy="5793120"/>
          </a:xfrm>
        </p:grpSpPr>
        <p:sp>
          <p:nvSpPr>
            <p:cNvPr id="223" name="Oval 3"/>
            <p:cNvSpPr/>
            <p:nvPr/>
          </p:nvSpPr>
          <p:spPr>
            <a:xfrm>
              <a:off x="3692880" y="1391040"/>
              <a:ext cx="2111400" cy="1990440"/>
            </a:xfrm>
            <a:prstGeom prst="ellipse">
              <a:avLst/>
            </a:prstGeom>
            <a:noFill/>
            <a:ln w="50760">
              <a:solidFill>
                <a:srgbClr val="ffff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631160" y="2314800"/>
              <a:ext cx="200160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>
              <a:off x="5816520" y="2314800"/>
              <a:ext cx="200304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814680" y="1500840"/>
              <a:ext cx="18655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Materia Prim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1253160" y="2617560"/>
              <a:ext cx="1295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INSUM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8" name="Rectangle 8"/>
            <p:cNvSpPr/>
            <p:nvPr/>
          </p:nvSpPr>
          <p:spPr>
            <a:xfrm>
              <a:off x="5858280" y="1143000"/>
              <a:ext cx="307116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Biocombustible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SUB-PRODUCT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9" name="Rectangle 9"/>
            <p:cNvSpPr/>
            <p:nvPr/>
          </p:nvSpPr>
          <p:spPr>
            <a:xfrm>
              <a:off x="3798360" y="1962000"/>
              <a:ext cx="21254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2800" spc="-1" strike="noStrike">
                  <a:solidFill>
                    <a:srgbClr val="ffffcc"/>
                  </a:solidFill>
                  <a:latin typeface="Verdana"/>
                </a:rPr>
                <a:t>PROCESO</a:t>
              </a: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0" name="Line 10"/>
            <p:cNvSpPr/>
            <p:nvPr/>
          </p:nvSpPr>
          <p:spPr>
            <a:xfrm flipV="1">
              <a:off x="2492640" y="3373560"/>
              <a:ext cx="1586160" cy="90900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1" name="Rectangle 11"/>
            <p:cNvSpPr/>
            <p:nvPr/>
          </p:nvSpPr>
          <p:spPr>
            <a:xfrm>
              <a:off x="424440" y="3870000"/>
              <a:ext cx="2054520" cy="12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400" spc="-1" strike="noStrike">
                  <a:solidFill>
                    <a:srgbClr val="eaeaea"/>
                  </a:solidFill>
                  <a:latin typeface="Verdana"/>
                </a:rPr>
                <a:t>CONOCIMIENTO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INGENIERÍ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400" spc="-1" strike="noStrike">
                  <a:solidFill>
                    <a:srgbClr val="eaeaea"/>
                  </a:solidFill>
                  <a:latin typeface="Verdana"/>
                </a:rPr>
                <a:t>RECURSOS HUMANOS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400" spc="-1" strike="noStrike">
                  <a:solidFill>
                    <a:srgbClr val="eaeaea"/>
                  </a:solidFill>
                  <a:latin typeface="Verdana"/>
                </a:rPr>
                <a:t>ENERGÍA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400" spc="-1" strike="noStrike">
                  <a:solidFill>
                    <a:srgbClr val="eaeaea"/>
                  </a:solidFill>
                  <a:latin typeface="Verdana"/>
                </a:rPr>
                <a:t>CAPITAL, $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4009680" y="3539520"/>
              <a:ext cx="4620960" cy="33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2400" spc="-1" strike="noStrike">
                  <a:solidFill>
                    <a:srgbClr val="ffff59"/>
                  </a:solidFill>
                  <a:latin typeface="Verdana"/>
                </a:rPr>
                <a:t>Información del proceso</a:t>
              </a: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  <a:p>
              <a:pPr algn="just">
                <a:buClr>
                  <a:srgbClr val="eaeaea"/>
                </a:buClr>
                <a:buFont typeface="Verdana"/>
                <a:buAutoNum type="arabicPeriod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El flujo de producción deseado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just">
                <a:buClr>
                  <a:srgbClr val="eaeaea"/>
                </a:buClr>
                <a:buFont typeface="Verdana"/>
                <a:buAutoNum type="arabicPeriod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Reacciones químicas o bioquímicas y condiciones de reacción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800280" indent="-343080" algn="just">
                <a:lnSpc>
                  <a:spcPct val="100000"/>
                </a:lnSpc>
                <a:tabLst>
                  <a:tab algn="l" pos="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2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Conversión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800280" indent="-343080" algn="just">
                <a:lnSpc>
                  <a:spcPct val="100000"/>
                </a:lnSpc>
                <a:tabLst>
                  <a:tab algn="l" pos="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2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Condiciones de operación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800280" indent="-343080" algn="just">
                <a:lnSpc>
                  <a:spcPct val="100000"/>
                </a:lnSpc>
                <a:tabLst>
                  <a:tab algn="l" pos="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2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Excesos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800280" indent="-343080" algn="just">
                <a:lnSpc>
                  <a:spcPct val="100000"/>
                </a:lnSpc>
                <a:tabLst>
                  <a:tab algn="l" pos="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2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Porcentajes de reciclo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just">
                <a:buClr>
                  <a:srgbClr val="eaeaea"/>
                </a:buClr>
                <a:buFont typeface="Verdana"/>
                <a:buAutoNum type="arabicPeriod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Eficiencia de cada operación unitaria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just">
                <a:buClr>
                  <a:srgbClr val="eaeaea"/>
                </a:buClr>
                <a:buFont typeface="Verdana"/>
                <a:buAutoNum type="arabicPeriod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Cualquier restricción del procesamiento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just">
                <a:buClr>
                  <a:srgbClr val="eaeaea"/>
                </a:buClr>
                <a:buFont typeface="Verdana"/>
                <a:buAutoNum type="arabicPeriod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buClr>
                  <a:srgbClr val="eaeaea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roducción de Biodiesel</a:t>
            </a:r>
            <a:br>
              <a:rPr sz="4400"/>
            </a:b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Reacción Quím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7762680" cy="2885760"/>
          </a:xfrm>
          <a:prstGeom prst="rect">
            <a:avLst/>
          </a:prstGeom>
          <a:ln w="0">
            <a:noFill/>
          </a:ln>
        </p:spPr>
      </p:pic>
      <p:sp>
        <p:nvSpPr>
          <p:cNvPr id="235" name="4 CuadroTexto"/>
          <p:cNvSpPr/>
          <p:nvPr/>
        </p:nvSpPr>
        <p:spPr>
          <a:xfrm>
            <a:off x="785880" y="492912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Temperatura de Operación: 60ºC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Conversión: 98% de los aceit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494000"/>
            <a:ext cx="8412120" cy="5010120"/>
          </a:xfrm>
          <a:prstGeom prst="rect">
            <a:avLst/>
          </a:prstGeom>
          <a:ln w="0">
            <a:noFill/>
          </a:ln>
        </p:spPr>
      </p:pic>
      <p:grpSp>
        <p:nvGrpSpPr>
          <p:cNvPr id="237" name="1 Título"/>
          <p:cNvGrpSpPr/>
          <p:nvPr/>
        </p:nvGrpSpPr>
        <p:grpSpPr>
          <a:xfrm>
            <a:off x="225360" y="493560"/>
            <a:ext cx="2200320" cy="725760"/>
            <a:chOff x="225360" y="493560"/>
            <a:chExt cx="2200320" cy="725760"/>
          </a:xfrm>
        </p:grpSpPr>
        <p:pic>
          <p:nvPicPr>
            <p:cNvPr id="238" name="1 Título" descr=""/>
            <p:cNvPicPr/>
            <p:nvPr/>
          </p:nvPicPr>
          <p:blipFill>
            <a:blip r:embed="rId2"/>
            <a:stretch/>
          </p:blipFill>
          <p:spPr>
            <a:xfrm>
              <a:off x="225360" y="493560"/>
              <a:ext cx="22003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200" spc="-1" strike="noStrike">
                  <a:solidFill>
                    <a:srgbClr val="eaeaea"/>
                  </a:solidFill>
                  <a:latin typeface="Verdana"/>
                </a:rPr>
                <a:t>Agenda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57120" y="8571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Diagrama de entrada (Input) y salida (Output) Diagrama I-O.</a:t>
            </a:r>
            <a:br>
              <a:rPr sz="4400"/>
            </a:b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squema que muestra las materias primas que ingresan al proceso y los productos, subproductos y desechos que salen del proces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41" name="Group 24"/>
          <p:cNvGrpSpPr/>
          <p:nvPr/>
        </p:nvGrpSpPr>
        <p:grpSpPr>
          <a:xfrm>
            <a:off x="1163520" y="3079440"/>
            <a:ext cx="6837120" cy="3051000"/>
            <a:chOff x="1163520" y="3079440"/>
            <a:chExt cx="6837120" cy="3051000"/>
          </a:xfrm>
        </p:grpSpPr>
        <p:sp>
          <p:nvSpPr>
            <p:cNvPr id="242" name="Rectangle 6"/>
            <p:cNvSpPr/>
            <p:nvPr/>
          </p:nvSpPr>
          <p:spPr>
            <a:xfrm>
              <a:off x="3039120" y="4144680"/>
              <a:ext cx="2479680" cy="1397880"/>
            </a:xfrm>
            <a:prstGeom prst="rect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>
              <a:off x="1295280" y="458568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Line 8"/>
            <p:cNvSpPr/>
            <p:nvPr/>
          </p:nvSpPr>
          <p:spPr>
            <a:xfrm>
              <a:off x="1295280" y="510192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>
              <a:off x="5519160" y="473220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Line 10"/>
            <p:cNvSpPr/>
            <p:nvPr/>
          </p:nvSpPr>
          <p:spPr>
            <a:xfrm>
              <a:off x="5251320" y="613044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Line 11"/>
            <p:cNvSpPr/>
            <p:nvPr/>
          </p:nvSpPr>
          <p:spPr>
            <a:xfrm flipV="1">
              <a:off x="5251320" y="5542560"/>
              <a:ext cx="0" cy="5875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Line 12"/>
            <p:cNvSpPr/>
            <p:nvPr/>
          </p:nvSpPr>
          <p:spPr>
            <a:xfrm flipV="1">
              <a:off x="6189480" y="3630240"/>
              <a:ext cx="0" cy="5875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Line 13"/>
            <p:cNvSpPr/>
            <p:nvPr/>
          </p:nvSpPr>
          <p:spPr>
            <a:xfrm>
              <a:off x="5519160" y="4218120"/>
              <a:ext cx="6703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 flipH="1">
              <a:off x="3440160" y="3630240"/>
              <a:ext cx="27489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>
              <a:off x="3440160" y="3630240"/>
              <a:ext cx="0" cy="5140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2" name="Text Box 16"/>
            <p:cNvSpPr/>
            <p:nvPr/>
          </p:nvSpPr>
          <p:spPr>
            <a:xfrm>
              <a:off x="4250520" y="3080520"/>
              <a:ext cx="98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Recicl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3" name="Text Box 17"/>
            <p:cNvSpPr/>
            <p:nvPr/>
          </p:nvSpPr>
          <p:spPr>
            <a:xfrm>
              <a:off x="1163520" y="4071600"/>
              <a:ext cx="182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Materia Prim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4" name="Text Box 18"/>
            <p:cNvSpPr/>
            <p:nvPr/>
          </p:nvSpPr>
          <p:spPr>
            <a:xfrm>
              <a:off x="1217160" y="52106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Insum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5" name="Text Box 19"/>
            <p:cNvSpPr/>
            <p:nvPr/>
          </p:nvSpPr>
          <p:spPr>
            <a:xfrm>
              <a:off x="6658560" y="425520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Product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6" name="Text Box 20"/>
            <p:cNvSpPr/>
            <p:nvPr/>
          </p:nvSpPr>
          <p:spPr>
            <a:xfrm>
              <a:off x="5721120" y="5578200"/>
              <a:ext cx="22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Subproduct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7" name="Line 21"/>
            <p:cNvSpPr/>
            <p:nvPr/>
          </p:nvSpPr>
          <p:spPr>
            <a:xfrm>
              <a:off x="6189480" y="3630240"/>
              <a:ext cx="1273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8" name="Text Box 22"/>
            <p:cNvSpPr/>
            <p:nvPr/>
          </p:nvSpPr>
          <p:spPr>
            <a:xfrm>
              <a:off x="6379560" y="3079440"/>
              <a:ext cx="12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desech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9" name="Text Box 23"/>
            <p:cNvSpPr/>
            <p:nvPr/>
          </p:nvSpPr>
          <p:spPr>
            <a:xfrm>
              <a:off x="3278160" y="4631760"/>
              <a:ext cx="20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Verdana"/>
                </a:rPr>
                <a:t>PROCES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7120" y="8571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Ejemplo</a:t>
            </a:r>
            <a:br>
              <a:rPr sz="4400"/>
            </a:br>
            <a:br>
              <a:rPr sz="4400"/>
            </a:b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labore el diagrama I-O de su proces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61" name="Group 24"/>
          <p:cNvGrpSpPr/>
          <p:nvPr/>
        </p:nvGrpSpPr>
        <p:grpSpPr>
          <a:xfrm>
            <a:off x="1163520" y="3079440"/>
            <a:ext cx="7497360" cy="3051000"/>
            <a:chOff x="1163520" y="3079440"/>
            <a:chExt cx="7497360" cy="3051000"/>
          </a:xfrm>
        </p:grpSpPr>
        <p:sp>
          <p:nvSpPr>
            <p:cNvPr id="262" name="Rectangle 6"/>
            <p:cNvSpPr/>
            <p:nvPr/>
          </p:nvSpPr>
          <p:spPr>
            <a:xfrm>
              <a:off x="3039120" y="4144680"/>
              <a:ext cx="2479680" cy="1397880"/>
            </a:xfrm>
            <a:prstGeom prst="rect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3" name="Line 7"/>
            <p:cNvSpPr/>
            <p:nvPr/>
          </p:nvSpPr>
          <p:spPr>
            <a:xfrm>
              <a:off x="1295280" y="458568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4" name="Line 8"/>
            <p:cNvSpPr/>
            <p:nvPr/>
          </p:nvSpPr>
          <p:spPr>
            <a:xfrm>
              <a:off x="1295280" y="510192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5" name="Line 9"/>
            <p:cNvSpPr/>
            <p:nvPr/>
          </p:nvSpPr>
          <p:spPr>
            <a:xfrm>
              <a:off x="5519160" y="473220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6" name="Line 10"/>
            <p:cNvSpPr/>
            <p:nvPr/>
          </p:nvSpPr>
          <p:spPr>
            <a:xfrm>
              <a:off x="5251320" y="613044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7" name="Line 11"/>
            <p:cNvSpPr/>
            <p:nvPr/>
          </p:nvSpPr>
          <p:spPr>
            <a:xfrm flipV="1">
              <a:off x="5251320" y="5542560"/>
              <a:ext cx="0" cy="5875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8" name="Line 12"/>
            <p:cNvSpPr/>
            <p:nvPr/>
          </p:nvSpPr>
          <p:spPr>
            <a:xfrm flipV="1">
              <a:off x="6189480" y="3630240"/>
              <a:ext cx="0" cy="5875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9" name="Line 13"/>
            <p:cNvSpPr/>
            <p:nvPr/>
          </p:nvSpPr>
          <p:spPr>
            <a:xfrm>
              <a:off x="5519160" y="4218120"/>
              <a:ext cx="6703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 flipH="1">
              <a:off x="3440160" y="3630240"/>
              <a:ext cx="27489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1" name="Line 15"/>
            <p:cNvSpPr/>
            <p:nvPr/>
          </p:nvSpPr>
          <p:spPr>
            <a:xfrm>
              <a:off x="3440160" y="3630240"/>
              <a:ext cx="0" cy="5140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4250520" y="3080520"/>
              <a:ext cx="98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Recicl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3" name="Text Box 17"/>
            <p:cNvSpPr/>
            <p:nvPr/>
          </p:nvSpPr>
          <p:spPr>
            <a:xfrm>
              <a:off x="1163520" y="4071600"/>
              <a:ext cx="182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Materia Prim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4" name="Text Box 18"/>
            <p:cNvSpPr/>
            <p:nvPr/>
          </p:nvSpPr>
          <p:spPr>
            <a:xfrm>
              <a:off x="1217520" y="52106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Insum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5" name="Text Box 19"/>
            <p:cNvSpPr/>
            <p:nvPr/>
          </p:nvSpPr>
          <p:spPr>
            <a:xfrm>
              <a:off x="6701760" y="4255200"/>
              <a:ext cx="19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Biocombustible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6" name="Text Box 20"/>
            <p:cNvSpPr/>
            <p:nvPr/>
          </p:nvSpPr>
          <p:spPr>
            <a:xfrm>
              <a:off x="5721120" y="5578200"/>
              <a:ext cx="22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Subproduct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7" name="Line 21"/>
            <p:cNvSpPr/>
            <p:nvPr/>
          </p:nvSpPr>
          <p:spPr>
            <a:xfrm>
              <a:off x="6189480" y="3630240"/>
              <a:ext cx="1273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6379920" y="3079440"/>
              <a:ext cx="12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desech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9" name="Text Box 23"/>
            <p:cNvSpPr/>
            <p:nvPr/>
          </p:nvSpPr>
          <p:spPr>
            <a:xfrm>
              <a:off x="3278160" y="4631760"/>
              <a:ext cx="20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Verdana"/>
                </a:rPr>
                <a:t>PROCES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Object 12"/>
          <p:cNvGraphicFramePr/>
          <p:nvPr/>
        </p:nvGraphicFramePr>
        <p:xfrm>
          <a:off x="1908000" y="404640"/>
          <a:ext cx="432468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04640"/>
                    <a:ext cx="432468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3"/>
          <p:cNvSpPr/>
          <p:nvPr/>
        </p:nvSpPr>
        <p:spPr>
          <a:xfrm>
            <a:off x="2627280" y="37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¿¿Preguntas?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1 Título"/>
          <p:cNvGrpSpPr/>
          <p:nvPr/>
        </p:nvGrpSpPr>
        <p:grpSpPr>
          <a:xfrm>
            <a:off x="2865600" y="285840"/>
            <a:ext cx="3681360" cy="720720"/>
            <a:chOff x="2865600" y="285840"/>
            <a:chExt cx="3681360" cy="720720"/>
          </a:xfrm>
        </p:grpSpPr>
        <p:pic>
          <p:nvPicPr>
            <p:cNvPr id="128" name="1 Título" descr=""/>
            <p:cNvPicPr/>
            <p:nvPr/>
          </p:nvPicPr>
          <p:blipFill>
            <a:blip r:embed="rId1"/>
            <a:stretch/>
          </p:blipFill>
          <p:spPr>
            <a:xfrm>
              <a:off x="2865600" y="285840"/>
              <a:ext cx="368136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928960" y="357120"/>
              <a:ext cx="3490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1" lang="es-CL" sz="3200" spc="-1" strike="noStrike">
                  <a:solidFill>
                    <a:srgbClr val="ffff59"/>
                  </a:solidFill>
                  <a:latin typeface="Verdana"/>
                </a:rPr>
                <a:t> </a:t>
              </a:r>
              <a:r>
                <a:rPr b="1" lang="es-CL" sz="3200" spc="-1" strike="noStrike">
                  <a:solidFill>
                    <a:srgbClr val="ffff59"/>
                  </a:solidFill>
                  <a:latin typeface="Verdana"/>
                </a:rPr>
                <a:t>MOTIVACION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30" name="1 Título"/>
          <p:cNvGrpSpPr/>
          <p:nvPr/>
        </p:nvGrpSpPr>
        <p:grpSpPr>
          <a:xfrm>
            <a:off x="298440" y="1103400"/>
            <a:ext cx="5187960" cy="834840"/>
            <a:chOff x="298440" y="1103400"/>
            <a:chExt cx="5187960" cy="834840"/>
          </a:xfrm>
        </p:grpSpPr>
        <p:pic>
          <p:nvPicPr>
            <p:cNvPr id="131" name="1 Título" descr=""/>
            <p:cNvPicPr/>
            <p:nvPr/>
          </p:nvPicPr>
          <p:blipFill>
            <a:blip r:embed="rId2"/>
            <a:stretch/>
          </p:blipFill>
          <p:spPr>
            <a:xfrm>
              <a:off x="298440" y="1103400"/>
              <a:ext cx="51879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28760" y="1143000"/>
              <a:ext cx="50004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0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MX" sz="2700" spc="-1" strike="noStrike">
                  <a:solidFill>
                    <a:srgbClr val="eaeaea"/>
                  </a:solidFill>
                  <a:latin typeface="Verdana"/>
                </a:rPr>
                <a:t>Objetivo General del Taller</a:t>
              </a:r>
              <a:endParaRPr b="0" lang="en-US" sz="27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3" name="22 Rectángulo"/>
          <p:cNvSpPr/>
          <p:nvPr/>
        </p:nvSpPr>
        <p:spPr>
          <a:xfrm>
            <a:off x="928800" y="2214720"/>
            <a:ext cx="764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aeaea"/>
                </a:solidFill>
                <a:latin typeface="Verdana"/>
              </a:rPr>
              <a:t>Realizar el diseño conceptual de plantas productoras de biocombustible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4 Marcador de contenido" descr=""/>
          <p:cNvPicPr/>
          <p:nvPr/>
        </p:nvPicPr>
        <p:blipFill>
          <a:blip r:embed="rId1"/>
          <a:stretch/>
        </p:blipFill>
        <p:spPr>
          <a:xfrm>
            <a:off x="396720" y="1609560"/>
            <a:ext cx="8691840" cy="5108760"/>
          </a:xfrm>
          <a:prstGeom prst="rect">
            <a:avLst/>
          </a:prstGeom>
          <a:ln w="0">
            <a:noFill/>
          </a:ln>
        </p:spPr>
      </p:pic>
      <p:grpSp>
        <p:nvGrpSpPr>
          <p:cNvPr id="135" name="1 Título"/>
          <p:cNvGrpSpPr/>
          <p:nvPr/>
        </p:nvGrpSpPr>
        <p:grpSpPr>
          <a:xfrm>
            <a:off x="298440" y="676440"/>
            <a:ext cx="4187880" cy="688680"/>
            <a:chOff x="298440" y="676440"/>
            <a:chExt cx="4187880" cy="688680"/>
          </a:xfrm>
        </p:grpSpPr>
        <p:pic>
          <p:nvPicPr>
            <p:cNvPr id="136" name="1 Título" descr=""/>
            <p:cNvPicPr/>
            <p:nvPr/>
          </p:nvPicPr>
          <p:blipFill>
            <a:blip r:embed="rId2"/>
            <a:stretch/>
          </p:blipFill>
          <p:spPr>
            <a:xfrm>
              <a:off x="298440" y="676440"/>
              <a:ext cx="418788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28760" y="714240"/>
              <a:ext cx="40003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0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MX" sz="2700" spc="-1" strike="noStrike">
                  <a:solidFill>
                    <a:srgbClr val="eaeaea"/>
                  </a:solidFill>
                  <a:latin typeface="Verdana"/>
                </a:rPr>
                <a:t>Objetivos Específicos</a:t>
              </a:r>
              <a:endParaRPr b="0" lang="en-US" sz="27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4 Marcador de contenido" descr=""/>
          <p:cNvPicPr/>
          <p:nvPr/>
        </p:nvPicPr>
        <p:blipFill>
          <a:blip r:embed="rId1"/>
          <a:stretch/>
        </p:blipFill>
        <p:spPr>
          <a:xfrm>
            <a:off x="311040" y="1779480"/>
            <a:ext cx="8399520" cy="4614840"/>
          </a:xfrm>
          <a:prstGeom prst="rect">
            <a:avLst/>
          </a:prstGeom>
          <a:ln w="0">
            <a:noFill/>
          </a:ln>
        </p:spPr>
      </p:pic>
      <p:grpSp>
        <p:nvGrpSpPr>
          <p:cNvPr id="140" name="1 Título"/>
          <p:cNvGrpSpPr/>
          <p:nvPr/>
        </p:nvGrpSpPr>
        <p:grpSpPr>
          <a:xfrm>
            <a:off x="103320" y="536400"/>
            <a:ext cx="6522840" cy="828720"/>
            <a:chOff x="103320" y="536400"/>
            <a:chExt cx="6522840" cy="828720"/>
          </a:xfrm>
        </p:grpSpPr>
        <p:pic>
          <p:nvPicPr>
            <p:cNvPr id="141" name="1 Título" descr=""/>
            <p:cNvPicPr/>
            <p:nvPr/>
          </p:nvPicPr>
          <p:blipFill>
            <a:blip r:embed="rId2"/>
            <a:stretch/>
          </p:blipFill>
          <p:spPr>
            <a:xfrm>
              <a:off x="103320" y="536400"/>
              <a:ext cx="65228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28760" y="571680"/>
              <a:ext cx="61434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500" spc="-1" strike="noStrike">
                  <a:solidFill>
                    <a:srgbClr val="eaeaea"/>
                  </a:solidFill>
                  <a:latin typeface="Verdana"/>
                </a:rPr>
                <a:t>Metodología</a:t>
              </a:r>
              <a:endParaRPr b="0" lang="en-US" sz="35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494000"/>
            <a:ext cx="8412120" cy="5010120"/>
          </a:xfrm>
          <a:prstGeom prst="rect">
            <a:avLst/>
          </a:prstGeom>
          <a:ln w="0">
            <a:noFill/>
          </a:ln>
        </p:spPr>
      </p:pic>
      <p:grpSp>
        <p:nvGrpSpPr>
          <p:cNvPr id="144" name="1 Título"/>
          <p:cNvGrpSpPr/>
          <p:nvPr/>
        </p:nvGrpSpPr>
        <p:grpSpPr>
          <a:xfrm>
            <a:off x="225360" y="493560"/>
            <a:ext cx="2200320" cy="725760"/>
            <a:chOff x="225360" y="493560"/>
            <a:chExt cx="2200320" cy="725760"/>
          </a:xfrm>
        </p:grpSpPr>
        <p:pic>
          <p:nvPicPr>
            <p:cNvPr id="145" name="1 Título" descr=""/>
            <p:cNvPicPr/>
            <p:nvPr/>
          </p:nvPicPr>
          <p:blipFill>
            <a:blip r:embed="rId2"/>
            <a:stretch/>
          </p:blipFill>
          <p:spPr>
            <a:xfrm>
              <a:off x="225360" y="493560"/>
              <a:ext cx="22003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200" spc="-1" strike="noStrike">
                  <a:solidFill>
                    <a:srgbClr val="eaeaea"/>
                  </a:solidFill>
                  <a:latin typeface="Verdana"/>
                </a:rPr>
                <a:t>Agenda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428760" y="728640"/>
            <a:ext cx="8143920" cy="29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3200" spc="-1" strike="noStrike">
                <a:solidFill>
                  <a:srgbClr val="ffff59"/>
                </a:solidFill>
                <a:latin typeface="CG Times"/>
                <a:ea typeface="Times New Roman"/>
              </a:rPr>
              <a:t>Proceso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Sistema formado por equipos (unidades componentes) interconectados en forma organizada para transformar (procesar </a:t>
            </a:r>
            <a:r>
              <a:rPr b="0" lang="es-ES_tradnl" sz="2600" spc="-1" strike="noStrike">
                <a:solidFill>
                  <a:srgbClr val="eaeaea"/>
                </a:solidFill>
                <a:latin typeface="Verdana"/>
                <a:ea typeface="Times New Roman"/>
              </a:rPr>
              <a:t>ó</a:t>
            </a: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 modificar las propiedades f</a:t>
            </a:r>
            <a:r>
              <a:rPr b="0" lang="es-ES_tradnl" sz="2600" spc="-1" strike="noStrike">
                <a:solidFill>
                  <a:srgbClr val="eaeaea"/>
                </a:solidFill>
                <a:latin typeface="Verdana"/>
                <a:ea typeface="Times New Roman"/>
              </a:rPr>
              <a:t>í</a:t>
            </a: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sicas-qu</a:t>
            </a:r>
            <a:r>
              <a:rPr b="0" lang="es-ES_tradnl" sz="2600" spc="-1" strike="noStrike">
                <a:solidFill>
                  <a:srgbClr val="eaeaea"/>
                </a:solidFill>
                <a:latin typeface="Verdana"/>
                <a:ea typeface="Times New Roman"/>
              </a:rPr>
              <a:t>í</a:t>
            </a: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micas y/o </a:t>
            </a:r>
            <a:r>
              <a:rPr b="0" lang="es-ES_tradnl" sz="2600" spc="-1" strike="noStrike">
                <a:solidFill>
                  <a:srgbClr val="ffffcc"/>
                </a:solidFill>
                <a:latin typeface="CG Times"/>
                <a:ea typeface="Times New Roman"/>
              </a:rPr>
              <a:t>bioquímicas</a:t>
            </a: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) materia prima en productos (efluentes) de inter</a:t>
            </a:r>
            <a:r>
              <a:rPr b="0" lang="es-ES_tradnl" sz="2600" spc="-1" strike="noStrike">
                <a:solidFill>
                  <a:srgbClr val="eaeaea"/>
                </a:solidFill>
                <a:latin typeface="Verdana"/>
                <a:ea typeface="Times New Roman"/>
              </a:rPr>
              <a:t>é</a:t>
            </a: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s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124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 anchorCtr="1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es-ES_tradnl" sz="3400" spc="-1" strike="noStrike">
                <a:solidFill>
                  <a:srgbClr val="ffffcc"/>
                </a:solidFill>
                <a:latin typeface="Arial"/>
              </a:rPr>
              <a:t>PROCESOS INDUSTRIALE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9" name="Group 14"/>
          <p:cNvGrpSpPr/>
          <p:nvPr/>
        </p:nvGrpSpPr>
        <p:grpSpPr>
          <a:xfrm>
            <a:off x="543240" y="1857240"/>
            <a:ext cx="8696160" cy="4742640"/>
            <a:chOff x="543240" y="1857240"/>
            <a:chExt cx="8696160" cy="4742640"/>
          </a:xfrm>
        </p:grpSpPr>
        <p:sp>
          <p:nvSpPr>
            <p:cNvPr id="150" name="Oval 3"/>
            <p:cNvSpPr/>
            <p:nvPr/>
          </p:nvSpPr>
          <p:spPr>
            <a:xfrm>
              <a:off x="3814920" y="2071800"/>
              <a:ext cx="2185920" cy="1720800"/>
            </a:xfrm>
            <a:prstGeom prst="ellipse">
              <a:avLst/>
            </a:prstGeom>
            <a:noFill/>
            <a:ln w="50760">
              <a:solidFill>
                <a:srgbClr val="ffff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Line 4"/>
            <p:cNvSpPr/>
            <p:nvPr/>
          </p:nvSpPr>
          <p:spPr>
            <a:xfrm>
              <a:off x="1679400" y="2870280"/>
              <a:ext cx="207504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2" name="Line 5"/>
            <p:cNvSpPr/>
            <p:nvPr/>
          </p:nvSpPr>
          <p:spPr>
            <a:xfrm>
              <a:off x="6014880" y="2870280"/>
              <a:ext cx="207504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1225080" y="2141640"/>
              <a:ext cx="2348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MATERIAS PRIMA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1311120" y="3132000"/>
              <a:ext cx="1295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INSUM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5" name="Rectangle 8"/>
            <p:cNvSpPr/>
            <p:nvPr/>
          </p:nvSpPr>
          <p:spPr>
            <a:xfrm>
              <a:off x="6286680" y="1857240"/>
              <a:ext cx="2952720" cy="15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PRODUCT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(BIOCOMBUSTIBLE)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SUB-PRODUCT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6" name="Rectangle 9"/>
            <p:cNvSpPr/>
            <p:nvPr/>
          </p:nvSpPr>
          <p:spPr>
            <a:xfrm>
              <a:off x="3924360" y="2565360"/>
              <a:ext cx="220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2800" spc="-1" strike="noStrike">
                  <a:solidFill>
                    <a:srgbClr val="ffffcc"/>
                  </a:solidFill>
                  <a:latin typeface="Verdana"/>
                </a:rPr>
                <a:t>PROCESO</a:t>
              </a: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7" name="Line 10"/>
            <p:cNvSpPr/>
            <p:nvPr/>
          </p:nvSpPr>
          <p:spPr>
            <a:xfrm flipV="1">
              <a:off x="4830840" y="3817800"/>
              <a:ext cx="0" cy="174168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8" name="Rectangle 11"/>
            <p:cNvSpPr/>
            <p:nvPr/>
          </p:nvSpPr>
          <p:spPr>
            <a:xfrm>
              <a:off x="543240" y="4214880"/>
              <a:ext cx="3930120" cy="23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CONOCIMIENTO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	</a:t>
              </a: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-Ciencias Básica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INGENIERÍ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	</a:t>
              </a: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-Operaciones Unitaria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	</a:t>
              </a: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- Ciencias de la Ingenierí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RECURSOS HUMAN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ENERGÍ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CAPITAL, $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9" name="Rectangle 12"/>
            <p:cNvSpPr/>
            <p:nvPr/>
          </p:nvSpPr>
          <p:spPr>
            <a:xfrm>
              <a:off x="6466320" y="4448160"/>
              <a:ext cx="165348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3100" spc="-1" strike="noStrike">
                  <a:solidFill>
                    <a:srgbClr val="ffff59"/>
                  </a:solidFill>
                  <a:latin typeface="Verdana"/>
                </a:rPr>
                <a:t>DISEÑO</a:t>
              </a:r>
              <a:endParaRPr b="0" lang="en-US" sz="3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0" name="Line 13"/>
            <p:cNvSpPr/>
            <p:nvPr/>
          </p:nvSpPr>
          <p:spPr>
            <a:xfrm flipH="1" flipV="1">
              <a:off x="5973840" y="3513240"/>
              <a:ext cx="1371600" cy="9144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357120" y="747720"/>
            <a:ext cx="835812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59"/>
                </a:solidFill>
                <a:latin typeface="Verdana"/>
              </a:rPr>
              <a:t>Operaciones Unitaria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Etapa de un proceso, donde se realiza una modificación específica de una corriente, por ejemplo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Moliend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Filtr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Calentamiento (intercambiador de calor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Evapor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Ferment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Centrifug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1:24:28Z</dcterms:created>
  <dc:creator>guest</dc:creator>
  <dc:description/>
  <dc:language>en-US</dc:language>
  <cp:lastModifiedBy>Ing Quimica</cp:lastModifiedBy>
  <dcterms:modified xsi:type="dcterms:W3CDTF">2010-04-28T21:51:58Z</dcterms:modified>
  <cp:revision>216</cp:revision>
  <dc:subject/>
  <dc:title>Diapositiva 1</dc:title>
</cp:coreProperties>
</file>