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EE6F-4F41-45DB-8F53-7954CEF19A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proceso en estudio, abarcara desde la recolección de la materia prima (residuo agrícola) hasta la producción de Bioetanol, Pasando por la logística del transporte y el diseño de la planta, que servirá para procesar la materia pr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ero este único proceso no es suficiente para hacer sustentable el negocio, ya que al producir solamente bioetanol, esto implicaría que el negocio no fuese re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por esto que es necesario estudiar posibles productos secundarios, los cuales permitan que el negocio pueda ser rentable ante la atenta mirada de un inversionis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6DB1-4FEC-4393-8742-F76FD8FB210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quí se muestran los objetivos específicos que abarcara el estudio realizado (Memori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D9C6-A771-4755-A9EA-0C5EFC72E65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B46-F3EA-4CBE-B7A8-BF43E35F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E56-DC63-4622-BD0F-CE338135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07D-1A85-4F55-A99E-55585115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4EA-537A-4CFD-B030-92867FEC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41A6-36E2-45CD-AE0E-607FD2C2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A281-36F1-450E-A2EB-7E0EC895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5E97-029D-4DE8-BF87-3C685B18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348F-99C9-48C1-A4E7-B7A99496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B525-4574-49BC-9ECA-9B19924A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C136-6F1C-4B59-9997-515EF5C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3B30-250D-47FA-ADA4-7324199C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73B-5894-46B9-8DF2-BA30E193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0E2F-4E50-458A-B838-B8DABD1F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BF79-5653-4552-A4B6-0588AD5B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F65C-0465-4FCA-B824-F5806ABF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FB94-BBF5-4532-BB5E-879554E2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BBCB-8A21-4753-AEEB-6F130F90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01B-004D-45A0-8707-18917BEA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14A-3194-4004-9883-1FEE366A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7FD-26FC-4C61-BCC4-10ABBA65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BDC-FAB7-4462-9E1C-09C186A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72E-C872-4E65-A0C6-064707FF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D33-7088-4F24-982C-6CD926E1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854-A3F1-4043-AE1D-B69AE311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6C3-58F0-428F-A437-AA9AB5BF81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C73D-5205-43A2-B966-4F9CD4FA623A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ienque@ing.uchile.c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357200"/>
            <a:ext cx="7340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eño de procesos para la producción de Biocombus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Conceptual de Procesos y Diagramas I-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0040" y="3642840"/>
            <a:ext cx="8072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s. M.Elena Lienqueo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mlienque@ing.uchile.cl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Arial"/>
              </a:rPr>
              <a:t>ESTRUCTURA GENERAL DE UN PROCESO PRODUCTIV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1071720" y="1428840"/>
          <a:ext cx="7315200" cy="48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28840"/>
                    <a:ext cx="731520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4"/>
          <p:cNvSpPr/>
          <p:nvPr/>
        </p:nvSpPr>
        <p:spPr>
          <a:xfrm>
            <a:off x="714240" y="1357200"/>
            <a:ext cx="14400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59"/>
                </a:solidFill>
                <a:latin typeface="Verdana"/>
              </a:rPr>
              <a:t>Materias Prim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572160" y="1571760"/>
            <a:ext cx="1656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500120" y="5643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Verdana"/>
              </a:rPr>
              <a:t>Tratamientos de RILes, RIS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169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70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42884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Resultado</a:t>
            </a: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de una</a:t>
            </a: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Actividad Recursiva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de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Síntesis-Análisi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para Definir la </a:t>
            </a:r>
            <a:r>
              <a:rPr b="1" lang="es-ES_tradnl" sz="2400" spc="-1" strike="noStrike">
                <a:solidFill>
                  <a:srgbClr val="eaeaea"/>
                </a:solidFill>
                <a:latin typeface="Verdana"/>
              </a:rPr>
              <a:t>Transformación de Recursos e Insumo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eaeaea"/>
                </a:solidFill>
                <a:latin typeface="Verdana"/>
              </a:rPr>
              <a:t>Necesidades Humanas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287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59"/>
                </a:solidFill>
                <a:latin typeface="Verdana"/>
              </a:rPr>
              <a:t>Diseño Conceptual de Procesos Industria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271476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85840" y="155160"/>
            <a:ext cx="82152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59"/>
              </a:buClr>
              <a:buFont typeface="Verdana"/>
              <a:buChar char="•"/>
              <a:tabLst>
                <a:tab algn="l" pos="10358136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Verdana"/>
              </a:rPr>
              <a:t>Requerimientos (objetivos):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i="1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ntecedentes técnico-económicos para diseñar una planta de producción de X ton/año de biocombusti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ffff59"/>
              </a:buClr>
              <a:buFont typeface="Verdana"/>
              <a:buChar char="•"/>
              <a:tabLst>
                <a:tab algn="l" pos="103581360"/>
              </a:tabLst>
            </a:pPr>
            <a:r>
              <a:rPr b="1" lang="es-ES_tradnl" sz="2800" spc="-1" strike="noStrike">
                <a:solidFill>
                  <a:srgbClr val="ffff59"/>
                </a:solidFill>
                <a:latin typeface="Verdana"/>
              </a:rPr>
              <a:t>Definición Conceptual del Proceso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Operaciones unitarias principal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Recuperación de subproduct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-Confinamiento de desech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335240"/>
            <a:ext cx="8412120" cy="5187960"/>
          </a:xfrm>
          <a:prstGeom prst="rect">
            <a:avLst/>
          </a:prstGeom>
          <a:ln w="0">
            <a:noFill/>
          </a:ln>
        </p:spPr>
      </p:pic>
      <p:grpSp>
        <p:nvGrpSpPr>
          <p:cNvPr id="177" name="1 Título"/>
          <p:cNvGrpSpPr/>
          <p:nvPr/>
        </p:nvGrpSpPr>
        <p:grpSpPr>
          <a:xfrm>
            <a:off x="139680" y="536400"/>
            <a:ext cx="3700440" cy="682920"/>
            <a:chOff x="139680" y="536400"/>
            <a:chExt cx="3700440" cy="682920"/>
          </a:xfrm>
        </p:grpSpPr>
        <p:pic>
          <p:nvPicPr>
            <p:cNvPr id="178" name="1 Título" descr=""/>
            <p:cNvPicPr/>
            <p:nvPr/>
          </p:nvPicPr>
          <p:blipFill>
            <a:blip r:embed="rId2"/>
            <a:stretch/>
          </p:blipFill>
          <p:spPr>
            <a:xfrm>
              <a:off x="139680" y="536400"/>
              <a:ext cx="37004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5840" y="571680"/>
              <a:ext cx="35002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700" spc="-1" strike="noStrike">
                  <a:solidFill>
                    <a:srgbClr val="eaeaea"/>
                  </a:solidFill>
                  <a:latin typeface="Verdana"/>
                </a:rPr>
                <a:t>Diseño Conceptual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"/>
          <p:cNvGraphicFramePr/>
          <p:nvPr/>
        </p:nvGraphicFramePr>
        <p:xfrm>
          <a:off x="-765000" y="465120"/>
          <a:ext cx="10944000" cy="5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5000" y="465120"/>
                    <a:ext cx="10944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6"/>
          <p:cNvGrpSpPr/>
          <p:nvPr/>
        </p:nvGrpSpPr>
        <p:grpSpPr>
          <a:xfrm>
            <a:off x="152280" y="3733920"/>
            <a:ext cx="2705040" cy="1447200"/>
            <a:chOff x="152280" y="3733920"/>
            <a:chExt cx="2705040" cy="1447200"/>
          </a:xfrm>
        </p:grpSpPr>
        <p:sp>
          <p:nvSpPr>
            <p:cNvPr id="186" name="Text Box 7"/>
            <p:cNvSpPr/>
            <p:nvPr/>
          </p:nvSpPr>
          <p:spPr>
            <a:xfrm>
              <a:off x="1933560" y="3990960"/>
              <a:ext cx="923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ffff59"/>
                  </a:solidFill>
                  <a:latin typeface="Verdana"/>
                </a:rPr>
                <a:t>Productos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187" name="Group 8"/>
            <p:cNvGrpSpPr/>
            <p:nvPr/>
          </p:nvGrpSpPr>
          <p:grpSpPr>
            <a:xfrm>
              <a:off x="218160" y="3990960"/>
              <a:ext cx="2440800" cy="1019880"/>
              <a:chOff x="218160" y="3990960"/>
              <a:chExt cx="2440800" cy="1019880"/>
            </a:xfrm>
          </p:grpSpPr>
          <p:sp>
            <p:nvSpPr>
              <p:cNvPr id="188" name="Oval 9"/>
              <p:cNvSpPr/>
              <p:nvPr/>
            </p:nvSpPr>
            <p:spPr>
              <a:xfrm>
                <a:off x="942840" y="4074120"/>
                <a:ext cx="990000" cy="936720"/>
              </a:xfrm>
              <a:prstGeom prst="ellipse">
                <a:avLst/>
              </a:prstGeom>
              <a:noFill/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89" name="Line 10"/>
              <p:cNvSpPr/>
              <p:nvPr/>
            </p:nvSpPr>
            <p:spPr>
              <a:xfrm>
                <a:off x="218160" y="4500000"/>
                <a:ext cx="726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0" name="Line 11"/>
              <p:cNvSpPr/>
              <p:nvPr/>
            </p:nvSpPr>
            <p:spPr>
              <a:xfrm>
                <a:off x="1932840" y="4500000"/>
                <a:ext cx="726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1" name="Text Box 12"/>
              <p:cNvSpPr/>
              <p:nvPr/>
            </p:nvSpPr>
            <p:spPr>
              <a:xfrm>
                <a:off x="218160" y="3990960"/>
                <a:ext cx="793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ffff59"/>
                    </a:solidFill>
                    <a:latin typeface="Verdana"/>
                  </a:rPr>
                  <a:t>insumos</a:t>
                </a:r>
                <a:endParaRPr b="0" lang="en-US" sz="11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2" name="Text Box 13"/>
              <p:cNvSpPr/>
              <p:nvPr/>
            </p:nvSpPr>
            <p:spPr>
              <a:xfrm>
                <a:off x="942840" y="43315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59"/>
                    </a:solidFill>
                    <a:latin typeface="Verdana"/>
                  </a:rPr>
                  <a:t>PROCESO</a:t>
                </a:r>
                <a:endParaRPr b="0" lang="en-US" sz="1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193" name="Rectangle 14"/>
            <p:cNvSpPr/>
            <p:nvPr/>
          </p:nvSpPr>
          <p:spPr>
            <a:xfrm>
              <a:off x="152280" y="3733920"/>
              <a:ext cx="2638080" cy="14472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28600" y="5257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Entrada-Sali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3571920" y="621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Bloqu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6019920" y="6172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59"/>
                </a:solidFill>
                <a:latin typeface="Verdana"/>
              </a:rPr>
              <a:t>Diagrama de Flujo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6"/>
          <a:stretch/>
        </p:blipFill>
        <p:spPr>
          <a:xfrm>
            <a:off x="2928960" y="35002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59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57120" y="2514600"/>
            <a:ext cx="83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Descubrimiento Científ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tudios Experimentales  1-5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tudios Piloto 1-3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atente 10- 15 añ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ocimiento Púb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202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203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ducción de Biocombustib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414000" y="1143000"/>
            <a:ext cx="8515440" cy="5681520"/>
            <a:chOff x="414000" y="1143000"/>
            <a:chExt cx="8515440" cy="5681520"/>
          </a:xfrm>
        </p:grpSpPr>
        <p:sp>
          <p:nvSpPr>
            <p:cNvPr id="207" name="Oval 3"/>
            <p:cNvSpPr/>
            <p:nvPr/>
          </p:nvSpPr>
          <p:spPr>
            <a:xfrm>
              <a:off x="3692880" y="1391040"/>
              <a:ext cx="2111400" cy="199044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Line 4"/>
            <p:cNvSpPr/>
            <p:nvPr/>
          </p:nvSpPr>
          <p:spPr>
            <a:xfrm>
              <a:off x="1631160" y="2314800"/>
              <a:ext cx="200160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>
              <a:off x="5816520" y="2314800"/>
              <a:ext cx="2003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814680" y="1500840"/>
              <a:ext cx="1865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253160" y="261756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858280" y="1143000"/>
              <a:ext cx="307116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Biocombustible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3798360" y="1962000"/>
              <a:ext cx="2125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 flipV="1">
              <a:off x="2714760" y="3373920"/>
              <a:ext cx="1364040" cy="62604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414000" y="3870360"/>
              <a:ext cx="210168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2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09680" y="3539520"/>
              <a:ext cx="4620960" cy="32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ff59"/>
                  </a:solidFill>
                  <a:latin typeface="Verdana"/>
                </a:rPr>
                <a:t>Información</a:t>
              </a:r>
              <a:endParaRPr b="0" lang="en-US" sz="31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Características de la materia prima,  productos y sub-product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opiedades fisicoquímica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opiedades bioquímica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urez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Preci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Seguridad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Toxicidad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800" spc="-1" strike="noStrike">
                  <a:solidFill>
                    <a:srgbClr val="ffff59"/>
                  </a:solidFill>
                  <a:latin typeface="Verdana"/>
                </a:rPr>
                <a:t>Etc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ffff59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Caracterización Materia Prima y subproduct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229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14440"/>
            <a:ext cx="8382240" cy="5089680"/>
          </a:xfrm>
          <a:prstGeom prst="rect">
            <a:avLst/>
          </a:prstGeom>
          <a:ln w="0">
            <a:noFill/>
          </a:ln>
        </p:spPr>
      </p:pic>
      <p:grpSp>
        <p:nvGrpSpPr>
          <p:cNvPr id="124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25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racterísticas del producto (Etanol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57160" y="1785960"/>
          <a:ext cx="7786800" cy="4429080"/>
        </p:xfrm>
        <a:graphic>
          <a:graphicData uri="http://schemas.openxmlformats.org/drawingml/2006/table">
            <a:tbl>
              <a:tblPr/>
              <a:tblGrid>
                <a:gridCol w="4583160"/>
                <a:gridCol w="3203640"/>
              </a:tblGrid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Propiedad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Etano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unto de ebullic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72-17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Densidad [lb/gal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resión de mezclado [psi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8-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Calor de vaporización [BTU/lb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362-4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just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Punto de autoignición  [º C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365-4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Limite de flamabilidad [%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3,3-1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Temperatura de llama [ºC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19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ed5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Calor de combustión [BTU/gal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59"/>
                          </a:solidFill>
                          <a:latin typeface="Calibri"/>
                          <a:ea typeface="Times New Roman"/>
                        </a:rPr>
                        <a:t>75.700-76.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Número de octanaj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27160" indent="-225360" algn="ctr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6666"/>
                          </a:solidFill>
                          <a:latin typeface="Calibri"/>
                          <a:ea typeface="Times New Roman"/>
                        </a:rPr>
                        <a:t>96-1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ducción de Biocombustib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424440" y="1143000"/>
            <a:ext cx="8505000" cy="5793120"/>
            <a:chOff x="424440" y="1143000"/>
            <a:chExt cx="8505000" cy="5793120"/>
          </a:xfrm>
        </p:grpSpPr>
        <p:sp>
          <p:nvSpPr>
            <p:cNvPr id="223" name="Oval 3"/>
            <p:cNvSpPr/>
            <p:nvPr/>
          </p:nvSpPr>
          <p:spPr>
            <a:xfrm>
              <a:off x="3692880" y="1391040"/>
              <a:ext cx="2111400" cy="199044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631160" y="2314800"/>
              <a:ext cx="200160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5816520" y="2314800"/>
              <a:ext cx="2003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814680" y="1500840"/>
              <a:ext cx="1865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1253160" y="261756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5858280" y="1143000"/>
              <a:ext cx="307116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Biocombustible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3798360" y="1962000"/>
              <a:ext cx="2125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0" name="Line 10"/>
            <p:cNvSpPr/>
            <p:nvPr/>
          </p:nvSpPr>
          <p:spPr>
            <a:xfrm flipV="1">
              <a:off x="2492640" y="3373560"/>
              <a:ext cx="1586160" cy="90900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424440" y="3870000"/>
              <a:ext cx="2054520" cy="12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4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4009680" y="3539520"/>
              <a:ext cx="4620960" cy="33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400" spc="-1" strike="noStrike">
                  <a:solidFill>
                    <a:srgbClr val="ffff59"/>
                  </a:solidFill>
                  <a:latin typeface="Verdana"/>
                </a:rPr>
                <a:t>Información del proceso</a:t>
              </a: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l flujo de producción deseado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Reacciones químicas o bioquímicas y condiciones de reacción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vers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diciones de operac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xcesos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2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Porcentajes de reciclo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Eficiencia de cada operación unitaria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ualquier restricción del procesamiento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just">
                <a:buClr>
                  <a:srgbClr val="eaeaea"/>
                </a:buClr>
                <a:buFont typeface="Verdana"/>
                <a:buAutoNum type="arabicPeriod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buClr>
                  <a:srgbClr val="eaeaea"/>
                </a:buClr>
                <a:buFont typeface="Arial"/>
                <a:buChar char="•"/>
                <a:tabLst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ción de Biodiesel</a:t>
            </a:r>
            <a:br>
              <a:rPr sz="4400"/>
            </a:b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Reacción Quím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7762680" cy="2885760"/>
          </a:xfrm>
          <a:prstGeom prst="rect">
            <a:avLst/>
          </a:prstGeom>
          <a:ln w="0">
            <a:noFill/>
          </a:ln>
        </p:spPr>
      </p:pic>
      <p:sp>
        <p:nvSpPr>
          <p:cNvPr id="235" name="4 CuadroTexto"/>
          <p:cNvSpPr/>
          <p:nvPr/>
        </p:nvSpPr>
        <p:spPr>
          <a:xfrm>
            <a:off x="785880" y="492912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Temperatura de Operación: 60º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versión: 98% de los aceit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237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238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iagrama de entrada (Input) y salida (Output) Diagrama I-O.</a:t>
            </a:r>
            <a:br>
              <a:rPr sz="44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quema que muestra las materias primas que ingresan al proceso y los productos, subproductos y desechos que salen del proce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1" name="Group 24"/>
          <p:cNvGrpSpPr/>
          <p:nvPr/>
        </p:nvGrpSpPr>
        <p:grpSpPr>
          <a:xfrm>
            <a:off x="1163520" y="3079440"/>
            <a:ext cx="6837120" cy="3051000"/>
            <a:chOff x="1163520" y="3079440"/>
            <a:chExt cx="6837120" cy="3051000"/>
          </a:xfrm>
        </p:grpSpPr>
        <p:sp>
          <p:nvSpPr>
            <p:cNvPr id="242" name="Rectangle 6"/>
            <p:cNvSpPr/>
            <p:nvPr/>
          </p:nvSpPr>
          <p:spPr>
            <a:xfrm>
              <a:off x="3039120" y="4144680"/>
              <a:ext cx="2479680" cy="1397880"/>
            </a:xfrm>
            <a:prstGeom prst="rect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295280" y="458568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1295280" y="510192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5519160" y="473220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5251320" y="613044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Line 11"/>
            <p:cNvSpPr/>
            <p:nvPr/>
          </p:nvSpPr>
          <p:spPr>
            <a:xfrm flipV="1">
              <a:off x="5251320" y="554256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Line 12"/>
            <p:cNvSpPr/>
            <p:nvPr/>
          </p:nvSpPr>
          <p:spPr>
            <a:xfrm flipV="1">
              <a:off x="6189480" y="363024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>
              <a:off x="5519160" y="4218120"/>
              <a:ext cx="6703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 flipH="1">
              <a:off x="3440160" y="3630240"/>
              <a:ext cx="27489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3440160" y="3630240"/>
              <a:ext cx="0" cy="514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2" name="Text Box 16"/>
            <p:cNvSpPr/>
            <p:nvPr/>
          </p:nvSpPr>
          <p:spPr>
            <a:xfrm>
              <a:off x="4250520" y="308052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Recicl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1163520" y="407160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1217160" y="52106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6658560" y="42552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721120" y="55782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Sub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>
              <a:off x="6189480" y="3630240"/>
              <a:ext cx="1273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8" name="Text Box 22"/>
            <p:cNvSpPr/>
            <p:nvPr/>
          </p:nvSpPr>
          <p:spPr>
            <a:xfrm>
              <a:off x="6379560" y="307944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desech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3278160" y="4631760"/>
              <a:ext cx="20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Verdana"/>
                </a:rPr>
                <a:t>PROCES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Ejemplo</a:t>
            </a:r>
            <a:br>
              <a:rPr sz="4400"/>
            </a:br>
            <a:br>
              <a:rPr sz="44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abore el diagrama I-O de su proce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1" name="Group 24"/>
          <p:cNvGrpSpPr/>
          <p:nvPr/>
        </p:nvGrpSpPr>
        <p:grpSpPr>
          <a:xfrm>
            <a:off x="1163520" y="3079440"/>
            <a:ext cx="7497360" cy="3051000"/>
            <a:chOff x="1163520" y="3079440"/>
            <a:chExt cx="7497360" cy="3051000"/>
          </a:xfrm>
        </p:grpSpPr>
        <p:sp>
          <p:nvSpPr>
            <p:cNvPr id="262" name="Rectangle 6"/>
            <p:cNvSpPr/>
            <p:nvPr/>
          </p:nvSpPr>
          <p:spPr>
            <a:xfrm>
              <a:off x="3039120" y="4144680"/>
              <a:ext cx="2479680" cy="1397880"/>
            </a:xfrm>
            <a:prstGeom prst="rect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>
              <a:off x="1295280" y="458568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>
              <a:off x="1295280" y="510192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Line 9"/>
            <p:cNvSpPr/>
            <p:nvPr/>
          </p:nvSpPr>
          <p:spPr>
            <a:xfrm>
              <a:off x="5519160" y="473220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251320" y="6130440"/>
              <a:ext cx="1743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 flipV="1">
              <a:off x="5251320" y="554256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 flipV="1">
              <a:off x="6189480" y="3630240"/>
              <a:ext cx="0" cy="587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>
              <a:off x="5519160" y="4218120"/>
              <a:ext cx="6703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3440160" y="3630240"/>
              <a:ext cx="27489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1" name="Line 15"/>
            <p:cNvSpPr/>
            <p:nvPr/>
          </p:nvSpPr>
          <p:spPr>
            <a:xfrm>
              <a:off x="3440160" y="3630240"/>
              <a:ext cx="0" cy="514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4250520" y="308052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Recicl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1163520" y="407160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Materia Prim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1217520" y="52106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6701760" y="42552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Biocombustibl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5721120" y="557820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Subproduc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7" name="Line 21"/>
            <p:cNvSpPr/>
            <p:nvPr/>
          </p:nvSpPr>
          <p:spPr>
            <a:xfrm>
              <a:off x="6189480" y="3630240"/>
              <a:ext cx="1273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6379920" y="307944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Verdana"/>
                </a:rPr>
                <a:t>desech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9" name="Text Box 23"/>
            <p:cNvSpPr/>
            <p:nvPr/>
          </p:nvSpPr>
          <p:spPr>
            <a:xfrm>
              <a:off x="3278160" y="4631760"/>
              <a:ext cx="20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Verdana"/>
                </a:rPr>
                <a:t>PROCES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12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1 Título"/>
          <p:cNvGrpSpPr/>
          <p:nvPr/>
        </p:nvGrpSpPr>
        <p:grpSpPr>
          <a:xfrm>
            <a:off x="2865600" y="285840"/>
            <a:ext cx="3681360" cy="720720"/>
            <a:chOff x="2865600" y="285840"/>
            <a:chExt cx="3681360" cy="720720"/>
          </a:xfrm>
        </p:grpSpPr>
        <p:pic>
          <p:nvPicPr>
            <p:cNvPr id="128" name="1 Título" descr=""/>
            <p:cNvPicPr/>
            <p:nvPr/>
          </p:nvPicPr>
          <p:blipFill>
            <a:blip r:embed="rId1"/>
            <a:stretch/>
          </p:blipFill>
          <p:spPr>
            <a:xfrm>
              <a:off x="2865600" y="285840"/>
              <a:ext cx="3681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928960" y="357120"/>
              <a:ext cx="3490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1" lang="es-CL" sz="3200" spc="-1" strike="noStrike">
                  <a:solidFill>
                    <a:srgbClr val="ffff59"/>
                  </a:solidFill>
                  <a:latin typeface="Verdana"/>
                </a:rPr>
                <a:t> </a:t>
              </a:r>
              <a:r>
                <a:rPr b="1" lang="es-CL" sz="3200" spc="-1" strike="noStrike">
                  <a:solidFill>
                    <a:srgbClr val="ffff59"/>
                  </a:solidFill>
                  <a:latin typeface="Verdana"/>
                </a:rPr>
                <a:t>MOTIVACION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30" name="1 Título"/>
          <p:cNvGrpSpPr/>
          <p:nvPr/>
        </p:nvGrpSpPr>
        <p:grpSpPr>
          <a:xfrm>
            <a:off x="298440" y="1103400"/>
            <a:ext cx="5187960" cy="834840"/>
            <a:chOff x="298440" y="1103400"/>
            <a:chExt cx="5187960" cy="834840"/>
          </a:xfrm>
        </p:grpSpPr>
        <p:pic>
          <p:nvPicPr>
            <p:cNvPr id="131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51879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28760" y="1143000"/>
              <a:ext cx="50004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 General del Taller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3" name="22 Rectángulo"/>
          <p:cNvSpPr/>
          <p:nvPr/>
        </p:nvSpPr>
        <p:spPr>
          <a:xfrm>
            <a:off x="928800" y="221472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Verdana"/>
              </a:rPr>
              <a:t>Realizar el diseño conceptual de plantas productoras de biocombustibl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4 Marcador de contenido" descr=""/>
          <p:cNvPicPr/>
          <p:nvPr/>
        </p:nvPicPr>
        <p:blipFill>
          <a:blip r:embed="rId1"/>
          <a:stretch/>
        </p:blipFill>
        <p:spPr>
          <a:xfrm>
            <a:off x="396720" y="1609560"/>
            <a:ext cx="8691840" cy="5108760"/>
          </a:xfrm>
          <a:prstGeom prst="rect">
            <a:avLst/>
          </a:prstGeom>
          <a:ln w="0">
            <a:noFill/>
          </a:ln>
        </p:spPr>
      </p:pic>
      <p:grpSp>
        <p:nvGrpSpPr>
          <p:cNvPr id="135" name="1 Título"/>
          <p:cNvGrpSpPr/>
          <p:nvPr/>
        </p:nvGrpSpPr>
        <p:grpSpPr>
          <a:xfrm>
            <a:off x="298440" y="676440"/>
            <a:ext cx="4187880" cy="688680"/>
            <a:chOff x="298440" y="676440"/>
            <a:chExt cx="4187880" cy="688680"/>
          </a:xfrm>
        </p:grpSpPr>
        <p:pic>
          <p:nvPicPr>
            <p:cNvPr id="136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41878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28760" y="714240"/>
              <a:ext cx="4000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s Específicos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4 Marcador de contenido" descr=""/>
          <p:cNvPicPr/>
          <p:nvPr/>
        </p:nvPicPr>
        <p:blipFill>
          <a:blip r:embed="rId1"/>
          <a:stretch/>
        </p:blipFill>
        <p:spPr>
          <a:xfrm>
            <a:off x="311040" y="1779480"/>
            <a:ext cx="8399520" cy="4614840"/>
          </a:xfrm>
          <a:prstGeom prst="rect">
            <a:avLst/>
          </a:prstGeom>
          <a:ln w="0">
            <a:noFill/>
          </a:ln>
        </p:spPr>
      </p:pic>
      <p:grpSp>
        <p:nvGrpSpPr>
          <p:cNvPr id="140" name="1 Título"/>
          <p:cNvGrpSpPr/>
          <p:nvPr/>
        </p:nvGrpSpPr>
        <p:grpSpPr>
          <a:xfrm>
            <a:off x="103320" y="536400"/>
            <a:ext cx="6522840" cy="828720"/>
            <a:chOff x="103320" y="536400"/>
            <a:chExt cx="6522840" cy="828720"/>
          </a:xfrm>
        </p:grpSpPr>
        <p:pic>
          <p:nvPicPr>
            <p:cNvPr id="141" name="1 Título" descr=""/>
            <p:cNvPicPr/>
            <p:nvPr/>
          </p:nvPicPr>
          <p:blipFill>
            <a:blip r:embed="rId2"/>
            <a:stretch/>
          </p:blipFill>
          <p:spPr>
            <a:xfrm>
              <a:off x="103320" y="536400"/>
              <a:ext cx="65228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28760" y="571680"/>
              <a:ext cx="61434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500" spc="-1" strike="noStrike">
                  <a:solidFill>
                    <a:srgbClr val="eaeaea"/>
                  </a:solidFill>
                  <a:latin typeface="Verdana"/>
                </a:rPr>
                <a:t>Metodología</a:t>
              </a:r>
              <a:endParaRPr b="0" lang="en-US" sz="3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4 Marcador de contenido" descr=""/>
          <p:cNvPicPr/>
          <p:nvPr/>
        </p:nvPicPr>
        <p:blipFill>
          <a:blip r:embed="rId1"/>
          <a:stretch/>
        </p:blipFill>
        <p:spPr>
          <a:xfrm>
            <a:off x="426960" y="1494000"/>
            <a:ext cx="8412120" cy="5010120"/>
          </a:xfrm>
          <a:prstGeom prst="rect">
            <a:avLst/>
          </a:prstGeom>
          <a:ln w="0">
            <a:noFill/>
          </a:ln>
        </p:spPr>
      </p:pic>
      <p:grpSp>
        <p:nvGrpSpPr>
          <p:cNvPr id="144" name="1 Título"/>
          <p:cNvGrpSpPr/>
          <p:nvPr/>
        </p:nvGrpSpPr>
        <p:grpSpPr>
          <a:xfrm>
            <a:off x="225360" y="493560"/>
            <a:ext cx="2200320" cy="725760"/>
            <a:chOff x="225360" y="493560"/>
            <a:chExt cx="2200320" cy="725760"/>
          </a:xfrm>
        </p:grpSpPr>
        <p:pic>
          <p:nvPicPr>
            <p:cNvPr id="145" name="1 Título" descr=""/>
            <p:cNvPicPr/>
            <p:nvPr/>
          </p:nvPicPr>
          <p:blipFill>
            <a:blip r:embed="rId2"/>
            <a:stretch/>
          </p:blipFill>
          <p:spPr>
            <a:xfrm>
              <a:off x="225360" y="493560"/>
              <a:ext cx="2200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5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3200" spc="-1" strike="noStrike">
                  <a:solidFill>
                    <a:srgbClr val="eaeaea"/>
                  </a:solidFill>
                  <a:latin typeface="Verdana"/>
                </a:rPr>
                <a:t>Agenda</a:t>
              </a: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428760" y="728640"/>
            <a:ext cx="814392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3200" spc="-1" strike="noStrike">
                <a:solidFill>
                  <a:srgbClr val="ffff59"/>
                </a:solidFill>
                <a:latin typeface="CG Times"/>
                <a:ea typeface="Times New Roman"/>
              </a:rPr>
              <a:t>Proces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istema formado por equipos (unidades componentes) interconectados en forma organizada para transformar (procesar 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ó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 modificar las propiedades f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í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icas-qu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í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micas y/o </a:t>
            </a:r>
            <a:r>
              <a:rPr b="0" lang="es-ES_tradnl" sz="2600" spc="-1" strike="noStrike">
                <a:solidFill>
                  <a:srgbClr val="ffffcc"/>
                </a:solidFill>
                <a:latin typeface="CG Times"/>
                <a:ea typeface="Times New Roman"/>
              </a:rPr>
              <a:t>bioquímicas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) materia prima en productos (efluentes) de inter</a:t>
            </a:r>
            <a:r>
              <a:rPr b="0" lang="es-ES_tradnl" sz="2600" spc="-1" strike="noStrike">
                <a:solidFill>
                  <a:srgbClr val="eaeaea"/>
                </a:solidFill>
                <a:latin typeface="Verdana"/>
                <a:ea typeface="Times New Roman"/>
              </a:rPr>
              <a:t>é</a:t>
            </a:r>
            <a:r>
              <a:rPr b="0" lang="es-ES_tradnl" sz="2600" spc="-1" strike="noStrike">
                <a:solidFill>
                  <a:srgbClr val="eaeaea"/>
                </a:solidFill>
                <a:latin typeface="CG Times"/>
                <a:ea typeface="Times New Roman"/>
              </a:rPr>
              <a:t>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ffffcc"/>
                </a:solidFill>
                <a:latin typeface="Arial"/>
              </a:rPr>
              <a:t>PROCESOS INDUSTRIALE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9" name="Group 14"/>
          <p:cNvGrpSpPr/>
          <p:nvPr/>
        </p:nvGrpSpPr>
        <p:grpSpPr>
          <a:xfrm>
            <a:off x="543240" y="1857240"/>
            <a:ext cx="8696160" cy="4742640"/>
            <a:chOff x="543240" y="1857240"/>
            <a:chExt cx="8696160" cy="4742640"/>
          </a:xfrm>
        </p:grpSpPr>
        <p:sp>
          <p:nvSpPr>
            <p:cNvPr id="150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fff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225080" y="2141640"/>
              <a:ext cx="2348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MATERIAS PRIM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1311120" y="3132000"/>
              <a:ext cx="1295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SUM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6286680" y="1857240"/>
              <a:ext cx="29527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(BIOCOMBUSTIBLE)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ffffcc"/>
                  </a:solidFill>
                  <a:latin typeface="Verdana"/>
                </a:rPr>
                <a:t>SUB-PRODUCT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3924360" y="2565360"/>
              <a:ext cx="220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2800" spc="-1" strike="noStrike">
                  <a:solidFill>
                    <a:srgbClr val="ffffcc"/>
                  </a:solidFill>
                  <a:latin typeface="Verdana"/>
                </a:rPr>
                <a:t>PROCESO</a:t>
              </a: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ffff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543240" y="4214880"/>
              <a:ext cx="3930120" cy="23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ONOCIMIENTO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Ciencias Básic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Operaciones Unitaria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	</a:t>
              </a: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- Ciencias de la Ingenier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RECURSOS HUMANOS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ENERGÍA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eaeaea"/>
                  </a:solidFill>
                  <a:latin typeface="Verdana"/>
                </a:rPr>
                <a:t>CAPITAL, $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6466320" y="4448160"/>
              <a:ext cx="16534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ff59"/>
                  </a:solidFill>
                  <a:latin typeface="Verdana"/>
                </a:rPr>
                <a:t>DISEÑO</a:t>
              </a:r>
              <a:endParaRPr b="0" lang="en-US" sz="3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0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57120" y="747720"/>
            <a:ext cx="83581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59"/>
                </a:solidFill>
                <a:latin typeface="Verdana"/>
              </a:rPr>
              <a:t>Operaciones Unitaria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tapa de un proceso, donde se realiza una modificación específica de una corriente, por ejemplo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Molien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Filt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alentamiento (intercambiador de calor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vapo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entrifug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10-04-28T21:51:58Z</dcterms:modified>
  <cp:revision>216</cp:revision>
  <dc:subject/>
  <dc:title>Diapositiva 1</dc:title>
</cp:coreProperties>
</file>