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425D-85E2-4454-ADAC-739AA959B65B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BE82-1F17-4137-94AF-11EF0569F3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20AA-92A6-44F1-B2BB-3E0D0F4A9EC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6BA-39B8-4BF1-B814-BA2EDC40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F55-9040-459F-B24E-307C3E47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B03-A75E-4BA0-B381-7720A071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310-CC66-45D9-A1B1-023DAFBF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60A5-D883-4CAC-A914-70DE7A11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2DB5-74A6-40BA-9F14-E29EA943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0EC3-D010-4B81-8422-D98DD546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28D9-A218-4544-94B7-84C19E37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B25B-F3DB-4AD8-B0AE-BF05A6B9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F83B-82BB-436B-B3BB-08BD6848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9F24-56E5-401C-A8E9-625D5011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66D-DB68-4C6A-B513-F412FC68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5384-F604-40BD-84DB-E9815A10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E2DE-0264-4BE9-9D4B-B1EB4F2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F8F3-C355-4BE5-8E2F-DE379C74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F455-E9E8-48BD-A055-8E313307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1FE9-BFD2-4B25-9999-3337E280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153-ED23-456C-B8F5-7B78FB43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90C-402A-4EE5-9C97-F2345E61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456-91ED-4402-B949-B712A920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0CE-E83F-4FA9-A40F-89E6E29C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299-C4A9-43CB-93C9-9EE5C6A6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DCE-9468-4CAC-9406-22D9F3A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B31-BD60-48BD-BAFE-D13CA664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2316-5B9E-4277-B53B-4B08212E3CA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2725-B11C-4A8E-890A-82192755BE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Dibujo" TargetMode="External"/><Relationship Id="rId2" Type="http://schemas.openxmlformats.org/officeDocument/2006/relationships/hyperlink" Target="http://es.wikipedia.org/wiki/Visi&#243;n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11430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EMINARIO DE IN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L CURS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ALLER DE PROYE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CuadroTexto 4"/>
          <p:cNvSpPr/>
          <p:nvPr/>
        </p:nvSpPr>
        <p:spPr>
          <a:xfrm>
            <a:off x="6324120" y="5486400"/>
            <a:ext cx="23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ulio Sa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avier Villanu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/>
          <p:cNvSpPr/>
          <p:nvPr/>
        </p:nvSpPr>
        <p:spPr>
          <a:xfrm>
            <a:off x="1581120" y="5315040"/>
            <a:ext cx="7562880" cy="838080"/>
          </a:xfrm>
          <a:prstGeom prst="rightArrow">
            <a:avLst>
              <a:gd name="adj1" fmla="val 50000"/>
              <a:gd name="adj2" fmla="val 15742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 y Produ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523880" y="2476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CONTROL DEL PROYECTO    (DESAF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914400" y="457200"/>
            <a:ext cx="914400" cy="54864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438280" y="43434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1600200" y="1523520"/>
            <a:ext cx="6172200" cy="403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5791320" y="1949400"/>
            <a:ext cx="990360" cy="914400"/>
          </a:xfrm>
          <a:prstGeom prst="ellipse">
            <a:avLst/>
          </a:prstGeom>
          <a:solidFill>
            <a:srgbClr val="ff45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657600" y="358128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800600" y="28638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14600" y="5181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029200" y="3733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019920" y="3048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M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5909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625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5181480" y="601992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64771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2743200" y="48769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>
            <a:off x="3962520" y="4191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22"/>
          <p:cNvSpPr/>
          <p:nvPr/>
        </p:nvSpPr>
        <p:spPr>
          <a:xfrm>
            <a:off x="5181480" y="33526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6324480" y="26668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27432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41148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533412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66294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8"/>
          <p:cNvSpPr/>
          <p:nvPr/>
        </p:nvSpPr>
        <p:spPr>
          <a:xfrm rot="16200000">
            <a:off x="301680" y="328572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gregación de 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533520" y="228600"/>
            <a:ext cx="794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SEMINARIO DE INDUCCIÓN -  SD20A/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609480" y="533520"/>
            <a:ext cx="8153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762120"/>
            <a:ext cx="8093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RABAJO DE GRU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onda las siguientes pregun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Qué es la Ingeniería y cuál es la misión del Ingenier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se sueñan en el año 2030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truya una definición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457200"/>
            <a:ext cx="73152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-  Diseño - “Defini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bujo realizado con líneas para representar algo esquemáti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fuerzo que intenta armonizar cualquier aspecto relacionado con el entorno humano, desde la concepción a la reformulación  de objetos de uso hasta el urbanismo y el habita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diseño es la concepción original de un objeto u obra destinado a la producción en serie tal como en diseño gráfico, de modas o 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uadroTexto 1"/>
          <p:cNvSpPr/>
          <p:nvPr/>
        </p:nvSpPr>
        <p:spPr>
          <a:xfrm>
            <a:off x="609480" y="6094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timológicamente derivado del término italian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egn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dibuj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designio, signare, signado "lo por venir", el porvenir </a:t>
            </a:r>
            <a:r>
              <a:rPr b="0" lang="es-ES_tradnl" sz="2400" spc="-1" strike="noStrike" u="sng">
                <a:solidFill>
                  <a:srgbClr val="ff4568"/>
                </a:solidFill>
                <a:uFillTx/>
                <a:latin typeface="Times New Roman"/>
                <a:hlinkClick r:id="rId2"/>
              </a:rPr>
              <a:t>vis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presentada gráficamente del futur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 hech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la obra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 por hace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el proyect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l acto de diseñar como prefigur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el proceso previo en la búsqueda de una solución o conjunto de las mism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asmar el pensamiento de la solución mediante esbozos, dibujos, bocetos o esquemas trazados, durante o posteriores a un proceso de observación de alternativas o investig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DISEÑO es la base del desarrollo del hombre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, Reformula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66680" y="137160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se del Desarrollo de las sociedades domin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371600" y="2725560"/>
            <a:ext cx="64008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mas  (E: Romana, Arabe, Españo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371600" y="2147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OB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685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Modelo General para Resolv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2819520" y="5562720"/>
            <a:ext cx="2666880" cy="974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ar / Vali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tocrí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276720" y="1646280"/>
            <a:ext cx="1660320" cy="1004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safí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48"/>
          <p:cNvGrpSpPr/>
          <p:nvPr/>
        </p:nvGrpSpPr>
        <p:grpSpPr>
          <a:xfrm>
            <a:off x="549360" y="2468520"/>
            <a:ext cx="2650680" cy="1798560"/>
            <a:chOff x="549360" y="2468520"/>
            <a:chExt cx="2650680" cy="1798560"/>
          </a:xfrm>
        </p:grpSpPr>
        <p:sp>
          <p:nvSpPr>
            <p:cNvPr id="117" name="Oval 10"/>
            <p:cNvSpPr/>
            <p:nvPr/>
          </p:nvSpPr>
          <p:spPr>
            <a:xfrm>
              <a:off x="549360" y="3352680"/>
              <a:ext cx="1355760" cy="914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r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iseñ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 flipH="1">
              <a:off x="1645920" y="2468520"/>
              <a:ext cx="1554120" cy="100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Line 16"/>
          <p:cNvSpPr/>
          <p:nvPr/>
        </p:nvSpPr>
        <p:spPr>
          <a:xfrm>
            <a:off x="1447920" y="4267080"/>
            <a:ext cx="1447560" cy="1524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5121360" y="4343400"/>
            <a:ext cx="1736640" cy="13255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7696080" y="4967280"/>
            <a:ext cx="14479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eneficio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rega Val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tractivida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entaja respecto      de lo anteri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68"/>
          <p:cNvGrpSpPr/>
          <p:nvPr/>
        </p:nvGrpSpPr>
        <p:grpSpPr>
          <a:xfrm>
            <a:off x="304920" y="1447920"/>
            <a:ext cx="2193840" cy="1900800"/>
            <a:chOff x="304920" y="1447920"/>
            <a:chExt cx="2193840" cy="1900800"/>
          </a:xfrm>
        </p:grpSpPr>
        <p:sp>
          <p:nvSpPr>
            <p:cNvPr id="123" name="Text Box 31"/>
            <p:cNvSpPr/>
            <p:nvPr/>
          </p:nvSpPr>
          <p:spPr>
            <a:xfrm>
              <a:off x="304920" y="1447920"/>
              <a:ext cx="2193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Tecnológ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Económ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Ecológicamen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zable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iesgos Control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tractividad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Group 32"/>
            <p:cNvGrpSpPr/>
            <p:nvPr/>
          </p:nvGrpSpPr>
          <p:grpSpPr>
            <a:xfrm>
              <a:off x="995400" y="2897280"/>
              <a:ext cx="329760" cy="451440"/>
              <a:chOff x="995400" y="2897280"/>
              <a:chExt cx="329760" cy="451440"/>
            </a:xfrm>
          </p:grpSpPr>
          <p:sp>
            <p:nvSpPr>
              <p:cNvPr id="125" name="Line 33"/>
              <p:cNvSpPr/>
              <p:nvPr/>
            </p:nvSpPr>
            <p:spPr>
              <a:xfrm>
                <a:off x="1148040" y="2897280"/>
                <a:ext cx="0" cy="2746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Line 34"/>
              <p:cNvSpPr/>
              <p:nvPr/>
            </p:nvSpPr>
            <p:spPr>
              <a:xfrm>
                <a:off x="1240200" y="2903760"/>
                <a:ext cx="0" cy="27540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Line 35"/>
              <p:cNvSpPr/>
              <p:nvPr/>
            </p:nvSpPr>
            <p:spPr>
              <a:xfrm>
                <a:off x="995400" y="3126240"/>
                <a:ext cx="183240" cy="18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Line 36"/>
              <p:cNvSpPr/>
              <p:nvPr/>
            </p:nvSpPr>
            <p:spPr>
              <a:xfrm flipH="1">
                <a:off x="1186560" y="3129480"/>
                <a:ext cx="138600" cy="21924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69"/>
          <p:cNvGrpSpPr/>
          <p:nvPr/>
        </p:nvGrpSpPr>
        <p:grpSpPr>
          <a:xfrm>
            <a:off x="473040" y="4266360"/>
            <a:ext cx="1736640" cy="2286720"/>
            <a:chOff x="473040" y="4266360"/>
            <a:chExt cx="1736640" cy="2286720"/>
          </a:xfrm>
        </p:grpSpPr>
        <p:sp>
          <p:nvSpPr>
            <p:cNvPr id="130" name="Text Box 30"/>
            <p:cNvSpPr/>
            <p:nvPr/>
          </p:nvSpPr>
          <p:spPr>
            <a:xfrm>
              <a:off x="473040" y="5181480"/>
              <a:ext cx="1736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bser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ensibilidad con el med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no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magin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sm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Group 52"/>
            <p:cNvGrpSpPr/>
            <p:nvPr/>
          </p:nvGrpSpPr>
          <p:grpSpPr>
            <a:xfrm>
              <a:off x="1027080" y="4266360"/>
              <a:ext cx="252000" cy="446760"/>
              <a:chOff x="1027080" y="4266360"/>
              <a:chExt cx="252000" cy="446760"/>
            </a:xfrm>
          </p:grpSpPr>
          <p:sp>
            <p:nvSpPr>
              <p:cNvPr id="132" name="Line 37"/>
              <p:cNvSpPr/>
              <p:nvPr/>
            </p:nvSpPr>
            <p:spPr>
              <a:xfrm flipV="1">
                <a:off x="1206360" y="4438800"/>
                <a:ext cx="0" cy="27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Line 38"/>
              <p:cNvSpPr/>
              <p:nvPr/>
            </p:nvSpPr>
            <p:spPr>
              <a:xfrm flipV="1">
                <a:off x="1127160" y="4438800"/>
                <a:ext cx="0" cy="2743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Line 39"/>
              <p:cNvSpPr/>
              <p:nvPr/>
            </p:nvSpPr>
            <p:spPr>
              <a:xfrm flipH="1" flipV="1">
                <a:off x="1142640" y="4268520"/>
                <a:ext cx="136440" cy="1681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Line 40"/>
              <p:cNvSpPr/>
              <p:nvPr/>
            </p:nvSpPr>
            <p:spPr>
              <a:xfrm flipV="1">
                <a:off x="1027080" y="4266360"/>
                <a:ext cx="137880" cy="21816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Oval 43"/>
          <p:cNvSpPr/>
          <p:nvPr/>
        </p:nvSpPr>
        <p:spPr>
          <a:xfrm>
            <a:off x="4800600" y="4191120"/>
            <a:ext cx="12952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olunt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56"/>
          <p:cNvGrpSpPr/>
          <p:nvPr/>
        </p:nvGrpSpPr>
        <p:grpSpPr>
          <a:xfrm>
            <a:off x="1905120" y="2666880"/>
            <a:ext cx="3031920" cy="1600200"/>
            <a:chOff x="1905120" y="2666880"/>
            <a:chExt cx="3031920" cy="1600200"/>
          </a:xfrm>
        </p:grpSpPr>
        <p:grpSp>
          <p:nvGrpSpPr>
            <p:cNvPr id="138" name="Group 49"/>
            <p:cNvGrpSpPr/>
            <p:nvPr/>
          </p:nvGrpSpPr>
          <p:grpSpPr>
            <a:xfrm>
              <a:off x="3505320" y="2666880"/>
              <a:ext cx="1431720" cy="1600200"/>
              <a:chOff x="3505320" y="2666880"/>
              <a:chExt cx="1431720" cy="1600200"/>
            </a:xfrm>
          </p:grpSpPr>
          <p:sp>
            <p:nvSpPr>
              <p:cNvPr id="139" name="Oval 9"/>
              <p:cNvSpPr/>
              <p:nvPr/>
            </p:nvSpPr>
            <p:spPr>
              <a:xfrm>
                <a:off x="3505320" y="3352680"/>
                <a:ext cx="1431720" cy="9144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rs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nc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4114800" y="2666880"/>
                <a:ext cx="0" cy="731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Line 44"/>
            <p:cNvSpPr/>
            <p:nvPr/>
          </p:nvSpPr>
          <p:spPr>
            <a:xfrm>
              <a:off x="1905120" y="380988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Group 55"/>
          <p:cNvGrpSpPr/>
          <p:nvPr/>
        </p:nvGrpSpPr>
        <p:grpSpPr>
          <a:xfrm>
            <a:off x="4952880" y="2438280"/>
            <a:ext cx="2743200" cy="1798560"/>
            <a:chOff x="4952880" y="2438280"/>
            <a:chExt cx="2743200" cy="1798560"/>
          </a:xfrm>
        </p:grpSpPr>
        <p:grpSp>
          <p:nvGrpSpPr>
            <p:cNvPr id="143" name="Group 50"/>
            <p:cNvGrpSpPr/>
            <p:nvPr/>
          </p:nvGrpSpPr>
          <p:grpSpPr>
            <a:xfrm>
              <a:off x="5029200" y="2438280"/>
              <a:ext cx="2666880" cy="1798560"/>
              <a:chOff x="5029200" y="2438280"/>
              <a:chExt cx="2666880" cy="1798560"/>
            </a:xfrm>
          </p:grpSpPr>
          <p:sp>
            <p:nvSpPr>
              <p:cNvPr id="144" name="Oval 7"/>
              <p:cNvSpPr/>
              <p:nvPr/>
            </p:nvSpPr>
            <p:spPr>
              <a:xfrm>
                <a:off x="6019920" y="3444840"/>
                <a:ext cx="1676160" cy="7920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Re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Materi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Line 12"/>
              <p:cNvSpPr/>
              <p:nvPr/>
            </p:nvSpPr>
            <p:spPr>
              <a:xfrm>
                <a:off x="5029200" y="2438280"/>
                <a:ext cx="146376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46"/>
            <p:cNvSpPr/>
            <p:nvPr/>
          </p:nvSpPr>
          <p:spPr>
            <a:xfrm>
              <a:off x="4952880" y="3779640"/>
              <a:ext cx="1067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Line 47"/>
          <p:cNvSpPr/>
          <p:nvPr/>
        </p:nvSpPr>
        <p:spPr>
          <a:xfrm>
            <a:off x="4114800" y="4267080"/>
            <a:ext cx="0" cy="1295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57"/>
          <p:cNvSpPr/>
          <p:nvPr/>
        </p:nvSpPr>
        <p:spPr>
          <a:xfrm>
            <a:off x="6248520" y="4800600"/>
            <a:ext cx="121896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Group 65"/>
          <p:cNvGrpSpPr/>
          <p:nvPr/>
        </p:nvGrpSpPr>
        <p:grpSpPr>
          <a:xfrm>
            <a:off x="7467480" y="3200400"/>
            <a:ext cx="1676520" cy="1676520"/>
            <a:chOff x="7467480" y="3200400"/>
            <a:chExt cx="1676520" cy="1676520"/>
          </a:xfrm>
        </p:grpSpPr>
        <p:sp>
          <p:nvSpPr>
            <p:cNvPr id="150" name="Text Box 42"/>
            <p:cNvSpPr/>
            <p:nvPr/>
          </p:nvSpPr>
          <p:spPr>
            <a:xfrm>
              <a:off x="8381880" y="457200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Group 64"/>
            <p:cNvGrpSpPr/>
            <p:nvPr/>
          </p:nvGrpSpPr>
          <p:grpSpPr>
            <a:xfrm>
              <a:off x="7742160" y="3200400"/>
              <a:ext cx="1303560" cy="1333440"/>
              <a:chOff x="7742160" y="3200400"/>
              <a:chExt cx="1303560" cy="1333440"/>
            </a:xfrm>
          </p:grpSpPr>
          <p:sp>
            <p:nvSpPr>
              <p:cNvPr id="152" name="Line 27"/>
              <p:cNvSpPr/>
              <p:nvPr/>
            </p:nvSpPr>
            <p:spPr>
              <a:xfrm>
                <a:off x="7742160" y="3886200"/>
                <a:ext cx="731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53" name=""/>
              <p:cNvGraphicFramePr/>
              <p:nvPr/>
            </p:nvGraphicFramePr>
            <p:xfrm>
              <a:off x="8474040" y="3200400"/>
              <a:ext cx="571680" cy="1333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474040" y="3200400"/>
                        <a:ext cx="57168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5" name="Line 59"/>
            <p:cNvSpPr/>
            <p:nvPr/>
          </p:nvSpPr>
          <p:spPr>
            <a:xfrm flipH="1">
              <a:off x="7467480" y="4114800"/>
              <a:ext cx="89856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Oval 66"/>
          <p:cNvSpPr/>
          <p:nvPr/>
        </p:nvSpPr>
        <p:spPr>
          <a:xfrm>
            <a:off x="2057400" y="4191120"/>
            <a:ext cx="167652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formul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cc"/>
                </a:solidFill>
                <a:latin typeface="Tahoma"/>
              </a:rPr>
              <a:t>DETERMINACION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09480" y="685800"/>
            <a:ext cx="777240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Cuál es el proyecto o desafí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En qué consis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¿Cuál es su nombr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sultado:   Título del Proye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Propósi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qué?, Por qué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bjetivo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.-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Resultados Esperados (beneficios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los partícipes en el proceso  (cadena de va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cliente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ara e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*  Los resultados deben ser:  posibles y 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457200"/>
            <a:ext cx="777240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4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Validación del Desafí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cue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trev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5.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studio de Fact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c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lógica (impacto ambien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6-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jetivos del dis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lementos a diseñar (part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tot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066680" y="1066680"/>
            <a:ext cx="518184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Tareas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Identific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du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alificación/condiciones de entre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Estrategia y Plan de Trabaj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l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Gant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ordi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edición del Av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R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Mar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CuadroTexto 6"/>
          <p:cNvSpPr/>
          <p:nvPr/>
        </p:nvSpPr>
        <p:spPr>
          <a:xfrm>
            <a:off x="1379160" y="228600"/>
            <a:ext cx="64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LANIFICACIÓN DEL DESARROLLO DEL PROY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( DESAFÍ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21:16:46Z</dcterms:created>
  <dc:creator>Nivia Contreras</dc:creator>
  <dc:description/>
  <dc:language>en-US</dc:language>
  <cp:lastModifiedBy>Julio Salas</cp:lastModifiedBy>
  <dcterms:modified xsi:type="dcterms:W3CDTF">2010-03-30T20:51:10Z</dcterms:modified>
  <cp:revision>40</cp:revision>
  <dc:subject/>
  <dc:title>Sin título de diapositiva</dc:title>
</cp:coreProperties>
</file>