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EECE-DE27-4A7D-86B5-A92305708ABA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9010-5A52-499D-9821-522E3D657D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09F0-D502-44BC-84D0-DD39DE7D9629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647-17C8-473F-8FE0-6D5C499D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940-4686-4531-BAE2-DE1B8306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C45-3F32-4582-9139-592B2856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7DE-E113-48A3-9A81-882F5069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FF72-E4A6-4A19-AC31-79EC158C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3EE5-3034-4011-B938-5EC74E9A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B529-174C-411F-930A-50755A4B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5227-4AAF-40E2-82CC-DD33E22D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60DF-7908-46FC-8155-B1B64735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47F3-BF55-4A06-91EC-0B771796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D04A-6129-49F1-AEAB-5E85418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1D6-C57A-432F-BC1D-5FD73A51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4CA1-9E40-42A8-97F8-80397C82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BBAD-C054-4571-9B35-90EB57B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B6EB-5D02-45DE-801F-075BC0A2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C9E5-DB7B-4FD9-B21E-0321CDC7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3616-61C4-4F65-AC2E-8C2263B3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EC6-4D06-4642-80ED-4DAF7BE0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207-4E46-402D-8CA2-416BA5C8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FB0-BB5C-4949-BF56-B73F3441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149-0620-4B4E-BB8A-9B611DEC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A62-538B-4440-BDEE-7AF7FFDC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585-5F4D-42FC-969F-F3CD680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E0C-7C05-484A-A38A-D22BB108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C3E0-0461-40F1-B4DD-BC8D2794BD2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2A37-D33E-42C7-B589-E80206C2E7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Dibujo" TargetMode="External"/><Relationship Id="rId2" Type="http://schemas.openxmlformats.org/officeDocument/2006/relationships/hyperlink" Target="http://es.wikipedia.org/wiki/Visi&#243;n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11430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EMINARIO DE IN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L CURS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ALLER DE PROYE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CuadroTexto 4"/>
          <p:cNvSpPr/>
          <p:nvPr/>
        </p:nvSpPr>
        <p:spPr>
          <a:xfrm>
            <a:off x="6324120" y="548640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lio Sa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avier Villanu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/>
          <p:cNvSpPr/>
          <p:nvPr/>
        </p:nvSpPr>
        <p:spPr>
          <a:xfrm>
            <a:off x="1581120" y="5315040"/>
            <a:ext cx="7562880" cy="838080"/>
          </a:xfrm>
          <a:prstGeom prst="rightArrow">
            <a:avLst>
              <a:gd name="adj1" fmla="val 50000"/>
              <a:gd name="adj2" fmla="val 15742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 y Produ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523880" y="2476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CONTROL DEL PROYECTO    (DESAF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914400" y="457200"/>
            <a:ext cx="914400" cy="54864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438280" y="43434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1600200" y="1523520"/>
            <a:ext cx="61722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5791320" y="1949400"/>
            <a:ext cx="990360" cy="914400"/>
          </a:xfrm>
          <a:prstGeom prst="ellipse">
            <a:avLst/>
          </a:prstGeom>
          <a:solidFill>
            <a:srgbClr val="ff45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657600" y="358128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00600" y="28638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146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029200" y="3733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0199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5909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625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5181480" y="601992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64771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2743200" y="48769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>
            <a:off x="3962520" y="4191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2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6324480" y="2666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27432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41148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533412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 rot="16200000">
            <a:off x="301680" y="328572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gregación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3520" y="228600"/>
            <a:ext cx="79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MINARIO DE INDUCCIÓN -  SD20A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609480" y="533520"/>
            <a:ext cx="8153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762120"/>
            <a:ext cx="8093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ABAJO DE GRU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onda las siguientes pregun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Qué es la Ingeniería y cuál es la misión del Ingenie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se sueñan en el año 203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truya una definición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457200"/>
            <a:ext cx="73152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-  Diseño - “Defini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bujo realizado con líneas para representar algo esquemát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fuerzo que intenta armonizar cualquier aspecto relacionado con el entorno humano, desde la concepción a la reformulación  de objetos de uso hasta el urbanismo y el habita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iseño es la concepción original de un objeto u obra destinado a la producción en serie tal como en diseño gráfico, de modas o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uadroTexto 1"/>
          <p:cNvSpPr/>
          <p:nvPr/>
        </p:nvSpPr>
        <p:spPr>
          <a:xfrm>
            <a:off x="609480" y="6094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timológicamente derivado del término italian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eg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dibuj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designio, signare, signado "lo por venir", el porvenir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2"/>
              </a:rPr>
              <a:t>vis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presentada gráficamente del futur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hech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la obra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por hace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yec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l acto de diseñar como prefigur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ceso previo en la búsqueda de una solución o conjunto de las mis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asmar el pensamiento de la solución mediante esbozos, dibujos, bocetos o esquemas trazados, durante o posteriores a un proceso de observación de alternativas o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DISEÑO es la base del desarrollo del hombr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, Reformula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13716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e del Desarrollo de las sociedades domin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371600" y="2725560"/>
            <a:ext cx="6400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mas  (E: Romana, Arabe, Españo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371600" y="214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685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Modelo General para Resolv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2819520" y="5562720"/>
            <a:ext cx="2666880" cy="97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ar / Val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crí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276720" y="1646280"/>
            <a:ext cx="1660320" cy="100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48"/>
          <p:cNvGrpSpPr/>
          <p:nvPr/>
        </p:nvGrpSpPr>
        <p:grpSpPr>
          <a:xfrm>
            <a:off x="549360" y="2468520"/>
            <a:ext cx="2650680" cy="1798560"/>
            <a:chOff x="549360" y="2468520"/>
            <a:chExt cx="2650680" cy="1798560"/>
          </a:xfrm>
        </p:grpSpPr>
        <p:sp>
          <p:nvSpPr>
            <p:cNvPr id="117" name="Oval 10"/>
            <p:cNvSpPr/>
            <p:nvPr/>
          </p:nvSpPr>
          <p:spPr>
            <a:xfrm>
              <a:off x="549360" y="3352680"/>
              <a:ext cx="135576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r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 flipH="1">
              <a:off x="1645920" y="2468520"/>
              <a:ext cx="1554120" cy="100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Line 16"/>
          <p:cNvSpPr/>
          <p:nvPr/>
        </p:nvSpPr>
        <p:spPr>
          <a:xfrm>
            <a:off x="1447920" y="4267080"/>
            <a:ext cx="1447560" cy="1524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5121360" y="4343400"/>
            <a:ext cx="1736640" cy="1325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7696080" y="4967280"/>
            <a:ext cx="14479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enefici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rega Val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tractivida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ntaja respecto      de lo anteri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68"/>
          <p:cNvGrpSpPr/>
          <p:nvPr/>
        </p:nvGrpSpPr>
        <p:grpSpPr>
          <a:xfrm>
            <a:off x="304920" y="1447920"/>
            <a:ext cx="2193840" cy="1900800"/>
            <a:chOff x="304920" y="1447920"/>
            <a:chExt cx="2193840" cy="1900800"/>
          </a:xfrm>
        </p:grpSpPr>
        <p:sp>
          <p:nvSpPr>
            <p:cNvPr id="123" name="Text Box 31"/>
            <p:cNvSpPr/>
            <p:nvPr/>
          </p:nvSpPr>
          <p:spPr>
            <a:xfrm>
              <a:off x="304920" y="1447920"/>
              <a:ext cx="2193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Tecnológ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Económ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cológicamen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zable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iesgos Control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tractividad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Group 32"/>
            <p:cNvGrpSpPr/>
            <p:nvPr/>
          </p:nvGrpSpPr>
          <p:grpSpPr>
            <a:xfrm>
              <a:off x="995400" y="2897280"/>
              <a:ext cx="329760" cy="451440"/>
              <a:chOff x="995400" y="2897280"/>
              <a:chExt cx="329760" cy="451440"/>
            </a:xfrm>
          </p:grpSpPr>
          <p:sp>
            <p:nvSpPr>
              <p:cNvPr id="125" name="Line 33"/>
              <p:cNvSpPr/>
              <p:nvPr/>
            </p:nvSpPr>
            <p:spPr>
              <a:xfrm>
                <a:off x="1148040" y="2897280"/>
                <a:ext cx="0" cy="2746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34"/>
              <p:cNvSpPr/>
              <p:nvPr/>
            </p:nvSpPr>
            <p:spPr>
              <a:xfrm>
                <a:off x="1240200" y="2903760"/>
                <a:ext cx="0" cy="27540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35"/>
              <p:cNvSpPr/>
              <p:nvPr/>
            </p:nvSpPr>
            <p:spPr>
              <a:xfrm>
                <a:off x="995400" y="3126240"/>
                <a:ext cx="183240" cy="18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36"/>
              <p:cNvSpPr/>
              <p:nvPr/>
            </p:nvSpPr>
            <p:spPr>
              <a:xfrm flipH="1">
                <a:off x="1186560" y="3129480"/>
                <a:ext cx="138600" cy="21924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69"/>
          <p:cNvGrpSpPr/>
          <p:nvPr/>
        </p:nvGrpSpPr>
        <p:grpSpPr>
          <a:xfrm>
            <a:off x="473040" y="4266360"/>
            <a:ext cx="1736640" cy="2286720"/>
            <a:chOff x="473040" y="4266360"/>
            <a:chExt cx="1736640" cy="2286720"/>
          </a:xfrm>
        </p:grpSpPr>
        <p:sp>
          <p:nvSpPr>
            <p:cNvPr id="130" name="Text Box 30"/>
            <p:cNvSpPr/>
            <p:nvPr/>
          </p:nvSpPr>
          <p:spPr>
            <a:xfrm>
              <a:off x="473040" y="5181480"/>
              <a:ext cx="1736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nsibilidad con el me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no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agin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s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Group 52"/>
            <p:cNvGrpSpPr/>
            <p:nvPr/>
          </p:nvGrpSpPr>
          <p:grpSpPr>
            <a:xfrm>
              <a:off x="1027080" y="4266360"/>
              <a:ext cx="252000" cy="446760"/>
              <a:chOff x="1027080" y="4266360"/>
              <a:chExt cx="252000" cy="446760"/>
            </a:xfrm>
          </p:grpSpPr>
          <p:sp>
            <p:nvSpPr>
              <p:cNvPr id="132" name="Line 37"/>
              <p:cNvSpPr/>
              <p:nvPr/>
            </p:nvSpPr>
            <p:spPr>
              <a:xfrm flipV="1">
                <a:off x="1206360" y="4438800"/>
                <a:ext cx="0" cy="27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38"/>
              <p:cNvSpPr/>
              <p:nvPr/>
            </p:nvSpPr>
            <p:spPr>
              <a:xfrm flipV="1">
                <a:off x="1127160" y="4438800"/>
                <a:ext cx="0" cy="2743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39"/>
              <p:cNvSpPr/>
              <p:nvPr/>
            </p:nvSpPr>
            <p:spPr>
              <a:xfrm flipH="1" flipV="1">
                <a:off x="1142640" y="4268520"/>
                <a:ext cx="136440" cy="1681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40"/>
              <p:cNvSpPr/>
              <p:nvPr/>
            </p:nvSpPr>
            <p:spPr>
              <a:xfrm flipV="1">
                <a:off x="1027080" y="4266360"/>
                <a:ext cx="13788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Oval 43"/>
          <p:cNvSpPr/>
          <p:nvPr/>
        </p:nvSpPr>
        <p:spPr>
          <a:xfrm>
            <a:off x="4800600" y="4191120"/>
            <a:ext cx="12952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olunt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56"/>
          <p:cNvGrpSpPr/>
          <p:nvPr/>
        </p:nvGrpSpPr>
        <p:grpSpPr>
          <a:xfrm>
            <a:off x="1905120" y="2666880"/>
            <a:ext cx="3031920" cy="1600200"/>
            <a:chOff x="1905120" y="2666880"/>
            <a:chExt cx="3031920" cy="1600200"/>
          </a:xfrm>
        </p:grpSpPr>
        <p:grpSp>
          <p:nvGrpSpPr>
            <p:cNvPr id="138" name="Group 49"/>
            <p:cNvGrpSpPr/>
            <p:nvPr/>
          </p:nvGrpSpPr>
          <p:grpSpPr>
            <a:xfrm>
              <a:off x="3505320" y="2666880"/>
              <a:ext cx="1431720" cy="1600200"/>
              <a:chOff x="3505320" y="2666880"/>
              <a:chExt cx="1431720" cy="1600200"/>
            </a:xfrm>
          </p:grpSpPr>
          <p:sp>
            <p:nvSpPr>
              <p:cNvPr id="139" name="Oval 9"/>
              <p:cNvSpPr/>
              <p:nvPr/>
            </p:nvSpPr>
            <p:spPr>
              <a:xfrm>
                <a:off x="3505320" y="3352680"/>
                <a:ext cx="1431720" cy="9144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rs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nc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4114800" y="2666880"/>
                <a:ext cx="0" cy="73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44"/>
            <p:cNvSpPr/>
            <p:nvPr/>
          </p:nvSpPr>
          <p:spPr>
            <a:xfrm>
              <a:off x="1905120" y="380988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55"/>
          <p:cNvGrpSpPr/>
          <p:nvPr/>
        </p:nvGrpSpPr>
        <p:grpSpPr>
          <a:xfrm>
            <a:off x="4952880" y="2438280"/>
            <a:ext cx="2743200" cy="1798560"/>
            <a:chOff x="4952880" y="2438280"/>
            <a:chExt cx="2743200" cy="1798560"/>
          </a:xfrm>
        </p:grpSpPr>
        <p:grpSp>
          <p:nvGrpSpPr>
            <p:cNvPr id="143" name="Group 50"/>
            <p:cNvGrpSpPr/>
            <p:nvPr/>
          </p:nvGrpSpPr>
          <p:grpSpPr>
            <a:xfrm>
              <a:off x="5029200" y="2438280"/>
              <a:ext cx="2666880" cy="1798560"/>
              <a:chOff x="5029200" y="2438280"/>
              <a:chExt cx="2666880" cy="1798560"/>
            </a:xfrm>
          </p:grpSpPr>
          <p:sp>
            <p:nvSpPr>
              <p:cNvPr id="144" name="Oval 7"/>
              <p:cNvSpPr/>
              <p:nvPr/>
            </p:nvSpPr>
            <p:spPr>
              <a:xfrm>
                <a:off x="6019920" y="3444840"/>
                <a:ext cx="1676160" cy="7920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e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Materi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Line 12"/>
              <p:cNvSpPr/>
              <p:nvPr/>
            </p:nvSpPr>
            <p:spPr>
              <a:xfrm>
                <a:off x="5029200" y="2438280"/>
                <a:ext cx="146376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46"/>
            <p:cNvSpPr/>
            <p:nvPr/>
          </p:nvSpPr>
          <p:spPr>
            <a:xfrm>
              <a:off x="4952880" y="3779640"/>
              <a:ext cx="1067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Line 47"/>
          <p:cNvSpPr/>
          <p:nvPr/>
        </p:nvSpPr>
        <p:spPr>
          <a:xfrm>
            <a:off x="4114800" y="4267080"/>
            <a:ext cx="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57"/>
          <p:cNvSpPr/>
          <p:nvPr/>
        </p:nvSpPr>
        <p:spPr>
          <a:xfrm>
            <a:off x="6248520" y="4800600"/>
            <a:ext cx="121896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65"/>
          <p:cNvGrpSpPr/>
          <p:nvPr/>
        </p:nvGrpSpPr>
        <p:grpSpPr>
          <a:xfrm>
            <a:off x="7467480" y="3200400"/>
            <a:ext cx="1676520" cy="1676520"/>
            <a:chOff x="7467480" y="3200400"/>
            <a:chExt cx="1676520" cy="1676520"/>
          </a:xfrm>
        </p:grpSpPr>
        <p:sp>
          <p:nvSpPr>
            <p:cNvPr id="150" name="Text Box 42"/>
            <p:cNvSpPr/>
            <p:nvPr/>
          </p:nvSpPr>
          <p:spPr>
            <a:xfrm>
              <a:off x="8381880" y="45720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Group 64"/>
            <p:cNvGrpSpPr/>
            <p:nvPr/>
          </p:nvGrpSpPr>
          <p:grpSpPr>
            <a:xfrm>
              <a:off x="7742160" y="3200400"/>
              <a:ext cx="1303560" cy="1333440"/>
              <a:chOff x="7742160" y="3200400"/>
              <a:chExt cx="1303560" cy="1333440"/>
            </a:xfrm>
          </p:grpSpPr>
          <p:sp>
            <p:nvSpPr>
              <p:cNvPr id="152" name="Line 27"/>
              <p:cNvSpPr/>
              <p:nvPr/>
            </p:nvSpPr>
            <p:spPr>
              <a:xfrm>
                <a:off x="7742160" y="3886200"/>
                <a:ext cx="731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53" name=""/>
              <p:cNvGraphicFramePr/>
              <p:nvPr/>
            </p:nvGraphicFramePr>
            <p:xfrm>
              <a:off x="8474040" y="3200400"/>
              <a:ext cx="57168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474040" y="3200400"/>
                        <a:ext cx="5716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5" name="Line 59"/>
            <p:cNvSpPr/>
            <p:nvPr/>
          </p:nvSpPr>
          <p:spPr>
            <a:xfrm flipH="1">
              <a:off x="7467480" y="4114800"/>
              <a:ext cx="89856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Oval 66"/>
          <p:cNvSpPr/>
          <p:nvPr/>
        </p:nvSpPr>
        <p:spPr>
          <a:xfrm>
            <a:off x="2057400" y="4191120"/>
            <a:ext cx="167652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formul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DETERMINACION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09480" y="685800"/>
            <a:ext cx="777240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el proyecto o desafí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su nombr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sultado:   Título del Proye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Propósi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qué?, Por qué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bjetivo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Resultados Esperados (beneficios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los partícipes en el proceso  (cadena de v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cliente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  Los resultados deben ser:  posibles y 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457200"/>
            <a:ext cx="777240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4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Valid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cue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5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udio de Fact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lógica (impacto ambien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6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jetivos del 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lementos a diseñar (part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tot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066680" y="1066680"/>
            <a:ext cx="51818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Tareas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Identific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du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lificación/condiciones de entre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rategia y Plan de Trabaj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l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Gant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ción del Av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R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r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CuadroTexto 6"/>
          <p:cNvSpPr/>
          <p:nvPr/>
        </p:nvSpPr>
        <p:spPr>
          <a:xfrm>
            <a:off x="1379160" y="228600"/>
            <a:ext cx="64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LANIFICACIÓN DEL DESARROLLO DEL PROY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( DESAFÍ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16:46Z</dcterms:created>
  <dc:creator>Nivia Contreras</dc:creator>
  <dc:description/>
  <dc:language>en-US</dc:language>
  <cp:lastModifiedBy>Julio Salas</cp:lastModifiedBy>
  <dcterms:modified xsi:type="dcterms:W3CDTF">2010-03-30T20:51:10Z</dcterms:modified>
  <cp:revision>40</cp:revision>
  <dc:subject/>
  <dc:title>Sin título de diapositiva</dc:title>
</cp:coreProperties>
</file>