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9AC2-6671-42C1-BB6C-1DFF2D138668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085-9718-4E90-B455-D56D72E83B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ED8-8677-4BD9-A3F7-7B838190631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954-8E46-40E3-B5E7-9E66D8C6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98E-E323-4975-80AB-14CC827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8DB-FBE7-423B-B146-A58EAC7A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C5C-CFC2-438B-A3DE-E84097DA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005-81D2-4371-B24F-7C1975D2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97BA-9C83-46D2-8AD8-193D76D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CD1-8734-4812-AFC4-7D0DF15D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2379-8DE7-4518-921D-054B43E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7892-7702-4934-A73E-AAC260A2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427-F123-4A30-B2E5-F38FA3C5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8668-EFD7-4B76-BAB4-48305A8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D2C-6FAB-4C43-A571-44BFB543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CF20-625F-4967-BB48-A3E20F1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7845-0184-468E-AA16-01EB6F73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FE1A-44F9-45BA-9C42-0A1EFC44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4AB6-8BA2-4872-8162-B09372FD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1A3B-B160-4CB0-B4BF-55068D03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082-6A58-4F44-B502-6771C4F2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0C3-B8CD-4E87-B133-FF0B6DEC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1BD-6AC9-4C8D-8FB0-8931564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334-1815-4EDB-A33A-F70CF9E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B03-647C-4A3A-8206-07B648E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F90-AF82-471D-ADF0-A824CC0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8DA-FC37-4293-9356-3384544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A5EF-92D5-4384-8BBA-3E95868EC0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970-F4FA-4CA4-9BBF-04446D0A40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Dibujo" TargetMode="External"/><Relationship Id="rId2" Type="http://schemas.openxmlformats.org/officeDocument/2006/relationships/hyperlink" Target="http://es.wikipedia.org/wiki/Visi&#243;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11430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ALLER DE PROY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CuadroTexto 4"/>
          <p:cNvSpPr/>
          <p:nvPr/>
        </p:nvSpPr>
        <p:spPr>
          <a:xfrm>
            <a:off x="6324120" y="548640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lio Sa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avier Villa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247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CONTROL DEL PROYECTO    (DESAF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 rot="16200000">
            <a:off x="301680" y="328572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762120"/>
            <a:ext cx="8093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3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truya una definición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457200"/>
            <a:ext cx="73152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fuerzo que intenta armonizar cualquier aspecto relacionado con el entorno humano, desde la concepción a la reformulación  de objetos de uso hasta el urbanismo y el habit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iseño es la concepción original de un objeto u obra destinado a la producción en serie tal como en diseño gráfico, de modas o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uadroTexto 1"/>
          <p:cNvSpPr/>
          <p:nvPr/>
        </p:nvSpPr>
        <p:spPr>
          <a:xfrm>
            <a:off x="609480" y="6094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timológicamente derivado del término italian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eg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dibuj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designio, signare, signado "lo por venir", el porvenir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2"/>
              </a:rPr>
              <a:t>vis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da gráficamente del futur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hech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la obra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por hace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yec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l acto de diseñar como prefigur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ceso previo en la búsqueda de una solución o conjunto de las mis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asmar el pensamiento de la solución mediante esbozos, dibujos, bocetos o esquemas trazados, durante o posteriores a un proceso de observación de alternativas o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DISEÑO es la base del desarrollo del hombr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13716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371600" y="272556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(E: Romana, Arabe, Españo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371600" y="214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17" name="Oval 10"/>
            <p:cNvSpPr/>
            <p:nvPr/>
          </p:nvSpPr>
          <p:spPr>
            <a:xfrm>
              <a:off x="549360" y="3352680"/>
              <a:ext cx="135576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Line 16"/>
          <p:cNvSpPr/>
          <p:nvPr/>
        </p:nvSpPr>
        <p:spPr>
          <a:xfrm>
            <a:off x="1447920" y="4267080"/>
            <a:ext cx="1447560" cy="1524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8"/>
          <p:cNvGrpSpPr/>
          <p:nvPr/>
        </p:nvGrpSpPr>
        <p:grpSpPr>
          <a:xfrm>
            <a:off x="304920" y="1447920"/>
            <a:ext cx="2193840" cy="1900800"/>
            <a:chOff x="304920" y="1447920"/>
            <a:chExt cx="2193840" cy="1900800"/>
          </a:xfrm>
        </p:grpSpPr>
        <p:sp>
          <p:nvSpPr>
            <p:cNvPr id="123" name="Text Box 31"/>
            <p:cNvSpPr/>
            <p:nvPr/>
          </p:nvSpPr>
          <p:spPr>
            <a:xfrm>
              <a:off x="304920" y="1447920"/>
              <a:ext cx="2193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ológ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cológicamen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zable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Group 32"/>
            <p:cNvGrpSpPr/>
            <p:nvPr/>
          </p:nvGrpSpPr>
          <p:grpSpPr>
            <a:xfrm>
              <a:off x="995400" y="2897280"/>
              <a:ext cx="329760" cy="451440"/>
              <a:chOff x="995400" y="2897280"/>
              <a:chExt cx="329760" cy="451440"/>
            </a:xfrm>
          </p:grpSpPr>
          <p:sp>
            <p:nvSpPr>
              <p:cNvPr id="125" name="Line 33"/>
              <p:cNvSpPr/>
              <p:nvPr/>
            </p:nvSpPr>
            <p:spPr>
              <a:xfrm>
                <a:off x="1148040" y="289728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240200" y="2903760"/>
                <a:ext cx="0" cy="275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35"/>
              <p:cNvSpPr/>
              <p:nvPr/>
            </p:nvSpPr>
            <p:spPr>
              <a:xfrm>
                <a:off x="995400" y="3126240"/>
                <a:ext cx="183240" cy="18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36"/>
              <p:cNvSpPr/>
              <p:nvPr/>
            </p:nvSpPr>
            <p:spPr>
              <a:xfrm flipH="1">
                <a:off x="1186560" y="3129480"/>
                <a:ext cx="138600" cy="219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473040" y="4266360"/>
            <a:ext cx="1736640" cy="2286720"/>
            <a:chOff x="473040" y="4266360"/>
            <a:chExt cx="1736640" cy="2286720"/>
          </a:xfrm>
        </p:grpSpPr>
        <p:sp>
          <p:nvSpPr>
            <p:cNvPr id="130" name="Text Box 30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52"/>
            <p:cNvGrpSpPr/>
            <p:nvPr/>
          </p:nvGrpSpPr>
          <p:grpSpPr>
            <a:xfrm>
              <a:off x="1027080" y="4266360"/>
              <a:ext cx="252000" cy="446760"/>
              <a:chOff x="1027080" y="4266360"/>
              <a:chExt cx="252000" cy="446760"/>
            </a:xfrm>
          </p:grpSpPr>
          <p:sp>
            <p:nvSpPr>
              <p:cNvPr id="132" name="Line 37"/>
              <p:cNvSpPr/>
              <p:nvPr/>
            </p:nvSpPr>
            <p:spPr>
              <a:xfrm flipV="1">
                <a:off x="1206360" y="443880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38"/>
              <p:cNvSpPr/>
              <p:nvPr/>
            </p:nvSpPr>
            <p:spPr>
              <a:xfrm flipV="1">
                <a:off x="1127160" y="443880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39"/>
              <p:cNvSpPr/>
              <p:nvPr/>
            </p:nvSpPr>
            <p:spPr>
              <a:xfrm flipH="1" flipV="1">
                <a:off x="1142640" y="426852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40"/>
              <p:cNvSpPr/>
              <p:nvPr/>
            </p:nvSpPr>
            <p:spPr>
              <a:xfrm flipV="1">
                <a:off x="1027080" y="426636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Oval 43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56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38" name="Group 49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39" name="Oval 9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44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55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43" name="Group 50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44" name="Oval 7"/>
              <p:cNvSpPr/>
              <p:nvPr/>
            </p:nvSpPr>
            <p:spPr>
              <a:xfrm>
                <a:off x="6019920" y="3444840"/>
                <a:ext cx="167616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46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47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6248520" y="4800600"/>
            <a:ext cx="121896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65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50" name="Text Box 42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Group 64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Line 59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Oval 66"/>
          <p:cNvSpPr/>
          <p:nvPr/>
        </p:nvSpPr>
        <p:spPr>
          <a:xfrm>
            <a:off x="2057400" y="4191120"/>
            <a:ext cx="16765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09480" y="685800"/>
            <a:ext cx="77724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su nombr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ultado:   Título del Proye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qué?, Por qué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bjetivo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Resultados Esperados (beneficios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los partícipes en el proceso  (cadena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  Los resultados deben ser:  posibles y 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457200"/>
            <a:ext cx="777240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Valid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5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lógica (impacto ambien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6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jetivos del 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lementos a diseñar (par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tot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66680" y="1066680"/>
            <a:ext cx="51818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Tarea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dentifi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lificación/condiciones de entre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rategia y Plan de Trabaj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Gant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ción del Av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CuadroTexto 6"/>
          <p:cNvSpPr/>
          <p:nvPr/>
        </p:nvSpPr>
        <p:spPr>
          <a:xfrm>
            <a:off x="1379160" y="228600"/>
            <a:ext cx="64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IFICACIÓN DEL DESARROLLO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 DESAFÍ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16:46Z</dcterms:created>
  <dc:creator>Nivia Contreras</dc:creator>
  <dc:description/>
  <dc:language>en-US</dc:language>
  <cp:lastModifiedBy>Julio Salas</cp:lastModifiedBy>
  <dcterms:modified xsi:type="dcterms:W3CDTF">2010-03-30T20:51:10Z</dcterms:modified>
  <cp:revision>40</cp:revision>
  <dc:subject/>
  <dc:title>Sin título de diapositiva</dc:title>
</cp:coreProperties>
</file>