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EB34-D294-4466-AF5A-B23ABB94B810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666B-46B7-4B37-97CF-1DB249DA707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CD5F-D4ED-450B-BA8E-00AE45BC553C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D96B-1F2D-4E6F-B1B0-996E55C0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FBF-40A0-4F8B-B017-32912ADF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7CA-D177-4B39-967D-B85A2C63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BF0-CC58-4093-A467-EBC6E4BC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AF6E-F032-4EFA-BF3E-C2FB4A30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5C31-92F7-4FB3-BDE8-D643AEDF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5A44-5339-4292-B2BA-31DD62D5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3DED-A808-467E-9F59-E7CF1C90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2B13-D1B6-4ADC-8259-449DB383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045A-D3CC-427D-8DF7-EED5F77C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A518-277B-4EC0-BE76-C4AF76E2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6D05-6689-463F-92F3-2989E14E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7A82-6A04-4A93-BB65-BC473769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DF51-302C-4280-94A1-467A2EBC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6FBF-E234-42B7-B2EE-A171F7AF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E2A2-18D7-4CE1-91A8-4F8FB74A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89DD-D5E6-4589-9DD6-55B10D93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649-2E8A-4390-B75B-9CE857E4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C7A-8055-4DF3-BF0D-E4C51C3F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0ED-1DA6-4515-9F26-E3CEFFC0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F90-BACA-462B-81C7-5943666A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EC6-C4C1-4405-AB87-A6AF1D9E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85A-FCD7-4D60-B6DE-69ACD66A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C4E1-BCA9-4836-A255-D4A17DEE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BDC6-1FD1-467F-A752-703EBD788CF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741C-5601-4749-ABE9-82453BB5A3D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Dibujo" TargetMode="External"/><Relationship Id="rId2" Type="http://schemas.openxmlformats.org/officeDocument/2006/relationships/hyperlink" Target="http://es.wikipedia.org/wiki/Visi&#243;n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80880" y="114300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SEMINARIO DE INDU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AL CURS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TALLER DE PROYEC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CuadroTexto 4"/>
          <p:cNvSpPr/>
          <p:nvPr/>
        </p:nvSpPr>
        <p:spPr>
          <a:xfrm>
            <a:off x="6324120" y="5486400"/>
            <a:ext cx="232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ulio Sa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avier Villanue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4"/>
          <p:cNvSpPr/>
          <p:nvPr/>
        </p:nvSpPr>
        <p:spPr>
          <a:xfrm>
            <a:off x="1581120" y="5315040"/>
            <a:ext cx="7562880" cy="838080"/>
          </a:xfrm>
          <a:prstGeom prst="rightArrow">
            <a:avLst>
              <a:gd name="adj1" fmla="val 50000"/>
              <a:gd name="adj2" fmla="val 15742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 y Produc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523880" y="2476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4568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4568"/>
                </a:solidFill>
                <a:latin typeface="Tahoma"/>
              </a:rPr>
              <a:t>CONTROL DEL PROYECTO    (DESAF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914400" y="457200"/>
            <a:ext cx="914400" cy="5486400"/>
          </a:xfrm>
          <a:prstGeom prst="upArrow">
            <a:avLst>
              <a:gd name="adj1" fmla="val 50000"/>
              <a:gd name="adj2" fmla="val 150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438280" y="434340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0"/>
          <p:cNvSpPr/>
          <p:nvPr/>
        </p:nvSpPr>
        <p:spPr>
          <a:xfrm flipV="1">
            <a:off x="1600200" y="1523520"/>
            <a:ext cx="6172200" cy="4038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5791320" y="1949400"/>
            <a:ext cx="990360" cy="914400"/>
          </a:xfrm>
          <a:prstGeom prst="ellipse">
            <a:avLst/>
          </a:prstGeom>
          <a:solidFill>
            <a:srgbClr val="ff45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3657600" y="358128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4800600" y="286380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2514600" y="5181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5029200" y="37339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019920" y="30481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M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25909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9625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5181480" y="6019920"/>
            <a:ext cx="38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64771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20"/>
          <p:cNvSpPr/>
          <p:nvPr/>
        </p:nvSpPr>
        <p:spPr>
          <a:xfrm>
            <a:off x="2743200" y="48769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21"/>
          <p:cNvSpPr/>
          <p:nvPr/>
        </p:nvSpPr>
        <p:spPr>
          <a:xfrm>
            <a:off x="3962520" y="41911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22"/>
          <p:cNvSpPr/>
          <p:nvPr/>
        </p:nvSpPr>
        <p:spPr>
          <a:xfrm>
            <a:off x="5181480" y="335268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23"/>
          <p:cNvSpPr/>
          <p:nvPr/>
        </p:nvSpPr>
        <p:spPr>
          <a:xfrm>
            <a:off x="6324480" y="266688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24"/>
          <p:cNvSpPr/>
          <p:nvPr/>
        </p:nvSpPr>
        <p:spPr>
          <a:xfrm>
            <a:off x="27432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25"/>
          <p:cNvSpPr/>
          <p:nvPr/>
        </p:nvSpPr>
        <p:spPr>
          <a:xfrm>
            <a:off x="41148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26"/>
          <p:cNvSpPr/>
          <p:nvPr/>
        </p:nvSpPr>
        <p:spPr>
          <a:xfrm>
            <a:off x="533412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27"/>
          <p:cNvSpPr/>
          <p:nvPr/>
        </p:nvSpPr>
        <p:spPr>
          <a:xfrm>
            <a:off x="66294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8"/>
          <p:cNvSpPr/>
          <p:nvPr/>
        </p:nvSpPr>
        <p:spPr>
          <a:xfrm rot="16200000">
            <a:off x="301680" y="328572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gregación de Val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533520" y="228600"/>
            <a:ext cx="794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SEMINARIO DE INDUCCIÓN -  SD20A/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609480" y="533520"/>
            <a:ext cx="8153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762120"/>
            <a:ext cx="8093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TRABAJO DE GRUP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ponda las siguientes pregun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Qué es la Ingeniería y cuál es la misión del Ingenier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Cómo se sueñan en el año 2030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struya una definición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43000" y="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33cc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62120" y="457200"/>
            <a:ext cx="73152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.-  Diseño - “Definició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bujo realizado con líneas para representar algo esquemátic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fuerzo que intenta armonizar cualquier aspecto relacionado con el entorno humano, desde la concepción a la reformulación  de objetos de uso hasta el urbanismo y el habita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diseño es la concepción original de un objeto u obra destinado a la producción en serie tal como en diseño gráfico, de modas o indus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uadroTexto 1"/>
          <p:cNvSpPr/>
          <p:nvPr/>
        </p:nvSpPr>
        <p:spPr>
          <a:xfrm>
            <a:off x="609480" y="609480"/>
            <a:ext cx="7696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timológicamente derivado del término italian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egn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4568"/>
                </a:solidFill>
                <a:uFillTx/>
                <a:latin typeface="Times New Roman"/>
                <a:hlinkClick r:id="rId1"/>
              </a:rPr>
              <a:t>dibuj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designio, signare, signado "lo por venir", el porvenir </a:t>
            </a:r>
            <a:r>
              <a:rPr b="0" lang="es-ES_tradnl" sz="2400" spc="-1" strike="noStrike" u="sng">
                <a:solidFill>
                  <a:srgbClr val="ff4568"/>
                </a:solidFill>
                <a:uFillTx/>
                <a:latin typeface="Times New Roman"/>
                <a:hlinkClick r:id="rId2"/>
              </a:rPr>
              <a:t>vis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presentada gráficamente del futuro,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o hech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la obra,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o por hacer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el proyecto,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l acto de diseñar como prefigur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el proceso previo en la búsqueda de una solución o conjunto de las mism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lasmar el pensamiento de la solución mediante esbozos, dibujos, bocetos o esquemas trazados, durante o posteriores a un proceso de observación de alternativas o investig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l DISEÑO es la base del desarrollo del hombre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33cc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09480" y="914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5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Diseño, Reformulació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066680" y="13716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ase del Desarrollo de las sociedades domina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371600" y="2725560"/>
            <a:ext cx="640080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mas  (E: Romana, Arabe, Español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371600" y="21477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OBJE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33cc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09480" y="685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7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Modelo General para Resolve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2819520" y="5562720"/>
            <a:ext cx="2666880" cy="974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visar / Valid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utocrí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3276720" y="1646280"/>
            <a:ext cx="1660320" cy="10047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í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esafí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Group 48"/>
          <p:cNvGrpSpPr/>
          <p:nvPr/>
        </p:nvGrpSpPr>
        <p:grpSpPr>
          <a:xfrm>
            <a:off x="549360" y="2468520"/>
            <a:ext cx="2650680" cy="1798560"/>
            <a:chOff x="549360" y="2468520"/>
            <a:chExt cx="2650680" cy="1798560"/>
          </a:xfrm>
        </p:grpSpPr>
        <p:sp>
          <p:nvSpPr>
            <p:cNvPr id="117" name="Oval 10"/>
            <p:cNvSpPr/>
            <p:nvPr/>
          </p:nvSpPr>
          <p:spPr>
            <a:xfrm>
              <a:off x="549360" y="3352680"/>
              <a:ext cx="1355760" cy="9144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Pens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rear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iseñ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11"/>
            <p:cNvSpPr/>
            <p:nvPr/>
          </p:nvSpPr>
          <p:spPr>
            <a:xfrm flipH="1">
              <a:off x="1645920" y="2468520"/>
              <a:ext cx="1554120" cy="1006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Line 16"/>
          <p:cNvSpPr/>
          <p:nvPr/>
        </p:nvSpPr>
        <p:spPr>
          <a:xfrm>
            <a:off x="1447920" y="4267080"/>
            <a:ext cx="1447560" cy="15242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5121360" y="4343400"/>
            <a:ext cx="1736640" cy="13255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7696080" y="4967280"/>
            <a:ext cx="144792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eneficio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grega Valor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tractivida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entaja respecto      de lo anterior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Group 68"/>
          <p:cNvGrpSpPr/>
          <p:nvPr/>
        </p:nvGrpSpPr>
        <p:grpSpPr>
          <a:xfrm>
            <a:off x="304920" y="1447920"/>
            <a:ext cx="2193840" cy="1900800"/>
            <a:chOff x="304920" y="1447920"/>
            <a:chExt cx="2193840" cy="1900800"/>
          </a:xfrm>
        </p:grpSpPr>
        <p:sp>
          <p:nvSpPr>
            <p:cNvPr id="123" name="Text Box 31"/>
            <p:cNvSpPr/>
            <p:nvPr/>
          </p:nvSpPr>
          <p:spPr>
            <a:xfrm>
              <a:off x="304920" y="1447920"/>
              <a:ext cx="219384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Factibilidad Tecnológ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Factibilidad Económ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Ecológicament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ealizable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iesgos Control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Atractividad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4" name="Group 32"/>
            <p:cNvGrpSpPr/>
            <p:nvPr/>
          </p:nvGrpSpPr>
          <p:grpSpPr>
            <a:xfrm>
              <a:off x="995400" y="2897280"/>
              <a:ext cx="329760" cy="451440"/>
              <a:chOff x="995400" y="2897280"/>
              <a:chExt cx="329760" cy="451440"/>
            </a:xfrm>
          </p:grpSpPr>
          <p:sp>
            <p:nvSpPr>
              <p:cNvPr id="125" name="Line 33"/>
              <p:cNvSpPr/>
              <p:nvPr/>
            </p:nvSpPr>
            <p:spPr>
              <a:xfrm>
                <a:off x="1148040" y="2897280"/>
                <a:ext cx="0" cy="2746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Line 34"/>
              <p:cNvSpPr/>
              <p:nvPr/>
            </p:nvSpPr>
            <p:spPr>
              <a:xfrm>
                <a:off x="1240200" y="2903760"/>
                <a:ext cx="0" cy="27540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Line 35"/>
              <p:cNvSpPr/>
              <p:nvPr/>
            </p:nvSpPr>
            <p:spPr>
              <a:xfrm>
                <a:off x="995400" y="3126240"/>
                <a:ext cx="183240" cy="1828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Line 36"/>
              <p:cNvSpPr/>
              <p:nvPr/>
            </p:nvSpPr>
            <p:spPr>
              <a:xfrm flipH="1">
                <a:off x="1186560" y="3129480"/>
                <a:ext cx="138600" cy="21924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Group 69"/>
          <p:cNvGrpSpPr/>
          <p:nvPr/>
        </p:nvGrpSpPr>
        <p:grpSpPr>
          <a:xfrm>
            <a:off x="473040" y="4266360"/>
            <a:ext cx="1736640" cy="2286720"/>
            <a:chOff x="473040" y="4266360"/>
            <a:chExt cx="1736640" cy="2286720"/>
          </a:xfrm>
        </p:grpSpPr>
        <p:sp>
          <p:nvSpPr>
            <p:cNvPr id="130" name="Text Box 30"/>
            <p:cNvSpPr/>
            <p:nvPr/>
          </p:nvSpPr>
          <p:spPr>
            <a:xfrm>
              <a:off x="473040" y="5181480"/>
              <a:ext cx="1736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Observ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Sensibilidad con el med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nnov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magin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ealism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Group 52"/>
            <p:cNvGrpSpPr/>
            <p:nvPr/>
          </p:nvGrpSpPr>
          <p:grpSpPr>
            <a:xfrm>
              <a:off x="1027080" y="4266360"/>
              <a:ext cx="252000" cy="446760"/>
              <a:chOff x="1027080" y="4266360"/>
              <a:chExt cx="252000" cy="446760"/>
            </a:xfrm>
          </p:grpSpPr>
          <p:sp>
            <p:nvSpPr>
              <p:cNvPr id="132" name="Line 37"/>
              <p:cNvSpPr/>
              <p:nvPr/>
            </p:nvSpPr>
            <p:spPr>
              <a:xfrm flipV="1">
                <a:off x="1206360" y="4438800"/>
                <a:ext cx="0" cy="2728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Line 38"/>
              <p:cNvSpPr/>
              <p:nvPr/>
            </p:nvSpPr>
            <p:spPr>
              <a:xfrm flipV="1">
                <a:off x="1127160" y="4438800"/>
                <a:ext cx="0" cy="27432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Line 39"/>
              <p:cNvSpPr/>
              <p:nvPr/>
            </p:nvSpPr>
            <p:spPr>
              <a:xfrm flipH="1" flipV="1">
                <a:off x="1142640" y="4268520"/>
                <a:ext cx="136440" cy="16812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Line 40"/>
              <p:cNvSpPr/>
              <p:nvPr/>
            </p:nvSpPr>
            <p:spPr>
              <a:xfrm flipV="1">
                <a:off x="1027080" y="4266360"/>
                <a:ext cx="137880" cy="21816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Oval 43"/>
          <p:cNvSpPr/>
          <p:nvPr/>
        </p:nvSpPr>
        <p:spPr>
          <a:xfrm>
            <a:off x="4800600" y="4191120"/>
            <a:ext cx="12952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olunta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Group 56"/>
          <p:cNvGrpSpPr/>
          <p:nvPr/>
        </p:nvGrpSpPr>
        <p:grpSpPr>
          <a:xfrm>
            <a:off x="1905120" y="2666880"/>
            <a:ext cx="3031920" cy="1600200"/>
            <a:chOff x="1905120" y="2666880"/>
            <a:chExt cx="3031920" cy="1600200"/>
          </a:xfrm>
        </p:grpSpPr>
        <p:grpSp>
          <p:nvGrpSpPr>
            <p:cNvPr id="138" name="Group 49"/>
            <p:cNvGrpSpPr/>
            <p:nvPr/>
          </p:nvGrpSpPr>
          <p:grpSpPr>
            <a:xfrm>
              <a:off x="3505320" y="2666880"/>
              <a:ext cx="1431720" cy="1600200"/>
              <a:chOff x="3505320" y="2666880"/>
              <a:chExt cx="1431720" cy="1600200"/>
            </a:xfrm>
          </p:grpSpPr>
          <p:sp>
            <p:nvSpPr>
              <p:cNvPr id="139" name="Oval 9"/>
              <p:cNvSpPr/>
              <p:nvPr/>
            </p:nvSpPr>
            <p:spPr>
              <a:xfrm>
                <a:off x="3505320" y="3352680"/>
                <a:ext cx="1431720" cy="91440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Convers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Convenc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Line 13"/>
              <p:cNvSpPr/>
              <p:nvPr/>
            </p:nvSpPr>
            <p:spPr>
              <a:xfrm>
                <a:off x="4114800" y="2666880"/>
                <a:ext cx="0" cy="731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" name="Line 44"/>
            <p:cNvSpPr/>
            <p:nvPr/>
          </p:nvSpPr>
          <p:spPr>
            <a:xfrm>
              <a:off x="1905120" y="3809880"/>
              <a:ext cx="152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Group 55"/>
          <p:cNvGrpSpPr/>
          <p:nvPr/>
        </p:nvGrpSpPr>
        <p:grpSpPr>
          <a:xfrm>
            <a:off x="4952880" y="2438280"/>
            <a:ext cx="2743200" cy="1798560"/>
            <a:chOff x="4952880" y="2438280"/>
            <a:chExt cx="2743200" cy="1798560"/>
          </a:xfrm>
        </p:grpSpPr>
        <p:grpSp>
          <p:nvGrpSpPr>
            <p:cNvPr id="143" name="Group 50"/>
            <p:cNvGrpSpPr/>
            <p:nvPr/>
          </p:nvGrpSpPr>
          <p:grpSpPr>
            <a:xfrm>
              <a:off x="5029200" y="2438280"/>
              <a:ext cx="2666880" cy="1798560"/>
              <a:chOff x="5029200" y="2438280"/>
              <a:chExt cx="2666880" cy="1798560"/>
            </a:xfrm>
          </p:grpSpPr>
          <p:sp>
            <p:nvSpPr>
              <p:cNvPr id="144" name="Oval 7"/>
              <p:cNvSpPr/>
              <p:nvPr/>
            </p:nvSpPr>
            <p:spPr>
              <a:xfrm>
                <a:off x="6019920" y="3444840"/>
                <a:ext cx="1676160" cy="79200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Realiz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Materializ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Line 12"/>
              <p:cNvSpPr/>
              <p:nvPr/>
            </p:nvSpPr>
            <p:spPr>
              <a:xfrm>
                <a:off x="5029200" y="2438280"/>
                <a:ext cx="146376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" name="Line 46"/>
            <p:cNvSpPr/>
            <p:nvPr/>
          </p:nvSpPr>
          <p:spPr>
            <a:xfrm>
              <a:off x="4952880" y="3779640"/>
              <a:ext cx="1067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Line 47"/>
          <p:cNvSpPr/>
          <p:nvPr/>
        </p:nvSpPr>
        <p:spPr>
          <a:xfrm>
            <a:off x="4114800" y="4267080"/>
            <a:ext cx="0" cy="12956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Oval 57"/>
          <p:cNvSpPr/>
          <p:nvPr/>
        </p:nvSpPr>
        <p:spPr>
          <a:xfrm>
            <a:off x="6248520" y="4800600"/>
            <a:ext cx="121896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Group 65"/>
          <p:cNvGrpSpPr/>
          <p:nvPr/>
        </p:nvGrpSpPr>
        <p:grpSpPr>
          <a:xfrm>
            <a:off x="7467480" y="3200400"/>
            <a:ext cx="1676520" cy="1676520"/>
            <a:chOff x="7467480" y="3200400"/>
            <a:chExt cx="1676520" cy="1676520"/>
          </a:xfrm>
        </p:grpSpPr>
        <p:sp>
          <p:nvSpPr>
            <p:cNvPr id="150" name="Text Box 42"/>
            <p:cNvSpPr/>
            <p:nvPr/>
          </p:nvSpPr>
          <p:spPr>
            <a:xfrm>
              <a:off x="8381880" y="457200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Cl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1" name="Group 64"/>
            <p:cNvGrpSpPr/>
            <p:nvPr/>
          </p:nvGrpSpPr>
          <p:grpSpPr>
            <a:xfrm>
              <a:off x="7742160" y="3200400"/>
              <a:ext cx="1303560" cy="1333440"/>
              <a:chOff x="7742160" y="3200400"/>
              <a:chExt cx="1303560" cy="1333440"/>
            </a:xfrm>
          </p:grpSpPr>
          <p:sp>
            <p:nvSpPr>
              <p:cNvPr id="152" name="Line 27"/>
              <p:cNvSpPr/>
              <p:nvPr/>
            </p:nvSpPr>
            <p:spPr>
              <a:xfrm>
                <a:off x="7742160" y="3886200"/>
                <a:ext cx="731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153" name=""/>
              <p:cNvGraphicFramePr/>
              <p:nvPr/>
            </p:nvGraphicFramePr>
            <p:xfrm>
              <a:off x="8474040" y="3200400"/>
              <a:ext cx="571680" cy="1333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474040" y="3200400"/>
                        <a:ext cx="571680" cy="1333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55" name="Line 59"/>
            <p:cNvSpPr/>
            <p:nvPr/>
          </p:nvSpPr>
          <p:spPr>
            <a:xfrm flipH="1">
              <a:off x="7467480" y="4114800"/>
              <a:ext cx="89856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Oval 66"/>
          <p:cNvSpPr/>
          <p:nvPr/>
        </p:nvSpPr>
        <p:spPr>
          <a:xfrm>
            <a:off x="2057400" y="4191120"/>
            <a:ext cx="167652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formul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52388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cc"/>
                </a:solidFill>
                <a:latin typeface="Tahoma"/>
              </a:rPr>
              <a:t>DETERMINACION DEL DESAF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09480" y="685800"/>
            <a:ext cx="7772400" cy="52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.-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¿Cuál es el proyecto o desafío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¿En qué consis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¿Cuál es su nombr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sultado:   Título del Proye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.-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Propósit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qué?, Por qué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bjetivo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3.-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Resultados Esperados (beneficios)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los partícipes en el proceso  (cadena de val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el cliente fi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el 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e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*  Los resultados deben ser:  posibles y medi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33520" y="457200"/>
            <a:ext cx="7772400" cy="61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4.-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Validación del Desafí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ncue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ntrevi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Visi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5.-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Estudio de Facti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éc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conóm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Leg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cológica (impacto ambient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6-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Dis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Objetivos del dis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lementos a diseñar (part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rotot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066680" y="1066680"/>
            <a:ext cx="518184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7.-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Tareas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Identifica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edi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rodu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lificación/condiciones de entre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8.-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Estrategia y Plan de Trabaj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al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Gant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ordi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edición del Av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9.-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Re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Benefic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ar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CuadroTexto 6"/>
          <p:cNvSpPr/>
          <p:nvPr/>
        </p:nvSpPr>
        <p:spPr>
          <a:xfrm>
            <a:off x="1379160" y="228600"/>
            <a:ext cx="644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LANIFICACIÓN DEL DESARROLLO DEL PROYE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( DESAFÍ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21:16:46Z</dcterms:created>
  <dc:creator>Nivia Contreras</dc:creator>
  <dc:description/>
  <dc:language>en-US</dc:language>
  <cp:lastModifiedBy>Julio Salas</cp:lastModifiedBy>
  <dcterms:modified xsi:type="dcterms:W3CDTF">2010-03-30T20:51:10Z</dcterms:modified>
  <cp:revision>40</cp:revision>
  <dc:subject/>
  <dc:title>Sin título de diapositiva</dc:title>
</cp:coreProperties>
</file>