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C83-C714-49D3-962C-2CF3038E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F8B-8BB1-45D3-A50A-381EE3A9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250-AF1D-4FF8-A629-FE82C0C6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B2E-775C-4A06-9785-2D044614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E68-1B9B-4D4E-900A-5CC090C5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382-7082-4817-B0F7-D375F7C6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E5B-EF9A-4AE2-9B79-95800B19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142-2F05-463F-87E9-6092985E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5D7-52AB-47C2-A1F5-43CD7395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0C3-BE25-448D-9F9D-7983FBA3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CAB-C9C8-4073-AB7F-0E2D2C0C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22D-0D6F-480B-AA99-0DBFA14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06D7-219D-438C-B5A6-481FAAF91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9-04-28T15:12:44Z</dcterms:modified>
  <cp:revision>13</cp:revision>
  <dc:subject/>
  <dc:title>Diapositiva 1</dc:title>
</cp:coreProperties>
</file>