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279-1FD1-4294-AACD-26E47617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43A-E92F-40E9-8230-28FD79BE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611-BD34-4CA8-BB59-0DD9B49A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320-7A52-428C-B33D-730BD99F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AF5-6ACE-4A35-88CE-9E07136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E6C-4296-4F44-9811-27EFE375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095-4C0C-442F-8591-F119B23D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65C-46C7-4564-9D05-B1DA958E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7387-88AF-45C4-A23B-5C1B8922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12B-6E64-482F-BCD2-F48059AD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A0F-4C88-4763-9B59-637A6C00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917-229F-43B6-B8E2-6D821976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5846-EBB6-4DBE-86AD-86EA997AE1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15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9001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Diseño y Construcción de una Estruc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1495440"/>
          <a:ext cx="8569440" cy="150336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r la carrera de ingeniería a los procesos diseñar y implementar proyect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5280" y="1197000"/>
          <a:ext cx="8569440" cy="464508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511280"/>
          <a:ext cx="8713800" cy="27669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332000" y="1127160"/>
          <a:ext cx="7489800" cy="460836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 nota llevará ponderación individ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0920" y="1341360"/>
          <a:ext cx="8642160" cy="4319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rototipo debe ser capaz de soportar una balde con 500gr a una altura de 30 cm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estructura se construirá con alambre de Cu y soldadura de estañ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7"/>
          <p:cNvGrpSpPr/>
          <p:nvPr/>
        </p:nvGrpSpPr>
        <p:grpSpPr>
          <a:xfrm>
            <a:off x="5508720" y="3859200"/>
            <a:ext cx="3311280" cy="1656720"/>
            <a:chOff x="5508720" y="3859200"/>
            <a:chExt cx="3311280" cy="1656720"/>
          </a:xfrm>
        </p:grpSpPr>
        <p:sp>
          <p:nvSpPr>
            <p:cNvPr id="74" name="Text Box 55"/>
            <p:cNvSpPr/>
            <p:nvPr/>
          </p:nvSpPr>
          <p:spPr>
            <a:xfrm>
              <a:off x="7236000" y="4292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0,5 Kg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65"/>
            <p:cNvGrpSpPr/>
            <p:nvPr/>
          </p:nvGrpSpPr>
          <p:grpSpPr>
            <a:xfrm>
              <a:off x="5508720" y="3859200"/>
              <a:ext cx="2016000" cy="1656720"/>
              <a:chOff x="5508720" y="3859200"/>
              <a:chExt cx="2016000" cy="1656720"/>
            </a:xfrm>
          </p:grpSpPr>
          <p:sp>
            <p:nvSpPr>
              <p:cNvPr id="76" name="AutoShape 50"/>
              <p:cNvSpPr/>
              <p:nvPr/>
            </p:nvSpPr>
            <p:spPr>
              <a:xfrm>
                <a:off x="6516720" y="3859200"/>
                <a:ext cx="577800" cy="57456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53"/>
              <p:cNvGrpSpPr/>
              <p:nvPr/>
            </p:nvGrpSpPr>
            <p:grpSpPr>
              <a:xfrm>
                <a:off x="6516720" y="4435200"/>
                <a:ext cx="577440" cy="936360"/>
                <a:chOff x="6516720" y="4435200"/>
                <a:chExt cx="577440" cy="936360"/>
              </a:xfrm>
            </p:grpSpPr>
            <p:sp>
              <p:nvSpPr>
                <p:cNvPr id="78" name="AutoShape 48"/>
                <p:cNvSpPr/>
                <p:nvPr/>
              </p:nvSpPr>
              <p:spPr>
                <a:xfrm>
                  <a:off x="6516720" y="4545360"/>
                  <a:ext cx="246960" cy="826200"/>
                </a:xfrm>
                <a:prstGeom prst="pie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AutoShape 49"/>
                <p:cNvSpPr/>
                <p:nvPr/>
              </p:nvSpPr>
              <p:spPr>
                <a:xfrm>
                  <a:off x="6847200" y="4545360"/>
                  <a:ext cx="246960" cy="826200"/>
                </a:xfrm>
                <a:prstGeom prst="pie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51"/>
                <p:cNvSpPr/>
                <p:nvPr/>
              </p:nvSpPr>
              <p:spPr>
                <a:xfrm>
                  <a:off x="6516720" y="4435200"/>
                  <a:ext cx="577440" cy="110160"/>
                </a:xfrm>
                <a:prstGeom prst="rect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Line 54"/>
              <p:cNvSpPr/>
              <p:nvPr/>
            </p:nvSpPr>
            <p:spPr>
              <a:xfrm>
                <a:off x="6805800" y="42908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56"/>
              <p:cNvSpPr/>
              <p:nvPr/>
            </p:nvSpPr>
            <p:spPr>
              <a:xfrm>
                <a:off x="6300720" y="44352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57"/>
              <p:cNvSpPr/>
              <p:nvPr/>
            </p:nvSpPr>
            <p:spPr>
              <a:xfrm>
                <a:off x="5508720" y="472428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30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58"/>
              <p:cNvSpPr/>
              <p:nvPr/>
            </p:nvSpPr>
            <p:spPr>
              <a:xfrm>
                <a:off x="6300720" y="537192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59"/>
              <p:cNvSpPr/>
              <p:nvPr/>
            </p:nvSpPr>
            <p:spPr>
              <a:xfrm flipV="1">
                <a:off x="6300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0"/>
              <p:cNvSpPr/>
              <p:nvPr/>
            </p:nvSpPr>
            <p:spPr>
              <a:xfrm flipV="1">
                <a:off x="6516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61"/>
              <p:cNvSpPr/>
              <p:nvPr/>
            </p:nvSpPr>
            <p:spPr>
              <a:xfrm flipV="1">
                <a:off x="6732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62"/>
              <p:cNvSpPr/>
              <p:nvPr/>
            </p:nvSpPr>
            <p:spPr>
              <a:xfrm flipV="1">
                <a:off x="6948720" y="53715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3"/>
              <p:cNvSpPr/>
              <p:nvPr/>
            </p:nvSpPr>
            <p:spPr>
              <a:xfrm flipV="1">
                <a:off x="7164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64"/>
              <p:cNvSpPr/>
              <p:nvPr/>
            </p:nvSpPr>
            <p:spPr>
              <a:xfrm flipV="1">
                <a:off x="7380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50920" y="1341360"/>
          <a:ext cx="8642160" cy="42674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SI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Resiste la solicitació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fue el margen de segurida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Fueron claros los requerimien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Se puede optimizar el diseñ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el peso de la estructur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promedio por solda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ómo influye la organización del equipo en el trabajo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826920" y="1052640"/>
          <a:ext cx="73440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344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1979640" y="508464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Evitar sobrecalentamiento: usar disipador de calor y desenchu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1476360" y="1916280"/>
            <a:ext cx="2879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1077840"/>
            <a:ext cx="8496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usar alambre desnudo completo o desnudo hasta un par de centímetros de la soldadura porque el forro se quema al sol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lentar con el cautín por un costado de la un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sperar que alcance temperatura de f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plicar soldadura por el lado contrario al del cautí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oldadura debe penetrar en el espacio interior y producir aleación Cu-P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ambre debe estar totalmente li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1052640"/>
            <a:ext cx="8496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vitar absolutamente la grasa de las manos en el punto de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el alambre se ensucia, se debe lijar antes de soldar (grasa, aire de varios días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utín debe reposar en disipador cuando no se está sold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desenchufar cautín si va a pasar un rato largo sin u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determinar si cautín alcanzó la temperatura, tocar la punta del cautín con la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24000" y="1092240"/>
            <a:ext cx="8496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cortar le alambre, usar antip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se corta un trozo pequeño de alambre, dirigirlo hacia el suelo o la mesa porque va a s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soldar usar gu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afirmar la estructura al soldar, usar alicate o prensa porque alambre se cali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afirmar con alicate o prensa, hacerlo alejado varios centímetros del punto de soldadura porque el alicate o prensa disipará el calor y enfriará el punto de cont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1"/>
          <p:cNvGraphicFramePr/>
          <p:nvPr/>
        </p:nvGraphicFramePr>
        <p:xfrm>
          <a:off x="6588000" y="1700280"/>
          <a:ext cx="2089440" cy="17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700280"/>
                    <a:ext cx="20894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2"/>
          <p:cNvGraphicFramePr/>
          <p:nvPr/>
        </p:nvGraphicFramePr>
        <p:xfrm>
          <a:off x="2484360" y="3645000"/>
          <a:ext cx="3311640" cy="26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3645000"/>
                    <a:ext cx="331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16"/>
          <p:cNvSpPr/>
          <p:nvPr/>
        </p:nvSpPr>
        <p:spPr>
          <a:xfrm>
            <a:off x="250920" y="177336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antener unidos hasta que la soldadura solid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s-E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1680_image"/>
          <p:cNvPicPr/>
          <p:nvPr/>
        </p:nvPicPr>
        <p:blipFill>
          <a:blip r:embed="rId1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3-29T15:59:08Z</dcterms:modified>
  <cp:revision>40</cp:revision>
  <dc:subject/>
  <dc:title>EL63A-Taller de Proyecto en Control II</dc:title>
</cp:coreProperties>
</file>