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B3D-8C2F-4DC0-89EE-5C508E5C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90F-9695-4798-A2C7-2A00E6D1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0BC-4D50-4B80-8C24-C0EC2ADA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2FF-7F4B-4673-B58B-87A4902E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74A-3FFD-42C6-B820-3D422FB6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29B-7D6F-4C4A-8248-E4769C97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08A-4325-4690-AA78-D05F40A3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114-5A36-4B5C-887F-66FBF0E3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B9A-D63D-4230-929E-DCF77F4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766-FBC0-4A1E-BCB2-C9294877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43D-003B-466A-A74A-C3C1F7C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84B-9A66-4DCA-8F1C-544E2C7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1CB-0765-49D4-A1A0-FDDCDA8D31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3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5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434_image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c671aac083e31f4a4b52522617e_740"/>
          <p:cNvPicPr/>
          <p:nvPr/>
        </p:nvPicPr>
        <p:blipFill>
          <a:blip r:embed="rId1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824d0c3cdb114173fe3c67b21ad3_740"/>
          <p:cNvPicPr/>
          <p:nvPr/>
        </p:nvPicPr>
        <p:blipFill>
          <a:blip r:embed="rId2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8721df183c39df8b07ac11610ab8_740"/>
          <p:cNvPicPr/>
          <p:nvPr/>
        </p:nvPicPr>
        <p:blipFill>
          <a:blip r:embed="rId1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1773360"/>
          <a:ext cx="7417080" cy="317016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052640"/>
          <a:ext cx="8424720" cy="4524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(Tarea Grupa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2637000"/>
          <a:ext cx="8135640" cy="2617560"/>
        </p:xfrm>
        <a:graphic>
          <a:graphicData uri="http://schemas.openxmlformats.org/drawingml/2006/table">
            <a:tbl>
              <a:tblPr/>
              <a:tblGrid>
                <a:gridCol w="813564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3" descr="Raúl Sáez"/>
          <p:cNvPicPr/>
          <p:nvPr/>
        </p:nvPicPr>
        <p:blipFill>
          <a:blip r:embed="rId1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59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popeya3b"/>
          <p:cNvPicPr/>
          <p:nvPr/>
        </p:nvPicPr>
        <p:blipFill>
          <a:blip r:embed="rId1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popeya1b"/>
          <p:cNvPicPr/>
          <p:nvPr/>
        </p:nvPicPr>
        <p:blipFill>
          <a:blip r:embed="rId2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3-23T19:55:11Z</dcterms:modified>
  <cp:revision>32</cp:revision>
  <dc:subject/>
  <dc:title>EL63A-Taller de Proyecto en Control II</dc:title>
</cp:coreProperties>
</file>