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DD3-1B2C-401D-8D27-1DDFD131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47A-B795-4E31-9519-027943E9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488-B414-4807-9DA6-E5738C91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7D6-F6EF-4B59-AEB7-3ED7AB50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0CE-202B-45D2-93D4-B0CFF9AE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F63-808A-457F-A910-C4D3249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32E-5811-4A5E-8A6A-220E03F5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D9A-78C5-4CFB-8389-D37FDDE3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A1B4-42F9-46DE-B65D-709F1CC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B60-89F7-46B4-9321-E0E64E3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43A-17BF-451F-933F-68E81B07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525-D094-4913-8B52-59DFA6F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F84B-95A3-4BC8-8D64-712D8F11FD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3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5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434_image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c671aac083e31f4a4b52522617e_740"/>
          <p:cNvPicPr/>
          <p:nvPr/>
        </p:nvPicPr>
        <p:blipFill>
          <a:blip r:embed="rId1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824d0c3cdb114173fe3c67b21ad3_740"/>
          <p:cNvPicPr/>
          <p:nvPr/>
        </p:nvPicPr>
        <p:blipFill>
          <a:blip r:embed="rId2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8721df183c39df8b07ac11610ab8_740"/>
          <p:cNvPicPr/>
          <p:nvPr/>
        </p:nvPicPr>
        <p:blipFill>
          <a:blip r:embed="rId1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1773360"/>
          <a:ext cx="7417080" cy="317016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052640"/>
          <a:ext cx="8424720" cy="4524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(Tarea Grupal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2637000"/>
          <a:ext cx="8135640" cy="2617560"/>
        </p:xfrm>
        <a:graphic>
          <a:graphicData uri="http://schemas.openxmlformats.org/drawingml/2006/table">
            <a:tbl>
              <a:tblPr/>
              <a:tblGrid>
                <a:gridCol w="813564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3" descr="Raúl Sáez"/>
          <p:cNvPicPr/>
          <p:nvPr/>
        </p:nvPicPr>
        <p:blipFill>
          <a:blip r:embed="rId1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59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popeya3b"/>
          <p:cNvPicPr/>
          <p:nvPr/>
        </p:nvPicPr>
        <p:blipFill>
          <a:blip r:embed="rId1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popeya1b"/>
          <p:cNvPicPr/>
          <p:nvPr/>
        </p:nvPicPr>
        <p:blipFill>
          <a:blip r:embed="rId2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3-23T19:55:11Z</dcterms:modified>
  <cp:revision>32</cp:revision>
  <dc:subject/>
  <dc:title>EL63A-Taller de Proyecto en Control II</dc:title>
</cp:coreProperties>
</file>