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2F6-3BDE-4C56-9779-61ED2791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7BC-F57B-4961-AC3D-DD3C7717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2FB-3040-4D50-B61E-24EDDD8C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D88-456A-4EBA-8301-AE821094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622-C874-4375-B925-951467DD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1880-5302-495B-8AF5-7FD5A0FB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4D70-4CE4-4D93-81B9-1319DF28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760-E273-4CB3-969D-CACF9A04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87C-3900-482B-A5A0-D967F1FD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9A1-DD20-4367-9DCA-D4B35853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C78-223D-4080-A607-AB72361B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438-5843-43D2-851D-9BE9EAD8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5B8B-3355-4E27-8E5E-49FF354C5A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DB15-D60D-480B-9424-4F8F51325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re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u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24000" y="135720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 base al trabajo anterior, contes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72880" y="2143080"/>
            <a:ext cx="8728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.- ¿Cuáles son los aspectos 2 más tomados en consider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2.- ¿Cuáles los 2 menos consider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3.- ¿Por qué Priorizaron de esta mane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.- Discuta  acerca de esta priorización en el ejercicio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10-05-14T16:13:08Z</dcterms:modified>
  <cp:revision>87</cp:revision>
  <dc:subject/>
  <dc:title>EL63A-Taller de Proyecto en Control II</dc:title>
</cp:coreProperties>
</file>