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128-70AB-4E7B-9441-1ACCC7C7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E20-D4D5-42F4-945B-346CE2C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39B-D3CF-4E3C-8D3F-3CD93E39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F12-783B-4A56-AA33-1B5C35B3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971-9198-4F34-9026-04CBB86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13B-E707-4A8C-9042-CAE45EB7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A21-C594-4E7B-83A0-952ACDFD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B08-F0E4-49DC-AD42-AC8E9E15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C16-4E7C-4B28-B3A3-D6615EF5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C21-AC25-4E4A-8EB7-544046B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F10-9745-4D5A-9FDE-A9430A3E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F12-9409-474A-8887-7EDB861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2015-AA47-4B8A-8E22-B13F34C9AC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62EC-F5EF-4FF7-985B-66AC010C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re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u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24000" y="135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base al trabajo anterior, cont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72880" y="2143080"/>
            <a:ext cx="8728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.- ¿Cuáles son los aspectos 2 más tomados en consider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.- ¿Cuáles los 2 menos consider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- ¿Por qué Priorizaron de esta man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.- Discuta  acerca de esta priorización en el ejercici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5-14T16:13:08Z</dcterms:modified>
  <cp:revision>87</cp:revision>
  <dc:subject/>
  <dc:title>EL63A-Taller de Proyecto en Control II</dc:title>
</cp:coreProperties>
</file>