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2AB-35E3-4188-AA9E-77D2D406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9C5-3204-43AE-9783-338425B6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236-FC91-4268-98A6-68318A3B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D1C-E49B-40F1-8F0C-26202310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281-689C-4D6F-B70F-4F0E40FA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0A2-E448-4B69-8737-F76A584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54D-8E7F-4556-9E45-D7BA0583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B78-7912-43A1-9E30-3449DA9E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DC5-0829-4A70-8A64-318732E7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48E-537B-4F98-B733-AAE91868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418-FE2B-4757-919C-14248C4A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BF9-54C7-4777-98C0-B90B0DC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C141-DF67-4590-A409-A0C46947E9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B89-58F0-4373-8FF3-4065513A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e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u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4000" y="135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base al trabajo anterior, cont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2880" y="2143080"/>
            <a:ext cx="872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.- ¿Cuáles son los aspectos 2 más tomados en consider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.- ¿Cuáles los 2 menos conside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- ¿Por qué Priorizaron de esta man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.- Discuta  acerca de esta priorización en el ejercici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5-14T16:13:08Z</dcterms:modified>
  <cp:revision>87</cp:revision>
  <dc:subject/>
  <dc:title>EL63A-Taller de Proyecto en Control II</dc:title>
</cp:coreProperties>
</file>