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D86-4C3F-4982-992A-C13F30E2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86C-25C9-479F-8178-7DC4DD45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078-B84E-42E8-A165-7670C13A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A38-6E15-46DF-99D0-45C92456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474-0E03-4D03-902C-915CC29B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84D-FE5A-4ED7-9298-AE127B8D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FC9-6B1B-407B-9EA1-191777C5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B6F-62C4-4A0B-A001-D6AD3529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A03-5E2C-40A3-8A3C-18264C83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0AA-99B9-484E-9814-A9F12FE7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F2D-8537-4A48-8E3A-0DBDF7B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FCE-3482-4114-9A8F-328B34B8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E677-87C1-4FC5-9961-759455D33E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C652-2670-40E3-B0C0-5E3E7CC8C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e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u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24000" y="135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base al trabajo anterior, cont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72880" y="2143080"/>
            <a:ext cx="8728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.- ¿Cuáles son los aspectos 2 más tomados en consider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.- ¿Cuáles los 2 menos consider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.- ¿Por qué Priorizaron de esta man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.- Discuta  acerca de esta priorización en el ejercici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5-14T16:13:08Z</dcterms:modified>
  <cp:revision>87</cp:revision>
  <dc:subject/>
  <dc:title>EL63A-Taller de Proyecto en Control II</dc:title>
</cp:coreProperties>
</file>