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BFB-F83B-4AFD-9BC7-4EC16070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B72-14DF-46EC-AC59-38E1AA65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0C7-6C74-4437-A990-7C7E7933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950-3FFF-46B3-AC98-C82BBD30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DB4-A76A-4BA6-991B-1514FE87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4EC-BCB1-4BF9-83EF-035665F5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D851-7F8C-400F-8DD7-B6595CFF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F84-3E96-40AF-A8F4-C8CB4B53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2A4-2A75-43CD-8F6C-996C99F5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8EB-729C-4087-9A63-FF0DA6EF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9D12-9535-4E6D-82CE-446E9B92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8D9E-CDC6-4FAE-A3A3-3FE9F80B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2F54-5FA6-4560-A5B0-B867E8C539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71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71760" y="1071720"/>
          <a:ext cx="7286400" cy="5510160"/>
        </p:xfrm>
        <a:graphic>
          <a:graphicData uri="http://schemas.openxmlformats.org/drawingml/2006/table">
            <a:tbl>
              <a:tblPr/>
              <a:tblGrid>
                <a:gridCol w="857160"/>
                <a:gridCol w="2428920"/>
                <a:gridCol w="4000320"/>
              </a:tblGrid>
              <a:tr h="2491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. P1 Planteamiento 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 (Mano - Braz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 Edge (Tarea Individu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quejos, Elección de Altern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Mano en Cartón Pluma (Inicio  Plan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ciones Mitad de Semes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Brazo ( Rev. Modelo Ma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Ing / Redac infor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. Modelo Mano - Entrega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Orale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116000" y="1484280"/>
          <a:ext cx="6481800" cy="329076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 Base Bra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tón Pluma (Poliestireno FOAM) 60x60 cms, 5mm 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dad de traba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a resist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24000" y="486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teriale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643280" y="4869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rtar con carton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0" y="1413000"/>
            <a:ext cx="4500720" cy="3195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30848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24000" y="45655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rcar Dobl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148360" y="45655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oblar contra m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1415880"/>
            <a:ext cx="3780000" cy="3184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4140360" y="1434960"/>
            <a:ext cx="50036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24000" y="507060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ir con huincha aisl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651640" y="515772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ta resis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179280" y="1160640"/>
            <a:ext cx="4496040" cy="3781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2"/>
          <a:stretch/>
        </p:blipFill>
        <p:spPr>
          <a:xfrm>
            <a:off x="5522760" y="1052640"/>
            <a:ext cx="31546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50920" y="148428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safío fin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42920" y="2276640"/>
            <a:ext cx="7415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 un integrante del equipo en cada accionamiento (par de jeringas), “escribir”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en el menor tiempo posi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9009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1280" y="1071720"/>
            <a:ext cx="93470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384280" y="4340160"/>
            <a:ext cx="561672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7678200">
            <a:off x="4591800" y="-352080"/>
            <a:ext cx="150840" cy="3328920"/>
          </a:xfrm>
          <a:custGeom>
            <a:avLst/>
            <a:gdLst>
              <a:gd name="textAreaLeft" fmla="*/ 21960 w 150840"/>
              <a:gd name="textAreaRight" fmla="*/ 128880 w 150840"/>
              <a:gd name="textAreaTop" fmla="*/ 21960 h 3328920"/>
              <a:gd name="textAreaBottom" fmla="*/ 3306960 h 3328920"/>
            </a:gdLst>
            <a:ahLst/>
            <a:rect l="textAreaLeft" t="textAreaTop" r="textAreaRight" b="textAreaBottom"/>
            <a:pathLst>
              <a:path w="21600" h="475611">
                <a:moveTo>
                  <a:pt x="10800" y="0"/>
                </a:moveTo>
                <a:arcTo wR="10800" hR="10800" stAng="16200000" swAng="-5400000"/>
                <a:lnTo>
                  <a:pt x="0" y="464811"/>
                </a:lnTo>
                <a:arcTo wR="10800" hR="10800" stAng="10800000" swAng="-5400000"/>
                <a:lnTo>
                  <a:pt x="10800" y="4756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3b3b3">
                  <a:alpha val="35294"/>
                </a:srgbClr>
              </a:gs>
            </a:gsLst>
            <a:lin ang="1932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 rot="1951800">
            <a:off x="3003120" y="379440"/>
            <a:ext cx="152640" cy="29764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0260">
                <a:moveTo>
                  <a:pt x="10800" y="0"/>
                </a:moveTo>
                <a:arcTo wR="10800" hR="10800" stAng="16200000" swAng="-5400000"/>
                <a:lnTo>
                  <a:pt x="0" y="409460"/>
                </a:lnTo>
                <a:arcTo wR="10800" hR="10800" stAng="10800000" swAng="-5400000"/>
                <a:lnTo>
                  <a:pt x="10800" y="420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3b3b3">
                  <a:alpha val="35294"/>
                </a:srgbClr>
              </a:gs>
            </a:gsLst>
            <a:lin ang="345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 rot="4201200">
            <a:off x="3507480" y="832320"/>
            <a:ext cx="152640" cy="29764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0260">
                <a:moveTo>
                  <a:pt x="10800" y="0"/>
                </a:moveTo>
                <a:arcTo wR="10800" hR="10800" stAng="16200000" swAng="-5400000"/>
                <a:lnTo>
                  <a:pt x="0" y="409460"/>
                </a:lnTo>
                <a:arcTo wR="10800" hR="10800" stAng="10800000" swAng="-5400000"/>
                <a:lnTo>
                  <a:pt x="10800" y="420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398680" y="3333600"/>
            <a:ext cx="5597640" cy="20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2409840" y="2649600"/>
            <a:ext cx="228600" cy="6840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684000"/>
              <a:gd name="textAreaBottom" fmla="*/ 650520 h 684000"/>
            </a:gdLst>
            <a:ahLst/>
            <a:rect l="textAreaLeft" t="textAreaTop" r="textAreaRight" b="textAreaBottom"/>
            <a:pathLst>
              <a:path w="21600" h="64562">
                <a:moveTo>
                  <a:pt x="10800" y="0"/>
                </a:moveTo>
                <a:arcTo wR="10800" hR="10800" stAng="16200000" swAng="-5400000"/>
                <a:lnTo>
                  <a:pt x="0" y="53762"/>
                </a:lnTo>
                <a:arcTo wR="10800" hR="10800" stAng="10800000" swAng="-5400000"/>
                <a:lnTo>
                  <a:pt x="10800" y="6456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2498760" y="269892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2"/>
          <p:cNvSpPr/>
          <p:nvPr/>
        </p:nvSpPr>
        <p:spPr>
          <a:xfrm>
            <a:off x="3811680" y="682560"/>
            <a:ext cx="5076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3"/>
          <p:cNvSpPr/>
          <p:nvPr/>
        </p:nvSpPr>
        <p:spPr>
          <a:xfrm>
            <a:off x="3105000" y="1992240"/>
            <a:ext cx="303480" cy="3542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4"/>
          <p:cNvSpPr/>
          <p:nvPr/>
        </p:nvSpPr>
        <p:spPr>
          <a:xfrm>
            <a:off x="3678120" y="852480"/>
            <a:ext cx="489240" cy="3333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 rot="6042000">
            <a:off x="5902200" y="403200"/>
            <a:ext cx="152640" cy="333072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3330720"/>
              <a:gd name="textAreaBottom" fmla="*/ 3308400 h 3330720"/>
            </a:gdLst>
            <a:ahLst/>
            <a:rect l="textAreaLeft" t="textAreaTop" r="textAreaRight" b="textAreaBottom"/>
            <a:pathLst>
              <a:path w="21600" h="470270">
                <a:moveTo>
                  <a:pt x="10800" y="0"/>
                </a:moveTo>
                <a:arcTo wR="10800" hR="10800" stAng="16200000" swAng="-5400000"/>
                <a:lnTo>
                  <a:pt x="0" y="459470"/>
                </a:lnTo>
                <a:arcTo wR="10800" hR="10800" stAng="10800000" swAng="-5400000"/>
                <a:lnTo>
                  <a:pt x="10800" y="47027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7"/>
          <p:cNvSpPr/>
          <p:nvPr/>
        </p:nvSpPr>
        <p:spPr>
          <a:xfrm>
            <a:off x="4870440" y="181944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2529000" y="5708520"/>
            <a:ext cx="14436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311560" y="5564160"/>
            <a:ext cx="266508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1"/>
          <p:cNvSpPr/>
          <p:nvPr/>
        </p:nvSpPr>
        <p:spPr>
          <a:xfrm>
            <a:off x="2600280" y="54928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4903920" y="55641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2600280" y="527688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H="1">
            <a:off x="4903560" y="527688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3392640" y="4843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5624640" y="4843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23 Grupo"/>
          <p:cNvGrpSpPr/>
          <p:nvPr/>
        </p:nvGrpSpPr>
        <p:grpSpPr>
          <a:xfrm>
            <a:off x="6053040" y="2405160"/>
            <a:ext cx="1765440" cy="928440"/>
            <a:chOff x="6053040" y="2405160"/>
            <a:chExt cx="1765440" cy="928440"/>
          </a:xfrm>
        </p:grpSpPr>
        <p:sp>
          <p:nvSpPr>
            <p:cNvPr id="66" name="24 Rectángulo"/>
            <p:cNvSpPr/>
            <p:nvPr/>
          </p:nvSpPr>
          <p:spPr>
            <a:xfrm flipH="1">
              <a:off x="6889320" y="2683800"/>
              <a:ext cx="278640" cy="278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25 Rectángulo"/>
            <p:cNvSpPr/>
            <p:nvPr/>
          </p:nvSpPr>
          <p:spPr>
            <a:xfrm flipH="1">
              <a:off x="6610680" y="2405160"/>
              <a:ext cx="278640" cy="278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26 Rectángulo"/>
            <p:cNvSpPr/>
            <p:nvPr/>
          </p:nvSpPr>
          <p:spPr>
            <a:xfrm flipH="1">
              <a:off x="6331680" y="2683800"/>
              <a:ext cx="278640" cy="278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27 Rectángulo"/>
            <p:cNvSpPr/>
            <p:nvPr/>
          </p:nvSpPr>
          <p:spPr>
            <a:xfrm flipH="1">
              <a:off x="6331680" y="2405160"/>
              <a:ext cx="278640" cy="278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28 Rectángulo"/>
            <p:cNvSpPr/>
            <p:nvPr/>
          </p:nvSpPr>
          <p:spPr>
            <a:xfrm flipH="1">
              <a:off x="6610680" y="2683800"/>
              <a:ext cx="278640" cy="278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29 Rectángulo"/>
            <p:cNvSpPr/>
            <p:nvPr/>
          </p:nvSpPr>
          <p:spPr>
            <a:xfrm flipH="1">
              <a:off x="6284880" y="2962440"/>
              <a:ext cx="1533240" cy="32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30 Rectángulo"/>
            <p:cNvSpPr/>
            <p:nvPr/>
          </p:nvSpPr>
          <p:spPr>
            <a:xfrm flipH="1">
              <a:off x="6053040" y="3287160"/>
              <a:ext cx="1765440" cy="4644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39 Grupo"/>
          <p:cNvGrpSpPr/>
          <p:nvPr/>
        </p:nvGrpSpPr>
        <p:grpSpPr>
          <a:xfrm>
            <a:off x="5981400" y="5619600"/>
            <a:ext cx="1765440" cy="357480"/>
            <a:chOff x="5981400" y="5619600"/>
            <a:chExt cx="1765440" cy="357480"/>
          </a:xfrm>
        </p:grpSpPr>
        <p:sp>
          <p:nvSpPr>
            <p:cNvPr id="74" name="38 Rectángulo"/>
            <p:cNvSpPr/>
            <p:nvPr/>
          </p:nvSpPr>
          <p:spPr>
            <a:xfrm flipH="1">
              <a:off x="5981040" y="5619600"/>
              <a:ext cx="1765080" cy="3574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32 Rectángulo"/>
            <p:cNvSpPr/>
            <p:nvPr/>
          </p:nvSpPr>
          <p:spPr>
            <a:xfrm flipH="1">
              <a:off x="6816960" y="5658840"/>
              <a:ext cx="278280" cy="279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33 Rectángulo"/>
            <p:cNvSpPr/>
            <p:nvPr/>
          </p:nvSpPr>
          <p:spPr>
            <a:xfrm flipH="1">
              <a:off x="6538320" y="5658840"/>
              <a:ext cx="278280" cy="279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35 Rectángulo"/>
            <p:cNvSpPr/>
            <p:nvPr/>
          </p:nvSpPr>
          <p:spPr>
            <a:xfrm flipH="1">
              <a:off x="6259680" y="5658840"/>
              <a:ext cx="278280" cy="279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37 Rectángulo"/>
            <p:cNvSpPr/>
            <p:nvPr/>
          </p:nvSpPr>
          <p:spPr>
            <a:xfrm flipH="1">
              <a:off x="6213960" y="5635440"/>
              <a:ext cx="1532880" cy="32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20"/>
          <p:cNvSpPr/>
          <p:nvPr/>
        </p:nvSpPr>
        <p:spPr>
          <a:xfrm>
            <a:off x="4471920" y="5708520"/>
            <a:ext cx="295272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31240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6920" y="609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65 Grupo"/>
          <p:cNvGrpSpPr/>
          <p:nvPr/>
        </p:nvGrpSpPr>
        <p:grpSpPr>
          <a:xfrm>
            <a:off x="2357280" y="4429080"/>
            <a:ext cx="5286600" cy="1428840"/>
            <a:chOff x="2357280" y="4429080"/>
            <a:chExt cx="5286600" cy="1428840"/>
          </a:xfrm>
        </p:grpSpPr>
        <p:sp>
          <p:nvSpPr>
            <p:cNvPr id="83" name="36 Rectángulo"/>
            <p:cNvSpPr/>
            <p:nvPr/>
          </p:nvSpPr>
          <p:spPr>
            <a:xfrm>
              <a:off x="2714400" y="4429080"/>
              <a:ext cx="4929480" cy="107172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34 Cubo"/>
            <p:cNvSpPr/>
            <p:nvPr/>
          </p:nvSpPr>
          <p:spPr>
            <a:xfrm>
              <a:off x="249984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29 Cubo"/>
            <p:cNvSpPr/>
            <p:nvPr/>
          </p:nvSpPr>
          <p:spPr>
            <a:xfrm>
              <a:off x="328572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31 Cubo"/>
            <p:cNvSpPr/>
            <p:nvPr/>
          </p:nvSpPr>
          <p:spPr>
            <a:xfrm>
              <a:off x="407196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32 Cubo"/>
            <p:cNvSpPr/>
            <p:nvPr/>
          </p:nvSpPr>
          <p:spPr>
            <a:xfrm>
              <a:off x="485784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33 Cubo"/>
            <p:cNvSpPr/>
            <p:nvPr/>
          </p:nvSpPr>
          <p:spPr>
            <a:xfrm>
              <a:off x="564372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35 Cubo"/>
            <p:cNvSpPr/>
            <p:nvPr/>
          </p:nvSpPr>
          <p:spPr>
            <a:xfrm>
              <a:off x="2357280" y="4429080"/>
              <a:ext cx="4429440" cy="142884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38 Conector recto"/>
            <p:cNvSpPr/>
            <p:nvPr/>
          </p:nvSpPr>
          <p:spPr>
            <a:xfrm flipH="1">
              <a:off x="6786720" y="4429080"/>
              <a:ext cx="1440" cy="1071720"/>
            </a:xfrm>
            <a:prstGeom prst="line">
              <a:avLst/>
            </a:prstGeom>
            <a:ln w="57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64 Grupo"/>
          <p:cNvGrpSpPr/>
          <p:nvPr/>
        </p:nvGrpSpPr>
        <p:grpSpPr>
          <a:xfrm>
            <a:off x="2500200" y="1428840"/>
            <a:ext cx="5286600" cy="1785960"/>
            <a:chOff x="2500200" y="1428840"/>
            <a:chExt cx="5286600" cy="1785960"/>
          </a:xfrm>
        </p:grpSpPr>
        <p:sp>
          <p:nvSpPr>
            <p:cNvPr id="92" name="53 Rectángulo"/>
            <p:cNvSpPr/>
            <p:nvPr/>
          </p:nvSpPr>
          <p:spPr>
            <a:xfrm>
              <a:off x="2857320" y="1428840"/>
              <a:ext cx="4929480" cy="9352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59 Cubo"/>
            <p:cNvSpPr/>
            <p:nvPr/>
          </p:nvSpPr>
          <p:spPr>
            <a:xfrm>
              <a:off x="2500200" y="1428840"/>
              <a:ext cx="4429440" cy="124740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60 Conector recto"/>
            <p:cNvSpPr/>
            <p:nvPr/>
          </p:nvSpPr>
          <p:spPr>
            <a:xfrm flipH="1">
              <a:off x="6929640" y="1428840"/>
              <a:ext cx="1440" cy="935280"/>
            </a:xfrm>
            <a:prstGeom prst="line">
              <a:avLst/>
            </a:prstGeom>
            <a:ln w="57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54 Cubo"/>
            <p:cNvSpPr/>
            <p:nvPr/>
          </p:nvSpPr>
          <p:spPr>
            <a:xfrm>
              <a:off x="385740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55 Cubo"/>
            <p:cNvSpPr/>
            <p:nvPr/>
          </p:nvSpPr>
          <p:spPr>
            <a:xfrm>
              <a:off x="471492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56 Cubo"/>
            <p:cNvSpPr/>
            <p:nvPr/>
          </p:nvSpPr>
          <p:spPr>
            <a:xfrm>
              <a:off x="4429080" y="205236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58 Cubo"/>
            <p:cNvSpPr/>
            <p:nvPr/>
          </p:nvSpPr>
          <p:spPr>
            <a:xfrm>
              <a:off x="557208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57 Cubo" descr=""/>
            <p:cNvPicPr/>
            <p:nvPr/>
          </p:nvPicPr>
          <p:blipFill>
            <a:blip r:embed="rId2"/>
            <a:stretch/>
          </p:blipFill>
          <p:spPr>
            <a:xfrm>
              <a:off x="5029200" y="2038680"/>
              <a:ext cx="12740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61 Conector recto"/>
            <p:cNvSpPr/>
            <p:nvPr/>
          </p:nvSpPr>
          <p:spPr>
            <a:xfrm flipH="1">
              <a:off x="2500200" y="2364120"/>
              <a:ext cx="357120" cy="31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510720" y="8380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cial : sobre el paralelepíp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8080" y="37339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: dentro del paralelepíp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086600" y="5105520"/>
            <a:ext cx="1447920" cy="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2640" y="4648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40 Grupo"/>
          <p:cNvGrpSpPr/>
          <p:nvPr/>
        </p:nvGrpSpPr>
        <p:grpSpPr>
          <a:xfrm>
            <a:off x="1928880" y="5072040"/>
            <a:ext cx="5429160" cy="1142640"/>
            <a:chOff x="1928880" y="5072040"/>
            <a:chExt cx="5429160" cy="1142640"/>
          </a:xfrm>
        </p:grpSpPr>
        <p:sp>
          <p:nvSpPr>
            <p:cNvPr id="106" name="17 Rectángulo"/>
            <p:cNvSpPr/>
            <p:nvPr/>
          </p:nvSpPr>
          <p:spPr>
            <a:xfrm>
              <a:off x="2000160" y="52149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18 Rectángulo"/>
            <p:cNvSpPr/>
            <p:nvPr/>
          </p:nvSpPr>
          <p:spPr>
            <a:xfrm>
              <a:off x="2929320" y="52149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19 Rectángulo"/>
            <p:cNvSpPr/>
            <p:nvPr/>
          </p:nvSpPr>
          <p:spPr>
            <a:xfrm>
              <a:off x="3857040" y="52149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20 Rectángulo"/>
            <p:cNvSpPr/>
            <p:nvPr/>
          </p:nvSpPr>
          <p:spPr>
            <a:xfrm>
              <a:off x="4786200" y="52149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21 Rectángulo"/>
            <p:cNvSpPr/>
            <p:nvPr/>
          </p:nvSpPr>
          <p:spPr>
            <a:xfrm>
              <a:off x="5715360" y="5214960"/>
              <a:ext cx="856800" cy="857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22 Rectángulo"/>
            <p:cNvSpPr/>
            <p:nvPr/>
          </p:nvSpPr>
          <p:spPr>
            <a:xfrm>
              <a:off x="1928880" y="5072040"/>
              <a:ext cx="4714920" cy="100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23 Rectángulo"/>
            <p:cNvSpPr/>
            <p:nvPr/>
          </p:nvSpPr>
          <p:spPr>
            <a:xfrm>
              <a:off x="1928880" y="6072120"/>
              <a:ext cx="5429160" cy="142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39 Grupo"/>
          <p:cNvGrpSpPr/>
          <p:nvPr/>
        </p:nvGrpSpPr>
        <p:grpSpPr>
          <a:xfrm>
            <a:off x="1928880" y="1571760"/>
            <a:ext cx="5429160" cy="2857320"/>
            <a:chOff x="1928880" y="1571760"/>
            <a:chExt cx="5429160" cy="2857320"/>
          </a:xfrm>
        </p:grpSpPr>
        <p:sp>
          <p:nvSpPr>
            <p:cNvPr id="114" name="24 Rectángulo"/>
            <p:cNvSpPr/>
            <p:nvPr/>
          </p:nvSpPr>
          <p:spPr>
            <a:xfrm>
              <a:off x="3929400" y="242892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25 Rectángulo"/>
            <p:cNvSpPr/>
            <p:nvPr/>
          </p:nvSpPr>
          <p:spPr>
            <a:xfrm>
              <a:off x="4786920" y="15717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26 Rectángulo"/>
            <p:cNvSpPr/>
            <p:nvPr/>
          </p:nvSpPr>
          <p:spPr>
            <a:xfrm>
              <a:off x="5644080" y="242892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Rectángulo"/>
            <p:cNvSpPr/>
            <p:nvPr/>
          </p:nvSpPr>
          <p:spPr>
            <a:xfrm>
              <a:off x="5644080" y="15717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28 Rectángulo"/>
            <p:cNvSpPr/>
            <p:nvPr/>
          </p:nvSpPr>
          <p:spPr>
            <a:xfrm>
              <a:off x="4786920" y="2428920"/>
              <a:ext cx="856800" cy="857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30 Rectángulo"/>
            <p:cNvSpPr/>
            <p:nvPr/>
          </p:nvSpPr>
          <p:spPr>
            <a:xfrm>
              <a:off x="1928880" y="3286080"/>
              <a:ext cx="4714920" cy="100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37 Rectángulo"/>
            <p:cNvSpPr/>
            <p:nvPr/>
          </p:nvSpPr>
          <p:spPr>
            <a:xfrm>
              <a:off x="1928880" y="4286520"/>
              <a:ext cx="5429160" cy="142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>
            <a:off x="7009920" y="556272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82320" y="17892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ta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5800" cy="4597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1619280" y="57942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ISTEMA MOTRIZ  (5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rot="5682000">
            <a:off x="1547640" y="162864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 rot="17919600">
            <a:off x="7092720" y="242028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50920" y="1773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5148360" y="1557360"/>
            <a:ext cx="2200320" cy="446724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4859280" y="3284640"/>
            <a:ext cx="0" cy="2449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780000" y="436572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2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8028000" y="407664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0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596360" y="1700280"/>
            <a:ext cx="0" cy="4033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grupo deberá realizar un “lluvia de ideas” de cómo resolver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recomienda investigar de sistemas reales que tengan una función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aboratorio de Fluidos</cp:lastModifiedBy>
  <dcterms:modified xsi:type="dcterms:W3CDTF">2010-04-30T15:07:23Z</dcterms:modified>
  <cp:revision>89</cp:revision>
  <dc:subject/>
  <dc:title>EL63A-Taller de Proyecto en Control II</dc:title>
</cp:coreProperties>
</file>