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427-79AA-4F17-930D-E991D0F2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F19-B3B1-461C-BAC1-63897FF6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9E9-F508-4ADB-A41A-6C702E48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35D-7631-4A0B-8B7B-14E6EDA3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AE4-2845-43EE-B93D-25CE7113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BAB-9D0C-44E0-BF11-4A4F2D3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DD5-A4F7-4E65-B467-4586DD4F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9B8-0149-4D73-ACDF-4EBA84B5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290-9F72-47C3-877A-AE38D2EC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F56-9BBC-4D79-8037-497968A2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C37-134C-458F-819F-452F1CF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CB1-56E1-4CDC-82C3-99014DA1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9543-1208-46B3-9C39-CAC3B336B8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66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74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1240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692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83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92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57 Cubo" descr=""/>
            <p:cNvPicPr/>
            <p:nvPr/>
          </p:nvPicPr>
          <p:blipFill>
            <a:blip r:embed="rId2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10720" y="838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 : sobre 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8080" y="37339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: dentro d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086600" y="5105520"/>
            <a:ext cx="144792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2640" y="4648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06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14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7009920" y="55627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2320" y="1789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4-30T15:07:23Z</dcterms:modified>
  <cp:revision>89</cp:revision>
  <dc:subject/>
  <dc:title>EL63A-Taller de Proyecto en Control II</dc:title>
</cp:coreProperties>
</file>