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48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2E0-EC40-4EBC-A79D-D89F22C1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73A-0A65-4D88-BFFA-B5D001F3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D1F-3BF7-49A8-9774-79905537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871-CE1C-4711-9CB1-1AC700F2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18B-55AC-4061-826E-5857A49C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26D-D04B-4CC7-B1FD-33FA21B0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B1C-D1FE-4582-B800-D52D9D7E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A97-F3C4-47CE-9DC5-5F1E8631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E30-7005-452C-AE6E-E1FBD436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EC0-5774-466B-A0F5-F6A5E63E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47F-F537-491F-8C30-85D32067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846-F501-4093-95D1-F6CFC8AB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AD02-285A-4657-80D9-6838A02D6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CALADOPERIMETRAL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4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2438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MENDACIONES FRENTE A UN MOVIMIENTO SÍSMIC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Marzo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6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6509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PARA MASC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210816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105520" y="2108160"/>
            <a:ext cx="3047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0720" y="3200400"/>
            <a:ext cx="7848360" cy="1905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8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1295280"/>
            <a:ext cx="685800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Unicode MS"/>
              </a:rPr>
              <a:t>Prepare un plan de emergencia en su lugar de trabajo y asegúrese de que toda la comunidad lo conozca. Si este ya existe, verifique que se encuentra actuali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Unicode MS"/>
              </a:rPr>
              <a:t>Prepare un plan de emergencia en su hogar y asegúrese que los integrantes de su familia se encuentra entrenada para enfrentar un movimiento sísmico. Esto le dará mayor tranquilidad en caso de no poder comunicarse inmediatamente con el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53352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533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9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62120" y="3276720"/>
            <a:ext cx="815328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54936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 una réplica fuerte ó un nuevo mo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627200"/>
            <a:ext cx="8001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el 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íre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AL SUEL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;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CÚBRAS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bajo un mueble o mesa firme; 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SUJÉTESE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de ésta hasta que el movimiento haya terminado. Si no cuenta con un mueble firme para cubrirse, utilice brazos y manos para proteger su cabeza y cara y posiciónese en una pared interi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860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8604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1466640" cy="1981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934320" y="3352680"/>
            <a:ext cx="1390680" cy="1962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447920" y="3448080"/>
            <a:ext cx="2895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1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1774800"/>
            <a:ext cx="7696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anténgase alejado de ventanas, muros o puertas de vidrio; puertas o muros exteriores o cualquier objeto que pudiera caer tal como lámparas, cuadros, maceteros, estantes, repisas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ermanezca dentro. Sólo cuando el movimiento haya finalizado será seguro salir. Estudios han demostrado que la mayoría de las lesiones ocurren cuando  las personas tratan de moverse dentro del recinto o intentan salir de é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O use los ascensores durante ni después del sismo, hasta que personal especializado indique que pueden ser utilizados nuev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2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el 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1676520"/>
            <a:ext cx="73152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ermanezca en el ex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éjese de edificios, semáforos, árboles, postes y tendido eléctric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En edificios de un piso ubicarse mínimo a 15 metros de dista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En edificios de dos pisos mínimo a 25 metros de dista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éjese también de generadores eléctricos, transformadores y cilindros de gas lic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na vez que se encuentre en un lugar despejado, permanezca allí hasta que el movimiento se deten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l mayor peligro existe en las cercanías de los edificios, en las salidas y a lo largo de las paredes exteriores, debido a la caída de objetos, escombros o vidrios por el colapso de las estructuras. Rara vez el movimiento de la tierra ha matado o lesionado a las perso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676520" y="3048120"/>
            <a:ext cx="5715000" cy="1447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3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1828800"/>
            <a:ext cx="739152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eténgase tan rápido como le sea posible y permanezca dentro del vehículo. Evite detener el vehículo cercano o bajo árboles, pasos bajo nivel, tendido eléctrico o edific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teja su cabeza con brazos y ma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na vez que el movimiento haya terminado, conduzca cuidadosamente, evitando caminos, puentes o rampas que puedan verse dañados por el movi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un VEHÍCULO EN MOV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907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07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181240" y="3124080"/>
            <a:ext cx="2238480" cy="1295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266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5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2523960"/>
            <a:ext cx="73911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o encienda fósforos ni encended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vite moverse bruscamente para no levantar pol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ubra su boca con un pañuelo o te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olpee tuberías o paredes para que los rescatistas puedan localizarlo. Use un silbato, si lo tuviera. Grite sólo como último recurso. Gritar puede hacerle inhalar cantidades peligrosas de pol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69056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ATRAPADO BAJO LOS ESCOMB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45720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457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 de una réplica fuerte ó un nuevo mo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6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1809720"/>
            <a:ext cx="7391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Prepárese para más réplic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stas deberías ser de menor inten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Utilice su radio portátil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scuche las informaciones de último minu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Use el teléfono solo para llamadas de emerg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bra las puertas de muebles y gabinetes con cuidado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léjese de las áreas dañadas.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torne a su hogar solo cuando las autoridades digan que es segu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74628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762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74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1793880"/>
            <a:ext cx="761976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Esté atento a posibles tsunamis si se encuentra en una zona costera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Aléjese de la orilla de la play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yude a las personas heridas o atrapad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Recuerde a los más desvalidos: niños, ancianos discapacitados. No mueva a las personas heridas gravemene o con pérdida de conciencia, a menos que se encuentren en peligro de mayores les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Limpie con las medidas de seguridad correspondientes los derrames de productos peligrosos (inflamables, reactivos, etc)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vacúe el area si usted percibe olor a gas u otros productos químicos peligros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66996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8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912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Inspeccione los servi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1808280"/>
            <a:ext cx="7543800" cy="48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Chequee que no existan fugas de g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usted huele gas o escucha silbidos o siseos , abra una ventana y rápidamente abandone el edificio. Corte el gas desde la llave de paso principal y</a:t>
            </a:r>
            <a:r>
              <a:rPr b="0" lang="en-US" sz="18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lame a la compañía de gas. El gas sólo debe ser dado una vez que personal especializado haya certificado que no existen fugas ni desperfectos en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Inspeccione posibles daños al sistema eléctrico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ve chispas o cables rotos o siente olor a cables quemados, llame a personal especializado para su repa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Revise posibles daños en las tuberías y desagüe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sospecha que existen fallas llame a un plomero o a la compañía de aguas, dependiendo del tipo de daño. No beba agua si las tuberías se encuentran dañadas. (Se puede obtener agua potable derritiendo cubos de hiel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520" y="838080"/>
            <a:ext cx="3276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5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838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676520"/>
            <a:ext cx="7391520" cy="42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Verifique la solidez de la estructura de las instalac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Sección Estructuras IDIEM. Fono 978413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alice una identificación de las condiciones de riesgo asociadas a un movimiento sísm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efina zonas de seguridad al interior y exterior de su lugar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ventanas y objetos que puedan ca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ercana a muros o estructuras que no hayan sufrido daños en el movimiento anter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instalaciones o cableado eléct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árboles de gran tamañ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LOGOCALADOPERIMETRAL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0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30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2438280"/>
            <a:ext cx="64771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U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acsh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fema.gov/hazard/earthqu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geofisica.cl/Tempo/Info_Terremotos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3880" y="4572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6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136836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anteng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operativas y despejada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las vías de evacuación en todo mo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dentifique el lugar del tablero eléctrico general y las llaves de paso de gas y de agua. Designe formalmente a una o dos personas para el corte de estos suministr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276720"/>
            <a:ext cx="8001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2352600" cy="1771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24400" y="3409920"/>
            <a:ext cx="257148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5880" y="33526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8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652760"/>
            <a:ext cx="7239240" cy="35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- Asegúrese que repisas y estantes se encuentran firmemente afianzados a la pa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Evite las repisas, cuadros u objetos en general sobre los puestos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Almacene los objetos pesados en repisas inferi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Asegure los tubos fluorescentes y lámparas colgantes mediante protecciones anti-caí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Tenga siempre a mano una linterna y una radio portátil con pilas en buen es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572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94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98108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fiance los cilindros de gases comprimi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segúrese que los productos inflamables se encuentran almacenados en lugares segur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stale barandas para la protección de caídas de productos químic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segúrese que los equipos de alto costo se encuentran afianz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tilice conectores flexibles para uniones de gas y electric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83808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838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0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6765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fiance los termos de agua caliente en dos pu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2590920" cy="1981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86200" y="2552760"/>
            <a:ext cx="263844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705720" y="2286000"/>
            <a:ext cx="1914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2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50812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GUA Y ALIMENTOS para tres d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NTERNA con pilas o baterías en buen es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ADIO PORTÁTIL con pilas o baterías en buen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ILAS DE REPUES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ILBATO, para ser utilizado en caso de quedar encerrado o atrapado bajo los escomb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600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MANTENGA A MANO UN KIT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3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676520"/>
            <a:ext cx="73915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OTIQUÍN BÁS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oallas desinfect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god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inta adhesiva / G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arch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astillas carb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ij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edicamentos personales para una sem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49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9586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BÁ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8195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2 PERSO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787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DE 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304920"/>
            <a:ext cx="3276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049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2590560" cy="2181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7600" y="1295280"/>
            <a:ext cx="2133720" cy="1609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562720" y="3124080"/>
            <a:ext cx="26668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26:23Z</dcterms:created>
  <dc:creator>ginnt</dc:creator>
  <dc:description/>
  <dc:language>en-US</dc:language>
  <cp:lastModifiedBy>Achs</cp:lastModifiedBy>
  <dcterms:modified xsi:type="dcterms:W3CDTF">2010-03-08T02:06:49Z</dcterms:modified>
  <cp:revision>49</cp:revision>
  <dc:subject/>
  <dc:title>Presentación de PowerPoint</dc:title>
</cp:coreProperties>
</file>