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7BB-E6F5-4DA7-A484-CFF63998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07B-65C5-4EB9-A18C-A5FC3B3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13D-9A91-4921-9346-3AE8B4C5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334-5770-4521-8B0F-C81510AD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2B4-4010-494B-B53A-0D68DA0A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66B-EAA3-4C7F-A482-A53BE34A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581-3056-4F5C-A569-62991978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47A-1913-4448-9860-6903423A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A92-0744-40C1-9181-1A7FFA6B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641-F963-431B-AB53-7B62FEC1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E58-3249-416C-82F5-FDAD5317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072-1D59-4B0F-B326-D5FD502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3B1-B7FF-4AF2-9E30-3CD42B55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4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438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MENDACIONES FRENTE A UN MOVIMIENTO SÍSMIC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arzo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6509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PARA MASC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210816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05520" y="2108160"/>
            <a:ext cx="3047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3200400"/>
            <a:ext cx="7848360" cy="1905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8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1295280"/>
            <a:ext cx="68580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Prepare un plan de emergencia en su lugar de trabajo y asegúrese de que toda la comunidad lo conozca. Si este ya existe, verifique que se encuentra actua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Unicode MS"/>
              </a:rPr>
              <a:t>Prepare un plan de emergencia en su hogar y asegúrese que los integrantes de su familia se encuentra entrenada para enfrentar un movimiento sísmico. Esto le dará mayor tranquilidad en caso de no poder comunicarse inmediatamente con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53352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33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9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62120" y="3276720"/>
            <a:ext cx="815328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5493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27200"/>
            <a:ext cx="8001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íre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AL SUEL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ÚBRAS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bajo un mueble o mesa firme; 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SUJÉTES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e ésta hasta que el movimiento haya terminado. Si no cuenta con un mueble firme para cubrirse, utilice brazos y manos para proteger su cabeza y cara y posiciónese en una pared interi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860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60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1466640" cy="1981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934320" y="3352680"/>
            <a:ext cx="1390680" cy="1962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447920" y="3448080"/>
            <a:ext cx="2895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1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774800"/>
            <a:ext cx="7696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éngase alejado de ventanas, muros o puertas de vidrio; puertas o muros exteriores o cualquier objeto que pudiera caer tal como lámparas, cuadros, maceteros, estantes, repisas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dentro. Sólo cuando el movimiento haya finalizado será seguro salir. Estudios han demostrado que la mayoría de las lesiones ocurren cuando  las personas tratan de moverse dentro del recinto o intentan salir de é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use los ascensores durante ni después del sismo, hasta que personal especializado indique que pueden ser utilizados nuev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676520"/>
            <a:ext cx="7315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en el ex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de edificios, semáforos, árboles, postes y tendido eléctr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un piso ubicarse mínimo a 1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dos pisos mínimo a 2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también de generadores eléctricos, transformadores y cilindros de gas li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se encuentre en un lugar despejado, permanezca allí hasta que el movimiento se deten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l mayor peligro existe en las cercanías de los edificios, en las salidas y a lo largo de las paredes exteriores, debido a la caída de objetos, escombros o vidrios por el colapso de las estructuras. Rara vez el movimiento de la tierra ha matado o lesionado a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76520" y="3048120"/>
            <a:ext cx="5715000" cy="144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3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828800"/>
            <a:ext cx="739152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téngase tan rápido como le sea posible y permanezca dentro del vehículo. Evite detener el vehículo cercano o bajo árboles, pasos bajo nivel, tendido eléctrico o edific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teja su cabeza con brazos y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el movimiento haya terminado, conduzca cuidadosamente, evitando caminos, puentes o rampas que puedan verse dañados por el mov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un VEHÍCULO EN MOV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181240" y="3124080"/>
            <a:ext cx="2238480" cy="129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266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5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2523960"/>
            <a:ext cx="73911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encienda fósforos ni encended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vite moverse bruscamente para no levantar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ubra su boca con un pañuelo o te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olpee tuberías o paredes para que los rescatistas puedan localizarlo. Use un silbato, si lo tuviera. Grite sólo como último recurso. Gritar puede hacerle inhalar cantidades peligrosas de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6905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45720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57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de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6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809720"/>
            <a:ext cx="7391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epárese para más réplic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tas deberías ser de menor int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tilice su radio portátil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cuche las informaciones de último min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se el teléfono solo para llamadas de emerg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bra las puertas de muebles y gabinetes con cuidad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léjese de las áreas dañadas.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torne a su hogar solo cuando las autoridades digan que es seg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74628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7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793880"/>
            <a:ext cx="761976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sté atento a posibles tsunamis si se encuentra en una zona costera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Aléjese de la orilla de la pla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yude a las personas heridas o atrapad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ecuerde a los más desvalidos: niños, ancianos discapacitados. No mueva a las personas heridas gravemene o con pérdida de conciencia, a menos que se encuentren en peligro de mayores les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impie con las medidas de seguridad correspondientes los derrames de productos peligrosos (inflamables, reactivos, etc)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vacúe el area si usted percibe olor a gas u otros productos químicos peligros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66996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8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912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Inspeccione los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1808280"/>
            <a:ext cx="754380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Chequee que no existan fugas de g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usted huele gas o escucha silbidos o siseos , abra una ventana y rápidamente abandone el edificio. Corte el gas desde la llave de paso principal y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lame a la compañía de gas. El gas sólo debe ser dado una vez que personal especializado haya certificado que no existen fugas ni desperfectos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Inspeccione posibles daños al sistema eléctric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ve chispas o cables rotos o siente olor a cables quemados, llame a personal especializado para su repa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Revise posibles daños en las tuberías y desagüe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sospecha que existen fallas llame a un plomero o a la compañía de aguas, dependiendo del tipo de daño. No beba agua si las tuberías se encuentran dañadas. (Se puede obtener agua potable derritiendo cubos de hie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83808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5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76520"/>
            <a:ext cx="739152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erifique la solidez de la estructura de las instal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Sección Estructuras IDIEM. Fono 978413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alice una identificación de las condiciones de riesgo asociadas a un movimiento sísm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fina zonas de seguridad al interior y exterior de su lugar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ventanas y objetos que puedan ca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ercana a muros o estructuras que no hayan sufrido daños en el movimiento anter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instalaciones o cableado eléct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árboles de gran tama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30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2438280"/>
            <a:ext cx="6477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acsh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fema.gov/hazard/earthqu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geofisica.cl/Tempo/Info_Terremotos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136836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eng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operativas y despejada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as vías de evacuación en todo mo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dentifique el lugar del tablero eléctrico general y las llaves de paso de gas y de agua. Designe formalmente a una o dos personas para el corte de estos suminist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276720"/>
            <a:ext cx="8001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2352600" cy="1771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24400" y="3409920"/>
            <a:ext cx="25714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5880" y="33526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8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652760"/>
            <a:ext cx="7239240" cy="35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- Asegúrese que repisas y estantes se encuentran firmemente afianzados a la p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Evite las repisas, cuadros u objetos en general sobre los puesto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lmacene los objetos pesados en repisas inf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segure los tubos fluorescentes y lámparas colgantes mediante protecciones anti-caí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Tenga siempre a mano una linterna y una radio portátil con pil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9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98108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cilindros de gases comprim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productos inflamables se encuentran almacenados en lugares segu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stale barandas para la protección de caídas de productos químic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equipos de alto costo se encuentran afianz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tilice conectores flexibles para uniones de gas y electri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83808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0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676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termos de agua caliente en dos pu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86200" y="2552760"/>
            <a:ext cx="263844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1914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50812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GUA Y ALIMENTOS para tres d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NTERNA con pilas o baterí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ADIO PORTÁTIL con pilas o baterías en buen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ILAS DE RE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LBATO, para ser utilizado en caso de quedar encerrado o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600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MANTENGA A MANO UN KIT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3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676520"/>
            <a:ext cx="7391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OTIQUÍN BÁS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allas desinfec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god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inta adhesiva / G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ch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stillas carb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i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mentos personales para una sem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49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9586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BÁ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2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787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DE 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0492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04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2590560" cy="2181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2133720" cy="1609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26668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26:23Z</dcterms:created>
  <dc:creator>ginnt</dc:creator>
  <dc:description/>
  <dc:language>en-US</dc:language>
  <cp:lastModifiedBy>Achs</cp:lastModifiedBy>
  <dcterms:modified xsi:type="dcterms:W3CDTF">2010-03-08T02:06:49Z</dcterms:modified>
  <cp:revision>49</cp:revision>
  <dc:subject/>
  <dc:title>Presentación de PowerPoint</dc:title>
</cp:coreProperties>
</file>