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FC8-4F2F-4469-AC30-31CCB12E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E53-D37F-4CBE-96F4-43A11CCE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EA1-6E4C-41D4-9C51-3719C6C0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D46-520F-4C18-9E6C-8640772E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7A9-2D4B-44FB-87EF-B814556F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3C4-C3F9-4C18-A4B2-CF76F479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A12-E06A-46D8-8563-726386F8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D13-9068-4397-8194-84430914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398-7B7B-4CFB-AB5F-D97393ED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A1E-81B2-456F-B2E1-A6CD7A9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73D-818E-47F4-BCE3-C164BEF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571-02FC-4BD0-9245-B1FF8328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9D8F-B6A7-410B-A770-ABA353EF80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66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74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1240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692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83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92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57 Cubo" descr=""/>
            <p:cNvPicPr/>
            <p:nvPr/>
          </p:nvPicPr>
          <p:blipFill>
            <a:blip r:embed="rId2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10720" y="838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 : sobre 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8080" y="37339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: dentro d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086600" y="5105520"/>
            <a:ext cx="144792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2640" y="4648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06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14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7009920" y="55627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2320" y="1789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4-30T15:07:23Z</dcterms:modified>
  <cp:revision>89</cp:revision>
  <dc:subject/>
  <dc:title>EL63A-Taller de Proyecto en Control II</dc:title>
</cp:coreProperties>
</file>