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48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2F1F-9979-457E-B3B5-0438E497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AA72-591F-4AA2-A5C0-9833DEAA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413D-4D2B-4B96-8A1F-B86D501CE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A6A1-9C3C-48EB-BF8A-E6185803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F58D-6FBE-4FCB-8BE8-0A0E00B3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5D1C-CCE3-4D63-96BB-40A2DF6D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0443-E8D8-4542-9C3E-0C1E3206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513A-B6DB-4C20-BF00-F59F310E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4C1F-7141-4340-ADEF-FE1B1C98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F14B-F0AD-42DD-9F61-D99E7261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5BBE-7056-4BE5-9EBA-C237F2A8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73C7-6E47-415C-9850-CA44C1C9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291C-A2F9-4A38-96A9-C2A874B76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CALADOPERIMETRAL" descr=""/>
          <p:cNvPicPr/>
          <p:nvPr/>
        </p:nvPicPr>
        <p:blipFill>
          <a:blip r:embed="rId1"/>
          <a:stretch/>
        </p:blipFill>
        <p:spPr>
          <a:xfrm>
            <a:off x="7391520" y="45720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45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2438280"/>
            <a:ext cx="655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MENDACIONES FRENTE A UN MOVIMIENTO SÍSMICO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Marzo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166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-66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276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165096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99ff"/>
                </a:solidFill>
                <a:latin typeface="Tahoma"/>
                <a:ea typeface="Times New Roman"/>
              </a:rPr>
              <a:t>KIT PARA MASC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68580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685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295280" y="2108160"/>
            <a:ext cx="2971800" cy="24764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105520" y="2108160"/>
            <a:ext cx="3047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990720" y="3200400"/>
            <a:ext cx="7848360" cy="1905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182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71600" y="1295280"/>
            <a:ext cx="685800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Unicode MS"/>
              </a:rPr>
              <a:t>Prepare un plan de emergencia en su lugar de trabajo y asegúrese de que toda la comunidad lo conozca. Si este ya existe, verifique que se encuentra actualiz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Unicode MS"/>
              </a:rPr>
              <a:t>Prepare un plan de emergencia en su hogar y asegúrese que los integrantes de su familia se encuentra entrenada para enfrentar un movimiento sísmico. Esto le dará mayor tranquilidad en caso de no poder comunicarse inmediatamente con ell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53352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5335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828800" y="53352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193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762120" y="3276720"/>
            <a:ext cx="815328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54936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URANTE</a:t>
            </a:r>
            <a:r>
              <a:rPr b="1" lang="es-MX" sz="2400" spc="-1" strike="noStrike">
                <a:solidFill>
                  <a:srgbClr val="ff6600"/>
                </a:solidFill>
                <a:latin typeface="Arial Unicode MS"/>
              </a:rPr>
              <a:t> una réplica fuerte ó un nuevo mov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627200"/>
            <a:ext cx="8001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 usted se encuentra en el I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íres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Unicode MS"/>
              </a:rPr>
              <a:t>AL SUELO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;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Unicode MS"/>
              </a:rPr>
              <a:t>CÚBRAS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bajo un mueble o mesa firme; y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Unicode MS"/>
              </a:rPr>
              <a:t>SUJÉTESE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de ésta hasta que el movimiento haya terminado. Si no cuenta con un mueble firme para cubrirse, utilice brazos y manos para proteger su cabeza y cara y posiciónese en una pared interio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8604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8604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419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334120" y="3352680"/>
            <a:ext cx="1466640" cy="1981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934320" y="3352680"/>
            <a:ext cx="1390680" cy="1962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1447920" y="3448080"/>
            <a:ext cx="28954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211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1774800"/>
            <a:ext cx="76964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Manténgase alejado de ventanas, muros o puertas de vidrio; puertas o muros exteriores o cualquier objeto que pudiera caer tal como lámparas, cuadros, maceteros, estantes, repisas, et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ermanezca dentro. Sólo cuando el movimiento haya finalizado será seguro salir. Estudios han demostrado que la mayoría de las lesiones ocurren cuando  las personas tratan de moverse dentro del recinto o intentan salir de é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O use los ascensores durante ni después del sismo, hasta que personal especializado indique que pueden ser utilizados nuevame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53352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52480" y="5493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U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222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11430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 usted se encuentra en el EX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1676520"/>
            <a:ext cx="731520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ermanezca en el exteri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éjese de edificios, semáforos, árboles, postes y tendido eléctric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-En edificios de un piso ubicarse mínimo a 15 metros de dista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-En edificios de dos pisos mínimo a 25 metros de dista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éjese también de generadores eléctricos, transformadores y cilindros de gas licu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Una vez que se encuentre en un lugar despejado, permanezca allí hasta que el movimiento se deteng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l mayor peligro existe en las cercanías de los edificios, en las salidas y a lo largo de las paredes exteriores, debido a la caída de objetos, escombros o vidrios por el colapso de las estructuras. Rara vez el movimiento de la tierra ha matado o lesionado a las perso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3352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52480" y="5493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U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676520" y="3048120"/>
            <a:ext cx="5715000" cy="1447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235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1828800"/>
            <a:ext cx="739152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eténgase tan rápido como le sea posible y permanezca dentro del vehículo. Evite detener el vehículo cercano o bajo árboles, pasos bajo nivel, tendido eléctrico o edific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teja su cabeza con brazos y ma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Una vez que el movimiento haya terminado, conduzca cuidadosamente, evitando caminos, puentes o rampas que puedan verse dañados por el movimien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12193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 usted se encuentra en un VEHÍCULO EN MOV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9072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9072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28800" y="53352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52480" y="5493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U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181240" y="3124080"/>
            <a:ext cx="2238480" cy="1295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648320" y="3124080"/>
            <a:ext cx="22669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251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90720" y="2523960"/>
            <a:ext cx="739116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o encienda fósforos ni encendedor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vite moverse bruscamente para no levantar polv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ubra su boca con un pañuelo o tel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olpee tuberías o paredes para que los rescatistas puedan localizarlo. Use un silbato, si lo tuviera. Grite sólo como último recurso. Gritar puede hacerle inhalar cantidades peligrosas de polv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69056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 usted se encuentra ATRAPADO BAJO LOS ESCOMB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00200" y="45720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3880" y="4572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ESPUÉS</a:t>
            </a:r>
            <a:r>
              <a:rPr b="1" lang="es-MX" sz="2400" spc="-1" strike="noStrike">
                <a:solidFill>
                  <a:srgbClr val="ff6600"/>
                </a:solidFill>
                <a:latin typeface="Arial Unicode MS"/>
              </a:rPr>
              <a:t> de una réplica fuerte ó un nuevo mov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263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43000" y="1809720"/>
            <a:ext cx="7391520" cy="36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Prepárese para más réplicas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Estas deberías ser de menor intens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Utilice su radio portátil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Escuche las informaciones de último minu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Use el teléfono solo para llamadas de emergen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Abra las puertas de muebles y gabinetes con cuidado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Aléjese de las áreas dañadas.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Retorne a su hogar solo cuando las autoridades digan que es segu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74628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23880" y="7621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ESPU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274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-66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90720" y="1793880"/>
            <a:ext cx="7619760" cy="4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Esté atento a posibles tsunamis si se encuentra en una zona costera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Aléjese de la orilla de la play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Ayude a las personas heridas o atrapadas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Recuerde a los más desvalidos: niños, ancianos discapacitados. No mueva a las personas heridas gravemene o con pérdida de conciencia, a menos que se encuentren en peligro de mayores lesion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Limpie con las medidas de seguridad correspondientes los derrames de productos peligrosos (inflamables, reactivos, etc)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Evacúe el area si usted percibe olor a gas u otros productos químicos peligros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00200" y="66996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685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ESPU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286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-66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9129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Inspeccione los servic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066680" y="1808280"/>
            <a:ext cx="7543800" cy="48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-Chequee que no existan fugas de gas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i usted huele gas o escucha silbidos o siseos , abra una ventana y rápidamente abandone el edificio. Corte el gas desde la llave de paso principal y</a:t>
            </a:r>
            <a:r>
              <a:rPr b="0" lang="en-US" sz="18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llame a la compañía de gas. El gas sólo debe ser dado una vez que personal especializado haya certificado que no existen fugas ni desperfectos en la 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-Inspeccione posibles daños al sistema eléctrico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i ve chispas o cables rotos o siente olor a cables quemados, llame a personal especializado para su reparac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-Revise posibles daños en las tuberías y desagües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i sospecha que existen fallas llame a un plomero o a la compañía de aguas, dependiendo del tipo de daño. No beba agua si las tuberías se encuentran dañadas. (Se puede obtener agua potable derritiendo cubos de hielo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1276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00200" y="53352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23880" y="5493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ESPU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76520" y="838080"/>
            <a:ext cx="3276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55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2480" y="8380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676520"/>
            <a:ext cx="7391520" cy="42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Verifique la solidez de la estructura de las instalacion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Sección Estructuras IDIEM. Fono 978413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ealice una identificación de las condiciones de riesgo asociadas a un movimiento sísm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efina zonas de seguridad al interior y exterior de su lugar de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ejos de ventanas y objetos que puedan ca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ercana a muros o estructuras que no hayan sufrido daños en el movimiento anteri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ejos de instalaciones o cableado eléctr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ejos de árboles de gran tamañ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LOGOCALADOPERIMETRAL" descr=""/>
          <p:cNvPicPr/>
          <p:nvPr/>
        </p:nvPicPr>
        <p:blipFill>
          <a:blip r:embed="rId1"/>
          <a:stretch/>
        </p:blipFill>
        <p:spPr>
          <a:xfrm>
            <a:off x="7391520" y="45720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00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301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52480" y="2438280"/>
            <a:ext cx="64771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U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cc"/>
                </a:solidFill>
                <a:latin typeface="Tahoma"/>
                <a:ea typeface="Times New Roman"/>
              </a:rPr>
              <a:t>http://www.acsh.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Tahoma"/>
                <a:ea typeface="Times New Roman"/>
              </a:rPr>
              <a:t>http://www.fema.gov/hazard/earthqu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Tahoma"/>
                <a:ea typeface="Times New Roman"/>
              </a:rPr>
              <a:t>http://www.geofisica.cl/Tempo/Info_Terremotos.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23880" y="45720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66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95280" y="1368360"/>
            <a:ext cx="7239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Manteng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Unicode MS"/>
              </a:rPr>
              <a:t>operativas y despejada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las vías de evacuación en todo mo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dentifique el lugar del tablero eléctrico general y las llaves de paso de gas y de agua. Designe formalmente a una o dos personas para el corte de estos suministr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0496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0496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0496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3276720"/>
            <a:ext cx="8001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4572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3000" y="3352680"/>
            <a:ext cx="2352600" cy="1771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524400" y="3409920"/>
            <a:ext cx="2571480" cy="1771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095880" y="3352680"/>
            <a:ext cx="2571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83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1652760"/>
            <a:ext cx="7239240" cy="35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- Asegúrese que repisas y estantes se encuentran firmemente afianzados a la pa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Evite las repisas, cuadros u objetos en general sobre los puestos de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Almacene los objetos pesados en repisas inferi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Asegure los tubos fluorescentes y lámparas colgantes mediante protecciones anti-caí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Tenga siempre a mano una linterna y una radio portátil con pilas en buen est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45720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4572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94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1981080"/>
            <a:ext cx="685800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fiance los cilindros de gases comprimi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segúrese que los productos inflamables se encuentran almacenados en lugares segur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nstale barandas para la protección de caídas de productos químic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segúrese que los equipos de alto costo se encuentran afianz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Utilice conectores flexibles para uniones de gas y electric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0496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83808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8380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106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16765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fiance los termos de agua caliente en dos pu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0496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0496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68580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685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2590920" cy="1981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86200" y="2552760"/>
            <a:ext cx="2638440" cy="2019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705720" y="2286000"/>
            <a:ext cx="1914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122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-66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276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2508120"/>
            <a:ext cx="7391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GUA Y ALIMENTOS para tres dí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LINTERNA con pilas o baterías en buen est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RADIO PORTÁTIL con pilas o baterías en buen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ILAS DE REPUES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ILBATO, para ser utilizado en caso de quedar encerrado o atrapado bajo los escomb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16002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6600"/>
                </a:solidFill>
                <a:latin typeface="Arial Unicode MS"/>
              </a:rPr>
              <a:t>MANTENGA A MANO UN KIT DE EM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68580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685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136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-66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276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1676520"/>
            <a:ext cx="739152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BOTIQUÍN BÁS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oallas desinfect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lgod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inta adhesiva / Ga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arch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astillas carb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ijer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edicamentos personales para una sema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68580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685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149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-66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8120" y="95868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99ff"/>
                </a:solidFill>
                <a:latin typeface="Tahoma"/>
                <a:ea typeface="Times New Roman"/>
              </a:rPr>
              <a:t>KIT BÁS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281952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99ff"/>
                </a:solidFill>
                <a:latin typeface="Tahoma"/>
                <a:ea typeface="Times New Roman"/>
              </a:rPr>
              <a:t>KIT 2 PERSO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78748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99ff"/>
                </a:solidFill>
                <a:latin typeface="Tahoma"/>
                <a:ea typeface="Times New Roman"/>
              </a:rPr>
              <a:t>KIT DE LU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304920"/>
            <a:ext cx="3276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3049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19320" y="3276720"/>
            <a:ext cx="2590560" cy="2181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657600" y="1295280"/>
            <a:ext cx="2133720" cy="1609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562720" y="3124080"/>
            <a:ext cx="266688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5T14:26:23Z</dcterms:created>
  <dc:creator>ginnt</dc:creator>
  <dc:description/>
  <dc:language>en-US</dc:language>
  <cp:lastModifiedBy>Achs</cp:lastModifiedBy>
  <dcterms:modified xsi:type="dcterms:W3CDTF">2010-03-08T02:06:49Z</dcterms:modified>
  <cp:revision>49</cp:revision>
  <dc:subject/>
  <dc:title>Presentación de PowerPoint</dc:title>
</cp:coreProperties>
</file>