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48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7D7B-238C-47B5-8E83-7C72E6480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1655-7B24-4025-ABAA-E2F81AB37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A820-90BB-4B64-AD34-C23EEDD5F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0202-25B5-4D65-BF85-05F6CB1B2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C60D-E5AA-41F9-B5C3-736FFFF6E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226A-2083-49A5-AA5C-A72818631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1928-7EB4-4378-B645-94029CD55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9237-B27F-4CA5-BC43-FC43B1F0C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0B3F-41C7-4150-A538-BC2027936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B727-772D-48BF-AD54-A8402060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8F75-C52F-4EA6-81C0-ECC2E22C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9A4B-A9DC-4E7F-B92A-446D3EFE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4F2CA-F28A-47A8-B742-62EE2466CD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CALADOPERIMETRAL" descr=""/>
          <p:cNvPicPr/>
          <p:nvPr/>
        </p:nvPicPr>
        <p:blipFill>
          <a:blip r:embed="rId1"/>
          <a:stretch/>
        </p:blipFill>
        <p:spPr>
          <a:xfrm>
            <a:off x="7391520" y="45720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45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2438280"/>
            <a:ext cx="6553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COMENDACIONES FRENTE A UN MOVIMIENTO SÍSMICO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Universidad de C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Marzo 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166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-665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1276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971800" y="165096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99ff"/>
                </a:solidFill>
                <a:latin typeface="Tahoma"/>
                <a:ea typeface="Times New Roman"/>
              </a:rPr>
              <a:t>KIT PARA MASCO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23880" y="685800"/>
            <a:ext cx="327672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23880" y="6858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AH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295280" y="2108160"/>
            <a:ext cx="2971800" cy="24764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5105520" y="2108160"/>
            <a:ext cx="3047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990720" y="3200400"/>
            <a:ext cx="7848360" cy="19051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182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71600" y="1295280"/>
            <a:ext cx="6858000" cy="41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Unicode MS"/>
              </a:rPr>
              <a:t>Prepare un plan de emergencia en su lugar de trabajo y asegúrese de que toda la comunidad lo conozca. Si este ya existe, verifique que se encuentra actualiz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 Unicode MS"/>
              </a:rPr>
              <a:t>Prepare un plan de emergencia en su hogar y asegúrese que los integrantes de su familia se encuentra entrenada para enfrentar un movimiento sísmico. Esto le dará mayor tranquilidad en caso de no poder comunicarse inmediatamente con ell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23880" y="533520"/>
            <a:ext cx="327672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23880" y="5335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AH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828800" y="533520"/>
            <a:ext cx="34290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193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762120" y="3276720"/>
            <a:ext cx="815328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52480" y="54936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DURANTE</a:t>
            </a:r>
            <a:r>
              <a:rPr b="1" lang="es-MX" sz="2400" spc="-1" strike="noStrike">
                <a:solidFill>
                  <a:srgbClr val="ff6600"/>
                </a:solidFill>
                <a:latin typeface="Arial Unicode MS"/>
              </a:rPr>
              <a:t> una réplica fuerte ó un nuevo mov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1627200"/>
            <a:ext cx="80010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 usted se encuentra en el IN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íres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Unicode MS"/>
              </a:rPr>
              <a:t>AL SUELO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;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Unicode MS"/>
              </a:rPr>
              <a:t>CÚBRAS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bajo un mueble o mesa firme; y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Unicode MS"/>
              </a:rPr>
              <a:t>SUJÉTESE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de ésta hasta que el movimiento haya terminado. Si no cuenta con un mueble firme para cubrirse, utilice brazos y manos para proteger su cabeza y cara y posiciónese en una pared interio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786040" y="241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78604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447920" y="419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5334120" y="3352680"/>
            <a:ext cx="1466640" cy="19814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6934320" y="3352680"/>
            <a:ext cx="1390680" cy="19623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1447920" y="3448080"/>
            <a:ext cx="289548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211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1774800"/>
            <a:ext cx="769644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Manténgase alejado de ventanas, muros o puertas de vidrio; puertas o muros exteriores o cualquier objeto que pudiera caer tal como lámparas, cuadros, maceteros, estantes, repisas, etc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ermanezca dentro. Sólo cuando el movimiento haya finalizado será seguro salir. Estudios han demostrado que la mayoría de las lesiones ocurren cuando  las personas tratan de moverse dentro del recinto o intentan salir de él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NO use los ascensores durante ni después del sismo, hasta que personal especializado indique que pueden ser utilizados nuevament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533520"/>
            <a:ext cx="34290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752480" y="54936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DUR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222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3520" y="11430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 usted se encuentra en el EX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066680" y="1676520"/>
            <a:ext cx="731520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ermanezca en el exteri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éjese de edificios, semáforos, árboles, postes y tendido eléctric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-En edificios de un piso ubicarse mínimo a 15 metros de distanc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-En edificios de dos pisos mínimo a 25 metros de distanc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éjese también de generadores eléctricos, transformadores y cilindros de gas licu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Una vez que se encuentre en un lugar despejado, permanezca allí hasta que el movimiento se deteng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l mayor peligro existe en las cercanías de los edificios, en las salidas y a lo largo de las paredes exteriores, debido a la caída de objetos, escombros o vidrios por el colapso de las estructuras. Rara vez el movimiento de la tierra ha matado o lesionado a las person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828800" y="533520"/>
            <a:ext cx="34290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752480" y="54936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DUR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676520" y="3048120"/>
            <a:ext cx="5715000" cy="1447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235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066680" y="1828800"/>
            <a:ext cx="739152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eténgase tan rápido como le sea posible y permanezca dentro del vehículo. Evite detener el vehículo cercano o bajo árboles, pasos bajo nivel, tendido eléctrico o edifici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teja su cabeza con brazos y man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Una vez que el movimiento haya terminado, conduzca cuidadosamente, evitando caminos, puentes o rampas que puedan verse dañados por el movimient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" y="12193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 usted se encuentra en un VEHÍCULO EN MOVIMI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79072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79072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828800" y="533520"/>
            <a:ext cx="34290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752480" y="54936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DUR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2181240" y="3124080"/>
            <a:ext cx="2238480" cy="12956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4648320" y="3124080"/>
            <a:ext cx="226692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251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90720" y="2523960"/>
            <a:ext cx="739116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No encienda fósforos ni encendedor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vite moverse bruscamente para no levantar polv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Cubra su boca con un pañuelo o tel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olpee tuberías o paredes para que los rescatistas puedan localizarlo. Use un silbato, si lo tuviera. Grite sólo como último recurso. Gritar puede hacerle inhalar cantidades peligrosas de polv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69056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 usted se encuentra ATRAPADO BAJO LOS ESCOMBR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600200" y="457200"/>
            <a:ext cx="34290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23880" y="45720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DESPUÉS</a:t>
            </a:r>
            <a:r>
              <a:rPr b="1" lang="es-MX" sz="2400" spc="-1" strike="noStrike">
                <a:solidFill>
                  <a:srgbClr val="ff6600"/>
                </a:solidFill>
                <a:latin typeface="Arial Unicode MS"/>
              </a:rPr>
              <a:t> de una réplica fuerte ó un nuevo mov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263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143000" y="1809720"/>
            <a:ext cx="7391520" cy="36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Prepárese para más réplicas.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Estas deberías ser de menor intensida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Utilice su radio portátil.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Escuche las informaciones de último minut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Use el teléfono solo para llamadas de emergenc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Abra las puertas de muebles y gabinetes con cuidado.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Aléjese de las áreas dañadas.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Retorne a su hogar solo cuando las autoridades digan que es segu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600200" y="746280"/>
            <a:ext cx="34290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523880" y="7621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DESPU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274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-665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990720" y="1793880"/>
            <a:ext cx="7619760" cy="41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Esté atento a posibles tsunamis si se encuentra en una zona costera.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Aléjese de la orilla de la play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Ayude a las personas heridas o atrapadas.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Recuerde a los más desvalidos: niños, ancianos discapacitados. No mueva a las personas heridas gravemene o con pérdida de conciencia, a menos que se encuentren en peligro de mayores lesion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Limpie con las medidas de seguridad correspondientes los derrames de productos peligrosos (inflamables, reactivos, etc).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Evacúe el area si usted percibe olor a gas u otros productos químicos peligros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600200" y="669960"/>
            <a:ext cx="34290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6858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DESPU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286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-665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57200" y="9129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Inspeccione los servic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066680" y="1808280"/>
            <a:ext cx="7543800" cy="48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-Chequee que no existan fugas de gas.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i usted huele gas o escucha silbidos o siseos , abra una ventana y rápidamente abandone el edificio. Corte el gas desde la llave de paso principal y</a:t>
            </a:r>
            <a:r>
              <a:rPr b="0" lang="en-US" sz="18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llame a la compañía de gas. El gas sólo debe ser dado una vez que personal especializado haya certificado que no existen fugas ni desperfectos en la r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-Inspeccione posibles daños al sistema eléctrico.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i ve chispas o cables rotos o siente olor a cables quemados, llame a personal especializado para su reparació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-Revise posibles daños en las tuberías y desagües.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i sospecha que existen fallas llame a un plomero o a la compañía de aguas, dependiendo del tipo de daño. No beba agua si las tuberías se encuentran dañadas. (Se puede obtener agua potable derritiendo cubos de hielo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1276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600200" y="533520"/>
            <a:ext cx="34290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23880" y="54936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DESPU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676520" y="838080"/>
            <a:ext cx="327636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55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52480" y="83808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AH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1676520"/>
            <a:ext cx="7391520" cy="42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Verifique la solidez de la estructura de las instalacion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(Sección Estructuras IDIEM. Fono 978413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ealice una identificación de las condiciones de riesgo asociadas a un movimiento sísmi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efina zonas de seguridad al interior y exterior de su lugar de tr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ejos de ventanas y objetos que puedan ca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Cercana a muros o estructuras que no hayan sufrido daños en el movimiento anteri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ejos de instalaciones o cableado eléctri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ejos de árboles de gran tamañ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LOGOCALADOPERIMETRAL" descr=""/>
          <p:cNvPicPr/>
          <p:nvPr/>
        </p:nvPicPr>
        <p:blipFill>
          <a:blip r:embed="rId1"/>
          <a:stretch/>
        </p:blipFill>
        <p:spPr>
          <a:xfrm>
            <a:off x="7391520" y="45720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300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301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52480" y="2438280"/>
            <a:ext cx="64771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U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cc"/>
                </a:solidFill>
                <a:latin typeface="Tahoma"/>
                <a:ea typeface="Times New Roman"/>
              </a:rPr>
              <a:t>http://www.acsh.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cc"/>
                </a:solidFill>
                <a:latin typeface="Tahoma"/>
                <a:ea typeface="Times New Roman"/>
              </a:rPr>
              <a:t>http://www.fema.gov/hazard/earthqua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cc"/>
                </a:solidFill>
                <a:latin typeface="Tahoma"/>
                <a:ea typeface="Times New Roman"/>
              </a:rPr>
              <a:t>http://www.geofisica.cl/Tempo/Info_Terremotos.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523880" y="457200"/>
            <a:ext cx="327672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66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95280" y="1368360"/>
            <a:ext cx="72392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Manteng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Unicode MS"/>
              </a:rPr>
              <a:t>operativas y despejada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las vías de evacuación en todo mom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Identifique el lugar del tablero eléctrico general y las llaves de paso de gas y de agua. Designe formalmente a una o dos personas para el corte de estos suministr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0496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0496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0496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3276720"/>
            <a:ext cx="8001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23880" y="4572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AH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143000" y="3352680"/>
            <a:ext cx="2352600" cy="1771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524400" y="3409920"/>
            <a:ext cx="2571480" cy="1771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6095880" y="3352680"/>
            <a:ext cx="25718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83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95280" y="1652760"/>
            <a:ext cx="7239240" cy="35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Unicode MS"/>
              </a:rPr>
              <a:t>- Asegúrese que repisas y estantes se encuentran firmemente afianzados a la par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Unicode MS"/>
              </a:rPr>
              <a:t>Evite las repisas, cuadros u objetos en general sobre los puestos de tr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 Unicode MS"/>
              </a:rPr>
              <a:t>Almacene los objetos pesados en repisas inferio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Unicode MS"/>
              </a:rPr>
              <a:t>Asegure los tubos fluorescentes y lámparas colgantes mediante protecciones anti-caíd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Unicode MS"/>
              </a:rPr>
              <a:t>Tenga siempre a mano una linterna y una radio portátil con pilas en buen est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457200"/>
            <a:ext cx="327672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4572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AH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94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47920" y="1981080"/>
            <a:ext cx="6858000" cy="35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fiance los cilindros de gases comprimi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segúrese que los productos inflamables se encuentran almacenados en lugares segur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Instale barandas para la protección de caídas de productos químic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segúrese que los equipos de alto costo se encuentran afianza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Utilice conectores flexibles para uniones de gas y electric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0496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838080"/>
            <a:ext cx="327672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83808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AH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106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167652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fiance los termos de agua caliente en dos pun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0496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0496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685800"/>
            <a:ext cx="327672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3880" y="6858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AH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66680" y="2590920"/>
            <a:ext cx="2590920" cy="19810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886200" y="2552760"/>
            <a:ext cx="2638440" cy="20192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6705720" y="2286000"/>
            <a:ext cx="19144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122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-665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276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90720" y="2508120"/>
            <a:ext cx="73911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GUA Y ALIMENTOS para tres dí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LINTERNA con pilas o baterías en buen est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RADIO PORTÁTIL con pilas o baterías en buen es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ILAS DE REPUES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SILBATO, para ser utilizado en caso de quedar encerrado o atrapado bajo los escombr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16002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6600"/>
                </a:solidFill>
                <a:latin typeface="Arial Unicode MS"/>
              </a:rPr>
              <a:t>MANTENGA A MANO UN KIT DE EMERG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23880" y="685800"/>
            <a:ext cx="327672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3880" y="6858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AH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136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-665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1276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1676520"/>
            <a:ext cx="739152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BOTIQUÍN BÁS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Toallas desinfectan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lgod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inta adhesiva / Gas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Parche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Pastillas carb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Tijer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Medicamentos personales para una sema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3880" y="685800"/>
            <a:ext cx="327672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6858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AH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149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-665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8120" y="958680"/>
            <a:ext cx="32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99ff"/>
                </a:solidFill>
                <a:latin typeface="Tahoma"/>
                <a:ea typeface="Times New Roman"/>
              </a:rPr>
              <a:t>KIT BÁS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2819520"/>
            <a:ext cx="32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99ff"/>
                </a:solidFill>
                <a:latin typeface="Tahoma"/>
                <a:ea typeface="Times New Roman"/>
              </a:rPr>
              <a:t>KIT 2 PERSO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78748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99ff"/>
                </a:solidFill>
                <a:latin typeface="Tahoma"/>
                <a:ea typeface="Times New Roman"/>
              </a:rPr>
              <a:t>KIT DE LU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47920" y="304920"/>
            <a:ext cx="327636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447920" y="30492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AH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219320" y="3276720"/>
            <a:ext cx="2590560" cy="21812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3657600" y="1295280"/>
            <a:ext cx="2133720" cy="16099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5562720" y="3124080"/>
            <a:ext cx="266688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5T14:26:23Z</dcterms:created>
  <dc:creator>ginnt</dc:creator>
  <dc:description/>
  <dc:language>en-US</dc:language>
  <cp:lastModifiedBy>Achs</cp:lastModifiedBy>
  <dcterms:modified xsi:type="dcterms:W3CDTF">2010-03-08T02:06:49Z</dcterms:modified>
  <cp:revision>49</cp:revision>
  <dc:subject/>
  <dc:title>Presentación de PowerPoint</dc:title>
</cp:coreProperties>
</file>