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48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489-911D-4071-B8C4-E77892B7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C429-BED6-4466-8EE3-3402BCA5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D9A-84C9-4859-A692-0CD9F16F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993-3C14-4192-807C-D29FC71D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7C4-3778-42FD-B29A-DA659B4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3D4-3E7B-4442-BF8C-FA9E877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574-1CD7-47F6-9A39-B37D31F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F14-F66E-4747-92DB-0E2134A2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2EA-BD71-426A-89A3-D54C22E6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FFF-0324-4875-925F-4C67BD9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28E-49D4-4620-BB14-13DABD63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9D-4755-4D52-843A-B4DBE30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FA38-47E2-4DA1-9847-B1BD29F5B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4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438280"/>
            <a:ext cx="655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MENDACIONES FRENTE A UN MOVIMIENTO SÍSMIC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arzo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65096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PARA MASC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95280" y="2108160"/>
            <a:ext cx="2971800" cy="24764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105520" y="2108160"/>
            <a:ext cx="3047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3200400"/>
            <a:ext cx="7848360" cy="1905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8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295280"/>
            <a:ext cx="68580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Prepare un plan de emergencia en su lugar de trabajo y asegúrese de que toda la comunidad lo conozca. Si este ya existe, verifique que se encuentra actuali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Unicode MS"/>
              </a:rPr>
              <a:t>Prepare un plan de emergencia en su hogar y asegúrese que los integrantes de su familia se encuentra entrenada para enfrentar un movimiento sísmico. Esto le dará mayor tranquilidad en caso de no poder comunicarse inmediatamente con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53352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533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9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62120" y="3276720"/>
            <a:ext cx="815328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54936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27200"/>
            <a:ext cx="8001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I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íre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L SUEL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CÚBRAS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bajo un mueble o mesa firme; 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SUJÉTE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de ésta hasta que el movimiento haya terminado. Si no cuenta con un mueble firme para cubrirse, utilice brazos y manos para proteger su cabeza y cara y posiciónese en una pared interi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8604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860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1466640" cy="19814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934320" y="3352680"/>
            <a:ext cx="1390680" cy="1962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7920" y="344808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1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1774800"/>
            <a:ext cx="7696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éngase alejado de ventanas, muros o puertas de vidrio; puertas o muros exteriores o cualquier objeto que pudiera caer tal como lámparas, cuadros, maceteros, estantes, repisa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dentro. Sólo cuando el movimiento haya finalizado será seguro salir. Estudios han demostrado que la mayoría de las lesiones ocurren cuando  las personas tratan de moverse dentro del recinto o intentan salir de é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use los ascensores durante ni después del sismo, hasta que personal especializado indique que pueden ser utilizados nuevame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el EX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676520"/>
            <a:ext cx="731520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manezca en el ex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de edificios, semáforos, árboles, postes y tendido eléctric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un piso ubicarse mínimo a 1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-En edificios de dos pisos mínimo a 25 metros de dista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éjese también de generadores eléctricos, transformadores y cilindros de gas lic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se encuentre en un lugar despejado, permanezca allí hasta que el movimiento se deten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l mayor peligro existe en las cercanías de los edificios, en las salidas y a lo largo de las paredes exteriores, debido a la caída de objetos, escombros o vidrios por el colapso de las estructuras. Rara vez el movimiento de la tierra ha matado o lesionado a las perso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6520" y="3048120"/>
            <a:ext cx="5715000" cy="144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3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828800"/>
            <a:ext cx="739152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téngase tan rápido como le sea posible y permanezca dentro del vehículo. Evite detener el vehículo cercano o bajo árboles, pasos bajo nivel, tendido eléctrico o edific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teja su cabeza con brazos y ma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na vez que el movimiento haya terminado, conduzca cuidadosamente, evitando caminos, puentes o rampas que puedan verse dañados por el movimien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en un VEHÍCULO EN MOV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07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524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81240" y="3124080"/>
            <a:ext cx="2238480" cy="129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22669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5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523960"/>
            <a:ext cx="73911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o encienda fósforos ni encended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vite moverse bruscamente para no levantar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ubra su boca con un pañuelo o tel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olpee tuberías o paredes para que los rescatistas puedan localizarlo. Use un silbato, si lo tuviera. Grite sólo como último recurso. Gritar puede hacerle inhalar cantidades peligrosas de pol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69056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i usted se encuentra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45720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457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 de una réplica fuerte ó un nuevo mo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6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809720"/>
            <a:ext cx="739152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Prepárese para más réplic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tas deberías ser de menor intens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tilice su radio portátil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scuche las informaciones de último minu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Use el teléfono solo para llamadas de emerg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bra las puertas de muebles y gabinetes con cuidad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léjese de las áreas dañadas.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torne a su hogar solo cuando las autoridades digan que es segu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74628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7621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7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793880"/>
            <a:ext cx="761976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Esté atento a posibles tsunamis si se encuentra en una zona costera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Aléjese de la orilla de la play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Ayude a las personas heridas o atrapad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Recuerde a los más desvalidos: niños, ancianos discapacitados. No mueva a las personas heridas gravemene o con pérdida de conciencia, a menos que se encuentren en peligro de mayores les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Limpie con las medidas de seguridad correspondientes los derrames de productos peligrosos (inflamables, reactivos, etc)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Evacúe el area si usted percibe olor a gas u otros productos químicos peligros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66996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28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912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speccione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1808280"/>
            <a:ext cx="7543800" cy="48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Chequee que no existan fugas de ga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usted huele gas o escucha silbidos o siseos , abra una ventana y rápidamente abandone el edificio. Corte el gas desde la llave de paso principal y</a:t>
            </a:r>
            <a:r>
              <a:rPr b="0" lang="en-US" sz="18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lame a la compañía de gas. El gas sólo debe ser dado una vez que personal especializado haya certificado que no existen fugas ni desperfectos en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Inspeccione posibles daños al sistema eléctrico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ve chispas o cables rotos o siente olor a cables quemados, llame a personal especializado para su repa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-Revise posibles daños en las tuberías y desagües.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i sospecha que existen fallas llame a un plomero o a la compañía de aguas, dependiendo del tipo de daño. No beba agua si las tuberías se encuentran dañadas. (Se puede obtener agua potable derritiendo cubos de hiel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533520"/>
            <a:ext cx="34290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5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DESPU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83808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55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1676520"/>
            <a:ext cx="7391520" cy="42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Verifique la solidez de la estructura de las instal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Sección Estructuras IDIEM. Fono 978413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ealice una identificación de las condiciones de riesgo asociadas a un movimiento sísm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efina zonas de seguridad al interior y exterior de su lugar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ventanas y objetos que puedan ca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ercana a muros o estructuras que no hayan sufrido daños en el movimiento anter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instalaciones o cablead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ejos de árboles de gran tamañ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CALADOPERIMETRAL" descr=""/>
          <p:cNvPicPr/>
          <p:nvPr/>
        </p:nvPicPr>
        <p:blipFill>
          <a:blip r:embed="rId1"/>
          <a:stretch/>
        </p:blipFill>
        <p:spPr>
          <a:xfrm>
            <a:off x="7391520" y="45720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301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438280"/>
            <a:ext cx="6477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acsh.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fema.gov/hazard/earthqu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cc"/>
                </a:solidFill>
                <a:latin typeface="Tahoma"/>
                <a:ea typeface="Times New Roman"/>
              </a:rPr>
              <a:t>http://www.geofisica.cl/Tempo/Info_Terremotos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6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1368360"/>
            <a:ext cx="7239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anteng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Unicode MS"/>
              </a:rPr>
              <a:t>operativas y despejada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las vías de evacuación en todo mo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dentifique el lugar del tablero eléctrico general y las llaves de paso de gas y de agua. Designe formalmente a una o dos personas para el corte de estos suminist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76720"/>
            <a:ext cx="800100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2352600" cy="1771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524400" y="3409920"/>
            <a:ext cx="257148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6095880" y="33526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83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652760"/>
            <a:ext cx="723924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- Asegúrese que repisas y estantes se encuentran firmemente afianzados a la pa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Evite las repisas, cuadros u objetos en general sobre los puesto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lmacene los objetos pesados en repisas inferi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Asegure los tubos fluorescentes y lámparas colgantes mediante protecciones anti-caí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Tenga siempre a mano una linterna y una radio portátil con pil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572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57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94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198108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cilindros de gases comprimi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productos inflamables se encuentran almacenados en lugares segur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stale barandas para la protección de caídas de productos químic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segúrese que los equipos de alto costo se encuentran afianz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Utilice conectores flexibles para uniones de gas y electric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83808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8380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0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6765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fiance los termos de agua caliente en dos pu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496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86200" y="2552760"/>
            <a:ext cx="2638440" cy="2019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1914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22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50812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GUA Y ALIMENTOS para tres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LINTERNA con pilas o baterías en buen est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ADIO PORTÁTIL con pilas o baterías en buen 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ILAS DE RE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ILBATO, para ser utilizado en caso de quedar encerrado o atrapado bajo los escombr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600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6600"/>
                </a:solidFill>
                <a:latin typeface="Arial Unicode MS"/>
              </a:rPr>
              <a:t>MANTENGA A MANO UN KIT DE EMER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36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7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676520"/>
            <a:ext cx="73915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OTIQUÍN BÁS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allas desinfect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god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inta adhesiva / G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rch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astillas carb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ijer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dicamentos personales para una sem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685800"/>
            <a:ext cx="3276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685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533520" cy="594360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66680" cy="1066680"/>
          </a:xfrm>
          <a:prstGeom prst="rect">
            <a:avLst/>
          </a:prstGeom>
          <a:solidFill>
            <a:srgbClr val="a0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5715000"/>
            <a:ext cx="9143640" cy="533520"/>
            <a:chOff x="0" y="5715000"/>
            <a:chExt cx="9143640" cy="533520"/>
          </a:xfrm>
        </p:grpSpPr>
        <p:sp>
          <p:nvSpPr>
            <p:cNvPr id="149" name=""/>
            <p:cNvSpPr/>
            <p:nvPr/>
          </p:nvSpPr>
          <p:spPr>
            <a:xfrm>
              <a:off x="0" y="6248520"/>
              <a:ext cx="102384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3840" y="5715000"/>
              <a:ext cx="8119800" cy="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1023840" y="5715000"/>
              <a:ext cx="0" cy="533520"/>
            </a:xfrm>
            <a:prstGeom prst="line">
              <a:avLst/>
            </a:prstGeom>
            <a:ln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16200000">
            <a:off x="-1098360" y="3937320"/>
            <a:ext cx="264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6600"/>
                </a:solidFill>
                <a:latin typeface="Arial"/>
              </a:rPr>
              <a:t>Por un trabajo sano y segu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581976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8000"/>
                </a:solidFill>
                <a:latin typeface="Arial"/>
              </a:rPr>
              <a:t>Para enfrentar una emergencia debe existir una organización que permita optimizar los recursos con que se cuenta, con el propósito de disminuir los dañ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665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95868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BÁ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28195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2 PERSO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787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99ff"/>
                </a:solidFill>
                <a:latin typeface="Tahoma"/>
                <a:ea typeface="Times New Roman"/>
              </a:rPr>
              <a:t>KIT DE LU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304920"/>
            <a:ext cx="3276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7920" y="3049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 Unicode MS"/>
              </a:rPr>
              <a:t>QUÉ HACER AH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3276720"/>
            <a:ext cx="2590560" cy="2181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2133720" cy="160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562720" y="3124080"/>
            <a:ext cx="266688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26:23Z</dcterms:created>
  <dc:creator>ginnt</dc:creator>
  <dc:description/>
  <dc:language>en-US</dc:language>
  <cp:lastModifiedBy>Achs</cp:lastModifiedBy>
  <dcterms:modified xsi:type="dcterms:W3CDTF">2010-03-08T02:06:49Z</dcterms:modified>
  <cp:revision>49</cp:revision>
  <dc:subject/>
  <dc:title>Presentación de PowerPoint</dc:title>
</cp:coreProperties>
</file>