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3ACEC-4989-4225-9EFC-EC86BD57A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60C69-AEE8-4992-B72F-5A1AE476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EC2F2-D6FB-4119-9A18-287A44286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9845B-21C7-4476-A3DC-F31B0FA46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781AF-28C1-4773-8ED3-574B9836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960E1-0130-4EE8-AC87-934D36032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90607-CEE8-40B6-8BDA-58588AFA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E20B-CC41-4659-BB0B-E8C41A46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FF48-9140-4C31-AE41-083B5675B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32C8-0635-4350-8E7F-6FA91BFF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5209-76E9-47F8-9FEE-FDBC3CF1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03EF-D3AE-4CD6-8D64-3EDA3164A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A4C8-A80C-4D1C-9BB1-9DD3AD58F6F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hyperlink" Target="http://es.wikipedia.org/wiki/1685" TargetMode="External"/><Relationship Id="rId2" Type="http://schemas.openxmlformats.org/officeDocument/2006/relationships/hyperlink" Target="http://es.wikipedia.org/wiki/1753" TargetMode="External"/><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 bellísima exposición —que el autor habría podido firmar sin dudarlo—, sumamente interesante desde el punto de vista de la historia de la astronomía, fue, sin embargo, juzgada muy severamente por los</a:t>
            </a:r>
            <a:r>
              <a:rPr b="0" lang="es-MX" sz="3200" spc="-1" strike="noStrike">
                <a:solidFill>
                  <a:srgbClr val="000000"/>
                </a:solidFill>
                <a:latin typeface="Arial"/>
              </a:rPr>
              <a:t> amigos de Coper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C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izá llegue a sospechar que o bien no hay eso que se llama la verdad, o que el hombre no posee los medios suficientes para alcanzar un conocimiento cierto de e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uestras capacidades son las </a:t>
            </a:r>
            <a:r>
              <a:rPr b="0" i="1" lang="es-ES_tradnl" sz="2800" spc="-1" strike="noStrike">
                <a:solidFill>
                  <a:srgbClr val="000000"/>
                </a:solidFill>
                <a:latin typeface="Arial"/>
              </a:rPr>
              <a:t>adecuadas a nuestro estado y a nuestros intereses. </a:t>
            </a:r>
            <a:r>
              <a:rPr b="0" lang="es-ES_tradnl" sz="2800" spc="-1" strike="noStrike">
                <a:solidFill>
                  <a:srgbClr val="000000"/>
                </a:solidFill>
                <a:latin typeface="Arial"/>
              </a:rPr>
              <a:t>Porque, aun cuando la comprensión de nuestros</a:t>
            </a:r>
            <a:br>
              <a:rPr sz="2800"/>
            </a:br>
            <a:r>
              <a:rPr b="0" lang="es-ES_tradnl" sz="2800" spc="-1" strike="noStrike">
                <a:solidFill>
                  <a:srgbClr val="000000"/>
                </a:solidFill>
                <a:latin typeface="Arial"/>
              </a:rPr>
              <a:t>entendimientos se queda muy corta respecto a la vasta extensión de las cosas, sin embargo, tendremos causa suficiente para alabar al generoso autor de nuestro ser, por aquella porción y grado de conocimiento que nos ha concedido, tan por encima de todos los demás habitantes de esta nuestra man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ena causa tienen los hombres de estar satisfechos con lo que Dios ha creído que les conviene,puesto que les ha dado </a:t>
            </a:r>
            <a:r>
              <a:rPr b="0" i="1" lang="es-ES_tradnl" sz="2800" spc="-1" strike="noStrike">
                <a:solidFill>
                  <a:srgbClr val="000000"/>
                </a:solidFill>
                <a:latin typeface="Arial"/>
              </a:rPr>
              <a:t> (como dice San Pedro, 'Todas las cosas que pertenecen a la vida y a la piedad' II Pedro c.  I, v.3)</a:t>
            </a:r>
            <a:r>
              <a:rPr b="0" lang="es-ES_tradnl" sz="2800" spc="-1" strike="noStrike">
                <a:solidFill>
                  <a:srgbClr val="000000"/>
                </a:solidFill>
                <a:latin typeface="Arial"/>
              </a:rPr>
              <a:t> cuanto es necesario para la comodidad en la vida y para noticia de la virtud, y dado que ha puesto al alcance de sus descubrimientos las provisiones de un bienestar en esta vida y les ha mostrado el camino que conduce a otra mejo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Berkeley </a:t>
            </a:r>
            <a:r>
              <a:rPr b="0" lang="es-ES" sz="2800" spc="-1" strike="noStrike" u="sng">
                <a:solidFill>
                  <a:srgbClr val="009999"/>
                </a:solidFill>
                <a:uFillTx/>
                <a:latin typeface="Arial"/>
                <a:hlinkClick r:id="rId1"/>
              </a:rPr>
              <a:t>1685</a:t>
            </a:r>
            <a:r>
              <a:rPr b="0" i="1" lang="es-ES" sz="2800" spc="-1" strike="noStrike">
                <a:solidFill>
                  <a:srgbClr val="000000"/>
                </a:solidFill>
                <a:latin typeface="Arial"/>
              </a:rPr>
              <a:t> - </a:t>
            </a:r>
            <a:r>
              <a:rPr b="0" lang="es-ES" sz="2800" spc="-1" strike="noStrike" u="sng">
                <a:solidFill>
                  <a:srgbClr val="009999"/>
                </a:solidFill>
                <a:uFillTx/>
                <a:latin typeface="Arial"/>
                <a:hlinkClick r:id="rId2"/>
              </a:rPr>
              <a:t>1753</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Se cree que la causa de esto es la oscuridad de las cosas o la natural debilidad e imperfección de nuestro entendimiento. Se dice que las facultades que tenemos son pocas y que han sido destinadas por la naturaleza al sostenimiento y solaz (confort)  de la vida y no a penetrar en la esencia interna y en la constitución de las cos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Además, por ser la mente del hombre finita, no es extraño que caiga-cuando trata de cosas que participan de lo infinito- en absurdos y contradiciones de las que no puede liberarse, </a:t>
            </a:r>
            <a:r>
              <a:rPr b="1" i="1" lang="es-ES_tradnl" sz="3200" spc="-1" strike="noStrike">
                <a:solidFill>
                  <a:srgbClr val="000000"/>
                </a:solidFill>
                <a:latin typeface="Arial"/>
              </a:rPr>
              <a:t>puesto que está en la naturaleza de lo infinito el no poder ser comprendido por lo que es fin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naturaleza, empero, incluso en el actual estado depravado de la humanidad, no ha sido tan despiadada con nosotros como para dotarnos de un principio que es plenamente y en todos los aspectos perverso, o que no puede ser objeto apropiado de alabanza y aprobación en ningún grado y en ningún sen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MI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nces, aunque el hombre está </a:t>
            </a:r>
            <a:r>
              <a:rPr b="0" lang="es-MX" sz="2800" spc="-1" strike="noStrike">
                <a:solidFill>
                  <a:srgbClr val="000000"/>
                </a:solidFill>
                <a:latin typeface="Arial"/>
              </a:rPr>
              <a:t>natural</a:t>
            </a:r>
            <a:r>
              <a:rPr b="0" lang="es-ES_tradnl" sz="2800" spc="-1" strike="noStrike">
                <a:solidFill>
                  <a:srgbClr val="000000"/>
                </a:solidFill>
                <a:latin typeface="Arial"/>
              </a:rPr>
              <a:t>mente dotado de un deseo del bienestar y la preservación de la sociedad, el Autor de la naturaleza no ha confiado a su razón el descubrír que una aplicación punitiva determinada es el medio apropiado para alcanzar dicho fin; en cambio, lo ha dotado con una aprobación inmediata e instintiva de la aplicación que es más conveniente para alcanzarl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 relación a todos aquellos lino que por su peculiar importancia pueden ser considerados, si .se nú |.. i mite la expresión, como fines favoritos de la naturaleza, ella h.i doUild constantemente de esta manera a las personas de un apetito no solo | fin que se propone sino también por los medios a través exclusiv.iitu lili de los cuales ese fin puede lograrse, y a causa sólo de esos medios, iiuli pendientemente de su tendencia a producir el fin. Así, la conserv.i. la propagación de la especie son los grandes fines que la naturalc/4 |'4 rece haberse propuesto en la formación de todos los animales. I . .• humanos están dotados de un deseo de tales objetivos y un.i .iv&lt; i por los opuestos, un amor la vida y un temor a la muerte, un dcico </a:t>
            </a:r>
            <a:r>
              <a:rPr b="1" lang="es-ES_tradnl" sz="1800" spc="-1" strike="noStrike">
                <a:solidFill>
                  <a:srgbClr val="000000"/>
                </a:solidFill>
                <a:latin typeface="Arial"/>
              </a:rPr>
              <a:t>lili </a:t>
            </a:r>
            <a:r>
              <a:rPr b="0" lang="es-ES_tradnl" sz="1800" spc="-1" strike="noStrike">
                <a:solidFill>
                  <a:srgbClr val="000000"/>
                </a:solidFill>
                <a:latin typeface="Arial"/>
              </a:rPr>
              <a:t>continuar y perpetuar la especie y una aversión ante la idea de su i.iul extinción. Pero aunque estemos así dotados de un deseo nun  un. mu de dichos fines, no se ha confiado a la lenta e incierta determni.u uní &gt;l* nuestra razón el descubrir los medios adecuados para conseguirlo»  I 4 naturaleza nos ha dirigido hacia la mayor parte de ellos medíanle u. tos originales e inmediatos. El hambre, la sed, la pasión que .ni i.   | • sexos, el gusto por el placer, el rechazo al dolor, nos impuls.in .1  i| esos medios por ellos mismos, sin ninguna consideración a su leml. m 14 a los benéficos fines que el gran Director de la naturaleza míenlo n .ill zar a través de e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URALEZA Y ALCANCE DEL METODO CIENTIF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incaré ha insistido frecuentemente en el carácter arbitrario y convencional de las teorías físicas. Las numerosas suposiciones siempre posibles sobre una misma materia serían lógicamente equivalentes  y capaces de explicar con igual acierto el mismo fenóm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el científico escoge una con preferencia a otra, es más bien por razones de comodidad. Así, adopta la teoría de la rotación de la Tierra porque es más simple y cómoda que la de la inmov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eorías  matemáticas —dice— no tienen  por  objeto revelarnos la verdadera naturaleza de las cosas;  tal pretensión sería irrazonable . Su  único propósito  es  coordinar  las  leyes físicas  que  la  experiencia nos hace conocer, pero que, sin ayuda de las matemáticas, no podríamos ni siquiera enun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PERNIC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Y aunque no ignoro que el pensamiento del hombre  amante de la filosofía está alejado de la opinión vulgar, por lo mismo que su tarea consiste en buscar la verdad en todas las cosas, en cuanto Dios lo permita a la razón humana, sin embargo, pienso que debemos huir de las opiniones del todo contrarias a lo correcto".</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LUTER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n efecto, es propio del astrónomo examinar la historia de los movimientos celestes a través de una diligente y concienzuda observación; y, luego, idear o imaginar cualesquiera causas o hipótesis de ellos - </a:t>
            </a:r>
            <a:r>
              <a:rPr b="0" i="1" lang="es-ES_tradnl" sz="1600" spc="-1" strike="noStrike" u="sng">
                <a:solidFill>
                  <a:srgbClr val="000000"/>
                </a:solidFill>
                <a:uFillTx/>
                <a:latin typeface="Arial"/>
              </a:rPr>
              <a:t>ya que de ninguna manera podrá alcanzar las verdaderas</a:t>
            </a:r>
            <a:r>
              <a:rPr b="0" i="1" lang="es-ES_tradnl" sz="1600" spc="-1" strike="noStrike">
                <a:solidFill>
                  <a:srgbClr val="000000"/>
                </a:solidFill>
                <a:latin typeface="Arial"/>
              </a:rPr>
              <a:t> -, sobre la base de las cuales podrán calcularse correctamente dichos movimientos, de acuerdo con los principios de la geometría, tanto en el futuro como en el pasado"... "Pues no es necesario que esas hipótesis sean verdaderas, ni siquiera verosímiles, sino que es suficiente una sola cosa: que proporcionen un  cálculo de acuerdo con las observaciones"...</a:t>
            </a: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a:t>
            </a:r>
            <a:r>
              <a:rPr b="0" i="1" lang="es-ES_tradnl" sz="3200" spc="-1" strike="noStrike">
                <a:solidFill>
                  <a:srgbClr val="000000"/>
                </a:solidFill>
                <a:latin typeface="Arial"/>
              </a:rPr>
              <a:t>na teoría física </a:t>
            </a:r>
            <a:r>
              <a:rPr b="0" lang="es-ES_tradnl" sz="3200" spc="-1" strike="noStrike">
                <a:solidFill>
                  <a:srgbClr val="000000"/>
                </a:solidFill>
                <a:latin typeface="Arial"/>
              </a:rPr>
              <a:t>—escribe Duhem— </a:t>
            </a:r>
            <a:r>
              <a:rPr b="0" i="1" lang="es-ES_tradnl" sz="3200" spc="-1" strike="noStrike">
                <a:solidFill>
                  <a:srgbClr val="000000"/>
                </a:solidFill>
                <a:latin typeface="Arial"/>
              </a:rPr>
              <a:t>no es una explicación </a:t>
            </a:r>
            <a:r>
              <a:rPr b="0" lang="es-ES_tradnl" sz="3200" spc="-1" strike="noStrike">
                <a:solidFill>
                  <a:srgbClr val="000000"/>
                </a:solidFill>
                <a:latin typeface="Arial"/>
              </a:rPr>
              <a:t>en el sentido de explicación por la naturaleza de las cosas. </a:t>
            </a:r>
            <a:r>
              <a:rPr b="0" i="1" lang="es-ES_tradnl" sz="3200" spc="-1" strike="noStrike">
                <a:solidFill>
                  <a:srgbClr val="000000"/>
                </a:solidFill>
                <a:latin typeface="Arial"/>
              </a:rPr>
              <a:t>Es un sistema </a:t>
            </a:r>
            <a:r>
              <a:rPr b="0" lang="es-ES_tradnl" sz="3200" spc="-1" strike="noStrike">
                <a:solidFill>
                  <a:srgbClr val="000000"/>
                </a:solidFill>
                <a:latin typeface="Arial"/>
              </a:rPr>
              <a:t>de </a:t>
            </a:r>
            <a:r>
              <a:rPr b="0" i="1" lang="es-ES_tradnl" sz="3200" spc="-1" strike="noStrike">
                <a:solidFill>
                  <a:srgbClr val="000000"/>
                </a:solidFill>
                <a:latin typeface="Arial"/>
              </a:rPr>
              <a:t>proposiciones matemáticas, deducidas de un corto número de principios, que tienen por objeto representar, de la manera más completa y</a:t>
            </a:r>
            <a:r>
              <a:rPr b="0" lang="es-ES_tradnl" sz="3200" spc="-1" strike="noStrike">
                <a:solidFill>
                  <a:srgbClr val="000000"/>
                </a:solidFill>
                <a:latin typeface="Arial"/>
              </a:rPr>
              <a:t> </a:t>
            </a:r>
            <a:r>
              <a:rPr b="0" i="1" lang="es-ES_tradnl" sz="3200" spc="-1" strike="noStrike">
                <a:solidFill>
                  <a:srgbClr val="000000"/>
                </a:solidFill>
                <a:latin typeface="Arial"/>
              </a:rPr>
              <a:t>exacta posible, un conjunto de leyes experi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necesario —escribe Osiander— que esas hipótesis [astronómicas  sean verdaderas; ni siquiera hace falta que sean verosímiles; es suficiente únicamente que el cálculo a que conducen concuerde con las observaci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videntísimo que esta ciencia ignora, pura y simplemente, las causas de las desigualdades de los movimientos aparentes. -Las causas ficticias que concibe, las concibe, en la mayor parte de los casos, como  las conociese con certeza; no obstante, nunca las concibe con miras a  persuadir a cualquiera de que ocurre así en la realidad, sino únicamente para establecer un cálculo exac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mada en todo su rigor, esta posición parece inadmisible. Veamos la razón de ello, que ya ha sido señalada al estudiar el valor Ias definiciones. La física matemática estudia el ente natural en su aspecto cuantitativo. Pero la cantidad es el atributo fundamenal de la materia  y el primer accidente de la sust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lileo tiene conciencia de este probl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Dialogo sobre Sistemas máximos del mund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or tanto, concluyo que el entender nuestro en cuanto a la multitud de las cosas entendidas, es infinitamente superado por el divino, pero no lo envilezco tanto que lo juzgue absolutamente nul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la creencia de que es posible captar la realidad con nuestras construcciones teóricas —dice Einstein—, sin la creencia  en la armonía interna de nuestro mundo, sería imposible la ciencia. Esta creencia es y seguirá siendo siempre el motivo fundamental de  la creación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E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NSAMIENTO CIENTIF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Naturaleza tiene el poder, delegado por Dios, de producir todas las cosas de acuerdo a su mandato. No es un organismo vivo de fuerzas y energías inmanentes con carácter vital psíquico. Es la fábrica mundial de San Agustín, la máquina mundial de San Buenaventura, la máquina del mundo o "forma total" de Copérnico o la Naturaleza de Galileo.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aturaleza es creadora por mandato divino como afirma Galileo: </a:t>
            </a:r>
            <a:r>
              <a:rPr b="0" i="1" lang="es-ES_tradnl" sz="2800" spc="-1" strike="noStrike" u="sng">
                <a:solidFill>
                  <a:srgbClr val="000000"/>
                </a:solidFill>
                <a:uFillTx/>
                <a:latin typeface="Arial"/>
              </a:rPr>
              <a:t>porque procediendo de igual modo del Verbo divino la Sagrada Escritura y la Naturaleza, aquélla en cuanto inspirada por el Espíritu Santo, y ésta como ejecutora fidelísima de las órdenes d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a participación creadora de la Naturaleza desde el principio hasta el fin del tiempo. Debemos contemplar el libro de la Naturaleza escrito en lenguaje mate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Galileo, después, en </a:t>
            </a:r>
            <a:r>
              <a:rPr b="0" lang="es-ES_tradnl" sz="3200" spc="-1" strike="noStrike" u="sng">
                <a:solidFill>
                  <a:srgbClr val="000000"/>
                </a:solidFill>
                <a:uFillTx/>
                <a:latin typeface="Arial"/>
              </a:rPr>
              <a:t>Los Sistemas máximo de mundo</a:t>
            </a:r>
            <a:r>
              <a:rPr b="0" lang="es-ES_tradnl" sz="3200" spc="-1" strike="noStrike">
                <a:solidFill>
                  <a:srgbClr val="000000"/>
                </a:solidFill>
                <a:latin typeface="Arial"/>
              </a:rPr>
              <a:t> d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ntre los hombres, señor Simplicio, existe la potestad de obrar, pero no participada igualmente por todos, y no se duda que el poder de un emperador es bastante mayor que el de una persona privada, pero aquél y éste no son nada en comparación con el poder divi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ntre los hombres, unos entienden de agricultura más que otros, pero el saber plantar un sarmiento de vid en un hoyo, ¿ qué tiene que ver con el saberlo hacer brotar, darle alimento, separar una parte buena para hacer las hojas, otra para las raíces, aquélla para los racimos, ésta para las uvas, y esotra para las pepitas, que son todas obras de la Naturaleza? Esta es una sola obra de la Natura, y en ella sola se ve tan infinita sapiencia, que se puede concluir que el saber divino es infinitas veces infini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s así que en el proceso de la demostración, que llaman méthodon (método), observamos que ellos han olvidado algo necesario o bien han admitido algo extraño no perteneciente en modo alguno a la cuestión, lo cual no les hubiera sucedido en modo alguno si hubieran seguido principios ciertos. Porque, si las hipótesis admitidas por ellos no hubieran sido falsas, todo lo que se desprende de ellas se hubiera verificado sin duda algu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hora bien, puesto que a veces se ofrecen diferentes hipótesis  del mismo movimiento, el astrónomo adoptará la que resulte más fácil de comprender. El filósofo quizá exigirá más bien la verosimilitud, </a:t>
            </a:r>
            <a:r>
              <a:rPr b="0" i="1" lang="es-ES_tradnl" sz="2000" spc="-1" strike="noStrike" u="sng">
                <a:solidFill>
                  <a:srgbClr val="000000"/>
                </a:solidFill>
                <a:uFillTx/>
                <a:latin typeface="Arial"/>
              </a:rPr>
              <a:t>aunque ninguno de los dos llegará a comprender nada de cierto, ni podrá enseñarlo, a menos que le sea revelado por la divinidad</a:t>
            </a:r>
            <a:r>
              <a:rPr b="0" i="1" lang="es-ES_tradnl" sz="2000" spc="-1" strike="noStrike">
                <a:solidFill>
                  <a:srgbClr val="000000"/>
                </a:solidFill>
                <a:latin typeface="Arial"/>
              </a:rPr>
              <a:t>" ..."Y que nadie, en lo que a las hipótesis se refiere, espere de la astronomía nada de cierto, ya que ella no pretende nada semeja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xtraño, entonces, que la modernidad, con su dogma de que es imposible conocer a Dios, haya desarrollado una interpretación de los primeros filósofos como físicos o teóricos de la naturaleza que rechaza cualquier indicación teológica. Y desde su empirismo positivista-moderno, los primeros filósofos son reducidos a un estudio de los hechos comprobables por los sentidos que no es y no puede ser teológico. Por la importancia que tiene este punto de vista en la civilización inglesa volvamos al texto de Berkeley antes citado para comprender correctamente los trabajos de pensadores británicos sobre estas mate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ero, diréis: ¿No tiene la naturaleza parte alguna en la producción de las cosas naturales y deben todas ellas asignarse a la sola e inmediata obra de Dios?  Respondo que, si por naturaleza se entiende solamente la serie visible de efectos o sensaciones impresas en nuestras mentes de acuerdo a ciertas leyes fijas y generales, es claro que la naturaleza, tomada en ese sentido, nada puede produc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ero si por naturaleza se entiende algún ser distinto de Dios, de las leyes de la naturaleza y de las cosas percibidas por los sentidos, debo declarar que esa palabra es para mí un sonido vacío, sin ningún sentido inteligible que le acompañ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La naturaleza en esta concepción es una vana quimera introducida por aquellos herejes que no tienen noción justa de la omnipresencia e infinita perfección de Dios. Pero es menos explicable aún que la admitan cristianos que pretenden creer en las Sagradas Escrituras, las cuales siempre atribuyen directamente a la mano de Dios aquello que los filósofos herejes suelen asignar a la naturalez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lingwood plantea inicialmente la cuestión del significado de la naturaleza, recalcando su perspectiva modernizadora de la filosofía grieg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Un europeo moderno, al serle hecha la misma pregunta, “¿Qué es la naturaleza?”, probablemente la cambiaría en esta otra: “¿Qué clase de cosas existen en el mundo natural?”, y trataría de contestarla embarcándose en una descripción del mundo natural, es decir, haciendo historia natur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tinúa Colingwo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característica de la civilización británica imponer a la interpretación de la historia su concepción reformada. De esta manera, sin saberlo, estamos en el ámbito de la síntesis cristiano-filosófica hecha por los puritanos en el siglo XVII y XVIII en Inglaterra, y aceptamos, como señala Mason, una congruencia entre el calvinismo y la ciencia moderna. Así es como asumimos el proyecto filosófico natural anglosaj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Continúa Colingw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o se debe a que en los idiomas europeos modernos la palabra ´naturaleza' se usa casi siempre en el sentido colectivo de suma total o agregado de cosas naturales. Sin embargo, no es éste el único sentido en que se emplea comúnmente en las lenguas modern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xiste también otro, que reconocemos como su sentido original y, en rigor, propio: cuando se refiere, no a una colección sino a un "principio", en el sentido propio de este vocablo, un principium, argé o fuente (...) En este caso la palabra 'naturaleza' se refiere a algo que hace a quien la posee comportarse como lo hace; esta fuente de su comportamiento es algo que está dentro de él: de haber estado fuera, su comportamiento no habría sido "natural", sino "impuesto", compulsiv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156 Porque, después de todo, lo que merece el primer lugar en nuestros estudios es la consideración de Dios y de nuestro deber. Promover a ello fue el designio y curso principal de mis trabajos, y los consideraré inútiles e ineficaces si con lo dicho no logro inspirar en mis lectores un piadoso sentimiento de la presencia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y -después de haber mostrado la vanidad y falsedad de las áridas especulaciones que constituyen la ocupación principal de los hombres instruidos - disponerlos mejor a reverenciar y abrazar las saludables verdades del Evangelio, cuya práctica y conocimiento son la más alta perfección de la naturaleza human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ilosofía de Berkeley está encaminada a destruir la filosofía natural por medio de la negación de la existencia de las cosas reales fuera de la mente. Por ello termina su obra con un llamado a abrazar el Evangelio y alejarse de las especulaciones vanas y falsas de los hombres instruidos. </a:t>
            </a:r>
            <a:br>
              <a:rPr sz="3200"/>
            </a:b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siander y Rheticus estaban preocupados de proteger la doctrina  luterana. Lutero y Melachton habían condenado a Copérnico porque su filosofía atacaba la Teología de la Cruz, y la proposición del movimiento convertía en nada la Sagrada Escritura entendida de una manera literal. Había que tranquilizar a los peripatéticos y teólogos luteranos con la idea de que había tantas hipótesis como investigadores, las cuales jamás serían reales ni verdaderas, sino que sólo permitirían calcular con más sencille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9999"/>
                </a:solidFill>
                <a:uFillTx/>
                <a:latin typeface="Arial"/>
                <a:hlinkClick r:id="rId1" action="ppaction://hlinksldjump"/>
              </a:rPr>
              <a:t>[1]</a:t>
            </a:r>
            <a:r>
              <a:rPr b="0" lang="es-ES_tradnl" sz="2400" spc="-1" strike="noStrike">
                <a:solidFill>
                  <a:srgbClr val="000000"/>
                </a:solidFill>
                <a:latin typeface="Arial"/>
              </a:rPr>
              <a:t>	</a:t>
            </a:r>
            <a:r>
              <a:rPr b="0" lang="es-ES_tradnl" sz="2400" spc="-1" strike="noStrike">
                <a:solidFill>
                  <a:srgbClr val="000000"/>
                </a:solidFill>
                <a:latin typeface="Arial"/>
              </a:rPr>
              <a:t>Breve fragmento conocido hoy por un cita de J. Kepler, </a:t>
            </a:r>
            <a:r>
              <a:rPr b="0" i="1" lang="es-ES_tradnl" sz="2400" spc="-1" strike="noStrike">
                <a:solidFill>
                  <a:srgbClr val="000000"/>
                </a:solidFill>
                <a:latin typeface="Arial"/>
              </a:rPr>
              <a:t>Apología Tychonis contra Ursu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no influyó mayormente sobre la actitud de Osiander y Rheticus quienes, por razones teológicas y no por cuestiones científicas o en razón de criterios fenomenalistas o de sagacidad, como afirman autores que desconocen la condenación de los luteranos a la obra, introdujeron arbitrariamente cambios en ella</a:t>
            </a:r>
            <a:r>
              <a:rPr b="0" lang="es-ES_tradnl" sz="3200" spc="-1" strike="noStrike" u="sng">
                <a:solidFill>
                  <a:srgbClr val="009999"/>
                </a:solidFill>
                <a:uFillTx/>
                <a:latin typeface="Arial"/>
                <a:hlinkClick r:id="rId1" action="ppaction://hlinksldjump"/>
              </a:rPr>
              <a:t>[2]</a:t>
            </a:r>
            <a:r>
              <a:rPr b="0" lang="es-ES_tradnl" sz="3200" spc="-1" strike="noStrike">
                <a:solidFill>
                  <a:srgbClr val="000000"/>
                </a:solidFill>
                <a:latin typeface="Arial"/>
              </a:rPr>
              <a:t>. Ellos , deliberadamente, agregaron su prefacio y eliminaron partes de la obr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nt deja muy en claro su posición y modo de entender a Copérnico cuando escri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s leyes centrales de los movimientos de los cuerpos celestes proporcionan así completa certeza a lo que Copérnico tomó, inicialmente, como simple hipótesis, y demostraron, a la vez, la fuerza invisible que liga la estructura del universo (la atracción newtoniana).  Esta atracción hubiera permanecido para siempre sin descubrir si Copérnico no se hubiese atrevido a buscar, de modo opuesto a los sentidos, pero verdadero, los movimientos observados, no en los objetos del cielo, sino en su espect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Por mi parte, presento igualmente en este prólogo la transformación de este pensamiento - que es análoga a la hipótesis mencionada - expuesta en la Crítica como mera hipótesis.  No obstante con el solo fin de destacar los primeros ensayos de dicha transformación, ensayos que son siempre hipotéticos, dicha hipótesis queda demostrada en el tratado mismo, no según su carácter de hipótesis, sino  apodicticamente, partiendo de la naturaleza de nuestra representaciones de espacio y tiempo y de los conceptos elementales del entendimiento (Nota de Kant)</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verdad, Copérnico, al comienzo de su obra, afirma que el pensamiento del hombre amante de la filosofía está alejado de la opinión vulgar, por lo mismo que su tarea consiste en buscar la verdad en todas las cosas, en cuanto Dios lo permita a la razón humana. Siguiendo la tradición de la filosofía latina, hace una "observación filosófica" que implica los sentidos y el entendimiento (es más que meramente matemática) del universo; no es la observación vulgar a la que se atuvieron Lutero y Melachton para rechazar las proposiciones de Copérnico. También reconoce que el conocimiento humano tiene límites, pero no por eso niega la capacidad de conocer la verdad y la Divinida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nt cree que para realizar su trabajo debe hacer en la metafísica lo mismo que hizo Copérnico en la astronomía. Desgraciadamente toma el pensamiento de Copérnico falsificado por los luteranos</a:t>
            </a:r>
            <a:r>
              <a:rPr b="0" lang="es-ES_tradnl" sz="2400" spc="-1" strike="noStrike" u="sng">
                <a:solidFill>
                  <a:srgbClr val="009999"/>
                </a:solidFill>
                <a:uFillTx/>
                <a:latin typeface="Arial"/>
                <a:hlinkClick r:id="rId1" action="ppaction://hlinksldjump"/>
              </a:rPr>
              <a:t>[1]</a:t>
            </a:r>
            <a:r>
              <a:rPr b="0" lang="es-ES_tradnl" sz="2400" spc="-1" strike="noStrike">
                <a:solidFill>
                  <a:srgbClr val="000000"/>
                </a:solidFill>
                <a:latin typeface="Arial"/>
              </a:rPr>
              <a:t>  D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Ocurre aquí como con los primeros pensamientos de Copérnico. Este, viendo que no conseguía explicar los movimientos celestes si aceptaba que todo el ejército de estrellas giraba alrededor del espectador, probó si no obtendría mejores resultados haciendo girar al espectador y dejando las estrellas en repos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n la metafísica se puede hacer el mismo ensayo, en lo que ateñe a la intuición de los objetos.  Si la intuición tuviera que regirse por la naturaleza de los objetos, no veo cómo podría conocerse algo a  priori sobre esa naturaleza.  Si, en cambio, es el objeto (en cuanto objeto de los sentidos) el que se rige por la naturaleza de nuestra facultad de intuición, puedo representarme fácilmente tal posibilidad</a:t>
            </a:r>
            <a:r>
              <a:rPr b="0" lang="es-ES_tradnl" sz="3200" spc="-1" strike="noStrike">
                <a:solidFill>
                  <a:srgbClr val="000000"/>
                </a:solidFill>
                <a:latin typeface="Arial"/>
              </a:rPr>
              <a:t> </a:t>
            </a:r>
            <a:r>
              <a:rPr b="0" lang="es-ES_tradnl" sz="3200" spc="-1" strike="noStrike" u="sng">
                <a:solidFill>
                  <a:srgbClr val="009999"/>
                </a:solidFill>
                <a:uFillTx/>
                <a:latin typeface="Arial"/>
                <a:hlinkClick r:id="rId1" action="ppaction://hlinksldjump"/>
              </a:rPr>
              <a:t>[2]</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CLASE     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06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SAAC NEWT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thur Zajonc cita un comentario hecho por  Newton en 166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plugo a Dios Misericordioso en su justa severidad castigar la ciudad de Cambridge con el flagelo de la pes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Y añade Zajonc: Durante los dos años de esta peste, Newton vivió apaciblemente en su hogar de Woolsthorpe con su madre. Estos dos años son legendarios en la historia de la ciencia, y a veces se llaman </a:t>
            </a:r>
            <a:r>
              <a:rPr b="0" i="1" lang="es-ES_tradnl" sz="2400" spc="-1" strike="noStrike" u="sng">
                <a:solidFill>
                  <a:srgbClr val="000000"/>
                </a:solidFill>
                <a:uFillTx/>
                <a:latin typeface="Arial"/>
              </a:rPr>
              <a:t>anni mirabilis</a:t>
            </a:r>
            <a:r>
              <a:rPr b="0" i="1" lang="es-ES_tradnl" sz="2400" spc="-1" strike="noStrike">
                <a:solidFill>
                  <a:srgbClr val="000000"/>
                </a:solidFill>
                <a:latin typeface="Arial"/>
              </a:rPr>
              <a:t>, por la cantidad y peso de las ideas científicas que produjo durante estos meses de retiro"</a:t>
            </a:r>
            <a:r>
              <a:rPr b="0" lang="es-ES_tradnl" sz="2400" spc="-1" strike="noStrike">
                <a:solidFill>
                  <a:srgbClr val="000000"/>
                </a:solidFill>
                <a:latin typeface="Arial"/>
              </a:rPr>
              <a:t>.</a:t>
            </a:r>
            <a:r>
              <a:rPr b="0" lang="es-ES_tradnl" sz="2400" spc="-1" strike="noStrike" u="sng">
                <a:solidFill>
                  <a:srgbClr val="009999"/>
                </a:solidFill>
                <a:uFillTx/>
                <a:latin typeface="Arial"/>
                <a:hlinkClick r:id="rId1" action="ppaction://hlinksldjump"/>
              </a:rPr>
              <a:t>[1]</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br>
              <a:rPr sz="2400"/>
            </a:br>
            <a:r>
              <a:rPr b="0" lang="en-US" sz="2400" spc="-1" strike="noStrike" u="sng">
                <a:solidFill>
                  <a:srgbClr val="009999"/>
                </a:solidFill>
                <a:uFillTx/>
                <a:latin typeface="Arial"/>
                <a:hlinkClick r:id="rId2" action="ppaction://hlinksldjump"/>
              </a:rPr>
              <a:t>[1]</a:t>
            </a:r>
            <a:r>
              <a:rPr b="0" lang="es-ES_tradnl" sz="2400" spc="-1" strike="noStrike">
                <a:solidFill>
                  <a:srgbClr val="000000"/>
                </a:solidFill>
                <a:latin typeface="Arial"/>
              </a:rPr>
              <a:t>	</a:t>
            </a:r>
            <a:r>
              <a:rPr b="0" lang="es-ES_tradnl" sz="2400" spc="-1" strike="noStrike">
                <a:solidFill>
                  <a:srgbClr val="000000"/>
                </a:solidFill>
                <a:latin typeface="Arial"/>
              </a:rPr>
              <a:t>Arthur Zajonc, </a:t>
            </a:r>
            <a:r>
              <a:rPr b="0" i="1" lang="es-ES_tradnl" sz="2400" spc="-1" strike="noStrike">
                <a:solidFill>
                  <a:srgbClr val="000000"/>
                </a:solidFill>
                <a:latin typeface="Arial"/>
              </a:rPr>
              <a:t>Atrapando la luz</a:t>
            </a:r>
            <a:r>
              <a:rPr b="0" lang="es-ES_tradnl" sz="2400" spc="-1" strike="noStrike">
                <a:solidFill>
                  <a:srgbClr val="000000"/>
                </a:solidFill>
                <a:latin typeface="Arial"/>
              </a:rPr>
              <a:t>, Editorial Andrés Bello, 1994, p.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ra Andreas Osiander?  Sabemos que no era astrónomo, ni matemático, por lo tanto sus divergencias no se fundaban en antecedentes que surgieron del ámbito de la astronomía o en diferencias de cálculos. En estos campos era un absoluto incompetente como lo demostró Galileo. Sin embargo, tenía su especialidad. Era experto y seguidor de las doctrinas luteranas. Vivió entre los años 1498 y 1552. Fue amigo, discípulo de Lutero y uno de los primeros reformadores. Publicó en 1537 una armonía de los cuatro Evangelios que fijó el estilo de análisis para las armonías protestantes de los siglos posteriores, con un enfoque mucho más rígido que el de San Agustín. Para Osiander las diferencias pequeñas de orden o detalles significan acontecimientos distin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creen que estos años prodigiosos de la historia de la ciencia son consecuencia de la intervención divina, la cual permitió a Newton hacer un retiro y proponer resultados fundamentales para la ciencia. Con esto termina la época de corrupción de la fe y comienza una nueva era en que la ciencia está en santa alianza con la religión, pues Newton establece los nuevos fundamentos religiosos de la filosofía natur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raspaso de los principios del cristianismo reformado a la filosofía natural lo hizo Newton en los </a:t>
            </a:r>
            <a:r>
              <a:rPr b="0" i="1" lang="es-ES_tradnl" sz="3200" spc="-1" strike="noStrike">
                <a:solidFill>
                  <a:srgbClr val="000000"/>
                </a:solidFill>
                <a:latin typeface="Arial"/>
              </a:rPr>
              <a:t>Principia</a:t>
            </a:r>
            <a:r>
              <a:rPr b="0" lang="es-ES_tradnl" sz="3200" spc="-1" strike="noStrike">
                <a:solidFill>
                  <a:srgbClr val="000000"/>
                </a:solidFill>
                <a:latin typeface="Arial"/>
              </a:rPr>
              <a:t> y se simbolizó la unión de la ciencia con la religión reformada mediante la construcción de su estatua en el atrio de la capilla del Colegio de la Trinidad de Cambri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homas Sprat, de tradición calvinista, consignó en su </a:t>
            </a:r>
            <a:r>
              <a:rPr b="0" i="1" lang="es-ES_tradnl" sz="2400" spc="-1" strike="noStrike">
                <a:solidFill>
                  <a:srgbClr val="000000"/>
                </a:solidFill>
                <a:latin typeface="Arial"/>
              </a:rPr>
              <a:t>Historia de la Sociedad Real</a:t>
            </a:r>
            <a:r>
              <a:rPr b="0" lang="es-ES_tradnl" sz="2400" spc="-1" strike="noStrike">
                <a:solidFill>
                  <a:srgbClr val="000000"/>
                </a:solidFill>
                <a:latin typeface="Arial"/>
              </a:rPr>
              <a:t>, publicada en 1667, la congruencia de objetivos entre el cristianismo reformado y la ciencia moderna. Señaló el acuerdo que se da entre el  plan de la Sociedad Real y el de su Iglesia en sus comienzos. Para este cronista de los inicios de la Royal Society era claro que existía un pla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Tal consonancia de objetivos entre el protestantismo y la ciencia moderna fue fielmente reflejada por Thomas Sprat en su Historia de la Sociedad Real, publicada en 1667. Señalaba el 'acuerdo que se da entre este plan de la Sociedad Real y el de nuestra Iglesia en sus comienz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mbas pueden reclamar por igual la palabra Reforma, habiéndola realizado una en la religión y proponiéndola la otra en la filosofía. Ambas han emprendido un curso semejante para llevarla a cabo; ambas desestiman las copias corrompidas, remitiéndose a los originales perfectos para su instrucción; una de ellas, las Escrituras, la otra el inmenso volumen de las criaturas. Ambas se ven injustamente acusadas por sus enemigos de los mismos crímenes consistentes en haber sacudido las viejas tradiciones y aventurado novedades. Ambas suponen asimismo que sus predecesores se pudieron equivocar, conservando a pesar de todo una suficiente reverencia hacia ellos. Ambas siguen el gran precepto de probar todas las cosas. Tal es la armonía entre sus intereses y talante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la posición original sobre la ciencia de los reformadores evolucionó en sus seguidores. En un vuelco total, el cristianismo reformado, a través del puritanismo, comprendió la actividad científica como una tarea religiosa. La creencia de la pluralidad de los mundos ayudó a reconciliar la teología calvinista con el sistema de la ciencia moderna de la época. El problema más difícil para lograr la reconciliación era la lectura literal de las Sagradas Escrituras, el cual provocó el primer enfrentamiento de Lutero y Calvino con la ciencia. Ellos leían literalmente en la Biblia, </a:t>
            </a:r>
            <a:r>
              <a:rPr b="0" i="1" lang="es-ES_tradnl" sz="2000" spc="-1" strike="noStrike">
                <a:solidFill>
                  <a:srgbClr val="000000"/>
                </a:solidFill>
                <a:latin typeface="Arial"/>
              </a:rPr>
              <a:t>Josué mandó detenerse el Sol</a:t>
            </a:r>
            <a:r>
              <a:rPr b="0" lang="es-ES_tradnl" sz="2000" spc="-1" strike="noStrike">
                <a:solidFill>
                  <a:srgbClr val="000000"/>
                </a:solidFill>
                <a:latin typeface="Arial"/>
              </a:rPr>
              <a:t> y Copérnico,  afirmó el movimiento de la Tierra en torno al Sol, pero ambas afirmaciones eran incompatibles. Los puritanos británicos abandonaron gradualmente este modo de interpretar las Sagradas Escritu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emás, como la ciencia se transformó en una tarea religiosa, se desarrolló un movimiento científico-religioso coherente y organizado en la década de 1640. El clérigo puritano John Wilkins (1614-1672), líder del "Colegio filosófico", se inclinaba hacia esta concepción. Unió su teología calvinista con la filosofía natural de la época, mejor dicho la aplicó a la filosofía natural; planteó la pluralidad de los mundos y defendió la proposición copernicana. Para ello reconcilió la afirmación de Copérnico con las Sagradas Escritur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 síntesis, retomó la lectura no literal seguida por la Iglesia católica hasta la condenación de Galileo y repitió la argumentación de éste sobre su idea de que Dios, en las Sagradas Escrituras, ha hecho muchas concesiones para estar al alcance del pueblo. Este movimiento religioso científico hace una lectura más flexible de las Escrituras y retoma ciertos principios teológicos dejados de lado por el catolicismo, para insertarlos en un sistema básicamente diferente: Dios es irracional, porque no puede ser conocido por la razón huma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taca la razón, porque sólo los elegidos de Dios  la poseen  para diferenciarlos de los réprobos y de los animales. Se trata de un empirismo racionalista, de un racionalismo sometido a la experiencia. El clérigo puritano John Cotton declaró, en 1654, que la investigación de la naturaleza era un deber positivo cristian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u="sng">
                <a:solidFill>
                  <a:srgbClr val="009999"/>
                </a:solidFill>
                <a:uFillTx/>
                <a:latin typeface="Arial"/>
                <a:hlinkClick r:id="rId1" action="ppaction://hlinksldjump"/>
              </a:rPr>
              <a:t>[1]</a:t>
            </a:r>
            <a:r>
              <a:rPr b="0" lang="es-ES_tradnl" sz="2800" spc="-1" strike="noStrike">
                <a:solidFill>
                  <a:srgbClr val="000000"/>
                </a:solidFill>
                <a:latin typeface="Arial"/>
              </a:rPr>
              <a:t>	</a:t>
            </a:r>
            <a:r>
              <a:rPr b="0" lang="es-ES_tradnl" sz="2800" spc="-1" strike="noStrike">
                <a:solidFill>
                  <a:srgbClr val="000000"/>
                </a:solidFill>
                <a:latin typeface="Arial"/>
              </a:rPr>
              <a:t>Stephen F. Mason, </a:t>
            </a:r>
            <a:r>
              <a:rPr b="0" i="1" lang="es-ES_tradnl" sz="2800" spc="-1" strike="noStrike">
                <a:solidFill>
                  <a:srgbClr val="000000"/>
                </a:solidFill>
                <a:latin typeface="Arial"/>
              </a:rPr>
              <a:t>Historia de la ciencia, </a:t>
            </a:r>
            <a:r>
              <a:rPr b="0" lang="es-ES_tradnl" sz="2800" spc="-1" strike="noStrike">
                <a:solidFill>
                  <a:srgbClr val="000000"/>
                </a:solidFill>
                <a:latin typeface="Arial"/>
              </a:rPr>
              <a:t>Alianza editorial, Madrid, 1985, tomo 2, p.71.</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prat se inserta en la tradición calvinista, ya que para él la palabra Reforma se debe aplicar a la religión y a la filosofía, porque en ambas se realizó la restauración y se siguió el mismo camino para realizarla. La nueva iglesia y la Real Sociedad repudiaron la vieja iglesia y el conocimiento estéril, dejando atrás las viejas tradiciones, proponiendo cosas nuevas. Tenían un plan único, religioso-filosófico, orientado a imponer las nuevas convicciones que implicaba, a la vez, el dominio político sobre el resto del mundo. Rechazaban la vieja iglesia y su filosofía, porque además de constituir un "error infinito", eran un obstáculo político para su po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uritanos estaban convencidos de que la razón y la revelación se confirmaban mutuamente y sobre este fundamento los estudios científicos reforzaban su dogmática religiosa básica. Sus fuertes ataques a la dogmática católica y anglicana permitieron la aceptación de la obra de Newton. Ellos creen que puritanismo eliminó las restricciones religiosas católicas y anglicanas y en su reemplazo pusieron las propias. La disciplina se impuso en todas partes y su ascética intramundana fue absoluta. 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Lutero: un astrólogo advenedizo que pretende probar que es la Tierra la que gira, y no el cielo, el firmamento, el Sol o la Luna (...) Este loco echa completamente por tierra la ciencia de la Astronomía, pero las Sagradas Escrituras nos enseñan que Josué ordenó al Sol y no a la Tierra, que se detuvies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uritanos creyeron firmemente que el mundo debía ser conquistado y controlado por acción directa de la comunidad de los elegidos y por eso extendieron una verdadera ascética en todas las esferas de la vida. Hubo una secularización desde una perspectiva distinta al puritanismo, pero la ética religiosa del calvinismo era la disposición que mandaba de un modo inflexible la devoción obligada de la triplemente bendita vocación del filósofo de la naturaleza. Ellos sostenían que "el protestantismo es el vaso anglosajón del cristianismo bíblico", tanto en los trabajos religiosos, como en los intelectu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yle, en su testamento, se dirige a los miembros de la Real Sociedad en los términos siguien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Deseándoles también un buen éxito en sus laudables intentos de descubrir la verdadera naturaleza de las obras de Dios, y rogando que ellos y todos los demás investigadores de las verdades físicas puedan remitir cordialmente sus logros a la Gloria del Gran Autor de la Naturaleza, y para confortación de la Humanidad </a:t>
            </a:r>
            <a:br>
              <a:rPr sz="2800"/>
            </a:b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ifícil suponer que esta era una argucia de Boyle para quedar bien con la religión, porque sabía que una vez muerto estaba definitivamente fuera del alcance de todo lo mundan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Nuestra atención está orientada a la importancia real de las distintas facciones cristianas de la vida europea y las consecuencias que tuvieron las diferencias doctrinarias del cristianismo en la vida práctica de los hombres y en su trabajo intelectual, y no a la apologética de la Reforma o su nega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scolio General de su obra maestra</a:t>
            </a:r>
            <a:r>
              <a:rPr b="0" i="1" lang="es-ES_tradnl" sz="2800" spc="-1" strike="noStrike">
                <a:solidFill>
                  <a:srgbClr val="000000"/>
                </a:solidFill>
                <a:latin typeface="Arial"/>
              </a:rPr>
              <a:t>,  Principios Matemáticos de la Filosofía Natural y Su Sistema del Mundo, </a:t>
            </a:r>
            <a:r>
              <a:rPr b="0" lang="es-ES_tradnl" sz="2800" spc="-1" strike="noStrike">
                <a:solidFill>
                  <a:srgbClr val="000000"/>
                </a:solidFill>
                <a:latin typeface="Arial"/>
              </a:rPr>
              <a:t>Newton acepta la tarea propuesta por Calvino: </a:t>
            </a:r>
            <a:r>
              <a:rPr b="0" i="1" lang="es-ES_tradnl" sz="2800" spc="-1" strike="noStrike">
                <a:solidFill>
                  <a:srgbClr val="000000"/>
                </a:solidFill>
                <a:latin typeface="Arial"/>
              </a:rPr>
              <a:t>"Por lo cual es necesario que probemos que Dios se cuida de regir y disponer cuanto sucede en el mundo, y que todo ello procede de lo que Él ha determinado en su consejo, que nada ocurre al acaso o por azar".</a:t>
            </a:r>
            <a:r>
              <a:rPr b="0" i="1" lang="es-ES_tradnl" sz="2800" spc="-1" strike="noStrike" u="sng">
                <a:solidFill>
                  <a:srgbClr val="009999"/>
                </a:solidFill>
                <a:uFillTx/>
                <a:latin typeface="Arial"/>
                <a:hlinkClick r:id="rId1" action="ppaction://hlinksldjump"/>
              </a:rPr>
              <a:t>[1]</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wton asume este deber propuesto por Calvino,  intenta probar en sus trabajos que Dios se cuida de regir y disponer cuanto  sucede en el mundo y además, fundamenta la física moderna en el principio básico del calvinismo: la soberanía absoluta de Dios. Comienza el Escolio manifestando la insuficiencia de la hipótesis de los vórtices para explicar los movimientos de los cometas: </a:t>
            </a:r>
            <a:r>
              <a:rPr b="0" i="1" lang="es-ES_tradnl" sz="2000" spc="-1" strike="noStrike">
                <a:solidFill>
                  <a:srgbClr val="000000"/>
                </a:solidFill>
                <a:latin typeface="Arial"/>
              </a:rPr>
              <a:t>Los movimientos de los cometas son extremadamente regulares, están gobernados por las mismas leyes que los movimientos de los planetas y en modo alguno pueden explicarse mediante la hipótesis de los vórtices.</a:t>
            </a:r>
            <a:r>
              <a:rPr b="0" lang="es-ES_tradnl" sz="2000" spc="-1" strike="noStrike" u="sng">
                <a:solidFill>
                  <a:srgbClr val="009999"/>
                </a:solidFill>
                <a:uFillTx/>
                <a:latin typeface="Arial"/>
                <a:hlinkClick r:id="rId1" action="ppaction://hlinksldjump"/>
              </a:rPr>
              <a:t>[2]</a:t>
            </a:r>
            <a:r>
              <a:rPr b="0" lang="es-ES_tradnl" sz="2000" spc="-1" strike="noStrike">
                <a:solidFill>
                  <a:srgbClr val="000000"/>
                </a:solidFill>
                <a:latin typeface="Arial"/>
              </a:rPr>
              <a:t> Luego, señala que las leyes de gravedad pueden explicar que los planetas y cometas giran perpetuamente en órbitas dadas por especie y posición con arreglo a ellas, pero en modo alguno podrían haber adquirido, a partir de esas leyes, la posición regular de las órbitas mismas.  Las leyes naturales son insuficientes para explicar el elegantísimo sistema solar, porque no pueden explicar las órbitas mismas y cómo se originar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poco puede suponerse que simples causas mecánicas podrían originar tanta pluralidad de movimientos regulares. Dice al respecto: </a:t>
            </a:r>
            <a:r>
              <a:rPr b="0" i="1" lang="es-ES_tradnl" sz="2000" spc="-1" strike="noStrike">
                <a:solidFill>
                  <a:srgbClr val="000000"/>
                </a:solidFill>
                <a:latin typeface="Arial"/>
              </a:rPr>
              <a:t>"Los seis planetas primarios giran en torno al Sol en círculos concéntricos, con movimientos dirigidos hacia las mismas partes y casi en el mismo plano. Diez lunas giran en torno a la Tierra, Júpiter y Saturno en círculos concéntricos, con la misma dirección de movimiento y casi en los planos de las órbitas de esos planetas. Pero </a:t>
            </a:r>
            <a:r>
              <a:rPr b="1" i="1" lang="es-ES_tradnl" sz="2000" spc="-1" strike="noStrike">
                <a:solidFill>
                  <a:srgbClr val="000000"/>
                </a:solidFill>
                <a:latin typeface="Arial"/>
              </a:rPr>
              <a:t>no debe suponerse que simples causas mecánicas podrían dar nacimiento a tantos  movimientos regulares,</a:t>
            </a:r>
            <a:r>
              <a:rPr b="0" i="1" lang="es-ES_tradnl" sz="2000" spc="-1" strike="noStrike">
                <a:solidFill>
                  <a:srgbClr val="000000"/>
                </a:solidFill>
                <a:latin typeface="Arial"/>
              </a:rPr>
              <a:t> puesto que los cometas vagan libremente por todas las partes de los cielos en órbitas muy excéntricas. Debido a ese tipo de movimiento, los cometas transitan muy veloz y fácilmente a través de los orbes de los planetas; y en sus afelios, donde se mueven con la máxima lentitud y se detienen el máximo tiempo, se alejan unos de otros hasta las mayores distancias, sufriendo así una perturbación mínima proveniente de sus atracciones mutuas.</a:t>
            </a:r>
            <a:r>
              <a:rPr b="0" lang="es-ES_tradnl" sz="2000" spc="-1" strike="noStrike" u="sng">
                <a:solidFill>
                  <a:srgbClr val="009999"/>
                </a:solidFill>
                <a:uFillTx/>
                <a:latin typeface="Arial"/>
                <a:hlinkClick r:id="rId1" action="ppaction://hlinksldjump"/>
              </a:rPr>
              <a:t>[3]</a:t>
            </a:r>
            <a:r>
              <a:rPr b="0"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clusión de Newton 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ste elegantísimo sistema del Sol, los planetas y los cometas sólo puede originarse en el consejo y dominio de un ente inteligente y poderoso. Y si las estrellas fijas son centros de otros sistemas similares, creados por un sabio consejo análogo, los cuerpos celestes deberían estar todos sujetos al dominio de Uno, especialmente porque la luz de las estrellas fijas es de la misma naturaleza que la luz solar, y desde cada sistema pasa a todos los otros. Y para que los sistemas de las estrellas fijas no cayesen unos sobre otros por efecto de la gravedad, los situó a inmensas distancias unos de otros.</a:t>
            </a:r>
            <a:r>
              <a:rPr b="0" i="1" lang="es-ES_tradnl" sz="2400" spc="-1" strike="noStrike" u="sng">
                <a:solidFill>
                  <a:srgbClr val="009999"/>
                </a:solidFill>
                <a:uFillTx/>
                <a:latin typeface="Arial"/>
                <a:hlinkClick r:id="rId1" action="ppaction://hlinksldjump"/>
              </a:rPr>
              <a:t>[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explicación del origen de este sistema la encontramos en un ente inteligente y poderoso, cuyo consejo le dio principio y lo mantiene con su permanente dominio. Si las estrellas fijas son sistemas similares, son efecto de la creación de un sabio consejo y todos los cuerpos celestes están sujetos al dominio de Uno, </a:t>
            </a:r>
            <a:r>
              <a:rPr b="1" lang="es-ES_tradnl" sz="2800" spc="-1" strike="noStrike">
                <a:solidFill>
                  <a:srgbClr val="000000"/>
                </a:solidFill>
                <a:latin typeface="Arial"/>
              </a:rPr>
              <a:t> </a:t>
            </a:r>
            <a:r>
              <a:rPr b="0" lang="es-ES_tradnl" sz="2800" spc="-1" strike="noStrike">
                <a:solidFill>
                  <a:srgbClr val="000000"/>
                </a:solidFill>
                <a:latin typeface="Arial"/>
              </a:rPr>
              <a:t>al Dios de la doctrina de Calvino. Este punto es fundamental, porque pone fin al fundamento teológico católico para el campo de las ciencias naturales y mor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wton propone el nuevo orden natural unificado, desde los fenómenos de mayor escala hasta los de escala más ínfima; desde los astros hasta las partículas de luz que emiten; desde los planetas que siguen su movimiento prescrito hasta la voluntad y consejo de los hombres que se mueven de acuerdo a la voluntad de Di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consecuencias en la finalidad de las ciencias, de sus posibilidades de conocimientos, como ya lo hemos visto, son enormes. En el campo moral las consecuencias no son menores: surge la moral que propone al comerciante como el ideal de conducta para la humanidad.</a:t>
            </a:r>
            <a:r>
              <a:rPr b="0" lang="es-ES_tradnl" sz="2800" spc="-1" strike="noStrike" u="sng">
                <a:solidFill>
                  <a:srgbClr val="009999"/>
                </a:solidFill>
                <a:uFillTx/>
                <a:latin typeface="Arial"/>
                <a:hlinkClick r:id="rId1" action="ppaction://hlinksldjump"/>
              </a:rPr>
              <a:t>[5]</a:t>
            </a:r>
            <a:r>
              <a:rPr b="0" lang="es-ES_tradnl" sz="2800" spc="-1" strike="noStrike">
                <a:solidFill>
                  <a:srgbClr val="000000"/>
                </a:solidFill>
                <a:latin typeface="Arial"/>
              </a:rPr>
              <a:t> Lo digno de destacarse es que Newton da un nuevo fundamento religioso a las ciencias y explica con claridad las características del mismo para diferenciarlo del fundamento católic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teólogo de Lutero, Felipe Melanchton, no se quedó atrás y también atacó la doctrina copernicana por ser contraria a las Sagradas Escrituras en su interpretación literal. En los </a:t>
            </a:r>
            <a:r>
              <a:rPr b="0" lang="es-ES_tradnl" sz="2400" spc="-1" strike="noStrike" u="sng">
                <a:solidFill>
                  <a:srgbClr val="000000"/>
                </a:solidFill>
                <a:uFillTx/>
                <a:latin typeface="Arial"/>
              </a:rPr>
              <a:t>Elementos de la física</a:t>
            </a:r>
            <a:r>
              <a:rPr b="0" lang="es-ES_tradnl" sz="2400" spc="-1" strike="noStrike">
                <a:solidFill>
                  <a:srgbClr val="000000"/>
                </a:solidFill>
                <a:latin typeface="Arial"/>
              </a:rPr>
              <a:t> escribi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Nuestros ojos son testigos de que los cielos giran en el espacio cada veinticuatro horas; pero ciertos hombres, bien por afán de novelería, bien por hacer despliegue de ingenio, han llegado a la conclusión de que es la Tierra la que se mueve y que ninguna de las ocho esferas o el sol dan a vuelta... Ahora bien, es una falta de honradez y de decencia asentar tales nociones públicamente, resultando el ejemplo pernicioso. Constituye parte de una mentalidad sana aceptar la verdad revelada por Dios y conformarse a ell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otra parte, estos intelectuales destacan en la ciencia la supremacía de los protestantes sobre los católicos. Creen que, aparte de la ausencia de una estructura religioso-política fuerte en los países protestantes, el predominio de quienes practican esa religión sobre los católicos entre los grandes científicos de la Europa moderna se puede atribuir a tres causas: en primer lugar, a la congruencia entre el primitivo </a:t>
            </a:r>
            <a:r>
              <a:rPr b="0" i="1" lang="es-ES_tradnl" sz="2000" spc="-1" strike="noStrike">
                <a:solidFill>
                  <a:srgbClr val="000000"/>
                </a:solidFill>
                <a:latin typeface="Arial"/>
              </a:rPr>
              <a:t>ethos</a:t>
            </a:r>
            <a:r>
              <a:rPr b="0" lang="es-ES_tradnl" sz="2000" spc="-1" strike="noStrike">
                <a:solidFill>
                  <a:srgbClr val="000000"/>
                </a:solidFill>
                <a:latin typeface="Arial"/>
              </a:rPr>
              <a:t> protestante y la actitud científica; en segundo lugar, al uso de la ciencia para la consecución de fines religiosos, y en tercer lugar, a un acuerdo entre los valores cósmicos de la teología protestante y los de las teorías de la primitiva ciencia moder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E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8 06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FACTORES  QUE POSIBILITAN EL DESARROLLO CIENTIFICO TECN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 nuestro tiempo, Stephen F. Mason, dice en su libr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l primer factor era común a los dos movimientos protestantes principales, pues en los primeros días de la Reforma tanto los reformadores suizos como los alemanes enseñaban que el hombre había de rechazar la guía y autoridad de los sacerdotes de la fe católica, debiendo buscar la verdad espiritual en su propia experiencia religiosa: debía interpretar las Escrituras por sí mismo. </a:t>
            </a:r>
            <a:br>
              <a:rPr sz="2800"/>
            </a:br>
            <a:r>
              <a:rPr b="0" i="1"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De manera similar, los primeros científicos modernos se apartaron de los sistemas de la filosofía antigua y de los escolásticos medievales para buscar la verdad científica en su propia experiencia empírica: interpretaban la experiencia por sí mism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proposiciones de este autor son rotundas y perfectas para la tradición anglosajona. Aquellos que buscan la verdad espiritual y los que buscan la verdad científica  rechazan la guía y autoridad del sacerdote de la fe católica, ya que en ambos campos su autoridad es nefasta. La reforma debe realizarse en la religión y en la filosof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imera causa era común  a todos los movimientos protestantes, pues en los comienzos los reformadores suizos, alemanes, ingleses y escoceses enseñaban que el hombre había de rechazar la guía y autoridad de los sacerdotes católicos y los científicos hacían lo mismo en su ca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aso de Galileo es ejemplar. Nosotros debemos precisar y corregir esta primera afirmación: si nos detenemos y consideramos que los científicos son clérigos puritanos, concluimos de inmediato que este hombre religioso se opone en todos los campos a la autoridad del sacerdote católico y, por lo tanto, no existe coincidencia entre los reformados y los científicos, porque son una y la misma persona en dos actividades unifica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verdad espiritual se buscaba en la propia experiencia religiosa; la verdad natural en el libro o "volumen" de la naturaleza.  La Escritura debía interpretarla por sí misma y la verdad espiritual no debía aceptar el magisterio de la Iglesia. Era una lucha declarada contra la vieja Iglesia y no contra la relig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aso de Servet,  de Bruno y de Galileo ilustran con claridad el punto. Los dos últimos son presentados como los primeros mártires científicos del catolicismo. No se menciona con frecuencia, menos se destaca, el juicio y muerte en la hoguera de Servet, la persecución de su defensor Castellio y su discurso heroico a favor de la tolerancia en la Ginebra de Calvino así como la feroz persecución de que fue víctima, todo lo cual fue posteriormente silenciado por los pensadores británic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e menciona, o bien se minimiza, el hecho de que Calvino y Lutero fueron los primeros en condenar a Copérnico, porque la astronomía copernicana se oponía a la letra de las Escrituras y que la Iglesia católica la apoyó. La conclusión del relato apócrifo es que existe  oposición entre ciencia y catolicismo, y concordancia entre protestantismo y cienci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31 de octubre de 1517, el fraile agustino Martín Lutero exponía en la puerta del castillo de Wittenberg sus 95 proposiciones sobre el abuso de las indulgencias, y nadie adivinó entonces que aquel día sería dramático en la historia del mundo. Lutero no pensaba al comienzo en separarse de la Iglesia, ni atacaba la doctrina de las indulgencias en sí misma, sino que pretendía simplemente provocar una discusión de aquel problema; creía que una vez advertida la Iglesia acerca de los abusos cometidos con el tráfico de las indulgencias, aquélla intervendría enérgicamente contra tantos exces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clérigos puritanos y sus científicos aceptan la guía y la autoridad de sus iglesias, a pesar de carecer de estructura política clara. La consideración de todos  estos  hechos de la historia permite ver una posibilidad distinta  a la sostenida por la modern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mbién se omite que Hume nunca pudo hacer clases en las universidades británicas en razón del fanatismo religioso protestante que imperaba en la época de Smith. El fin de esta filosofía es socavar los cimientos de la filosofía escolástica, la metafísica, fundamento de la superstición, del absurdo y el error. Resulta claro el carácter negativo de la nueva filosofía, el  intento consciente de destruir al enemigo en todo los ámbitos: territorial, político, religioso, intelectual y económico. Isabel I, Bacon, Cronwell, Locke, Berkeley, Smith y Hume están animados del mismo espíri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Afirma Hu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La teología, como demuestra la existencia de una divinidad y la inmortalidad de las almas, se compone en parte de razonamientos sobre hechos particulares, en parte de razonamientos sobre hechos generales. Tiene su fundamento en la </a:t>
            </a:r>
            <a:r>
              <a:rPr b="1" i="1" lang="es-ES_tradnl" sz="2000" spc="-1" strike="noStrike">
                <a:solidFill>
                  <a:srgbClr val="000000"/>
                </a:solidFill>
                <a:latin typeface="Arial"/>
              </a:rPr>
              <a:t>razón</a:t>
            </a:r>
            <a:r>
              <a:rPr b="0" i="1" lang="es-ES_tradnl" sz="2000" spc="-1" strike="noStrike">
                <a:solidFill>
                  <a:srgbClr val="000000"/>
                </a:solidFill>
                <a:latin typeface="Arial"/>
              </a:rPr>
              <a:t> en la medida en que está apoyada por la experiencia, pero su mejor y más sólido fundamento es la </a:t>
            </a:r>
            <a:r>
              <a:rPr b="1" i="1" lang="es-ES_tradnl" sz="2000" spc="-1" strike="noStrike">
                <a:solidFill>
                  <a:srgbClr val="000000"/>
                </a:solidFill>
                <a:latin typeface="Arial"/>
              </a:rPr>
              <a:t>fe</a:t>
            </a:r>
            <a:r>
              <a:rPr b="0" i="1" lang="es-ES_tradnl" sz="2000" spc="-1" strike="noStrike">
                <a:solidFill>
                  <a:srgbClr val="000000"/>
                </a:solidFill>
                <a:latin typeface="Arial"/>
              </a:rPr>
              <a:t> y la revelación divi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La moral y la crítica no son propiamente objetos del entendimiento como del gusto y del sentimien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eología para Hume, de acuerdo a su cultura, tiene su mejor fundamento en la fe y la revelación divina; se basa en la razón sólo en la medida en que ella está apoyada en la experiencia. En este punto, Hume podría ser considerado un tanto hereje por el mundo protesta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Si procediéramos a revisar las bibliotecas convencidos de estos principios, !qué estragos no haríamos! Si cogemos cualquier volumen de Teología o metafísica escolástica, por ejemplo preguntemos: ¿Contiene algún razonamiento abstracto sobre la cantidad y el número? No ¿Contiene algún razonamiento experimental acerca de cuestiones de hecho o existencia? No. Tírese entonces a las llamas, pues no puede contener más que sofistería e ilus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ltimo párrafo de este texto es categórico, y dice que deberíamos, si seguimos los principios filosóficos propuestos, quemar todos los libros de teología y de metafísica escolástica, porque esta filosofía traspasa el límite cognoscitivo puesto por la Divinidad: lo infinito no puede ser conocido por lo fini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cristianismo y su filosofía nos invitan a aceptar nuestra finitud. Como dice Tillich, teólogo alemán contemporáneo: "S</a:t>
            </a:r>
            <a:r>
              <a:rPr b="0" i="1" lang="es-ES_tradnl" sz="2400" spc="-1" strike="noStrike">
                <a:solidFill>
                  <a:srgbClr val="000000"/>
                </a:solidFill>
                <a:latin typeface="Arial"/>
              </a:rPr>
              <a:t>omos finitos, por lo tanto debemos aceptar nuestra finitud. La idea protestante es que sólo podemos llegar a Dios por medio de Dios</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2000" spc="-1" strike="noStrike">
                <a:solidFill>
                  <a:srgbClr val="000000"/>
                </a:solidFill>
                <a:latin typeface="Arial"/>
              </a:rPr>
              <a:t>Agrega luego este teólogo para resaltar a Ka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u grandeza radica en que comprendió la finitud propia de la creatura humana a partir de su protestantismo semipietista. Sea como fuere, todos los teólogos del siglo diecinueve alabaron a Kant por haber establecido la percepción de la finitud de la creatura humana o, como expresaríamos hoy, la situación existencial del hombre.</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illich ,como buen alemán, quiere destacar a Kant,  mostrando que él comprendió y esclareció los límites de la razón pura. Él nos enseñó el uso adecuado de nuestras facultades. La contraposición es absoluta con al filosofía latina. Kant es el gran teólogo y filósofo de la modernida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gunda causa, la utilización de la ciencia para fines religiosos, se convirtió en una actividad importante en manos de los calvinistas del siglo diecisiete. Especialmente los puritanos británicos realizaron el mandato de Calvino de ser los vicarios de Dios para administrar el mundo. Ciencia, tecnología y economía constituyen la trilogía del calvinismo para realizar la administración, el gobierno y la sujeción del universo. El hombre debe desarrollar la ciencia natural que domine la naturaleza para beneficio de los individu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demás, al calvinista individual que cree en la predestinación se le plantea la pregunta de si ha sido elegido para la salvación o la condenación eterna. Ni Lutero ni Calvino habían hecho mucho hincapié en la importancia religiosa de realizar buenas obras; para el primero bastaba la gracia; para el segundo, había un cierto número de elegidos predestinados a salvarse. De esta suerte en ninguno de ambos casos tenían las obras humanas mucha influencia sobre el estado futuro del homb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os seguidores de Calvino experimentaron una necesidad sicológica imperiosa de saber si habían sido predestinados para la salvación o no y por eso los calvinistas escoceses, holandeses e ingleses desarrollaron una doctrina que se ocupaba de reconocer las señ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vista sicológico se propuso que el individuo podía obtener la certeza  de su salvación únicamente mediante  las señales de una vida próspera que era al mismo tiempo una vida moral. La obtención de buenos resultados en ciertas actividades podían dar al individuo la certeza de su elección. A mediados del siglo diecisiete los puritanos habían llegado a admitir, generalizadamente, que la producción de las "señales de la elección" indicaba que la persona estaba salv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ste pecado original entraña una corrupción tan profunda y perniciosa de la naturaleza, que ninguna razón llegará a comprenderlo. Pero hay que creer en él, fundados en la revelación de la Escritura (Salmo 51, Rom 5, Ex 33, Gen 3). Por esta causa, no es más que error y ceguedad lo que los escolásticos han enseñado acerca de este artículo, es de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1. "Que después de la caída de Adán las facultades naturales del hombre quedaron íntegras e incorruptas, </a:t>
            </a:r>
            <a:r>
              <a:rPr b="0" i="1" lang="es-ES_tradnl" sz="2400" spc="-1" strike="noStrike" u="sng">
                <a:solidFill>
                  <a:srgbClr val="000000"/>
                </a:solidFill>
                <a:uFillTx/>
                <a:latin typeface="Arial"/>
              </a:rPr>
              <a:t>y que el hombre, por naturaleza, goza de recta razón</a:t>
            </a:r>
            <a:r>
              <a:rPr b="0" i="1" lang="es-ES_tradnl" sz="2400" spc="-1" strike="noStrike">
                <a:solidFill>
                  <a:srgbClr val="000000"/>
                </a:solidFill>
                <a:latin typeface="Arial"/>
              </a:rPr>
              <a:t> y de una voluntad buena, como enseñan los filósof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Item: que el hombre goza de libre albedrío para hacer el bien y abstenerse del mal, viceversa, para abstenerse del bien y obrar el 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lo que le daba la seguridad de la elección?  Entre las obras sancionadas positivamente por la ética puritana se encontraban los estudios científicos. Era un deber religioso y una de las buenas obras  realizar la actividad científica beneficiosa para la "humanidad".  Los puritanos entendieron la filosofía natural como un medio para saber si eran elegidos de Dios, en la medida en que esta disciplina era "beneficiosa para la humanidad de los elegidos". Era una señal de la elección de Dios el aumento del control sobre la naturaleza que, "aparte de su valor puramente mundano, es un bien a la luz de la doctrina evangélica de la salvación por Jesucristo" y finalmente glorifica a Dio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actividad científica como actividad religiosa fue notable entre los calvinistas del siglo diecisiete. El "individualismo empírico y antiautoritario", común en los primeros científicos y protestantes modernos, produjo a lo sumo una relación de congruencia entre ciencia y religión, afirmación -como ya lo señalamos- que induce a un error sutil: creer que ciencia y religión se confirman mutuamente cuando constituyen  la misma actividad hecha por el mismo hombre. La posterior promoción calvinista de la "producción de las señales" dio un impulso positivo a la actividad científic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nguardia científica pasó a mano de los países que habían caído específicamente bajo el influjo del calvinismo: Inglaterra con sus puritanos y la Iglesia Anglicana Reformada; Holanda con sus numerosas sectas calvinistas y Francia con sus hugonotes y sus calvinistas dentro de la fe, los jansenistas. Durante el siglo dieciocho, los primitivos hogares del calvinismo, Suiza y Escocia, se destacaron debido a la actividad de sus científic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ercera causa que ayuda a explicar el predominio de los científicos protestantes en los tiempos modernos, es "el acuerdo entre los valores cósmicos de la teología protestante y los de las teorías de la ciencia moderna". Aquí se plantea una nueva posición sobre el problema del orden de la naturaleza. El calvinismo propone que Dios realiza directamente el gobierno y la administración de la naturaleza y rechaza la concepción católica de la naturaleza asumida por Copérnico y Galileo. El ataque de Berkeley  a esta idea de naturaleza indica la influencia del calvinismo en el anglicanismo</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Francis Bacon afir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oncluimos, por lo tanto, que la teología sagrada (que en nuestra lengua llamamos  saber divino -Divinity-) se funda solamente en la palabra y el oráculo de Dios, y no en la luz de la naturaleza (...) Esto se aplica no sólo a aquellos puntos de la fe que conciernen a los grandes misterios de la Deidad, de la Creación, de la Redención, sino igualmente a aquellos otros que conciernen a la ley moral rectamente interpretada (...) Así pues, a la doctrina de la religión tanto moral como mística, sólo se alcanza mediante inspiración y revelación de D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eología como disciplina no existe porque la luz natural de la razón no puede llegar a Dios, no existe camino racional que vaya del hombre hacia Dios. A Él se llega por la revelación divina. Esta disciplina en la lengua inglesa se llama </a:t>
            </a:r>
            <a:r>
              <a:rPr b="0" i="1" lang="es-ES_tradnl" sz="2000" spc="-1" strike="noStrike">
                <a:solidFill>
                  <a:srgbClr val="000000"/>
                </a:solidFill>
                <a:latin typeface="Arial"/>
              </a:rPr>
              <a:t>Divinity</a:t>
            </a: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imismo, según Calvino, la Divinidad había predeterminado todos los sucesos por medio de decretos promulgados desde el comienz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Sostenemos que Dios es el que dispone y gobierna todas las cosas; que desde la más remota eternidad de acuerdo con su propia sabiduría, decretó lo que hará y ahora, mediante su poder, ejecuta lo que ha decretado. De ahí que sostengamos que, por medio de su providencia, no sólo los cielos y la tierra y las criaturas inanimadas, sino también las determinaciones y voluntades de los hombres se hallan de este modo regidos para que se muevan exactamente en el curso que Él ha traza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n el Escolio General de su obra maestra</a:t>
            </a:r>
            <a:r>
              <a:rPr b="0" i="1" lang="es-ES_tradnl" sz="2800" spc="-1" strike="noStrike">
                <a:solidFill>
                  <a:srgbClr val="000000"/>
                </a:solidFill>
                <a:latin typeface="Arial"/>
              </a:rPr>
              <a:t>,  Principios Matemáticos de la Filosofía Natural y Su Sistema del Mundo, </a:t>
            </a:r>
            <a:r>
              <a:rPr b="0" lang="es-ES_tradnl" sz="2800" spc="-1" strike="noStrike">
                <a:solidFill>
                  <a:srgbClr val="000000"/>
                </a:solidFill>
                <a:latin typeface="Arial"/>
              </a:rPr>
              <a:t>Newton acepta la tarea propuesta por Calvin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or lo cual es necesario que probemos que Dios se cuida de regir y disponer cuanto sucede en el mundo, y que todo ello procede de lo que Él ha determinado en su consejo, que nada ocurre al acaso o por azar".</a:t>
            </a:r>
            <a:r>
              <a:rPr b="0" i="1" lang="es-ES_tradnl" sz="2800" spc="-1" strike="noStrike" u="sng">
                <a:solidFill>
                  <a:srgbClr val="009999"/>
                </a:solidFill>
                <a:uFillTx/>
                <a:latin typeface="Arial"/>
                <a:hlinkClick r:id="rId1" action="ppaction://hlinksldjump"/>
              </a:rPr>
              <a:t>[3]</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divinidad gobernaba directamente como un rector absoluto según lo que decretó  desde el comienzo y sus designios no eran otra cosa que las leyes de la naturaleza. De este modo, la doctrina teológica de la predestinación preparaba el camino para la filosofía mal llamada del "determinismo mecanicista". El traspaso a la filosofía natural lo hizo Newton en los </a:t>
            </a:r>
            <a:r>
              <a:rPr b="0" i="1" lang="es-ES_tradnl" sz="2800" spc="-1" strike="noStrike">
                <a:solidFill>
                  <a:srgbClr val="000000"/>
                </a:solidFill>
                <a:latin typeface="Arial"/>
              </a:rPr>
              <a:t>Principios Matemáticos de la Filosofía Natural y su Sistema del Mund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E 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5/06/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os intelectuales anglosajones  sostienen que el  mundo está gobernado por la Divinidad. En verdad, no podía ser de otra manera: el clérigo-científico comprendía el universo desde su creencia y aplicaba su religión a la filosofía natural</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LVIN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sí, pues, si la maldición de Dios lo llenó todo de arriba a abajo y se derramó por todas partes del mundo a causa del pecado de Adán, no hay por qué extrañarse de que se haya propagado también a su posteridad. Por ello, al borrarse en él la imagen celestial, no ha sufrido él solo este castigo, consistente en que a la sabiduría, poder, santidad, verdad, y justicia de que estaba revestido y dotado hayan sucedido la ceguera, la debilidad, la inmundicia, la vanidad y la injusti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notable leer en </a:t>
            </a:r>
            <a:r>
              <a:rPr b="0" lang="es-ES_tradnl" sz="2800" spc="-1" strike="noStrike">
                <a:solidFill>
                  <a:srgbClr val="000000"/>
                </a:solidFill>
                <a:latin typeface="Arial"/>
              </a:rPr>
              <a:t>el Catecismo Menor de Westminster en la Pregunta 7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Cuál es el octavo manda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R. El octavo mandamiento es:&lt;No hurtará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74 ¿Qué se ordena en el octavo manda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l octavo mandamiento ordena procurar y promover legítimamente la prosperidad y bienestar de nosotros mismos y de los demá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75. ¿Qué se prohíbe en el octavo mand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 El octavo mandamiento prohíbe todo lo que impide injustamente, la prosperidad y bienestar de nosotros mismos o de nuestro prójimo.</a:t>
            </a:r>
            <a:r>
              <a:rPr b="0" lang="es-ES_tradnl"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nemos el mandato divino de promover la prosperidad y el bienestar de nosotros mismos y de nuestra comunidad, los que quedan consagrados en el Catecis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2000" spc="-1" strike="noStrike" u="sng">
                <a:solidFill>
                  <a:srgbClr val="009999"/>
                </a:solidFill>
                <a:uFillTx/>
                <a:latin typeface="Arial"/>
                <a:hlinkClick r:id="rId2" action="ppaction://hlinksldjump"/>
              </a:rPr>
              <a:t>[1]</a:t>
            </a:r>
            <a:r>
              <a:rPr b="0" lang="es-CL" sz="2000" spc="-1" strike="noStrike">
                <a:solidFill>
                  <a:srgbClr val="000000"/>
                </a:solidFill>
                <a:latin typeface="Arial"/>
              </a:rPr>
              <a:t> [1] </a:t>
            </a:r>
            <a:r>
              <a:rPr b="0" lang="es-ES" sz="2000" spc="-1" strike="noStrike">
                <a:solidFill>
                  <a:srgbClr val="000000"/>
                </a:solidFill>
                <a:latin typeface="Arial"/>
              </a:rPr>
              <a:t>Confesión de Fe de Westminster y catecismo menor, Editorial CLIE, 1999. </a:t>
            </a:r>
            <a:r>
              <a:rPr b="0" lang="en-US" sz="2000" spc="-1" strike="noStrike">
                <a:solidFill>
                  <a:srgbClr val="000000"/>
                </a:solidFill>
                <a:latin typeface="Arial"/>
              </a:rPr>
              <a:t>&lt;The Humble Advise of The assembly of Divines now by the Authority of The Parliament Sitting al Westmins ter, Concerning a Confesión of Faith: with the Quotations and texts of Scripture Annexed. Presented by them Lately to both Houses of Parliament&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o de los productos de su fideísmo es una creencia elemental de los puritanos británicos que también alcanza al anglicanismo. Ellos sostienen la existencia de un proyecto sabio y beneficioso  del Señor y por eso creen  que la felicidad de la humanidad es problema de la Divina Providencia y no de los hombres. Esta creencia está presente en los filósofos naturales, matemáticos, moralistas, historiadores, políticos, clérigos, inventores, industriales, comerciantes y los hombres comunes y corrientes de Escocia, Inglaterra e Irlan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ohn Priestley manifestó en sus escritos las creencias de los puritanos de la época. Creían en un Ser Divino cuya sabiduría y benevolencia ha organizado y conducido el universo desde la eternidad para lograr producir en todos los tiempos la mayor cantidad de felicidad. La administración del gran sistema del universo y la preocupación por el progreso, la felicidad universal de todos los elegidos -como lo señaló también Adam Smith- es asunto de Dios, y no de los hombres. Nosotros debemos aceptar el plan de la Providencia a pesar de que no tenemos facultades adecuadas para conocer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 evidente a primera vista que el estado actual del mundo, y en particular el de Europa, es en gran medida preferible al de cualquier otro período anterior. Miles de ejemplos demuestran que los antiguo* eran inferiores a los modernos en lo que se refiere a los conocimientos religiosos,  a la ciencia en general, al gobierno, a las leyes …, a las artes al comercio, a las condiciones de vida, a las costumbres y en consecuencia a la felicid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uesto que vemos claros signos de un proyecto sabio y beneficioso en la mayor parte de las obras del Señor, no pensamos que haya que dejar de creer en la sapiencia y en la bondad de Dios por el hecho de ser incapaces de ver cómo todos los aspectos de la naturaleza están de acuerdo con el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Y si ésta ha de ser la regla para investigar los fenómenos naturales, aún más deberá serlo para escrutar los caminos del Señor según el curso de la Providencia, pues este es un campo mucho más inescrutable y para el cual nuestras facultades son aún más inadecuadas, por las razones que señalábamos. Admitamos por tanto que un historiador pueda observar todos los ejemplos de progreso, que a partir de los acontecimientos que se le presentan en la historia pueda proponer una situación mej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y que él atribuya estos acontecimientos a un </a:t>
            </a:r>
            <a:r>
              <a:rPr b="0" i="1" lang="es-ES_tradnl" sz="3200" spc="-1" strike="noStrike" u="sng">
                <a:solidFill>
                  <a:srgbClr val="000000"/>
                </a:solidFill>
                <a:uFillTx/>
                <a:latin typeface="Arial"/>
              </a:rPr>
              <a:t>plan</a:t>
            </a:r>
            <a:r>
              <a:rPr b="0" i="1" lang="es-ES_tradnl" sz="3200" spc="-1" strike="noStrike">
                <a:solidFill>
                  <a:srgbClr val="000000"/>
                </a:solidFill>
                <a:latin typeface="Arial"/>
              </a:rPr>
              <a:t> del Ser Supremo trazado para llegar a esa mejor situación a través de esos acontecimientos, aun cuando no pueda descubrir esa misma finalidad providencial en todos los demás aspectos de la realidad, y aun cuando estos últimos lo suman en la incertidu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especie humana misma es capaz de ... progresar ... Pero los anímales no son capaces de participar de este progreso general de las especies y ni siquiera son capaces de hacerlo en el limitado ámbito del individuo ... En estos tiempos un hombre que haya sido bien educado en un país cristiano avanzado tiene muchas más posibilidades de ser feliz y de dar felicidad a los demás de lo que lo era otra persona de la misma edad en ese mismo país o en otro, hace algunos siglos. Y por esta misma razón, estoy seguro de que dentro de algún siglo una persona de nuestra misma edad será muy superior a nosotr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l gran instrumento de este progreso de las especies hacia la perfección en las manos de la divina Providencia es la sociedad, y en consecuencia el gobierno, ... Un más alto nivel de sociedad permite una más adecuada distribución y división de los objetos que interesan al homb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58560" y="2349000"/>
            <a:ext cx="6513480" cy="32893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543, Nicolás Copérnico en su lecho de muerte recibe un ejemplar de su obra </a:t>
            </a:r>
            <a:r>
              <a:rPr b="0" i="1" lang="es-ES_tradnl" sz="2800" spc="-1" strike="noStrike" u="sng">
                <a:solidFill>
                  <a:srgbClr val="000000"/>
                </a:solidFill>
                <a:uFillTx/>
                <a:latin typeface="Arial"/>
              </a:rPr>
              <a:t>La revolución de las esferas celestes</a:t>
            </a:r>
            <a:r>
              <a:rPr b="0" lang="es-ES_tradnl" sz="2800" spc="-1" strike="noStrike">
                <a:solidFill>
                  <a:srgbClr val="000000"/>
                </a:solidFill>
                <a:latin typeface="Arial"/>
              </a:rPr>
              <a:t>, falsificado por un grupo de intelectuales luteranos que redujeron su doctrina a una hipótesis imaginada que jamás podría ser verdadera, concepción que desvirtuó la ciencia natural y negó el conocimiento hum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ALVI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sino que toda la posteridad se ha visto envuelta y encenagada en estas miserias. Esta es la corrupción que por herencia nos viene, y que los antiguos llamaron pecado original, entendiendo por la palabra "pecado" la depravación de la naturaleza, que antes era buena y pura</a:t>
            </a:r>
            <a:r>
              <a:rPr b="0" lang="es-ES"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e </a:t>
            </a:r>
            <a:r>
              <a:rPr b="0" i="1" lang="es-ES_tradnl" sz="3200" spc="-1" strike="noStrike">
                <a:solidFill>
                  <a:srgbClr val="000000"/>
                </a:solidFill>
                <a:latin typeface="Arial"/>
              </a:rPr>
              <a:t>tal manera, las energías de todos se unen para lograr un mejor resultado y de ello se deriva un progreso en todos los terrenos de la vida» y en todos los campos del conocimiento. ... Y si, como observa lord Bacon, el conocimiento es potencia, se ampliarán los poderes humanos; la naturaleza, sus sustancias y sus leyes estarán cada vez más bajo nuestro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los hombres conseguirán que su existencia en esta tierra sea más fácil y confortable; probablemente lograrán prolongar la duración de la vida y crecer más felices cada día y cada vez serán más capaces (y espero que también mas proclives) de comunicar esta felicidad a los dem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Y de este modo, cualquiera que haya sido el comienzo de este mundo, su final será glorioso y paradisíaco, mucho más de lo que nuestra imaginación puede concebir. Aun cuando este punto de vista pueda parecer extravagante, creo que podría demostrar que se desprende honradamente de la verdadera teoría de la naturaleza humana, y que surge del curso natural de los acontecimientos human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Pricstley, </a:t>
            </a:r>
            <a:r>
              <a:rPr b="0" i="1" lang="en-US" sz="2400" spc="-1" strike="noStrike">
                <a:solidFill>
                  <a:srgbClr val="000000"/>
                </a:solidFill>
                <a:latin typeface="Arial"/>
              </a:rPr>
              <a:t>Lecturas on history, </a:t>
            </a:r>
            <a:r>
              <a:rPr b="0" lang="en-US" sz="2400" spc="-1" strike="noStrike">
                <a:solidFill>
                  <a:srgbClr val="000000"/>
                </a:solidFill>
                <a:latin typeface="Arial"/>
              </a:rPr>
              <a:t>Birmingham, 1788, páginas 530-532¡ Joseph Priestley, </a:t>
            </a:r>
            <a:r>
              <a:rPr b="0" i="1" lang="en-US" sz="2400" spc="-1" strike="noStrike">
                <a:solidFill>
                  <a:srgbClr val="000000"/>
                </a:solidFill>
                <a:latin typeface="Arial"/>
              </a:rPr>
              <a:t>Essay on government, </a:t>
            </a:r>
            <a:r>
              <a:rPr b="0" lang="en-US" sz="2400" spc="-1" strike="noStrike">
                <a:solidFill>
                  <a:srgbClr val="000000"/>
                </a:solidFill>
                <a:latin typeface="Arial"/>
              </a:rPr>
              <a:t>Londres, 1771, pp. 1-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nacionalismo británico se debe comprender como una nueva dimensión de lo religioso, puesto que la Iglesia anglicana le dio la dirección política al proceso: la supremacía de Inglaterra ante cualquier otra nación o raza. De esta manera el racismo religioso de los puritanos fue encauzado políticam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este espíritu se unieron religión, filosofía, política y economía con el propósito de desarrollar un proyecto único, que implicaba realizar el plan de la Providencia en la historia de la humanidad. En él la ciencia jugaba un rol importante que implicaba el dominio político y económ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ún describe Merton, los filósofos naturales, los clérigos, los comerciantes, los propietarios de minas, los soldados y los funcionarios civiles elaboraron un impresionante inventario de las diversas utilidades de la ciencia cuyos aspectos más notables son los sigu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religiosa de mostrar la Gloria de Dios, por intermedio de la sabiduría de la creación div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económica y tecnológica de posibilitar la explotación de las minas a profundidades crec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económica y tecnológica de ayudar a los marinos a navegar con seguridad hasta lugares cada vez más lejanos, en busca de aventuras y comerc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militar de suministrar modos cada vez más eficientes y baratos de aniquilar al enemig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para el desarrollo del individuo de brindar una forma de disciplina ment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utilidad nacionalista de ampliar y profundizar la autoestima colectiva de los ingleses, al hacer valer sus pretensiones a la prioridad en los descubrimientos científicos e invencione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los científicos daban instrucciones a los ingleses que viajaban al extranjero para que observasen las técnicas mediante las cuales los europeos resolvían sus problemas y se las comunicaran con el fin de adelantar a los demá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beneficios religiosos, políticos, económicos, tecnológicos, militares y el desarrollo del individuo ofrecen una justificación para el apoyo y cultivo de la ciencia que no necesita explic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grega Mer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ero ¿qué pensar de la utilidad nacionalista de aumentar la autoestima colectiva de Inglaterra? Recordemos el Sputnik. Hoy, para apreciar el poder del impulso a la estima etnocéntrica, sólo necesitamos parafrasear el epitafio de Christopher Wren: &lt;</a:t>
            </a:r>
            <a:r>
              <a:rPr b="0" i="1" lang="es-ES_tradnl" sz="2000" spc="-1" strike="noStrike" u="sng">
                <a:solidFill>
                  <a:srgbClr val="000000"/>
                </a:solidFill>
                <a:uFillTx/>
                <a:latin typeface="Arial"/>
              </a:rPr>
              <a:t>Si exemplum requiris, circumspice&gt;</a:t>
            </a:r>
            <a:r>
              <a:rPr b="0" i="1" lang="es-ES_tradnl" sz="2000" spc="-1" strike="noStrike">
                <a:solidFill>
                  <a:srgbClr val="000000"/>
                </a:solidFill>
                <a:latin typeface="Arial"/>
              </a:rPr>
              <a:t> cuando contemplamos los miles de millones de dólares gastados alegremente por los Estados Unidos para ganar la carrera de la Luna. </a:t>
            </a:r>
            <a:br>
              <a:rPr sz="2000"/>
            </a:br>
            <a:r>
              <a:rPr b="0" i="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La actual rivalidad de los norteamericanos con los rusos por la preeminencia científica sólo es una versión sumamente elaborada de la rivalidad inglesa con los franceses o los alemanes en el siglo XVII. La diferencia sólo está en la magnitud de los recursos asignados a la competencia etnocéntrica, no en la es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sesgo nacionalista sólo es oprobioso si se juzga desde un criterio universalista, pero en el contexto que hemos mostrado, se define como virtud y patriotismo. Además, nótese la unidad y continuidad de Inglaterra en los Estados Unidos. Existe un etnocentrismo anglosajón que no merece la menor duda.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u obra </a:t>
            </a:r>
            <a:r>
              <a:rPr b="0" i="1" lang="es-ES_tradnl" sz="3200" spc="-1" strike="noStrike">
                <a:solidFill>
                  <a:srgbClr val="000000"/>
                </a:solidFill>
                <a:latin typeface="Arial"/>
              </a:rPr>
              <a:t>Optica</a:t>
            </a:r>
            <a:r>
              <a:rPr b="0" lang="es-ES_tradnl" sz="3200" spc="-1" strike="noStrike">
                <a:solidFill>
                  <a:srgbClr val="000000"/>
                </a:solidFill>
                <a:latin typeface="Arial"/>
              </a:rPr>
              <a:t>, insiste en la misma idea y, además, pone al hombre en el mismo plano que el resto de las creaturas de la creación, con lo cual está en condiciones de proponer el uso del método en todos los ámbitos, tanto el natural como el mo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No sólo la filosofía natural se perfeccionará en todas sus partes siguiendo este método, sino que también la filosofía moral ensanchará sus fronteras. En la medida en que conozcamos por la filosofía natural cuál es la primera causa, qué poder tiene sobre nosotros y qué beneficios obtenemos de e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Estas tesis y otras parecidas nacen del desconocimiento y de la incomprensión del pecado y de Cristo, nuestro Salvador. Es una doctrina del todo pagana, imposible de ser tolerada por nosotros</a:t>
            </a:r>
            <a:r>
              <a:rPr b="0" i="1" lang="es-ES_tradnl" sz="2800" spc="-1" strike="noStrike">
                <a:solidFill>
                  <a:srgbClr val="000000"/>
                </a:solidFill>
                <a:latin typeface="Arial"/>
              </a:rPr>
              <a:t>: porque si esta doctrina tuviese que ser verdadera, entonces Cristo habría muerto inútilmente, puesto que el hombre no habría recibido daño, no tendría pecado alguno por los que hubiera tenido que morir. O hubiera muerto sólo por el cuerpo, no por el alma, ya que el alma está sana y sólo el cuerpo está destinado a la muerte</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en esa misma medida se nos aparecerá con luz natural cuál es nuestro deber hacia ella, así como hacia nosotros mismos (...) nos habrían enseñado el culto al verdadero Autor y Benefactor, del mismo modo que lo hicieron sus antecesores bajo el gobierno de Noé y sus hijos, antes de que se corrompies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a filosofía natural sabemos que somos siervos de un Dios que domina y rige todo; por ella y por revelación sabemos que debemos dominar y explotar el universo y aliviar la situación de la "humanidad". Por el conocimiento logrado en la filosofía natural determinaremos cuál es nuestro deber hacia Dios, hacia “nosotros mismo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ewton es quien propone la aplicación universal del método, tanto para el ámbito natural como para el moral, a partir de consideraciones religioso-filosóficas. La autoridad y grandeza de Newton en el mundo anglosajón está fuera de todo cuestionamient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dam Smith  será quien asuma esta doctrina sobre la naturaleza, en la cual la mano invisible, la Providencia, se encarga de la conducta de los hombres sépanlo o no, quiéranlo o no, así como de la distribución y del logro del máximo de riqueza na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mith describe el trabajo de Newton como "el más grande descubrimiento que jamás fuera hecho por el hombre"  A Smith sólo le quedaba extender el método a la moral, como lo había pedido Newton en su </a:t>
            </a:r>
            <a:r>
              <a:rPr b="0" i="1" lang="es-ES_tradnl" sz="3200" spc="-1" strike="noStrike">
                <a:solidFill>
                  <a:srgbClr val="000000"/>
                </a:solidFill>
                <a:latin typeface="Arial"/>
              </a:rPr>
              <a:t>Optica</a:t>
            </a:r>
            <a:r>
              <a:rPr b="0" lang="es-ES_tradnl" sz="3200" spc="-1" strike="noStrike">
                <a:solidFill>
                  <a:srgbClr val="000000"/>
                </a:solidFill>
                <a:latin typeface="Arial"/>
              </a:rPr>
              <a:t>. Y eso fue lo que hizo en </a:t>
            </a:r>
            <a:r>
              <a:rPr b="0" i="1" lang="es-ES_tradnl" sz="3200" spc="-1" strike="noStrike">
                <a:solidFill>
                  <a:srgbClr val="000000"/>
                </a:solidFill>
                <a:latin typeface="Arial"/>
              </a:rPr>
              <a:t>La Riqueza de las N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oltaire, uno de los miembros de la Ilustración francesa destacado por los </a:t>
            </a:r>
            <a:r>
              <a:rPr b="0" i="1" lang="es-ES_tradnl" sz="3200" spc="-1" strike="noStrike">
                <a:solidFill>
                  <a:srgbClr val="000000"/>
                </a:solidFill>
                <a:latin typeface="Arial"/>
              </a:rPr>
              <a:t> </a:t>
            </a:r>
            <a:r>
              <a:rPr b="0" lang="es-ES_tradnl" sz="3200" spc="-1" strike="noStrike">
                <a:solidFill>
                  <a:srgbClr val="000000"/>
                </a:solidFill>
                <a:latin typeface="Arial"/>
              </a:rPr>
              <a:t>ingleses, tuvo como tarea difundir el sistema físico-teológico de Newton en Francia</a:t>
            </a:r>
            <a:r>
              <a:rPr b="0" i="1" lang="es-ES_tradnl" sz="3200" spc="-1" strike="noStrike">
                <a:solidFill>
                  <a:srgbClr val="000000"/>
                </a:solidFill>
                <a:latin typeface="Arial"/>
              </a:rPr>
              <a:t>. </a:t>
            </a:r>
            <a:r>
              <a:rPr b="0" lang="es-ES_tradnl" sz="3200" spc="-1" strike="noStrike">
                <a:solidFill>
                  <a:srgbClr val="000000"/>
                </a:solidFill>
                <a:latin typeface="Arial"/>
              </a:rPr>
              <a:t>Después de la publicación de sus</a:t>
            </a:r>
            <a:r>
              <a:rPr b="0" i="1" lang="es-ES_tradnl" sz="3200" spc="-1" strike="noStrike">
                <a:solidFill>
                  <a:srgbClr val="000000"/>
                </a:solidFill>
                <a:latin typeface="Arial"/>
              </a:rPr>
              <a:t> Elementos de la filosofía de Newton, </a:t>
            </a:r>
            <a:r>
              <a:rPr b="0" lang="es-ES_tradnl" sz="3200" spc="-1" strike="noStrike">
                <a:solidFill>
                  <a:srgbClr val="000000"/>
                </a:solidFill>
                <a:latin typeface="Arial"/>
              </a:rPr>
              <a:t>aun sus adversarios jesuitas tuvieron que admitir que "todo París vibra con Newton, todo París tartamudea Newton, todo París estudia y aprende Newton</a:t>
            </a:r>
            <a:r>
              <a:rPr b="0" i="1"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historiadores y sociólogos de la ciencia anglosajona observaban desde su perspectiva que, mientras los calvinistas se alejaban de la concepción jerárquica del gobierno del universo, acercándose a una teoría absolutista de la regla cósmica en teología, los primeros científicos modernos estaban llevando a cabo una transformación no muy distinta en la filosofía natur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incipio incitador de la acción en la naturaleza suponía que el Supremo Legislador había otorgado a cada ser una fuente interna de poder, de modo que todas las criaturas eran autónomas y se encontraban libres de las tradicionales relaciones de dominación y servidumbre mut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rkeley basa con toda claridad su filosofía en las enseñanzas cristianas  reformadas,  y por ello afirma que nuestras facultades, por naturaleza, no están destinadas a conocer la esencia y constitución de las cosas, sino que tienen como finalidad buscar el bienestar y la comodidad. Dominar la naturaleza y aliviar la situación del hombre en esta vida es el papel de la razón, la cual debe buscar la riqueza para lograrlo. Por otra parte, la mente del hombre es finita y por esta precisa consideración es incapaz de conocer a Dios: lo infinito no puede ser conocido por lo finito, porque este principio está en la naturaleza de lo infini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l cambio de perspectiva se hace enteramente ineludible desde «I momento en que se reflexiona sobre el alcance y el valor del bienestar que es la voluntad de Dios. La economía es ajena a esta clase de reflexiones, pero se fundamenta en ellas.  La propia tesis de que el "bienestar es el fin de la economía" no pertenece al sistema de los conocimientos formalmente económicos. Es una tesis de índole religiosa, filosófica y que tiene, entre otras dimensiones, un alcance éticamente normativ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quí reside lo verdaderamente significativo del cambio moral, el cambio de estándares que convirtieron un vicio en la virtud más útil del sistema, por ende verdad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o aspecto  decisivo es la dependencia del hombre de la Trinidad, se trata de un proyecto y mandato Divino para lograr bienestar en esta vi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Por eso dado que estas cosas no dependen de nuestra voluntad, elevamos al principio de nuestra obra plegarias humildísimas y obedientísimas a Dios Padre, Dios Hijo, y Dios Espíritu Santo con el fin de que recordando las tribulaciones del género humano y su peregrinación en esta vida en la que nuestros días son pocos y tristes, se dignen conceder, por la mediación de nuestras manos, nuevas limosnas a la familia humana</a:t>
            </a:r>
            <a:r>
              <a:rPr b="0" lang="es-ES_tradnl" sz="2000" spc="-1" strike="noStrike">
                <a:solidFill>
                  <a:srgbClr val="000000"/>
                </a:solidFill>
                <a:latin typeface="Arial"/>
              </a:rPr>
              <a:t>.</a:t>
            </a:r>
            <a:r>
              <a:rPr b="0" lang="es-ES" sz="2000" spc="-1" strike="noStrike" u="sng">
                <a:solidFill>
                  <a:srgbClr val="009999"/>
                </a:solidFill>
                <a:uFillTx/>
                <a:latin typeface="Arial"/>
                <a:hlinkClick r:id="rId1" action="ppaction://hlinksldjump"/>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2" action="ppaction://hlinksldjump"/>
              </a:rPr>
              <a:t>[2]</a:t>
            </a:r>
            <a:r>
              <a:rPr b="0" lang="fr-FR" sz="2000" spc="-1" strike="noStrike">
                <a:solidFill>
                  <a:srgbClr val="000000"/>
                </a:solidFill>
                <a:latin typeface="Arial"/>
              </a:rPr>
              <a:t>	</a:t>
            </a:r>
            <a:r>
              <a:rPr b="0" lang="fr-FR" sz="2000" spc="-1" strike="noStrike">
                <a:solidFill>
                  <a:srgbClr val="000000"/>
                </a:solidFill>
                <a:latin typeface="Arial"/>
              </a:rPr>
              <a:t>Francis Bacon. Op. cit. p., 58.</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ienza su Teología con una afirmación trágica, el menosprecio de la sabiduría huma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esconfiando totalmente de nosotros, según el consejo del Espíritu: "no te apoyes en tu sabiduría", ofrecemos con humildad al juicio de cuantos quieran asistir las siguientes paradojas teológicas, para que se vea con claridad si están o no en conformidad con San Pablo, vaso y órgano de Cristo entre todos, y con San Agustín, su más fiel intérpret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68" name=""/>
          <p:cNvSpPr/>
          <p:nvPr/>
        </p:nvSpPr>
        <p:spPr>
          <a:xfrm flipH="1">
            <a:off x="4611600" y="3244680"/>
            <a:ext cx="1843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3581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con reconoce que él y sus compatriotas son instrumento de Dios y lo que hacen no depende de la voluntad  humana, de acuerdo al principio de la absoluta soberanía de Dios. Por ello se encomienda a la Trinidad en el inicio de su obra. Él solicita que Dios de nuevas limosnas por intermedio del nuevo pueblo elegido de esta época histórica. La ciencia debe ayudar a los hombres en esta vida de tribulaciones, de peregrinación en la que nuestros días son pocos y tristes, Dios debe dar nuevas comodidades a la familia por intermedio de los elegido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ogamos además suplicantes que las cosas humanas no causen daño alguno a las divinas y que el abrir las vías del sentido el haber encendido una mayor luz natural no genere en nuestro ánimo ningún tipo de incredulidad u oscuridad hacia los misterio divinos, sino que por el contrario el entendimiento purificado, purgado de fantasías y de vanidad y enteramente sometido y vendido a los divinos oráculos de a la fe lo que es de la fe.</a:t>
            </a:r>
            <a:r>
              <a:rPr b="0" i="1" lang="es-ES" sz="2400" spc="-1" strike="noStrike" u="sng">
                <a:solidFill>
                  <a:srgbClr val="009999"/>
                </a:solidFill>
                <a:uFillTx/>
                <a:latin typeface="Arial"/>
                <a:hlinkClick r:id="rId1" action="ppaction://hlinksldjump"/>
              </a:rPr>
              <a:t>[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ction="ppaction://hlinksldjump"/>
              </a:rPr>
              <a:t>[3]</a:t>
            </a:r>
            <a:r>
              <a:rPr b="0" lang="fr-FR" sz="2400" spc="-1" strike="noStrike">
                <a:solidFill>
                  <a:srgbClr val="000000"/>
                </a:solidFill>
                <a:latin typeface="Arial"/>
              </a:rPr>
              <a:t>	</a:t>
            </a:r>
            <a:r>
              <a:rPr b="0" lang="fr-FR" sz="2400" spc="-1" strike="noStrike">
                <a:solidFill>
                  <a:srgbClr val="000000"/>
                </a:solidFill>
                <a:latin typeface="Arial"/>
              </a:rPr>
              <a:t>Francis Bacon. Op. cit. p. 5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con sigue la doctrina de Calvino, según la cual el hombre debe aceptar sus limitaciones, debe separar el conocimiento de lo terrestre del de lo celestial, porque  las actividades humanas no deben dañar lo divino. En el inicio de esta gran reforma del saber humano,  de las nuevas condiciones y alcances del entendimiento humano no debemos permitir que se genere incredulidad u oscuridad respecto a los misterios de la divinid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ntendimiento debe ser purificado y esta será la gran tarea de la filosofía moderna que tendrá que hacer un tratado sobre el entendimiento humano para saber de su naturaleza, de sus principios, de su alcance, de sus limitaciones, de sus operaciones y de las leyes que lo rigen. Esta es la única manera de liberarlo de la vanidad,  de respetar y acatar la revelación divina dando a la fe lo que es de la f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68360" y="0"/>
            <a:ext cx="82296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goísmo ordenador de la sociedad y de la conducta huma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Una afirmacion fundamental de Smith es: el egoísmo individual produce el beneficio de la sociedad. La creencia en los beneficios del egoísmo, presente en toda </a:t>
            </a:r>
            <a:r>
              <a:rPr b="0" lang="es-ES_tradnl" sz="3200" spc="-1" strike="noStrike" u="sng">
                <a:solidFill>
                  <a:srgbClr val="000000"/>
                </a:solidFill>
                <a:uFillTx/>
                <a:latin typeface="Arial"/>
              </a:rPr>
              <a:t>La Riqueza de las Naciones</a:t>
            </a:r>
            <a:r>
              <a:rPr b="0" lang="es-ES_tradnl" sz="3200" spc="-1" strike="noStrike">
                <a:solidFill>
                  <a:srgbClr val="000000"/>
                </a:solidFill>
                <a:latin typeface="Arial"/>
              </a:rPr>
              <a:t>, "ha servido- como lo advierte Cannan- como base y punto de partida para las especulaciones económicas desde aquel ento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No es la benevolencia del carnicero, del cervecero o del panadero la que nos procura el alimento, sino la consideración de su propio interés. No invocamos sus sentimientos humanitarios sino su egoísmo; ni le hablamos de nuestras necesidades, sino de sus ventajas".</a:t>
            </a:r>
            <a:r>
              <a:rPr b="0" lang="es-ES_tradnl" sz="3200" spc="-1" strike="noStrike" u="sng">
                <a:solidFill>
                  <a:srgbClr val="009999"/>
                </a:solidFill>
                <a:uFillTx/>
                <a:latin typeface="Arial"/>
                <a:hlinkClick r:id="rId1" action="ppaction://hlinksldjump"/>
              </a:rPr>
              <a:t>[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360" y="404640"/>
            <a:ext cx="8229600" cy="612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rd Keynes. En 1930, durante la depresión económica mundial, él se sintió impulsado a teorizar sobre las "posibilidades económicas de nuestros nietos" y concluyó que no estaría muy lejos el día en que todo el mundo sería "rico". Entonces, dijo Keynes, "nosotros valoraremos otra vez los fines más que los medios y preferiremos lo bueno a lo ú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cuidado!", continuó diciendo, </a:t>
            </a:r>
            <a:r>
              <a:rPr b="0" i="1" lang="es-ES_tradnl" sz="2800" spc="-1" strike="noStrike">
                <a:solidFill>
                  <a:srgbClr val="000000"/>
                </a:solidFill>
                <a:latin typeface="Arial"/>
              </a:rPr>
              <a:t>"la </a:t>
            </a:r>
            <a:r>
              <a:rPr b="0" lang="es-ES_tradnl" sz="2800" spc="-1" strike="noStrike">
                <a:solidFill>
                  <a:srgbClr val="000000"/>
                </a:solidFill>
                <a:latin typeface="Arial"/>
              </a:rPr>
              <a:t>hora para todo esto no ha llegado todavía. Por lo menos durante otros 100 años debemos simular ante nosotros mismos y ante cada uno que lo bello es sucio y lo sucio es bello, porque lo sucio es útil y lo bello no lo es. La avaricia, la usura y la precaución deben ser nuestros dioses por un poco más de tiempo todavía. Porque sólo ellos pueden guiarnos fuera del túnel de la necesidad económica a la claridad del dí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gunta obvia con la cual empezar la investigación es la siguiente: ¿Hay suficiente para compartir? De inmediato nos encontramos frente! a una seria dificultad. ¿Qué es suficiente"? ¿Quién nos lo  puede decir?  Por supuesto, no el economista que persigue el  "crecimiento económico'.' como el más alto de los valores y, por lo tanto, no posee el concepto de "suficie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nos cabe </a:t>
            </a:r>
            <a:r>
              <a:rPr b="0" lang="es-ES_tradnl" sz="2800" spc="-1" strike="noStrike" u="sng">
                <a:solidFill>
                  <a:srgbClr val="000000"/>
                </a:solidFill>
                <a:uFillTx/>
                <a:latin typeface="Arial"/>
              </a:rPr>
              <a:t>la menor duda de</a:t>
            </a:r>
            <a:r>
              <a:rPr b="0" lang="es-ES_tradnl" sz="2800" spc="-1" strike="noStrike">
                <a:solidFill>
                  <a:srgbClr val="000000"/>
                </a:solidFill>
                <a:latin typeface="Arial"/>
              </a:rPr>
              <a:t> que la idea del enriquecimiento personal tiene un atractivo muy poderoso para la naturaleza humana. Keynes en el ensayo citado previamente, </a:t>
            </a:r>
            <a:r>
              <a:rPr b="0" i="1" lang="es-ES_tradnl" sz="2800" spc="-1" strike="noStrike">
                <a:solidFill>
                  <a:srgbClr val="000000"/>
                </a:solidFill>
                <a:latin typeface="Arial"/>
              </a:rPr>
              <a:t>nos </a:t>
            </a:r>
            <a:r>
              <a:rPr b="0" lang="es-ES_tradnl" sz="2800" spc="-1" strike="noStrike">
                <a:solidFill>
                  <a:srgbClr val="000000"/>
                </a:solidFill>
                <a:latin typeface="Arial"/>
              </a:rPr>
              <a:t>advertía que todavía no era tiempo  para un "retorno a algunos de los más seguros y ciertos principios de la  religión y la virtud tradicional: que la avaricia es un vicio, que la exacción de la usura es un crimen y el amor al dinero es dete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ón 1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No puede llamarse en justicia "teólogo" al que crea que las cosas invisibles de Dios pueden aprenderse a partir de lo cre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evidente si nos referimos a quienes adoptaron esta actitud y que, sin embargo, son denominados por el apóstol (Rom. 1) como "insensatos". Además, las cosas invisibles de Dios son la fuerza, la divinidad, la sabiduría, la justicia, la bondad, etc. Conocerlo no hace a nadie digno, ni sab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losofía moderna es una filosofía religiosa que intenta  abordar los grandes temas de la tradición latina desde una perspectiva antagónica, desde la perspectiva que proponen los reformadores. En este contexto redefinen la razón humana, la libertad, el bienestar o felicidad y la Naturaleza, junto con proponer un proyecto social, moral y científico-tecnológico en busca del bienestar material y el dominio tecnológico del univer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20.</a:t>
            </a:r>
            <a:r>
              <a:rPr b="0" i="1" lang="es-ES_tradnl" sz="2000" spc="-1" strike="noStrike" u="sng">
                <a:solidFill>
                  <a:srgbClr val="000000"/>
                </a:solidFill>
                <a:uFillTx/>
                <a:latin typeface="Arial"/>
              </a:rPr>
              <a:t>Sino, mejor, a quien aprende las cosas visibles e inferiores de Dios a partir de la pasión y cru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Las cosas inferiores y visibles de Dios son las opuestas a las invisibles, es decir, la humanidad, la enfermedad, la locura, lo enfermo y estulto de Dios" que se dice en la primera carta a los Corintios (cap. 1). Puesto que los hombres han abusado del conocimiento de Dios a través de sus obras, ha querido Dios ser conocido por estos sufrimientos, </a:t>
            </a:r>
            <a:r>
              <a:rPr b="0" i="1" lang="es-ES_tradnl" sz="2000" spc="-1" strike="noStrike" u="sng">
                <a:solidFill>
                  <a:srgbClr val="000000"/>
                </a:solidFill>
                <a:uFillTx/>
                <a:latin typeface="Arial"/>
              </a:rPr>
              <a:t>con ello ha reprobado esa ciencia de lo invisible a base de lo visible</a:t>
            </a:r>
            <a:r>
              <a:rPr b="0" i="1" lang="es-ES_tradnl" sz="2000" spc="-1" strike="noStrike">
                <a:solidFill>
                  <a:srgbClr val="000000"/>
                </a:solidFill>
                <a:latin typeface="Arial"/>
              </a:rPr>
              <a:t>, para que quienes no le han adorado tal como se manifiesta en sus obras lo hagan tal como se esconde en sus padecimientos, como dice la citada carta (cap. 1): "Puesto que el mundo no ha conocido a Dios en su sabiduría divina a base de sapiencia, le ha complacido salvar a los creyentes por la estulticia de la predi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21.</a:t>
            </a:r>
            <a:r>
              <a:rPr b="0" i="1" lang="es-ES_tradnl" sz="2000" spc="-1" strike="noStrike" u="sng">
                <a:solidFill>
                  <a:srgbClr val="000000"/>
                </a:solidFill>
                <a:uFillTx/>
                <a:latin typeface="Arial"/>
              </a:rPr>
              <a:t>"La sabiduría que considera las cosas invisibles de Dios a partir de las obras infla, ciega y endurece tot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Ya está dicho. Porque por el hecho de ignorar y de aborrecer la cruz, a la fuerza tienen que preferir lo opuesto: sabiduría, gloria y poder, etc. Tal predilección no puede sino cegarlos y endurecerlos cada vez más. Es imposible, en efecto que la codicia se sacie con lo deseado una vez conseguido... "Por eso mismo, el deseo de saber no se aquieta por la ciencia lograda sino que aumenta cada vez má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a:t>
            </a:r>
            <a:r>
              <a:rPr b="0" i="1" lang="es-ES_tradnl" sz="2000" spc="-1" strike="noStrike">
                <a:solidFill>
                  <a:srgbClr val="000000"/>
                </a:solidFill>
                <a:latin typeface="Arial"/>
              </a:rPr>
              <a:t>"Sólo hay un remedio: curar no a fuerza de satisfacer sino de extinguir. Es decir, el que quiera hacerse sabio, que no busque más sabiduría, sino que se vuelva loco buscando la estulticia, o sea, volviendo hacia atrás"... "Y esto, que para el mundo resulta locura, es la verdadera sabidu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ues quien se consagre a estas cosas con asidua contemplación e intimidad, viéndolas en perfecto orden dirigidas por la voluntad divina, no podrá dejar de verse inclinado hacia las cosas mejores ni de admirar al artífice de todas ellas, en quien reside toda felicidad y todo bien. El divino salmista no habría confesado en vano que se deleita en la obra de Dios y que se extasía en la factura de sus manos a no ser que, por estos medios, a la manera de un vehículo, fuéramos conducidos a la contemplación del sumo bien"</a:t>
            </a: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PERNIC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13-20. 1, 13-2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e revela, en efecto, la cólera de Dios desde el cielo contra toda impiedad e injusticia de los hombres que oprimen la verdad con la injusticia. Porque los atributos invisibles de Dios, resultan visibles por la creación del mundo, al ser percibidos por la inteligencia en sus obras, tanto su eterna potencia como su divinidad, de suerte que son inexcusables.</a:t>
            </a:r>
            <a:endParaRPr b="0" lang="en-US" sz="1800" spc="-1" strike="noStrike">
              <a:solidFill>
                <a:srgbClr val="000000"/>
              </a:solidFill>
              <a:latin typeface="Arial"/>
            </a:endParaRPr>
          </a:p>
        </p:txBody>
      </p:sp>
      <p:sp>
        <p:nvSpPr>
          <p:cNvPr id="75"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testante reina val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 ira de Dios se revela desde el cielo contra toda impiedad e injusticia de los hombres que detienen con injusticia la verdad, porque lo  que de  Dios les es manifiesto, pues Dios se lo manifestó: Lo invisible de él , su eterno poder y su deidad, se hace claramente visible desde la creación del mundo y se puede discernir por medio de las cosas. Por lo tanto, no tienen excusas ya que, habiendo conocido a Dios, no lo glorificaron como a Dios, ni le dieron gracias.</a:t>
            </a:r>
            <a:endParaRPr b="0" lang="en-US" sz="1800" spc="-1" strike="noStrike">
              <a:solidFill>
                <a:srgbClr val="000000"/>
              </a:solidFill>
              <a:latin typeface="Arial"/>
            </a:endParaRPr>
          </a:p>
        </p:txBody>
      </p:sp>
      <p:sp>
        <p:nvSpPr>
          <p:cNvPr id="76" name=""/>
          <p:cNvSpPr/>
          <p:nvPr/>
        </p:nvSpPr>
        <p:spPr>
          <a:xfrm>
            <a:off x="-4655160" y="310824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e revela, 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Pues, ¿ qué podría ser más hermoso que el cielo, que contiene todas las cosas hermosas?; tal como lo ponen de manifiesto los mismos nombres caelum y mundus, el primero de los cuales se refiere a "lo labrado bellamente"y el segundo a la "limpieza"y al "ordenamiento". Y es a causa de su máxima excelencia que la mayoría de los filósofos lo han llamado "dios visible". Por lo cual, si la dignidad de las artes se midiera con arreglo a la materia que tratan, sería con mucho la más excelente aquella que algunos llaman astronomía, otros, astrología y muchos de los antiguos  denominaron "perfección de las matemática".</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 tergiversación es tan insignificante que aún científicos contemporáneos  no la consideran relevante. Por ejemplo, Leopold Infeld en </a:t>
            </a:r>
            <a:r>
              <a:rPr b="0" lang="es-ES_tradnl" sz="2000" spc="-1" strike="noStrike" u="sng">
                <a:solidFill>
                  <a:srgbClr val="000000"/>
                </a:solidFill>
                <a:uFillTx/>
                <a:latin typeface="Arial"/>
              </a:rPr>
              <a:t>De Copérnico a Einstein</a:t>
            </a:r>
            <a:r>
              <a:rPr b="0" lang="es-ES_tradnl" sz="2000" spc="-1" strike="noStrike">
                <a:solidFill>
                  <a:srgbClr val="000000"/>
                </a:solidFill>
                <a:latin typeface="Arial"/>
              </a:rPr>
              <a:t> d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odemos comprender esta indignación, pero contrariamente a muchas opiniones al respecto, el prefacio nos parece bastante razonable. Se criticó a Osiander por haber presentado la teoría de Copérnico como una de las hipótesis posibles, que tiene la ventaja de ser más sencilla que otras. Copérnico, en cambio, estaba convencido de que la Tierra realmente está dotada de movimiento. Pero en el siglo XVI ésta no era sino una disputa sobre el significado de las palabras. Todo hombre de ciencia, al plantear una hipótesis nueva, cree que ésta representa la realidad que nos rode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La astronomía, cabeza de todas las artes liberales, la más digna del hombre libre, se apoya en casi todas las ramas de la matemática: aritmética, geometría, óptica, geodesia, mecánica y otras, si las hay; todas se refieren a ella. Y como es propio de las artes liberales  alejar el espíritu humano de los vicios y encaminarlo hacia las cosas más elevadas, ésta lo puede hacer más perfectamente, a causa del increíble placer espiritual que proporcio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Pues quien se consagre a estas cosas con asidua contemplación e intimidad, viéndolas en perfecto orden dirigidas por la voluntad divina, no podrá dejar de verse inclinado hacia las cosas mejores ni de admirar al artífice de todas ellas, en quien reside toda felicidad y todo bien. El divino salmista no habría confesado en vano que se deleita en la obra de Dios y que se extasía en la factura de sus manos a no ser que, por estos medios, a la manera de un vehículo, fuéramos conducidos a la contemplación del sumo bien"</a:t>
            </a: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vino salmista dice en el Salmo 18(19):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Los cielos cuentan la gloria del Señor cuya ley es perfectísima". "Al maestro del coro. Salmo de Davi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La gloria de Dios cuentan los cielos y la obra de sus manos pregona el firmamento. Transmite la palabra el día al día, y la noche a la noche anuncia la nueva. No hay lenguaje ni tampoco palabras ni su voz se ha escuchado. Su obra difúndese por todo el mundo y hasta el final del Orbe sus palab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GALIL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Pero después, despojándose del hábito del astrónomo puro y </a:t>
            </a:r>
            <a:r>
              <a:rPr b="0" i="1" lang="es-ES_tradnl" sz="2400" spc="-1" strike="noStrike" u="sng">
                <a:solidFill>
                  <a:srgbClr val="000000"/>
                </a:solidFill>
                <a:uFillTx/>
                <a:latin typeface="Arial"/>
              </a:rPr>
              <a:t>vistiéndose con el de contemplador de la naturaleza</a:t>
            </a:r>
            <a:r>
              <a:rPr b="0" i="1" lang="es-ES_tradnl" sz="2400" spc="-1" strike="noStrike">
                <a:solidFill>
                  <a:srgbClr val="000000"/>
                </a:solidFill>
                <a:latin typeface="Arial"/>
              </a:rPr>
              <a:t>, se dispuso a examinar si esta suposición de los astrónomos, que concordaba suficientemente con los cálculos y las apariencias de los movimientos de todos y cada uno de los planetas, podía también corroborarse verdaderamente en el mundo y en la naturaleza.  Descubriendo que en modo alguno podía darse tal disposición de las partes del cielo dado que, aunque cada una por separado estuviese bien proporcionada de su conjunción resultaba una monstruosa quimera,</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Copérnico se dispuso, como digo, a investigar cuál podía ser en realidad el sistema del mundo, no ya pensando en la pura comodidad del astrónomo, cuyos cálculos habían sido satisfechos, sino para llegar a dilucidar tan importante problema de la filosofía natural, en el convencimiento de que si habían podido salvar las simples apariencias con  hipótesis falsas, mucho mejor podría hacerse de la mano de la auténtica constitución del universo... Así, pues, no propuso esta hipótesis para satisfacer las exigencias del astrónomo puro, sino más bien para plegarse a la necesidad de la Naturalez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alileo en </a:t>
            </a:r>
            <a:r>
              <a:rPr b="0" lang="es-ES_tradnl" sz="2000" spc="-1" strike="noStrike" u="sng">
                <a:solidFill>
                  <a:srgbClr val="000000"/>
                </a:solidFill>
                <a:uFillTx/>
                <a:latin typeface="Arial"/>
              </a:rPr>
              <a:t>Los sistemas máximos de mundo</a:t>
            </a:r>
            <a:r>
              <a:rPr b="0" lang="es-ES_tradnl" sz="2000" spc="-1" strike="noStrike">
                <a:solidFill>
                  <a:srgbClr val="000000"/>
                </a:solidFill>
                <a:latin typeface="Arial"/>
              </a:rPr>
              <a:t> advierte que Copérnico plantea en primer término la unidad del universo, es la visión cristiana que reemplaza definitivamente a la griega. D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Y ya que Copérnico, situando a la Tierra entre los cuerpos móviles del cielo, la convierte en un globo semejante a un planeta, bueno será que el principio de nuestras consideraciones sea examinar cuánta y cuál sea la fuerza y energía de los razonamientos peripatéticos para demostrar que este asunto es completamente imposible, y ver también si es necesario introducir en la naturaleza substancias diversas entre sí, es decir , la celeste y la elemental, aquella impasible e inmortal, ésta alterable y caduca. (Aristóteles, </a:t>
            </a:r>
            <a:r>
              <a:rPr b="0" i="1" lang="es-ES_tradnl" sz="2000" spc="-1" strike="noStrike" u="sng">
                <a:solidFill>
                  <a:srgbClr val="000000"/>
                </a:solidFill>
                <a:uFillTx/>
                <a:latin typeface="Arial"/>
              </a:rPr>
              <a:t>De Coelo I,3</a:t>
            </a:r>
            <a:r>
              <a:rPr b="0" i="1"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n elemento de la visión aristotélica del mundo era su sistema astronómico fundado en la plurisustancialidad del mundo: un universo construido de esferas cristalinas concéntricas que sostenían el Sol, la Luna y los planetas, describiendo círculos alrededor de la Tierra dotados del único movimiento perfecto y eterno. La Tierra inmóvil en su centro corruptible y temporal. El juicio de Galileo es determinante.  La observación de Copérnico era imposible en la teoría de las sustancias de Aristóteles, específicamente en su idea de la plurisustancialidad de la realidad.  No era tan sencillo decir que la Tierra se movía.  No era cuestión de cambiar una hipótesis por otra, o desarrollar más la matemáticas y la geometría. Antes, era necesario establecer la unidad del universo, determinarla y precisar la vía del conocimiento. En el universo no había una sustancia eterna, permanente y otra temporal, mudable; el universo era homogéneo en su substancia, en consecuencia tenía una sola legalidad que lo re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BSERVACIÓN VULGAR Y FILOS´OF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gundo problema, era que muchos astrónomos de su época admitían que la Tierra está en reposo en el centro del mundo. Esto no es evidente según Copérnico, porque nosotros observamos el cielo desde la Tierra. ¿ Qué está en movimiento: el observador o lo observado o ambos con movimiento dis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En efecto, todo movimiento local que observamos es causado, bien por el movimiento mismo de la cosa observada, bien por el del observador, o bien por el movimiento dispar de ambos. Pues entre los cuerpos que se mueven con movimiento igual y en la misma dirección no se percibe el movimiento, quiero decir, entre lo observado y el observador"</a:t>
            </a: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ardenal Nicolás de Cusa en la </a:t>
            </a:r>
            <a:r>
              <a:rPr b="0" lang="es-ES_tradnl" sz="2400" spc="-1" strike="noStrike" u="sng">
                <a:solidFill>
                  <a:srgbClr val="000000"/>
                </a:solidFill>
                <a:uFillTx/>
                <a:latin typeface="Arial"/>
              </a:rPr>
              <a:t>Docta ignorancia</a:t>
            </a:r>
            <a:r>
              <a:rPr b="0" lang="es-ES_tradnl" sz="2400" spc="-1" strike="noStrike">
                <a:solidFill>
                  <a:srgbClr val="000000"/>
                </a:solidFill>
                <a:latin typeface="Arial"/>
              </a:rPr>
              <a:t>, publicada en 1440, continúa con este desarro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odas estas cosas que hemos dicho no fueron alcanzadas por los antiguos porque les faltaba la docta ignorancia. Es evidente, pues, para nosotros, que la Tierra verdaderamente se mueve, aunque nosotros no nos demos cuenta, porque no percibimos el movimiento sino por medio de una comparación con algo fijo. Pues si alguno ignorara que el agua fluye y no viera las orillas estando en un navío en medio del agua, ¿cómo se daría cuenta que la nave se mov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l año 1543, año de la publicación del </a:t>
            </a:r>
            <a:r>
              <a:rPr b="0" i="1" lang="es-ES_tradnl" sz="2800" spc="-1" strike="noStrike" u="sng">
                <a:solidFill>
                  <a:srgbClr val="000000"/>
                </a:solidFill>
                <a:uFillTx/>
                <a:latin typeface="Arial"/>
              </a:rPr>
              <a:t>Revolutionibus orbium coelestium</a:t>
            </a:r>
            <a:r>
              <a:rPr b="0" i="1" lang="es-ES_tradnl" sz="2800" spc="-1" strike="noStrike">
                <a:solidFill>
                  <a:srgbClr val="000000"/>
                </a:solidFill>
                <a:latin typeface="Arial"/>
              </a:rPr>
              <a:t> y de la muerte de su genial autor, Nicolás Copérnico, señala una fecha importante en la historia de la human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Bien podríamos denominarla " fin de la Edad media y comienzo de los tiempos modernos", porque, mucho más radicalmente que la toma de Constantinopla por los turcos o el descubrimiento de América por Cristóbal Colón, indica la terminación de un mundo y el nacimiento de otro nuevo</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Y por eso siempre le parece a cualquiera que, si estuviere en la Tierra, en el Sol o en otras estrellas, está el centro casi inmóvil y que todas las demás cosas se mueven. Y siempre constituiría unos polos según que existiera en el Sol, otros en la Tierra, otros en la Luna y en Marte, e igual en los demás astros</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a no duda que la Tierra se mueve, a pesar que nuestra percepción vulgar no lo capte. Es un problema de comprensión de la observación, de establecer dónde colocamos el centro de referencia. Es el problema que viene tratando por siglos la filosofía natural. También, casi 200 años antes de Cusa, San Buenaventura hablaba ya de la docta ignorancia, de un cuestionamiento a la astronomía de Tolomeo y Aristóteles</a:t>
            </a:r>
            <a:r>
              <a:rPr b="0" lang="es-MX" sz="2000" spc="-1" strike="noStrike">
                <a:solidFill>
                  <a:srgbClr val="000000"/>
                </a:solidFill>
                <a:latin typeface="Arial"/>
              </a:rPr>
              <a:t> </a:t>
            </a:r>
            <a:br>
              <a:rPr sz="2000"/>
            </a:b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pugna que produjo la "Carta al Lector" trata de la confrontación de dos modos de pensar radicalmente distintos, los cuales determinaron en gran medida la problemática intelectual a partir del siglo XVI. Galileo claramente toma partido a favor de Copérnico en  un fragmento no publicado, de 1615, el cual termina de la siguiente mane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la exacta confirmación de éste y otros muchos puntos permite ahora disipar todas las dudas y presumir que se trata de una doctrina verdadera y real. Por lo que se refiere al resto de este admirable sistema, que todo aquél que desea conocer la opinión del propio Copérnico </a:t>
            </a:r>
            <a:r>
              <a:rPr b="0" i="1" lang="es-ES_tradnl" sz="2000" spc="-1" strike="noStrike" u="sng">
                <a:solidFill>
                  <a:srgbClr val="000000"/>
                </a:solidFill>
                <a:uFillTx/>
                <a:latin typeface="Arial"/>
              </a:rPr>
              <a:t>lea en su totalidad la obra de éste y no la vana literatura del editor</a:t>
            </a:r>
            <a:r>
              <a:rPr b="0" i="1" lang="es-ES_tradnl" sz="2000" spc="-1" strike="noStrike">
                <a:solidFill>
                  <a:srgbClr val="000000"/>
                </a:solidFill>
                <a:latin typeface="Arial"/>
              </a:rPr>
              <a:t> podrá, sin duda, palpar con sus propias manos que la estabilidad del Sol y la movilidad de la Tierra fueron consideradas por Copérnico absolutamente verdaderas"</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facio "fenomenista" que preside la primera edición </a:t>
            </a:r>
            <a:r>
              <a:rPr b="0" lang="es-ES_tradnl" sz="2000" spc="-1" strike="noStrike" u="sng">
                <a:solidFill>
                  <a:srgbClr val="000000"/>
                </a:solidFill>
                <a:uFillTx/>
                <a:latin typeface="Arial"/>
              </a:rPr>
              <a:t>De</a:t>
            </a:r>
            <a:r>
              <a:rPr b="0" lang="es-ES_tradnl" sz="2000" spc="-1" strike="noStrike">
                <a:solidFill>
                  <a:srgbClr val="000000"/>
                </a:solidFill>
                <a:latin typeface="Arial"/>
              </a:rPr>
              <a:t> </a:t>
            </a:r>
            <a:r>
              <a:rPr b="0" lang="es-ES_tradnl" sz="2000" spc="-1" strike="noStrike" u="sng">
                <a:solidFill>
                  <a:srgbClr val="000000"/>
                </a:solidFill>
                <a:uFillTx/>
                <a:latin typeface="Arial"/>
              </a:rPr>
              <a:t>revolutionibus</a:t>
            </a:r>
            <a:r>
              <a:rPr b="0" lang="es-ES_tradnl" sz="2000" spc="-1" strike="noStrike">
                <a:solidFill>
                  <a:srgbClr val="000000"/>
                </a:solidFill>
                <a:latin typeface="Arial"/>
              </a:rPr>
              <a:t> no es la concepción de ciencia de Copérnico, ni tampoco su procedimiento metódico. Muchos estudiosos creen que los luteranos procuraban, amén de impedir un eventual ataque eclesiástico, asumir y pregonar una interpretación fundada en el pensamiento griego de los movimientos de los cuerpos celestes mantenida durante la edad media, la cual, en lo sustancial, los representaba sin referencia a la realidad. Nada más falso que estas aseveraciones. El prefacio es la reacción de los luteranos contra la doctrina de Copérnico. Peregrina aparece la interpretación que pone a Osiander en un lugar destacado en la historia fenomenista de la ciencia, por cuanto es nulo en el ámbito científico, y que continúe una tradición del pensamiento griego resulta extraño, por decir lo menos, dados sus anteced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épler publica en sus escritos la denuncia de falsificación de los manuscritos de Copérnico hecha por el obispo Tiedemann Giese. En el Prefacio de </a:t>
            </a:r>
            <a:r>
              <a:rPr b="0" lang="es-ES_tradnl" sz="2800" spc="-1" strike="noStrike" u="sng">
                <a:solidFill>
                  <a:srgbClr val="000000"/>
                </a:solidFill>
                <a:uFillTx/>
                <a:latin typeface="Arial"/>
              </a:rPr>
              <a:t>Astronomia nova seu physica coelestis tradita commentariis de motu stellae Martis</a:t>
            </a:r>
            <a:r>
              <a:rPr b="0" lang="es-ES_tradnl" sz="2800" spc="-1" strike="noStrike">
                <a:solidFill>
                  <a:srgbClr val="000000"/>
                </a:solidFill>
                <a:latin typeface="Arial"/>
              </a:rPr>
              <a:t> defiende a Copérnico contra Ramus, "quien había denominado a la teoría expuesta por Osiander </a:t>
            </a:r>
            <a:r>
              <a:rPr b="0" lang="es-ES_tradnl" sz="2800" spc="-1" strike="noStrike" u="sng">
                <a:solidFill>
                  <a:srgbClr val="000000"/>
                </a:solidFill>
                <a:uFillTx/>
                <a:latin typeface="Arial"/>
              </a:rPr>
              <a:t>fabula absurdissima. Kepler responde: es absurdo, en efecto, pero no es de Copérnico"</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iordano Bruno trata al editor que escribió la Carta al Lector de bestia y asno. D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Ten en cuenta que esta manera de hablar procedía del doctor Torcuato, que de todo Copérnico (aunque puedo creer que haya ojeado toda la obra) tan sólo había retenido el nombre del autor, del libro, del impresor, el lugar donde fue impreso, el año, el número de cuadernos y de páginas, y como no ignora el latín había entendido una cierta epístola preliminar añadida por no sé qué asno ignorante y presuntuoso, el cual(pretendiendo favorecer al autor por medio de excusas o bien con el propósito de que los otros asnos encontraran también en este libro sus lechugas y pequeños frutos y no se vieran obligados a marcharse completamente en ayunas) les advierte de la siguiente manera antes de que comiencen a leer el libro y analizar sus opiniones</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 "No pongo en duda que algunos eruditos (dijo muy bien algunos, de los cuales él puede ser u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ues bien, ¡ved qué magnífico portero! Mirad qué bien os abre para haceros entrar y participar de ese honorabilísimo conocimiento, sin el cual el saber calcular, medir, geometrizar y perspectivizar no es sino un pasatiempo para locos ingeniosos. Mirad con qué fidelidad sirve al dueño  de casa"</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opérnico no se ha contentado únicamente con decir que la Tierra se mueve, sino que además lo declara solemnemente y lo confirma en su carta al Papa, cuando dice que las opiniones de los filosófos están muy lejos de las opiniones del vulgo indignas de ser seguidas y sobre todo merecedoras de ser rechazadas por contrarias a la verdad y a lo justo.</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Pero sin duda poco se le da al Nolano que Copérnico, el pitagórico Hicetas de Siracusa, Filolao, Heráclides de Ponto, Ecfanto el pitagórico, Platón en el </a:t>
            </a:r>
            <a:r>
              <a:rPr b="0" i="1" lang="es-ES_tradnl" sz="2400" spc="-1" strike="noStrike" u="sng">
                <a:solidFill>
                  <a:srgbClr val="000000"/>
                </a:solidFill>
                <a:uFillTx/>
                <a:latin typeface="Arial"/>
              </a:rPr>
              <a:t>Timeo</a:t>
            </a:r>
            <a:r>
              <a:rPr b="0" i="1" lang="es-ES_tradnl" sz="2400" spc="-1" strike="noStrike">
                <a:solidFill>
                  <a:srgbClr val="000000"/>
                </a:solidFill>
                <a:latin typeface="Arial"/>
              </a:rPr>
              <a:t> (aunque de forma tímida y vacilante porque lo sostenía más por fe que por ciencia), y el divino Cusano en el segundo libro de su </a:t>
            </a:r>
            <a:r>
              <a:rPr b="0" i="1" lang="es-ES_tradnl" sz="2400" spc="-1" strike="noStrike" u="sng">
                <a:solidFill>
                  <a:srgbClr val="000000"/>
                </a:solidFill>
                <a:uFillTx/>
                <a:latin typeface="Arial"/>
              </a:rPr>
              <a:t>Docta ignorancia</a:t>
            </a:r>
            <a:r>
              <a:rPr b="0" i="1" lang="es-ES_tradnl" sz="2400" spc="-1" strike="noStrike">
                <a:solidFill>
                  <a:srgbClr val="000000"/>
                </a:solidFill>
                <a:latin typeface="Arial"/>
              </a:rPr>
              <a:t> y otros individuos en cualquier caso exepcionales, lo hayan enseñado y ratificado con anterioridad, pues él lo afirma por otros principios propios y más firmes, gracias a los cuales y no por autoridad, sino por inteligencia despierta y razón, lo tiene tan seguro como cualquier otra cosa que pueda tener por cierta...</a:t>
            </a:r>
            <a:endParaRPr b="0" lang="en-US" sz="2400" spc="-1" strike="noStrike">
              <a:solidFill>
                <a:srgbClr val="000000"/>
              </a:solidFill>
              <a:latin typeface="Arial"/>
            </a:endParaRPr>
          </a:p>
        </p:txBody>
      </p:sp>
      <p:sp>
        <p:nvSpPr>
          <p:cNvPr id="95" name=""/>
          <p:cNvSpPr/>
          <p:nvPr/>
        </p:nvSpPr>
        <p:spPr>
          <a:xfrm>
            <a:off x="-4651920" y="3157200"/>
            <a:ext cx="380160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03581360"/>
              </a:tabLst>
            </a:pPr>
            <a:r>
              <a:rPr b="0" i="1" lang="es-ES_tradnl" sz="1100" spc="-1" strike="noStrike">
                <a:solidFill>
                  <a:srgbClr val="000000"/>
                </a:solidFill>
                <a:latin typeface="Arial"/>
                <a:ea typeface="Times New Roman"/>
              </a:rPr>
              <a:t>Pero sin duda poco se le da al Nolano que Copérnico, el p</a:t>
            </a:r>
            <a:endParaRPr b="0" lang="en-US" sz="1100" spc="-1" strike="noStrike">
              <a:solidFill>
                <a:srgbClr val="000000"/>
              </a:solidFill>
              <a:latin typeface="Arial"/>
            </a:endParaRPr>
          </a:p>
        </p:txBody>
      </p:sp>
      <p:sp>
        <p:nvSpPr>
          <p:cNvPr id="96" name=""/>
          <p:cNvSpPr/>
          <p:nvPr/>
        </p:nvSpPr>
        <p:spPr>
          <a:xfrm>
            <a:off x="-4648320" y="394488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endParaRPr b="0" lang="en-US" sz="1800" spc="-1" strike="noStrike">
              <a:solidFill>
                <a:srgbClr val="000000"/>
              </a:solidFill>
              <a:latin typeface="Arial"/>
            </a:endParaRPr>
          </a:p>
        </p:txBody>
      </p:sp>
      <p:sp>
        <p:nvSpPr>
          <p:cNvPr id="97" name="">
            <a:hlinkClick r:id="rId1" action="ppaction://hlinksldjump"/>
          </p:cNvPr>
          <p:cNvSpPr/>
          <p:nvPr/>
        </p:nvSpPr>
        <p:spPr>
          <a:xfrm>
            <a:off x="-4656960" y="3952080"/>
            <a:ext cx="6307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MX"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1]</a:t>
            </a:r>
            <a:r>
              <a:rPr b="0" lang="es-MX" sz="900" spc="-1" strike="noStrike">
                <a:solidFill>
                  <a:srgbClr val="000000"/>
                </a:solidFill>
                <a:latin typeface="Courier New"/>
                <a:ea typeface="Times New Roman"/>
              </a:rPr>
              <a:t>Giordano Bruno.</a:t>
            </a:r>
            <a:r>
              <a:rPr b="0" lang="es-MX" sz="900" spc="-1" strike="noStrike" u="sng">
                <a:solidFill>
                  <a:srgbClr val="000000"/>
                </a:solidFill>
                <a:uFillTx/>
                <a:latin typeface="Courier New"/>
                <a:ea typeface="Times New Roman"/>
              </a:rPr>
              <a:t> La cena de las cenizas.</a:t>
            </a:r>
            <a:r>
              <a:rPr b="0" lang="es-MX" sz="900" spc="-1" strike="noStrike">
                <a:solidFill>
                  <a:srgbClr val="000000"/>
                </a:solidFill>
                <a:latin typeface="Courier New"/>
                <a:ea typeface="Times New Roman"/>
              </a:rPr>
              <a:t> Editora Nacional. Madrid. 1984 pág. 11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se loco, que teme y le preocupa que algunos enloquezcan con la doctrina de Copérnico, no sé sí en caso de necesidad hubiera podido aportar más absurdos que aquél, suficiente en su opinión para demostrar que pensar eso es propio de quien ignora totalmente la óptica y la geometría. Me gustaría saber de qué optica está hablando ese bestia que muestra hasta qué punto ignora la verdadera óptica y geometría él y aquéllos de quienes ha aprendido</a:t>
            </a:r>
            <a:r>
              <a:rPr b="0" lang="es-ES_tradnl" sz="2400" spc="-1" strike="noStrike">
                <a:solidFill>
                  <a:srgbClr val="000000"/>
                </a:solidFill>
                <a:latin typeface="Arial"/>
              </a:rPr>
              <a:t>"</a:t>
            </a:r>
            <a:r>
              <a:rPr b="0" lang="es-ES_tradnl" sz="2400" spc="-1" strike="noStrike" u="sng">
                <a:solidFill>
                  <a:srgbClr val="009999"/>
                </a:solidFill>
                <a:uFillTx/>
                <a:latin typeface="Arial"/>
                <a:hlinkClick r:id="rId1" action="ppaction://hlinksldjump"/>
              </a:rPr>
              <a:t>[1]</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Arial"/>
              </a:rPr>
              <a:t>    </a:t>
            </a:r>
            <a:r>
              <a:rPr b="0" lang="en-US" sz="2400" spc="-1" strike="noStrike">
                <a:solidFill>
                  <a:srgbClr val="000000"/>
                </a:solidFill>
                <a:latin typeface="Arial"/>
              </a:rPr>
              <a:t>[1]</a:t>
            </a:r>
            <a:r>
              <a:rPr b="0" lang="es-MX" sz="2400" spc="-1" strike="noStrike">
                <a:solidFill>
                  <a:srgbClr val="000000"/>
                </a:solidFill>
                <a:latin typeface="Arial"/>
              </a:rPr>
              <a:t>Giordano Bruno.</a:t>
            </a:r>
            <a:r>
              <a:rPr b="0" lang="es-MX" sz="2400" spc="-1" strike="noStrike" u="sng">
                <a:solidFill>
                  <a:srgbClr val="000000"/>
                </a:solidFill>
                <a:uFillTx/>
                <a:latin typeface="Arial"/>
              </a:rPr>
              <a:t> La cena de las cenizas.</a:t>
            </a:r>
            <a:r>
              <a:rPr b="0" lang="es-MX" sz="2400" spc="-1" strike="noStrike">
                <a:solidFill>
                  <a:srgbClr val="000000"/>
                </a:solidFill>
                <a:latin typeface="Arial"/>
              </a:rPr>
              <a:t> Editora Nacional. Madrid. 1984 pág. 11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smovisión de los filósofos naturales es que el universo entero está hecho de la misma especie de energía-materia y las leyes naturales no sólo rigen en las regiones sublunares, sino en todo el universo. Los astros, el Sol, Júpiter, la Luna son homogéneos con la Tierra. Así, la ley de gravitación no sólo rige en la regiones sublunares sino en todo el universo, porque la Tierra es homogénea con todo el sistema celeste. El que Newton pudiera proponer que la fuerza que mantiene a la Luna dentro de su órbita era la misma que atrajo a su manzana hacia el suelo, se debió a la afirmación de la doctrina copernicana de la homogeneidad del universo. No existen diferencias naturales de cualidad, existe sólo una sustancia, un espacio y un tiempo cualitativamente uniformes, homogéneos y relativos. Las diferencias del universo son diferencias de cantidad y de estructuras geométr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raday es religioso, miembro de una secta reformada, creía en la unidad de la naturaleza, en la idea de que lo aparentemente disímil era en la realidad lo mismo.</a:t>
            </a:r>
            <a:r>
              <a:rPr b="0" lang="es-ES_tradnl" sz="2000" spc="-1" strike="noStrike" u="sng">
                <a:solidFill>
                  <a:srgbClr val="009999"/>
                </a:solidFill>
                <a:uFillTx/>
                <a:latin typeface="Arial"/>
                <a:hlinkClick r:id="rId1" action="ppaction://hlinksldjump"/>
              </a:rPr>
              <a:t>[</a:t>
            </a:r>
            <a:r>
              <a:rPr b="0" lang="es-ES_tradnl" sz="2000" spc="-1" strike="noStrike">
                <a:solidFill>
                  <a:srgbClr val="000000"/>
                </a:solidFill>
                <a:latin typeface="Arial"/>
              </a:rPr>
              <a:t> Basado en su religión propone la inducción electromagnética en lo cual sigue los fundamentos religiosos propuestos por Newton. Creía que su trabajo no se diferenciaba del de Dios. Parafraseando a san Pablo, escribió: </a:t>
            </a:r>
            <a:r>
              <a:rPr b="0" i="1" lang="es-ES_tradnl" sz="2000" spc="-1" strike="noStrike">
                <a:solidFill>
                  <a:srgbClr val="000000"/>
                </a:solidFill>
                <a:latin typeface="Arial"/>
              </a:rPr>
              <a:t>creo que aun en lo terreno las cosas invisibles de Él se ven con claridad desde la creación del mundo</a:t>
            </a:r>
            <a:r>
              <a:rPr b="0" lang="es-ES_tradnl" sz="2000" spc="-1" strike="noStrike">
                <a:solidFill>
                  <a:srgbClr val="000000"/>
                </a:solidFill>
                <a:latin typeface="Arial"/>
              </a:rPr>
              <a:t>. Las pasiones de la investigación científica objetiva y el íntimo sentimiento religioso alentaban por igual en el corazón de Michael Faraday. Tyndall, el discípulo ateo escribiría de su men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La contemplación de la naturaleza, y su relación con ella, produjeron en Faraday una especie de exaltación espiritual que se manifiesta aquí. Sus sentimientos religiosos y su filosofía no podían escindirse.</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4659120" y="2982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2" name=""/>
          <p:cNvSpPr/>
          <p:nvPr/>
        </p:nvSpPr>
        <p:spPr>
          <a:xfrm>
            <a:off x="-4660920" y="396072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endParaRPr b="0" lang="en-US" sz="1800" spc="-1" strike="noStrike">
              <a:solidFill>
                <a:srgbClr val="000000"/>
              </a:solidFill>
              <a:latin typeface="Arial"/>
            </a:endParaRPr>
          </a:p>
        </p:txBody>
      </p:sp>
      <p:sp>
        <p:nvSpPr>
          <p:cNvPr id="103" name=""/>
          <p:cNvSpPr/>
          <p:nvPr/>
        </p:nvSpPr>
        <p:spPr>
          <a:xfrm>
            <a:off x="-4660560" y="3967920"/>
            <a:ext cx="2012400" cy="246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1000" spc="-1" strike="noStrike" u="sng">
                <a:solidFill>
                  <a:srgbClr val="009999"/>
                </a:solidFill>
                <a:uFillTx/>
                <a:latin typeface="Arial"/>
                <a:ea typeface="Times New Roman"/>
                <a:hlinkClick r:id="rId2" action="ppaction://hlinksldjump"/>
              </a:rPr>
              <a:t>[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rthur Zajonc. Op. cit. p. 1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s materias puede resultar ilustrativo un ejemplo desde el campo de la filosofía, filología. Werner  Jaeger estudiando los primeros filósofos griegos, refiriéndose a la obra póstuma de Wilamowitz, nos advierte sobre esta situ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Wilamowitz nunca interpreta realmente las palabras de los filósofos dentro del conjunto de todo su pensamiento, ni trata de determinar su pleno sentido. Su juicio sobre ellos resulta gravemente perjudicado por un espíritu de protestantismo que, le impide ver suerte alguna de verdadera religión ya en el mundo intelectual, ya en las prácticas piadosas del culto, incluso cuando pudieran enseñarnos algo de importancia acerca de lo que quería decir religión para los griegos</a:t>
            </a:r>
            <a:r>
              <a:rPr b="0" lang="es-ES_tradnl" sz="2400" spc="-1" strike="noStrike">
                <a:solidFill>
                  <a:srgbClr val="000000"/>
                </a:solidFill>
                <a:latin typeface="Arial"/>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l continuador del trabajo de Faraday es Maxwell, otro de los grandes físicos de la historia. Éste repite el mismo principio religios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la Creación puede soportar tanto la razón como el cálculo, mientras uno lo acompañe con el acto de adoración.</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doración ? ¿Hay adoración mejo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que liberarse de los grill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con que la letra inerte y mud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encadena la mente torturad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El hombre, con callada admiració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ve la Creación glorios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y en contemplación sagrad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abandona la estulta erudi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l final de su 'Himno nocturno de un estudiante’ d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Enséñame a leer Tus obras de tal mod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que mi fe, cobrando nuevos brí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pueda discernir de mundo en mund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persiguiendo una fructífera sapienc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y, por Tu verdad así inspirad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sea mi pregón el credo etern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y renueve la proclama de Tu glo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Dios nuestro Señor es Dios de veras</a:t>
            </a:r>
            <a:r>
              <a:rPr b="0" lang="es-MX"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esta manera, el movimiento de la Tierra en torno al Sol propuesto por Copérnico debe ser admitida como una hipótesis junto a las antiguas porque es admirable y fácil, y no porque sea verdadera, ni verosímil ni real. Nadie puede en lo que a las hipótesis se refiere esperar nada de cierto. Aquél que toma por verdadera una hipótesis que está destinada a otro uso sólo se volverá más ignorante. De esta manera, la tergiversación de los luteranos intelectuales terminaba con el conflicto ciencia y doctrina religiosa: "Las Sagradas Escrituras nos enseñan que Josué ordenó al Sol y no a la Tierra, que se detuviese". La proposición de Copérnico es una hipótesis, por lo tanto no es verdadera, ni verosímil, ni real, en consecuencia no afecta lo expresado literalmente en la Sagrada Escritura. La revelación de Dios en la Sagrada Escritura quedaba a salvo en la "interpretación luterana-fenomenista de la ciencia". Pero, no sólo salvaba la Escritura sino también la concepción de hombre y de universo de la Teología de la Cruz. Lo extraño fue que se aceptó en el mundo intelectual la concepción que negaba el conocimiento humano natural del universo. Este hecho  insólito debe ser explicado de una manera aceptable por las enormes consecuencias que tuvo y tiene en nuestra cul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E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LACION ENTRE LA RE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EXPERIENCIA) Y LA RAZ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WHITEHEAD 1861-1947</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losofía científica luterana "proclama el irracionalismo de la ciencia al afirmar que todo investigador sabe que el sistema teórico de su campo depende del mundo de la percepción sensorial y está controlado por él, aunque no existe un camino efectivo que permita elevarnos desde la percepción a los principios que rigen la estructura teórica; no hay una vía intelectual que permita pasar de la observación a la hipóte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este modo de comprender la ciencia, es acertada la afirmación de A. Whitehead en Ciencia y mundo moder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primer lugar, no puede haber ciencia viva si no se halla difundida la convicción instintiva de la existencia de un orden de las cosas y, en particular, de un orden de la naturaleza. He usado de intento la palabra instintiva. No importa lo que los hombres dicen en sus palabras mientras sus actividades estén dirigidas por instintos fijos. En última instancia, las palabras pueden destruir los instintos. Pero hasta que tal cosa no suceda, no entran en cuenta. Esa observación es importante en la historia del pensamiento científico.</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Porque encontraremos que desde los tiempos de Hume, (1711 -1776 ) (28 años Tratado de la naturaleza humana) la moda en filosofía científica ha sido negar el  racionalismo de la ciencia. Esa conclusión se encuentra a flor  de piel en la Filosofía de Hume. Tomemos por ejemplo, el  siguiente pasaje de la sección IV de su </a:t>
            </a:r>
            <a:r>
              <a:rPr b="0" i="1" lang="es-ES_tradnl" sz="2400" spc="-1" strike="noStrike" u="sng">
                <a:solidFill>
                  <a:srgbClr val="000000"/>
                </a:solidFill>
                <a:uFillTx/>
                <a:latin typeface="Arial"/>
              </a:rPr>
              <a:t>Ensayo sobre el</a:t>
            </a:r>
            <a:r>
              <a:rPr b="0" i="1" lang="es-ES_tradnl" sz="2400" spc="-1" strike="noStrike">
                <a:solidFill>
                  <a:srgbClr val="000000"/>
                </a:solidFill>
                <a:latin typeface="Arial"/>
              </a:rPr>
              <a:t> </a:t>
            </a:r>
            <a:r>
              <a:rPr b="0" i="1" lang="es-ES_tradnl" sz="2400" spc="-1" strike="noStrike" u="sng">
                <a:solidFill>
                  <a:srgbClr val="000000"/>
                </a:solidFill>
                <a:uFillTx/>
                <a:latin typeface="Arial"/>
              </a:rPr>
              <a:t> entendimiento humano (1748)</a:t>
            </a:r>
            <a:r>
              <a:rPr b="0" i="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una palabra, pues, todo efecto es un  suceso distinto de su causa. Por consiguiente, no puede ser  descubierto en la causa; y su primera invención o concepción, a priori, debe ser completamente arbitr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Si la causa - continua Whitehead - en sí misma no revela información sobre el efecto, de manera que su primera concepción  debe ser enteramente arbitraria, se infiere de inmediato que la ciencia es imposible, salvo en el sentido de establecer  conexiones enteramente arbitrarias, que no están garantizadas por nada intrínseco a la naturaleza de las causas o de los efectos. Por lo general alguna variante de la filosofía de Hume ha predominado entre los hombres de ciencia. Pero la fe científica se ha puesto a la altura de las circunstancias, y ha allanado tácitamente la montaña filosófica"</a:t>
            </a: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1632, a los 68, Galileo años publica </a:t>
            </a:r>
            <a:r>
              <a:rPr b="0" i="1" lang="es-ES_tradnl" sz="1800" spc="-1" strike="noStrike" u="sng">
                <a:solidFill>
                  <a:srgbClr val="000000"/>
                </a:solidFill>
                <a:uFillTx/>
                <a:latin typeface="Arial"/>
              </a:rPr>
              <a:t>Diálogo sobre los sistemas máximos del mundo</a:t>
            </a:r>
            <a:r>
              <a:rPr b="0" lang="es-ES_tradnl" sz="1800" spc="-1" strike="noStrike">
                <a:solidFill>
                  <a:srgbClr val="000000"/>
                </a:solidFill>
                <a:latin typeface="Arial"/>
              </a:rPr>
              <a:t>. Es significativo que lo haga en la vejez y en un tiempo difícil, dado el rechazo que existía en ese momento para el sistema coper­nicano por parte del cristianismo, al que en esta época se había sumado el catolicismo renegando de su doctrina.</a:t>
            </a:r>
            <a:r>
              <a:rPr b="1" lang="es-ES_tradnl" sz="1800" spc="-1" strike="noStrike">
                <a:solidFill>
                  <a:srgbClr val="000000"/>
                </a:solidFill>
                <a:latin typeface="Arial"/>
              </a:rPr>
              <a:t> </a:t>
            </a:r>
            <a:r>
              <a:rPr b="0" lang="es-ES_tradnl" sz="1800" spc="-1" strike="noStrike">
                <a:solidFill>
                  <a:srgbClr val="000000"/>
                </a:solidFill>
                <a:latin typeface="Arial"/>
              </a:rPr>
              <a:t>En la dedicatoria de este libro Galileo aceptó las condiciones de posibilidad y la finalidad de la investigación de la filosofía natural. En la dedicatoria de los </a:t>
            </a:r>
            <a:r>
              <a:rPr b="0" lang="es-ES_tradnl" sz="1800" spc="-1" strike="noStrike" u="sng">
                <a:solidFill>
                  <a:srgbClr val="000000"/>
                </a:solidFill>
                <a:uFillTx/>
                <a:latin typeface="Arial"/>
              </a:rPr>
              <a:t>Diálogos sobre los sistemas máximos del mundo </a:t>
            </a:r>
            <a:r>
              <a:rPr b="0" lang="es-ES_tradnl" sz="1800" spc="-1" strike="noStrike">
                <a:solidFill>
                  <a:srgbClr val="000000"/>
                </a:solidFill>
                <a:latin typeface="Arial"/>
              </a:rPr>
              <a:t>, Galileo 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Y el volverse al gran libro de la Naturaleza, que es el objeto propio de la filosofía, es la manera de alzar los ojos: en cuyo libro todo lo que se lee como obra del Artífice Omnipotente es proporcionadísimo, y es más claro y digno, donde aparece mayor, a nuestra vista, la obra y el artificio. La constitución del Universo, entre los naturales aprehensibles, a mi parecer, puede ponerse en primer lugar: que si como universal continente, adelanta en grandeza a todos los otros, como orden y mantenimiento debe superarles en nobleza"</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lileo rechaza totalmente las nuevas concepciones que se originaron en la Reforma. En el Saggiatore escrib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tal vez piensa que la filosofía es como las novelas, producto de la fantasía de un hombre, como por ejemplo </a:t>
            </a:r>
            <a:r>
              <a:rPr b="0" i="1" lang="es-ES_tradnl" sz="2000" spc="-1" strike="noStrike" u="sng">
                <a:solidFill>
                  <a:srgbClr val="000000"/>
                </a:solidFill>
                <a:uFillTx/>
                <a:latin typeface="Arial"/>
              </a:rPr>
              <a:t>La Ilíada o el Orlando furioso</a:t>
            </a:r>
            <a:r>
              <a:rPr b="0" i="1" lang="es-ES_tradnl" sz="2000" spc="-1" strike="noStrike">
                <a:solidFill>
                  <a:srgbClr val="000000"/>
                </a:solidFill>
                <a:latin typeface="Arial"/>
              </a:rPr>
              <a:t> donde lo menos importante es que aquello que en ellas se narra sea cierto. Sr. Sarsi, las cosas no son así. La filosofía se halla escrita en el gran libro que está siempre abierto ante nuestros ojos - quiero decir, el universo -, pero no podemos entenderlo si antes no aprendemos la lengua y los signos en que está escrito. Este libro está escrito en lenguaje matemático, y los símbolos son triángulos, circulos u otras figuras geométricas, sin cuya ayuda es imposible comprender una sola palabra de él y se anda perdido por un oscuro laberinto"</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Sin embargo, no han podido descubrir ni deducir sobre la  base de ellas el punto principal, esto es, la forma del mundo y la exacta simetría (conmensurabilidad) de sus partes, y a ellos les sucede lo que a alguien que,  juntando de diversos lugares manos, pies, cabeza y otros miembros, todos ellos perfectos, pero no conformados ni relacionados en un solo y mismo cuerpo y sin guardar correspondencia entre sí, formarían más bien un monstruo que un hombre. </a:t>
            </a:r>
            <a:endParaRPr b="0" lang="en-US" sz="2800" spc="-1" strike="noStrike">
              <a:solidFill>
                <a:srgbClr val="000000"/>
              </a:solidFill>
              <a:latin typeface="Arial"/>
            </a:endParaRPr>
          </a:p>
        </p:txBody>
      </p:sp>
      <p:sp>
        <p:nvSpPr>
          <p:cNvPr id="113" name=""/>
          <p:cNvSpPr/>
          <p:nvPr/>
        </p:nvSpPr>
        <p:spPr>
          <a:xfrm>
            <a:off x="-4564080" y="396864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endParaRPr b="0" lang="en-US" sz="1800" spc="-1" strike="noStrike">
              <a:solidFill>
                <a:srgbClr val="000000"/>
              </a:solidFill>
              <a:latin typeface="Arial"/>
            </a:endParaRPr>
          </a:p>
        </p:txBody>
      </p:sp>
      <p:sp>
        <p:nvSpPr>
          <p:cNvPr id="114" name="">
            <a:hlinkClick r:id="rId1" action="ppaction://hlinksldjump"/>
          </p:cNvPr>
          <p:cNvSpPr/>
          <p:nvPr/>
        </p:nvSpPr>
        <p:spPr>
          <a:xfrm>
            <a:off x="-4543920" y="3952800"/>
            <a:ext cx="295488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200" spc="-1" strike="noStrike" baseline="30000">
                <a:solidFill>
                  <a:srgbClr val="000000"/>
                </a:solidFill>
                <a:latin typeface="Courier New"/>
                <a:ea typeface="Times New Roman"/>
              </a:rPr>
              <a:t>    </a:t>
            </a:r>
            <a:r>
              <a:rPr b="0" lang="en-US" sz="1200" spc="-1" strike="noStrike" baseline="30000">
                <a:solidFill>
                  <a:srgbClr val="000000"/>
                </a:solidFill>
                <a:latin typeface="Courier New"/>
                <a:ea typeface="Times New Roman"/>
              </a:rPr>
              <a:t>[1]</a:t>
            </a:r>
            <a:r>
              <a:rPr b="0" lang="es-ES" sz="900" spc="-1" strike="noStrike">
                <a:solidFill>
                  <a:srgbClr val="000000"/>
                </a:solidFill>
                <a:latin typeface="Courier New"/>
                <a:ea typeface="Times New Roman"/>
              </a:rPr>
              <a:t>Nicolás Copérnico. Op.cit. pág. 4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ero después, despojándose del hábito del astrónomo puro y </a:t>
            </a:r>
            <a:r>
              <a:rPr b="0" i="1" lang="es-ES_tradnl" sz="3200" spc="-1" strike="noStrike" u="sng">
                <a:solidFill>
                  <a:srgbClr val="000000"/>
                </a:solidFill>
                <a:uFillTx/>
                <a:latin typeface="Arial"/>
              </a:rPr>
              <a:t>vistiéndose con el de contemplador de la naturaleza</a:t>
            </a:r>
            <a:r>
              <a:rPr b="0" i="1" lang="es-ES_tradnl" sz="3200" spc="-1" strike="noStrike">
                <a:solidFill>
                  <a:srgbClr val="000000"/>
                </a:solidFill>
                <a:latin typeface="Arial"/>
              </a:rPr>
              <a:t>, se dispuso a examinar si esta suposición de los astrónomos, que concordaba suficientemente con los cálculos y las apariencias de los movimientos de todos y cada uno de los planetas, podía también corroborarse verdaderamente en el mundo y en la naturalez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elt, en </a:t>
            </a:r>
            <a:r>
              <a:rPr b="0" i="1" lang="es-ES" sz="3200" spc="-1" strike="noStrike">
                <a:solidFill>
                  <a:srgbClr val="000000"/>
                </a:solidFill>
                <a:latin typeface="Arial"/>
              </a:rPr>
              <a:t>Die Reformation der Sternkunde, Jena 1852 ,p. 166 escribe, La nueva doctrina del canónigo católico, planta esencialmente alemana tanto como el protestantismo, ha sido conservada y elaborada principalmente por protestantes…El destino de la nueva astronomía ha estado ligado, de alguna manera, al destino del protestantism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Descubriendo que en modo alguno podía darse tal disposición de las partes del cielo dado que, aunque cada una por separado estuviese bien proporcionada de su conjunción resultaba una monstruosa quimera,</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Y ya que Copérnico, situando a la Tierra entre los cuerpos móviles del cielo, la convierte en un globo semejante a un planeta, bueno será que el principio de nuestras consideraciones sea examinar cuánta y cuál sea la fuerza y energía de los razonamientos peripatéticos para demostrar que este asunto es completamente imposible, y ver también si es necesario introducir en la naturaleza substancias diversas entre sí, es decir , la celeste y la elemental, aquella impasible e inmortal, ésta alterable y caduca. (Aristóteles, </a:t>
            </a:r>
            <a:r>
              <a:rPr b="0" i="1" lang="es-ES_tradnl" sz="2400" spc="-1" strike="noStrike" u="sng">
                <a:solidFill>
                  <a:srgbClr val="000000"/>
                </a:solidFill>
                <a:uFillTx/>
                <a:latin typeface="Arial"/>
              </a:rPr>
              <a:t>De Coelo I,3</a:t>
            </a:r>
            <a:r>
              <a:rPr b="0" i="1" lang="es-ES_tradnl"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pérnico insiste en esta idea de un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Y puesto que el cielo contiene y encierra todas las cosas, lugar común de todas, no aparece al punto con claridad  por qué no se puede atribuir el movimiento más bien al contenido que al continente, a lo ubicado que a lo ubicante"</a:t>
            </a:r>
            <a:r>
              <a:rPr b="0" i="1" lang="es-ES_tradnl" sz="2800" spc="-1" strike="noStrike" u="sng">
                <a:solidFill>
                  <a:srgbClr val="009999"/>
                </a:solidFill>
                <a:uFillTx/>
                <a:latin typeface="Arial"/>
                <a:hlinkClick r:id="rId1" action="ppaction://hlinksldjump"/>
              </a:rPr>
              <a:t>[1]</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y de las causas de los demás fenómenos del cielo, sin dejar de explicar, por último, la forma total. Pues ¿qué podría ser más hermoso que el cielo, que contiene todas las cosas hermosas?; tal como lo ponen de manifiesto los mismos nombres </a:t>
            </a:r>
            <a:r>
              <a:rPr b="1" i="1" lang="es-ES_tradnl" sz="3200" spc="-1" strike="noStrike">
                <a:solidFill>
                  <a:srgbClr val="000000"/>
                </a:solidFill>
                <a:latin typeface="Arial"/>
              </a:rPr>
              <a:t>caelum y mundus</a:t>
            </a:r>
            <a:r>
              <a:rPr b="0" i="1" lang="es-ES_tradnl" sz="3200" spc="-1" strike="noStrike">
                <a:solidFill>
                  <a:srgbClr val="000000"/>
                </a:solidFill>
                <a:latin typeface="Arial"/>
              </a:rPr>
              <a:t>, el primero de los cuales se refiere a lo "lo labrado bellamente" y el segundo a la "limpieza" y al "ordenamiento"</a:t>
            </a:r>
            <a:r>
              <a:rPr b="0" i="1" lang="es-ES_tradnl" sz="3200" spc="-1" strike="noStrike" u="sng">
                <a:solidFill>
                  <a:srgbClr val="009999"/>
                </a:solidFill>
                <a:uFillTx/>
                <a:latin typeface="Arial"/>
                <a:hlinkClick r:id="rId1" action="ppaction://hlinksldjump"/>
              </a:rPr>
              <a:t>[2]</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Henri Poincaré casi 400 años después en </a:t>
            </a:r>
            <a:r>
              <a:rPr b="0" i="1" lang="es-ES_tradnl" sz="3200" spc="-1" strike="noStrike" u="sng">
                <a:solidFill>
                  <a:srgbClr val="000000"/>
                </a:solidFill>
                <a:uFillTx/>
                <a:latin typeface="Arial"/>
              </a:rPr>
              <a:t>La Science et l'hypothése</a:t>
            </a:r>
            <a:r>
              <a:rPr b="0" lang="es-ES_tradnl" sz="3200" spc="-1" strike="noStrike">
                <a:solidFill>
                  <a:srgbClr val="000000"/>
                </a:solidFill>
                <a:latin typeface="Arial"/>
              </a:rPr>
              <a:t> (1906)sobre la unidad de la naturale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Observamos, en primer lugar, que toda generalización supone, en cierta medida, la creencia en la unidad y en la simplicidad de la naturaleza. </a:t>
            </a:r>
            <a:endParaRPr b="0" lang="en-US" sz="3200" spc="-1" strike="noStrike">
              <a:solidFill>
                <a:srgbClr val="000000"/>
              </a:solidFill>
              <a:latin typeface="Arial"/>
            </a:endParaRPr>
          </a:p>
        </p:txBody>
      </p:sp>
      <p:sp>
        <p:nvSpPr>
          <p:cNvPr id="121" name=""/>
          <p:cNvSpPr/>
          <p:nvPr/>
        </p:nvSpPr>
        <p:spPr>
          <a:xfrm>
            <a:off x="2286000" y="24224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or tanto, no tenemos que preguntarnos si la naturaleza posee unidad, sino cómo posee un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or lo que hace a la unidad, no puede haber dificultad alguna.  Si las diversas partes del universo no fuesen como los órganos de un mismo cuerpo, no obrarían unas sobre otras, se ignorarían mutuamente, y en particular, nosotros no conoceríamos sino una sola de el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incipio de inducción se basa en un principio metodológico más amplio y general:  el de la uniformidad de la naturaleza. Aquí encuentra apoyo, en el sentido de que es, con respecto a este último una ampliación o una formulación cada vez más adaptadas a los trabajos científ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ho de otra manera: si el científico acepta la regla que le invita a considerar la naturaleza como </a:t>
            </a:r>
            <a:r>
              <a:rPr b="0" lang="es-MX" sz="3200" spc="-1" strike="noStrike">
                <a:solidFill>
                  <a:srgbClr val="000000"/>
                </a:solidFill>
                <a:latin typeface="Arial"/>
              </a:rPr>
              <a:t>uniforme </a:t>
            </a:r>
            <a:r>
              <a:rPr b="0" lang="es-ES_tradnl" sz="3200" spc="-1" strike="noStrike">
                <a:solidFill>
                  <a:srgbClr val="000000"/>
                </a:solidFill>
                <a:latin typeface="Arial"/>
              </a:rPr>
              <a:t>o determinada en su curso, se verá llevado, en consecuencia a generalizar una proposición basándose en la fe que le ofrece cierto número de casos, es decir, se verá llevado a emplear el principio de in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n cuanto al segundo punto, no se resuelve tan fácilmente.  No es seguro que la naturaleza sea simple.  ¿Podemos, sin peligro, actuar como si lo fuese"</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La nueva teoría era, evidentemente, contraria a las Escrituras, y Osiander era demasiado buen luterano —aunque hereje— para dejar de creer en la inspiración divina de ellas. Es así que inventó, ya desde 1541, una solución harto elegante de esta dificultad, al adoptar una teoría fenomenista de la ciencia</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incipio de economía [o de simplicidad] nos obliga a dar razón del mayor número posible de hechos por medio de explicaciones que resulten lo más simples posible. Si se puede dar razón completa de un compuesto en el nivel químico, no hace ninguna falta ir a buscar una explicación en el nivel biológico o psicológico</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demás, la ciencia está siempre tratando de reducir a una teoría hechos que hasta ahora se explicaban por varias suposición así, Newton pudo vincular al principio único de la gravitación las tres leyes de Kepler. El sistema de Ptolomeo exigía varios epiciclos para explicar las observaciones.  Situando al sol en el centro del universo, Copérnico  redujo su número de ochenta y tres a diecisi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 la teoría del campo unificado, Einstein intentaba, en estos últimos  años, tender un puente entre la Gravitación y el Electromagnetismo. El mismo decía: "La idea de que existen dos estructuras en el espacio, independientes entre sí —el espacio métrico gravitacional y el espacio electromagnético—, resulta intolerable al espíritu teór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la creencia de que es posible captar la realidad con nuestras construcciones teóricas —dice Einstein—, sin la creencia  en la armonía interna de nuestro mundo, sería imposible la ciencia. Esta creencia es y seguirá siendo siempre el motivo fundamental de  la creación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ugna que produjo la "Carta al Lector" trata de la confrontación de dos modos de pensar radicalmente distintos, los cuales determinaron en gran medida la problemática intelectual a partir del siglo XVI. Galileo claramente toma partido a favor de Copérnico en  un fragmento no publicado, de 1615, el cual termina de la siguiente man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or lo que se refiere al resto de este admirable sistema, que todo aquél que desea conocer la opinión del propio Copérnico </a:t>
            </a:r>
            <a:r>
              <a:rPr b="0" i="1" lang="es-ES_tradnl" sz="3200" spc="-1" strike="noStrike" u="sng">
                <a:solidFill>
                  <a:srgbClr val="000000"/>
                </a:solidFill>
                <a:uFillTx/>
                <a:latin typeface="Arial"/>
              </a:rPr>
              <a:t>lea en su totalidad la obra de éste y no la vana literatura del editor</a:t>
            </a:r>
            <a:r>
              <a:rPr b="0" i="1" lang="es-ES_tradnl" sz="3200" spc="-1" strike="noStrike">
                <a:solidFill>
                  <a:srgbClr val="000000"/>
                </a:solidFill>
                <a:latin typeface="Arial"/>
              </a:rPr>
              <a:t> podrá, sin duda, palpar con sus propias manos que la estabilidad del Sol y la movilidad de la Tierra fueron consideradas por Copérnico absolutamente verdadera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1632, a los 68, Galileo años publica </a:t>
            </a:r>
            <a:r>
              <a:rPr b="0" i="1" lang="es-ES_tradnl" sz="3200" spc="-1" strike="noStrike" u="sng">
                <a:solidFill>
                  <a:srgbClr val="000000"/>
                </a:solidFill>
                <a:uFillTx/>
                <a:latin typeface="Arial"/>
              </a:rPr>
              <a:t>Diálogo sobre los sistemas máximos del mundo</a:t>
            </a:r>
            <a:r>
              <a:rPr b="0" lang="es-ES_tradnl" sz="3200" spc="-1" strike="noStrike">
                <a:solidFill>
                  <a:srgbClr val="000000"/>
                </a:solidFill>
                <a:latin typeface="Arial"/>
              </a:rPr>
              <a:t>. Es significativo que lo haga en la vejez y en un tiempo difícil, dado el rechazo que existía en ese momento para el sistema copernicano por parte del cristianismo, al que en esta época se había sumado el catolicismo renegando de su doctrina.</a:t>
            </a:r>
            <a:r>
              <a:rPr b="1"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dedicatoria de los </a:t>
            </a:r>
            <a:r>
              <a:rPr b="0" lang="es-ES_tradnl" sz="2800" spc="-1" strike="noStrike" u="sng">
                <a:solidFill>
                  <a:srgbClr val="000000"/>
                </a:solidFill>
                <a:uFillTx/>
                <a:latin typeface="Arial"/>
              </a:rPr>
              <a:t>Diálogos sobre los sistemas máximos del mundo </a:t>
            </a:r>
            <a:r>
              <a:rPr b="0" lang="es-ES_tradnl" sz="2800" spc="-1" strike="noStrike">
                <a:solidFill>
                  <a:srgbClr val="000000"/>
                </a:solidFill>
                <a:latin typeface="Arial"/>
              </a:rPr>
              <a:t>, Galileo d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Y el volverse al gran libro de la Naturaleza, que es el objeto propio de la filosofía, es la manera de alzar los ojos: en cuyo libro todo lo que se lee como obra del Artífice Omnipotente es proporcionadísimo, y es más claro y digno, donde aparece mayor, a nuestra vista, la obra y el artif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La constitución del Universo, entre los naturales aprehensibles, a mi parecer, puede ponerse en primer lugar: que si como universal continente, adelanta en grandeza a todos los otros, como orden y mantenimiento debe superarles en nobleza"</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alileo rechaza totalmente las nuevas concepciones que se originaron en la Reforma. En el Saggiatore escrib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tal vez piensa que la filosofía es como las novelas, producto de la fantasía de un hombre, como por ejemplo </a:t>
            </a:r>
            <a:r>
              <a:rPr b="0" i="1" lang="es-ES_tradnl" sz="3200" spc="-1" strike="noStrike" u="sng">
                <a:solidFill>
                  <a:srgbClr val="000000"/>
                </a:solidFill>
                <a:uFillTx/>
                <a:latin typeface="Arial"/>
              </a:rPr>
              <a:t>La Ilíada o el Orlando furioso</a:t>
            </a:r>
            <a:r>
              <a:rPr b="0" i="1" lang="es-ES_tradnl" sz="3200" spc="-1" strike="noStrike">
                <a:solidFill>
                  <a:srgbClr val="000000"/>
                </a:solidFill>
                <a:latin typeface="Arial"/>
              </a:rPr>
              <a:t> donde lo menos importante es que aquello que en ellas se narra sea cier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Según él, la ciencia —en especial la astronomía— tiene como único fin y deber el "salvar los fenómenos". La labor de la astronomía no consistiría en buscar las </a:t>
            </a:r>
            <a:r>
              <a:rPr b="0" lang="es-ES_tradnl" sz="3200" spc="-1" strike="noStrike">
                <a:solidFill>
                  <a:srgbClr val="000000"/>
                </a:solidFill>
                <a:latin typeface="Arial"/>
              </a:rPr>
              <a:t>[causas </a:t>
            </a:r>
            <a:r>
              <a:rPr b="0" i="1" lang="es-ES_tradnl" sz="3200" spc="-1" strike="noStrike">
                <a:solidFill>
                  <a:srgbClr val="000000"/>
                </a:solidFill>
                <a:latin typeface="Arial"/>
              </a:rPr>
              <a:t>desconocidas ni los movimientos reales de los planetas, sino en relacionar las observaciones por medio de hipótesis que permitan calcular las posiciones (visibles) de los astro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Sr. Sarsi, las cosas no son así. La filosofía se halla escrita en el gran libro que está siempre abierto ante nuestros ojos - quiero decir, el universo -, pero no podemos entenderlo si antes no aprendemos la lengua y los signos en que está escrito. Este libro está escrito en lenguaje matemático, y los símbolos son triángulos, circulos u otras figuras geométricas, sin cuya ayuda es imposible comprender una sola palabra de él y se anda perdido por un oscuro laberinto"</a:t>
            </a: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lileo tiene conciencia de este probl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Dialogo sobre Sistemas máximos del mund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or tanto, concluyo que el entender nuestro en cuanto a la multitud de las cosas entendidas, es infinitamente superado por el divino, pero no lo envilezco tanto que lo juzgue absolutamente nul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al contrario, cuando considero cuántas y cuan maravillosas obras han investigado y hecho los hombres, más claramente conozco y entiendo que la mente humana es obra de Dios, y de las más excelente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INSTE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sí, la labor suprema del físico es el descubrimiento de las leyes elementales más generales a partir de las cuales puede ser deducida lógicamente la imagen del mundo. Pero no existe un camino lógico para el descubrimiento de esas leyes fundamentales. Existe únicamente la vía de la intuición, ayudada por un sentido para el orden que yace tras de las apariencias, y este "Einfuehlung" se desarrolla por la experie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s posible, pues, decir que cualquier sistema de física puede ser igualmente válido y admisible? Teóricamente nada hay de ilógico en esta idea. Pero la historia del desarrollo científico enseña que de todas las estructuras teóricas imaginables, una sola demuestra ser superior a las restantes en cada período por el que atraviesa el progreso de la cien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Todo investigador que tenga experiencia sabe que el sistema teórico de la física depende del mundo de la percepción sensorial y está controlado por él, aunque no exista un camino lógico que nos permita elevarnos desde la percepción a los principios que rigen la estructura teóric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cualquier progreso importante, el físico observa que las leyes fundamentales se simplifican cada vez más a medida que avanza la investigación experimental. Es asombroso ver cómo de lo que parece el caos surge el más sublime orden. Y esto no puede ser referido al trabajo mental del físico, sino a una cualidad que es inherente al mundo de la percepción. Leibniz expresaba adecuadamente esta cualidad denominándola armonía preestablec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 abismo entre Dios y los hombres,  para quienes es absolutamente incognoscible. No tenemos ni estructuras, ni ideas para conocer a la Divinidad. Nuestro conocimiento queda confinado a las cosas de este mundo, cuestión que se desarrollará en la filosofía moderna británica y alema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ZÓN EN LA MODER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Pues quien se consagre a estas cosas con asidua contemplación e intimidad, viéndolas en perfecto orden dirigidas por la voluntad divina, no podrá dejar de verse inclinado hacia las cosas mejores ni de admirar al artífice de todas ellas, en quien reside toda felicidad y todo bi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s hipótesis, tanto la de Copérnico como las demás, no tendrían de ninguna manera la pretensión de ser verdaderas, verosímiles o siquiera probables; y será la mejor, simplemente, la más cómoda o la más simple. Esto es lo que Osiander ex-plica en su carta-prefacio titulada </a:t>
            </a:r>
            <a:r>
              <a:rPr b="0" lang="es-ES_tradnl" sz="3200" spc="-1" strike="noStrike">
                <a:solidFill>
                  <a:srgbClr val="000000"/>
                </a:solidFill>
                <a:latin typeface="Arial"/>
              </a:rPr>
              <a:t>Al lector sobre las hipótesis de esta obra, </a:t>
            </a:r>
            <a:r>
              <a:rPr b="0" i="1" lang="es-ES_tradnl" sz="3200" spc="-1" strike="noStrike">
                <a:solidFill>
                  <a:srgbClr val="000000"/>
                </a:solidFill>
                <a:latin typeface="Arial"/>
              </a:rPr>
              <a:t>incluida (sin su firma) en la </a:t>
            </a:r>
            <a:r>
              <a:rPr b="0" lang="es-ES_tradnl" sz="3200" spc="-1" strike="noStrike">
                <a:solidFill>
                  <a:srgbClr val="000000"/>
                </a:solidFill>
                <a:latin typeface="Arial"/>
              </a:rPr>
              <a:t>' </a:t>
            </a:r>
            <a:r>
              <a:rPr b="0" i="1" lang="es-ES_tradnl" sz="3200" spc="-1" strike="noStrike">
                <a:solidFill>
                  <a:srgbClr val="000000"/>
                </a:solidFill>
                <a:latin typeface="Arial"/>
              </a:rPr>
              <a:t>edición del </a:t>
            </a:r>
            <a:r>
              <a:rPr b="0" lang="es-ES_tradnl" sz="3200" spc="-1" strike="noStrike">
                <a:solidFill>
                  <a:srgbClr val="000000"/>
                </a:solidFill>
                <a:latin typeface="Arial"/>
              </a:rPr>
              <a:t>De revolutionib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l divino salmista no habría confesado en vano que se deleita en la obra de Dios y que se extasía en la factura de sus manos a no ser que, por estos medios, a la manera de un vehículo, fuéramos conducidos a la contemplación del sumo bien"</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wton asume la posición de Calvino en el conocimiento: el hombre no puede alcanzar el conocimiento de Dios. Siguiendo a Calvino, sosti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Se reconoce que un Dios supremo existe necesariamente, y por la misma necesidad existe 'siempre' y en 'todas partes'. Por lo mismo, es todo similar, todo ojo, todo oído, todo cerebro, todo brazo, todo poder para percibir, entender y  obrar, pero de un modo para nada humano, para nada corpóreo, radicalmente desconocido para nos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 </a:t>
            </a:r>
            <a:r>
              <a:rPr b="0" i="1" lang="es-ES_tradnl" sz="3200" spc="-1" strike="noStrike">
                <a:solidFill>
                  <a:srgbClr val="000000"/>
                </a:solidFill>
                <a:latin typeface="Arial"/>
              </a:rPr>
              <a:t>Así como un ciego no tiene idea de los colores, así carecemos nosotros de ideas sobre el modo en que el Dios sapientísimo percibe y entiende todas las cos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 un abismo entre Dios y los hombres,  para quienes es absolutamente incognoscible. No tenemos ni estructuras, ni ideas para conocer a la Divinidad. Nuestro conocimiento queda confinado a las cosas de este mundo, cuestión que se desarrollará en la filosofía moderna británica y alemana</a:t>
            </a:r>
            <a:r>
              <a:rPr b="0" lang="es-MX" sz="3200" spc="-1" strike="noStrike">
                <a:solidFill>
                  <a:srgbClr val="000000"/>
                </a:solidFill>
                <a:latin typeface="Arial"/>
              </a:rPr>
              <a:t> </a:t>
            </a:r>
            <a:br>
              <a:rPr sz="3200"/>
            </a:b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podemos conocer a Dios, pero sabemos de sus propiedades por la creación, le veneramos y adoramos por su deidad que es el dominio de Dios. Sólo podemos glorificar a Dios por las propiedades y atributos de las cosas, por sus sabias y óptimas estructuras y por las causas finales; lo veneramos y adoramos por su dominio. Debemos intentar recuperar el dominio original que tuvo Adán sobre el universo. Newton observa con respeto la Creación y guarda lo observado; no inventa hipótesis. Di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ero hasta el presente no he logrado descubrir la causa de esas propiedades de gravedad a partir de los fenómenos, y no finjo hipótesis. Pues todo lo que no es deducido a partir de los fenómenos ha de llamarse una hipótesis, y las hipótesis metafísicas o físicas, ya sean de cualidades ocultas o mecánicas, carecen de lugar en la filosofía experimental</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wton sostiene que es necesario observar el orden natural unificado, los fenómenos y todo lo que de ellos se deduzca conforman las proposiciones válidas de la filosofía experimental. La influencia de esta perspectiva es enorme y permanente; veremos que Faraday y Maxwell continúan en esta tradición newtoniano-calvi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s cuestiones terrenales, el intelecto todavía está investido por Dios con dones prominentes, como claramente se muestra por las acciones de los gentiles y paganos. Pero en los asuntos celestiales, como, el respecto al conocimiento de Dios y de su Reino, incluso el más sagaz pensador es tan ciego como un murciélago. En la caída el hombre no perdió su intelecto y su voluntad, sino lo sano de lo uno y lo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tarea intelectual que le espera es conocerse a sí mismo; determinar el estado, capacidad, alcance, y objetos que puede conocer, así como realizar  la crítica a la concepción filosófica tradicional del entendimiento y razón humana obra que realizará la filosofía reformada. Esta nueva concepción del hombre exige una renovación de la filosofía para determinar cuales son las posibilidades y límites que el hombre tiene en el conocimiento y en la moralidad, cuestiones que aparecerán como temas centrales de la filosofía anglosajona-ger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ALVI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verdad de Dios indudablemente prescribe que pongamos la mano en el pecho y examinemos nuestra conciencia; exige un conocimiento tal, que destruya en nosotros toda confianza de poder hacer algo, y privándonos de todo motivo y ocasión de gloriarnos, nos enseña a someternos y humillarnos. Es necesario que guardemos esta regla, si queremos llegar al fin de sentir y obrar bi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22:29:57Z</dcterms:created>
  <dc:creator>Renato Espoz</dc:creator>
  <dc:description/>
  <dc:language>en-US</dc:language>
  <cp:lastModifiedBy>Renato Espoz</cp:lastModifiedBy>
  <dcterms:modified xsi:type="dcterms:W3CDTF">2010-06-27T22:30:35Z</dcterms:modified>
  <cp:revision>1</cp:revision>
  <dc:subject/>
  <dc:title>Diapositiva 1</dc:title>
</cp:coreProperties>
</file>