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ED3-ED4C-47D2-B7DC-09A4A8EE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E4C-1793-4B50-967D-43E61132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FC5-58AB-446B-9F60-E8E4D78D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9C0-6102-4A51-9350-9803C7E7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29A-F1F4-4F4F-B633-285C2DC1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4B4-6E25-4BCA-87BE-3E38BE5E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A1A-295D-480B-9C67-E06501A5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166-DE48-4A7D-A2F9-DA6A07A3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2EDA-8ED4-410D-B5B3-E1A20BFD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C2A6-371E-43AF-AE35-3F2CC170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A33-843D-4845-9BA2-A55F6D89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745-1E8C-40AE-85B7-6D879DB5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1C9E-F11F-4370-B578-FEE666FF0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rso “ CI 69 E 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86800" y="6021000"/>
            <a:ext cx="1332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rá ser académico de jornada completa o parcial de la Universidad de Chile. Excepcionalmente a propuesta de la Comisión de Titulación podrá ser Experto Ex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Coguía y el Integrante podrán ser académicos o expertos ex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el Prof. Guía no sea académico de la Facultad, el Coguía deberá ser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gir un Tema acorde con sus intereses o hab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tes de decid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) leer sobre el Te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) entender claramente el trabajo a desarrol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ITERIOS PARA AUTORIZAR EL CURSO CI 69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zo para desarrollar la Memoria es de 1 año calend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 debe justificar que el Tema califica para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torgar la autorización el Director tiene en consideración los antecedentes académicos del estudiante y la naturaleza d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A RA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quellos alumnos que han trabajado en un Temario durante las vacaciones y lo tengan ya muy avanzado podrán optar a la vía rápida. Es decir, hacer 2 semestres en uno s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sto deberán presentar a mas tardar en la 3ª semana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Carta del Prof. Guía ratificando que el alumno tiene un avance tal en su Trabajo, que le permitirá terminarlo durante el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 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) Breve resumen del avance a la 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ON DE TEM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be presentar una versión impresa en Secretaría Do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lelamente se debe subir al Portal del Departamento. (Al subir indicar nombre del alumno, su sección, nombre del temario, vers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“Memoria” tradicional ha sido reemplazada por un “Trabajo de Titul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Trabajo de Titulo corresponde a un proyecto de ingeniería y debe desarrollarse en 2 semes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extensión del Trabajo de Titulo en forma óptima debe ser de unas 50 p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 69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urante el desarrollo del semestre los alumnos deberán definir un Temario y encontrar un Profesor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esor Guía debe ser un académico de la Facultad. Excepcionalmente podrá ser un profesional externo con amplia experiencia en 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-5120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9151" t="27250" r="51124" b="15094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 69 E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1 CONSTRUCCION Prof. C. Aguil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2 ESTRUCTURAS    Prof. R. Borosch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3 TRANSPORT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Prof. A. Al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4 HIDRAULICA/         Prof. M. Oliv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NITAR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03280" y="189000"/>
            <a:ext cx="730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99960"/>
            <a:ext cx="8820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 AL TRABAJO DE TI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COMPROMISO PROFESORES GU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te esta carta, el Profesor firmante se compromete a participar como Profesor Guía del Trabajo de Título más adelante individualiz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UMNO: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UT:.................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NO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CION: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SECCION CI 69E: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MA MEMORIA: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GUIA:...........................................................  FO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ES COMISION: (El Prof. Guía debe indicar posibles Profesores para integrar Comisión de Titulación en este Te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Alum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Profesor Gu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ntiago, 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-522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37400"/>
            <a:ext cx="864072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MBRE ALUM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UT/Nº MATRICU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GU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CURSO CI 69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CH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TULO DEL TEMA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 breve resumen de la propuesta de Trabajo de Título, de no más de 250 palabras, en el que se indique objetivos, metodología a utilizar y resultados espe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/MOTIV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a breve introducción respecto del tema en que se enmarca el Trabajo de Título, explicando la motivación para desarrollar el trabajo que se prop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allar los objetivos generales y específicos propues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brevemente la metodología que se propone utilizar para completar los objetivos antes indic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ñalar los principales resultados que se espera obtener al completar el trabajo propu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IBLIOGRAFIA Y 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luir una lista con las referencias bibliográficas a ser usadas para el desarrollo del trabajo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CUMENTOS COMPLEM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 Si el tema incluye ensayos de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oratorios se debe adjun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 Carta Gantt en que se indique el númer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ensayos a efect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Carta compromiso de quién proporciona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quipos y materiales 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 Si el Tema incluye la utilización de software especial o banco de datos privados se debe presentar Carta compromiso de quién lo proporcion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ISION DE TITUL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 Comisión está compuesta de 4 profesores del Depart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reúne para revisar los Temarios presentados y los aprueba u ob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Temario es aprobado designa la Comisión Examinadora (1 P.G; 1 P.C.G.; 1 P.I.) tomando como base la sugerencia del Prof.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32:09Z</dcterms:created>
  <dc:creator>Carlos Aguilera</dc:creator>
  <dc:description/>
  <dc:language>en-US</dc:language>
  <cp:lastModifiedBy>Carlos Aguilera</cp:lastModifiedBy>
  <dcterms:modified xsi:type="dcterms:W3CDTF">2010-03-23T18:26:59Z</dcterms:modified>
  <cp:revision>14</cp:revision>
  <dc:subject/>
  <dc:title>Diapositiva 1</dc:title>
</cp:coreProperties>
</file>