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DFFC-8FDF-4914-A40F-C8F5352FD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6894-F316-4784-AC4B-1193D7720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855E-93E4-4158-861D-E99B6C4C8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7805-99CB-4B72-91FD-5CFFE334F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1C11-FD5B-45E9-B3BC-0E4BAF448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27C6-8612-4335-9738-1901FD606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4367-1E58-4334-A8E7-DFD76857D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6A72-373D-4413-BBE9-B27163F78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E344-D39B-4A34-B317-A82433A70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E237-3CCB-4BF4-92EC-18632B051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5FF5-90D8-448F-BBB5-89E81E364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21A2-C526-46E9-AF93-EF5055584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0063D-7C7F-4D76-8966-6502F138C9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urso “ CI 69 E 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686800" y="6021000"/>
            <a:ext cx="1332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-530028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Prof. Guía deberá ser académico de jornada completa o parcial de la Universidad de Chile. Excepcionalmente a propuesta de la Comisión de Titulación podrá ser Experto Exter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Prof. Coguía y el Integrante podrán ser académicos o expertos extern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uando el Prof. Guía no sea académico de la Facultad, el Coguía deberá serl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egir un Tema acorde con sus intereses o habilidad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ntes de decidi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) leer sobre el Tema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b) entender claramente el trabajo a desarrol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RITERIOS PARA AUTORIZAR EL CURSO CI 69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plazo para desarrollar la Memoria es de 1 año calend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Prof. Guía debe debe justificar que el Tema califica para 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ara otorgar la autorización el Director tiene en consideración los antecedentes académicos del estudiante y la naturaleza del Te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VIA RAPI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quellos alumnos que han trabajado en un Temario durante las vacaciones y lo tengan ya muy avanzado podrán optar a la vía rápida. Es decir, hacer 2 semestres en uno sol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ara esto deberán presentar a mas tardar en la 3ª semana lo siguien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) Carta del Prof. Guía ratificando que el alumno tiene un avance tal en su Trabajo, que le permitirá terminarlo durante el semest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) Tem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) Breve resumen del avance a la fec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PRESENTACION DE TEMAR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 debe presentar una versión impresa en Secretaría Doc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aralelamente se debe subir al Portal del Departamento. (Al subir indicar nombre del alumno, su sección, nombre del temario, versión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RABAJO DE TI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“Memoria” tradicional ha sido reemplazada por un “Trabajo de Titulo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te Trabajo de Titulo corresponde a un proyecto de ingeniería y debe desarrollarse en 2 semest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extensión del Trabajo de Titulo en forma óptima debe ser de unas 50 pa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I 69 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urante el desarrollo del semestre los alumnos deberán definir un Temario y encontrar un Profesor Guí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Profesor Guía debe ser un académico de la Facultad. Excepcionalmente podrá ser un profesional externo con amplia experiencia en el Te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7360" y="-512064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19151" t="27250" r="51124" b="15094"/>
          <a:stretch/>
        </p:blipFill>
        <p:spPr>
          <a:xfrm>
            <a:off x="457200" y="0"/>
            <a:ext cx="8229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I 69 E</a:t>
            </a:r>
            <a:br>
              <a:rPr sz="4000"/>
            </a:b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SEC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01 CONSTRUCCION Prof. C. Aguil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02 ESTRUCTURAS    Prof. R. Borosch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03 TRANSPORTE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Prof. A. Al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04 HIDRAULICA/         Prof. M. Oliv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ANITARIA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-522252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03280" y="189000"/>
            <a:ext cx="73080" cy="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480" bIns="24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9280" y="399960"/>
            <a:ext cx="882036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INTRODUCCION AL TRABAJO DE TITU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 u="sng">
                <a:solidFill>
                  <a:srgbClr val="000000"/>
                </a:solidFill>
                <a:uFillTx/>
                <a:latin typeface="Arial"/>
              </a:rPr>
              <a:t>COMPROMISO PROFESORES GU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Mediante esta carta, el Profesor firmante se compromete a participar como Profesor Guía del Trabajo de Título más adelante individualizad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LUMNO: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RUT:................................................................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FONO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ECCION: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OFESOR SECCION CI 69E: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TEMA MEMORIA:............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OFESOR GUIA:...........................................................  FONO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OFESORES COMISION: (El Prof. Guía debe indicar posibles Profesores para integrar Comisión de Titulación en este Tema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..............................................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Firma Alumno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Firma Profesor Gu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antiago, 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7360" y="-522252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440" cy="1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437400"/>
            <a:ext cx="8640720" cy="607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RABAJO DE TITU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NOMBRE ALUMN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RUT/Nº MATRICUL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PROFESOR GUI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PROFESOR CURSO CI 69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ECH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TITULO DEL TEMA PROPUES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RESU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esentar un breve resumen de la propuesta de Trabajo de Título, de no más de 250 palabras, en el que se indique objetivos, metodología a utilizar y resultados esperad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INTRODUCCION/MOTIVAC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esentar una breve introducción respecto del tema en que se enmarca el Trabajo de Título, explicando la motivación para desarrollar el trabajo que se propo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(máx. 1 pág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etallar los objetivos generales y específicos propuest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(máx. 1 pág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METODOLOG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esentar brevemente la metodología que se propone utilizar para completar los objetivos antes indicad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(máx. 1 pág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RESULTADOS ESPERA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eñalar los principales resultados que se espera obtener al completar el trabajo propuest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(máx. 1 pág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BIBLIOGRAFIA Y REFERENCI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Incluir una lista con las referencias bibliográficas a ser usadas para el desarrollo del trabajo propues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DOCUMENTOS COMPLEMENTAR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1.- Si el tema incluye ensayos de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boratorios se debe adjunt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) Carta Gantt en que se indique el número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 ensayos a efectu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) Carta compromiso de quién proporcionará lo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quipos y materiales necesar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2.- Si el Tema incluye la utilización de software especial o banco de datos privados se debe presentar Carta compromiso de quién lo proporcionará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ISION DE TITULAC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ta Comisión está compuesta de 4 profesores del Departame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 reúne para revisar los Temarios presentados y los aprueba u obje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 el Temario es aprobado designa la Comisión Examinadora (1 P.G; 1 P.C.G.; 1 P.I.) tomando como base la sugerencia del Prof. Guí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18:32:09Z</dcterms:created>
  <dc:creator>Carlos Aguilera</dc:creator>
  <dc:description/>
  <dc:language>en-US</dc:language>
  <cp:lastModifiedBy>Carlos Aguilera</cp:lastModifiedBy>
  <dcterms:modified xsi:type="dcterms:W3CDTF">2010-03-23T18:26:59Z</dcterms:modified>
  <cp:revision>14</cp:revision>
  <dc:subject/>
  <dc:title>Diapositiva 1</dc:title>
</cp:coreProperties>
</file>