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905-BDDD-4C4F-84F0-CE665B4B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293-2C3D-43E5-88B8-76B6DDA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4C0-8FEF-4673-A8BD-0274BB7A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351-DEF4-417C-84DF-0B022A8E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39F-AED8-4FDF-ADA5-FFBF14A9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E1E-A612-465F-9ACE-D449E503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185-7632-4C3D-8725-28374060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DFA-7264-4C92-95E1-EC6FD515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12C-11BF-45A8-BC25-D45893BB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7BF-2E60-46DB-8552-78E95703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66B-1598-4ABF-9266-F0C39F7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269-6B90-474D-AA0B-20B4AA55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A558-1027-4BC0-A0B2-CD05D7B4A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151" t="27250" r="51124" b="15094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C. Ag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R. Borosc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A. Al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M. Oli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10-03-23T18:26:59Z</dcterms:modified>
  <cp:revision>14</cp:revision>
  <dc:subject/>
  <dc:title>Diapositiva 1</dc:title>
</cp:coreProperties>
</file>