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9CB-74B8-47D0-A10A-C339D39E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FB0-8549-4C0D-A226-44B178B6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5B8-390C-4061-988F-CF838425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516-5E05-4052-9C65-862D64F5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276-C4B2-4910-8047-6636AB56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8A0-7FF4-4129-B981-CF97B0FA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8AC-48F6-4E66-9893-7144D60E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AFF-0ADE-4536-8D27-F105C60F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883-DAB5-4C9C-A616-98F9DA92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9BC-9F26-44B3-99EF-27242F8A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075-6136-43AB-9BFE-F5CD096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3C8-EAD2-402D-B7ED-712F6815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0D48-5E7A-4759-B370-8013D958E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151" t="27250" r="51124" b="15094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C. Ag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R. Borosc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A. Al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M. Oli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10-03-23T18:26:59Z</dcterms:modified>
  <cp:revision>14</cp:revision>
  <dc:subject/>
  <dc:title>Diapositiva 1</dc:title>
</cp:coreProperties>
</file>