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887-326A-4F81-8011-A8BC750D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54C-0158-44C7-8FF9-690D6CD1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EBD-4D8F-4C33-AC7D-97EC6EDD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484-07C4-4D1F-8FE9-80009E60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78C-67E9-4535-9935-C9416F62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C74-62A6-41C6-835C-6CC7AF97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B3C-4041-47E2-B987-55FAADD3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229-AE5D-4C39-8677-E1365EBB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835-2AB5-4C71-9D6B-7E4092C0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D8F-8A88-4E0F-AC17-52CD7DEE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22E-E47C-4593-82FC-3EDF7FE8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01E-2FCB-40FE-83DF-1DB297DB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F32C-1417-425F-BFEF-DE955801E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9151" t="27250" r="51124" b="15094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C. Aguil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R. Borosch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A. Al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M. Oliv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10-03-23T18:26:59Z</dcterms:modified>
  <cp:revision>14</cp:revision>
  <dc:subject/>
  <dc:title>Diapositiva 1</dc:title>
</cp:coreProperties>
</file>