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5E3-47C0-4265-BF30-4B81AE77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391-B0F5-4BF5-8BBF-E5F99485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3CB-921A-4923-BD2F-8FAA479F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BD4-F51A-4ABB-9E23-24BB15ED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274-AE66-4748-B570-CEFDC2BF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F32-4611-49A2-BE3D-4BC1E7C6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5B0-57E9-4A9F-A036-D95AD563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884-6EAD-4C16-A863-9F7419CD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20F-040F-4879-A65E-5C4B9E05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43E-E43A-4B7F-B752-5B06E8E7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50E-2533-4FA7-9E73-59BE70A3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BE8-D791-462F-8BE9-436BB4B2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32E5-1378-4B19-B91C-15F73D304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9151" t="27250" r="51124" b="15094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C. Agui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R. Borosc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A. Al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M. Oliv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10-03-23T18:26:59Z</dcterms:modified>
  <cp:revision>14</cp:revision>
  <dc:subject/>
  <dc:title>Diapositiva 1</dc:title>
</cp:coreProperties>
</file>