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3.xlsx" ContentType="application/vnd.openxmlformats-officedocument.spreadsheetml.sheet"/>
  <Override PartName="/ppt/media/image1.pct" ContentType="image/x-pict"/>
  <Override PartName="/ppt/media/image2.pct" ContentType="image/x-pict"/>
  <Override PartName="/ppt/media/image3.pct" ContentType="image/x-pict"/>
  <Override PartName="/ppt/media/image13.pct" ContentType="image/x-pict"/>
  <Override PartName="/ppt/media/image10.wmf" ContentType="image/x-wmf"/>
  <Override PartName="/ppt/media/image4.pct" ContentType="image/x-pict"/>
  <Override PartName="/ppt/media/image11.wmf" ContentType="image/x-wmf"/>
  <Override PartName="/ppt/media/image5.pct" ContentType="image/x-pict"/>
  <Override PartName="/ppt/media/image6.pct" ContentType="image/x-pict"/>
  <Override PartName="/ppt/media/image8.wmf" ContentType="image/x-wmf"/>
  <Override PartName="/ppt/media/image7.pct" ContentType="image/x-pict"/>
  <Override PartName="/ppt/media/image14.png" ContentType="image/png"/>
  <Override PartName="/ppt/media/image9.wmf" ContentType="image/x-wmf"/>
  <Override PartName="/ppt/media/image12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892-0B6D-4FED-BC36-E2E9A3F0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BFC-145C-446E-911C-7879ED7C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24D-D0D5-465B-A135-413028D7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8C2-CD04-4E29-863F-109C5D6C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9BA-4C92-4C72-A1EE-023429DF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9EE-BA21-402D-9633-EBB5B7B2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0B8-ACAC-4F5E-ADFB-502FA3E1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DF2-8086-49BF-8DBB-0687E390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5D8-A5C6-4284-B0C7-799661B4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7D7-DD0A-4897-A393-973FABE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11F-E568-47DA-9248-7BF89C35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AAE-B1B8-4376-8C69-C0D318A6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AD0C-7674-40B5-96C2-D3A45FDAFAD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ct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53I Demanda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4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5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30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1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4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6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1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4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6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7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8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9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0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1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2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s de Elección disc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57200" y="1066680"/>
            <a:ext cx="7709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duce sesgo de agregar (falacia ecológ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424332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AutoShape 12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8580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14400" y="1143000"/>
            <a:ext cx="769608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individuos escogen de manera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racional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da individuo cuenta con un conjunto de alternativa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isponibles c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tilida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satisfacción asociada a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sociada a lo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tribu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l bien y no al bien en sí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. Transporte: costo-tiempo-comodidad-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14400" y="1143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in y McFadden (197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1905120"/>
                <a:ext cx="395280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G</m:t>
                          </m:r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  <m:r>
                            <m:t xml:space="preserve">+</m:t>
                          </m:r>
                          <m:r>
                            <m:t xml:space="preserve">W</m:t>
                          </m:r>
                          <m:r>
                            <m:t xml:space="preserve">⋅</m:t>
                          </m:r>
                          <m:r>
                            <m:t xml:space="preserve">w</m:t>
                          </m:r>
                        </m:e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W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</m:e>
                      </m:mr>
                      <m:mr>
                        <m:e/>
                        <m:e/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62120" y="3657600"/>
                <a:ext cx="52578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029200" y="1828800"/>
                <a:ext cx="350208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G</m:t>
                          </m:r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</m:e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W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</m:e>
                      </m:mr>
                      <m:mr>
                        <m:e/>
                        <m:e/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5" name="Text Box 11"/>
          <p:cNvSpPr/>
          <p:nvPr/>
        </p:nvSpPr>
        <p:spPr>
          <a:xfrm>
            <a:off x="5410080" y="1143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ara-Díaz y Far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4495680"/>
                <a:ext cx="139068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57" name="AutoShape 13"/>
          <p:cNvSpPr/>
          <p:nvPr/>
        </p:nvSpPr>
        <p:spPr>
          <a:xfrm>
            <a:off x="2362320" y="4876920"/>
            <a:ext cx="761760" cy="30456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29000" y="4724280"/>
                <a:ext cx="32227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5715000"/>
                <a:ext cx="81406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14400" y="1143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in y McFadden (197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30040" y="1905120"/>
                <a:ext cx="410400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w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</m:e>
                      </m:mr>
                      <m:mr>
                        <m:e/>
                        <m:e/>
                      </m:mr>
                      <m:mr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33520" y="2971800"/>
                <a:ext cx="2814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572000"/>
                <a:ext cx="427356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65" name="Text Box 12"/>
          <p:cNvSpPr/>
          <p:nvPr/>
        </p:nvSpPr>
        <p:spPr>
          <a:xfrm>
            <a:off x="838080" y="3809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. .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obrevive sólo lo que cambia con 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419720" y="5791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tasa sal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-304920" y="304920"/>
            <a:ext cx="94489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Teoría de la utilidad ale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09480" y="1523880"/>
            <a:ext cx="8153640" cy="74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omencich  y McFadden (19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bien descrito en Ben-Akiva y Lerman, 1985 cap.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individuos pertenecen a una población homogénea Q, actúan racionalmente y poseen información perfecta. i.e. Eligen la alternativa que maximiza su utilidad individual, sujeto a restricciones legales, sociales, físicas y/o de tiempo y din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mo economi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 en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4920" y="30492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la utilidad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520" y="1143000"/>
            <a:ext cx="815328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. A={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 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alternativas dispon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.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 escogerá i tal que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utilidad indirecta condic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d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f(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ilidad sistemática, representativa o med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 escoge 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&gt;=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Pr(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q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Pr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todo 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q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04920" y="304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la utilidad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33520" y="1143000"/>
            <a:ext cx="815328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Pr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o j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rivación de un modelo en particular depende de la distribu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n pérdida de generalidad se puede asumir que l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ienen media cero (en caso contrario, la media  de V lo absorb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U)=f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57200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"/>
          <p:cNvSpPr/>
          <p:nvPr/>
        </p:nvSpPr>
        <p:spPr>
          <a:xfrm flipV="1">
            <a:off x="51055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4572000" y="4038480"/>
            <a:ext cx="106668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49402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475800" y="39625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228640" y="3962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701028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75438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7010280" y="4038480"/>
            <a:ext cx="10670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37856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442080" y="5334120"/>
            <a:ext cx="797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q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q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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(q)q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: función de densidad conj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odelación de la Partición Modal: Teoría de la utilidad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-165240" y="1066680"/>
                <a:ext cx="93855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d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d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2743200"/>
                <a:ext cx="24768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023920" y="3276720"/>
                <a:ext cx="55962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p:sp>
        <p:nvSpPr>
          <p:cNvPr id="188" name="Text Box 8"/>
          <p:cNvSpPr/>
          <p:nvPr/>
        </p:nvSpPr>
        <p:spPr>
          <a:xfrm>
            <a:off x="304920" y="2209680"/>
            <a:ext cx="8458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acio de integración: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max{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...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04920" y="441972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Distribu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um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tribución Gumbel (Valor Extremo Tipo I, Weibu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5800" y="1219320"/>
                <a:ext cx="5334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25320" y="2057400"/>
                <a:ext cx="5775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3" name=""/>
          <p:cNvGraphicFramePr/>
          <p:nvPr/>
        </p:nvGraphicFramePr>
        <p:xfrm>
          <a:off x="1523880" y="2819520"/>
          <a:ext cx="601992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19520"/>
                    <a:ext cx="60199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09480" y="762120"/>
            <a:ext cx="9144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09480" y="1371600"/>
            <a:ext cx="9144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1981080"/>
            <a:ext cx="9144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752480" y="838080"/>
            <a:ext cx="304920" cy="152424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057400" y="1371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j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581280" y="1371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de demand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66688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71680" y="2389320"/>
          <a:ext cx="834372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389320"/>
                    <a:ext cx="83437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0"/>
          <p:cNvSpPr/>
          <p:nvPr/>
        </p:nvSpPr>
        <p:spPr>
          <a:xfrm>
            <a:off x="198108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65760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ing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17220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467480" y="3200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52280" y="3809880"/>
            <a:ext cx="8991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Porqué es importante modelar la elección de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gestión, tarificación, construcción de infraestructura, polí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Factores que influencian la elección de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de la Distribución Gumb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113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Text Box 10"/>
          <p:cNvSpPr/>
          <p:nvPr/>
        </p:nvSpPr>
        <p:spPr>
          <a:xfrm>
            <a:off x="609480" y="1371600"/>
            <a:ext cx="8458200" cy="54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oda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dia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ηγμγ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tante de Euler = 0,5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varianza 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σ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~ Gumbe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η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V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nstantes esca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αε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 ~ Gumbe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α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V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μ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Se conserva ante transformaciones lin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~ Gumbe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~ Gumbe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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pendient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876920" y="4876920"/>
            <a:ext cx="39621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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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026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de la Distribución Gumb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0" y="4113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Text Box 1028"/>
          <p:cNvSpPr/>
          <p:nvPr/>
        </p:nvSpPr>
        <p:spPr>
          <a:xfrm>
            <a:off x="609480" y="1371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ís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029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9680" y="1143000"/>
                <a:ext cx="3276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ε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Text Box 1031"/>
          <p:cNvSpPr/>
          <p:nvPr/>
        </p:nvSpPr>
        <p:spPr>
          <a:xfrm>
            <a:off x="609480" y="2590920"/>
            <a:ext cx="4343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~ Gumbe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~ Gumbe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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pendiente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32"/>
          <p:cNvSpPr/>
          <p:nvPr/>
        </p:nvSpPr>
        <p:spPr>
          <a:xfrm>
            <a:off x="3886200" y="3124080"/>
            <a:ext cx="4495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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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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~Gumbe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33"/>
          <p:cNvSpPr/>
          <p:nvPr/>
        </p:nvSpPr>
        <p:spPr>
          <a:xfrm>
            <a:off x="40384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238880" y="3046320"/>
                <a:ext cx="1752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Text Box 1035"/>
          <p:cNvSpPr/>
          <p:nvPr/>
        </p:nvSpPr>
        <p:spPr>
          <a:xfrm>
            <a:off x="762120" y="4495680"/>
            <a:ext cx="8001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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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n J v.a. independientes ~Gumb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μ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x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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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umbe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10080" y="4876920"/>
                <a:ext cx="2057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μ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uestro probl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0" y="4113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2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879480" y="1111320"/>
                <a:ext cx="5064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Low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Text Box 7"/>
          <p:cNvSpPr/>
          <p:nvPr/>
        </p:nvSpPr>
        <p:spPr>
          <a:xfrm>
            <a:off x="609480" y="2209680"/>
            <a:ext cx="45720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puesto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~ Gumbe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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finición: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max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ε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914400" y="3581280"/>
            <a:ext cx="449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*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~Gumbe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0384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124080" y="3429000"/>
                <a:ext cx="1773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Rectangle 12"/>
          <p:cNvSpPr/>
          <p:nvPr/>
        </p:nvSpPr>
        <p:spPr>
          <a:xfrm>
            <a:off x="40384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2819520" y="3124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j=2-&gt;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44792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del Logit Multinomial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0" y="4113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" name="Text Box 4"/>
          <p:cNvSpPr/>
          <p:nvPr/>
        </p:nvSpPr>
        <p:spPr>
          <a:xfrm>
            <a:off x="2895480" y="1295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arámetro de escala de la Gum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85800" y="1066680"/>
                <a:ext cx="208440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Text Box 8"/>
          <p:cNvSpPr/>
          <p:nvPr/>
        </p:nvSpPr>
        <p:spPr>
          <a:xfrm>
            <a:off x="228600" y="25909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mponente aleatoria – componente determi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o completamente ale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5248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40384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32004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28600" y="4114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o completamente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752480" y="4648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1371600" y="468144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odelo se indeter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305240" y="1752480"/>
                <a:ext cx="1638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Text Box 16"/>
          <p:cNvSpPr/>
          <p:nvPr/>
        </p:nvSpPr>
        <p:spPr>
          <a:xfrm>
            <a:off x="228600" y="5715000"/>
            <a:ext cx="8610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aluar numéricamente caso: 2 alternativas,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0,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. Probar distintos valore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086600" y="3065400"/>
          <a:ext cx="1981080" cy="2649600"/>
        </p:xfrm>
        <a:graphic>
          <a:graphicData uri="http://schemas.openxmlformats.org/drawingml/2006/table">
            <a:tbl>
              <a:tblPr/>
              <a:tblGrid>
                <a:gridCol w="800280"/>
                <a:gridCol w="1180800"/>
              </a:tblGrid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libración del Logit Multinomial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Text Box 4"/>
          <p:cNvSpPr/>
          <p:nvPr/>
        </p:nvSpPr>
        <p:spPr>
          <a:xfrm>
            <a:off x="2819520" y="990720"/>
            <a:ext cx="5943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áxima verosimil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ximizar la probabilidad de que lo predicho sea igual a lo observ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09480" y="1066680"/>
                <a:ext cx="208440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Text Box 7"/>
          <p:cNvSpPr/>
          <p:nvPr/>
        </p:nvSpPr>
        <p:spPr>
          <a:xfrm>
            <a:off x="2743200" y="25462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 se pueden estimar por separado (problema de identificabi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304920" y="5029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rosimilitud de una observ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52280" y="2590920"/>
                <a:ext cx="29480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962520" y="3429000"/>
                <a:ext cx="18748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Text Box 16"/>
          <p:cNvSpPr/>
          <p:nvPr/>
        </p:nvSpPr>
        <p:spPr>
          <a:xfrm>
            <a:off x="609480" y="3581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estima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μ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389320" y="5502240"/>
                <a:ext cx="500220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libración del Logit Multinomial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Text Box 4"/>
          <p:cNvSpPr/>
          <p:nvPr/>
        </p:nvSpPr>
        <p:spPr>
          <a:xfrm>
            <a:off x="609480" y="1523880"/>
            <a:ext cx="8077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alibrar el modelo</a:t>
            </a:r>
            <a:r>
              <a:rPr b="0" lang="es-ES_tradnl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contrar aquell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 mejor reproduzcan la situación observada en la mues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cesito observ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s explicativas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105520" y="3200400"/>
                <a:ext cx="36590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457200" y="4876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información está contenida en las diferencias de V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libración del Logit Multinomial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6320" y="1143000"/>
            <a:ext cx="9144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pos d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Genéric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enen el mismo coeficiente para todas las alternativas, y aparecen en to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specífic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enen coeficiente distinto en las distintas alternativas y/o no aparecen en todas las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mplos de parámetros que se pueden estimar y otros que 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2590920" y="51055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cance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4267080" y="5638680"/>
            <a:ext cx="457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modelo no puede estim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5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por sepa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19520" y="5105520"/>
            <a:ext cx="64767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o es posible estim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θ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libración del Logit Multinomial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04920" y="990720"/>
                <a:ext cx="36604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4" name="Text Box 7"/>
          <p:cNvSpPr/>
          <p:nvPr/>
        </p:nvSpPr>
        <p:spPr>
          <a:xfrm>
            <a:off x="1219320" y="3200400"/>
            <a:ext cx="6476760" cy="3035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 maximizar esta función se obtiene el estimador máximo verosímil, el cual e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stent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asintóticament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rm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 asintóticament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t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El problema tiene solución ún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982800" y="1905120"/>
                <a:ext cx="53258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304920" y="1933560"/>
          <a:ext cx="32004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33560"/>
                    <a:ext cx="32004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52280" y="5819760"/>
          <a:ext cx="8686800" cy="50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819760"/>
                    <a:ext cx="8686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7621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estimación MNL por máxima verosimil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304920" y="4981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762120" y="4981680"/>
            <a:ext cx="53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1219320" y="4981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752480" y="4981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286000" y="49816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1 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657600" y="1933560"/>
          <a:ext cx="5238720" cy="3571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933560"/>
                    <a:ext cx="5238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12"/>
          <p:cNvSpPr/>
          <p:nvPr/>
        </p:nvSpPr>
        <p:spPr>
          <a:xfrm>
            <a:off x="1371600" y="1066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i=1,2  q=1, ...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ndiciones de Primer Orden del problema de máxima verosimilitud del MN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876240" y="1752480"/>
                <a:ext cx="64785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q</m:t>
                                        </m:r>
                                      </m:sub>
                                    </m:sSub>
                                  </m:sup>
                                </m:sSup>
                              </m:num>
                              <m:den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q</m:t>
                                            </m:r>
                                          </m:sub>
                                        </m:sSub>
                                      </m:sup>
                                    </m:sSup>
                                  </m:e>
                                </m:nary>
                              </m:den>
                            </m:f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q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lige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t xml:space="preserve">i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i</m:t>
                                      </m:r>
                                      <m:r>
                                        <m:t xml:space="preserve"> 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o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81" name=""/>
          <p:cNvGraphicFramePr/>
          <p:nvPr/>
        </p:nvGraphicFramePr>
        <p:xfrm>
          <a:off x="4187880" y="5116680"/>
          <a:ext cx="465120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7880" y="5116680"/>
                    <a:ext cx="46512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143000" y="2971800"/>
          <a:ext cx="4114800" cy="22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971800"/>
                    <a:ext cx="411480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2280" y="38088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Factores que influencian la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lección de mod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l viaj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14400" y="167652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ponibilidad de auto, licencia de conducir, estructura del hogar, ingreso, decisiones anteriore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3124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l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14400" y="36417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pósito,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22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os servicios de transporte dispon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914400" y="51814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empo de viaje, caminata y espera; costo, seguridad, comodidad, confiabilidad, regula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609480" y="1523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 Independencia de alternativas irrelevantes (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057400" y="2057400"/>
                <a:ext cx="28177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q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q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q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Text Box 8"/>
          <p:cNvSpPr/>
          <p:nvPr/>
        </p:nvSpPr>
        <p:spPr>
          <a:xfrm>
            <a:off x="609480" y="3352680"/>
            <a:ext cx="807732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En el caso en que el conjunto de alternativas es muy grande, al tomar una muestra aleatoria de alternativas, se obtendrá parámetros insesgados de la función de ut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: McFadden (1978) Modelling the choice of residential lo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3" name="Text Box 4"/>
          <p:cNvSpPr/>
          <p:nvPr/>
        </p:nvSpPr>
        <p:spPr>
          <a:xfrm>
            <a:off x="609480" y="152388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 Si tenemos una base de datos insesgada de un subconjunto de una zona, se puede demostrar que el modelo es insesgado para la muestra total, salvo la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nstantes específic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mbio de const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62120" y="3657600"/>
                <a:ext cx="3109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al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Text Box 7"/>
          <p:cNvSpPr/>
          <p:nvPr/>
        </p:nvSpPr>
        <p:spPr>
          <a:xfrm>
            <a:off x="533520" y="489276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El modelo MNL siempr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eproduce la partición de mercado observad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 la muestra de calibración, si está correctamente especificado con n-1 constantes específ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419720" y="3583080"/>
            <a:ext cx="4572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roporción mercado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roporción mercad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Text Box 4"/>
          <p:cNvSpPr/>
          <p:nvPr/>
        </p:nvSpPr>
        <p:spPr>
          <a:xfrm>
            <a:off x="609480" y="15238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Uso de formas funcionales 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no line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ta ah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062160" y="2057400"/>
                <a:ext cx="26226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3" name="Text Box 8"/>
          <p:cNvSpPr/>
          <p:nvPr/>
        </p:nvSpPr>
        <p:spPr>
          <a:xfrm>
            <a:off x="609480" y="4038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ox-Co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85800" y="3124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qué no?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819520" y="3089160"/>
                <a:ext cx="31082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q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828800" y="4572000"/>
                <a:ext cx="63468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λ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λ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λ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0" y="48322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9" name="Text Box 4"/>
          <p:cNvSpPr/>
          <p:nvPr/>
        </p:nvSpPr>
        <p:spPr>
          <a:xfrm>
            <a:off x="609480" y="1523880"/>
            <a:ext cx="80773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roblemas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i 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regación sobre lo no observado al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modelo único para una muestra de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regación de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regación de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os desagrega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 requiere agregar para prede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45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0" y="429912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3" name="Text Box 4"/>
          <p:cNvSpPr/>
          <p:nvPr/>
        </p:nvSpPr>
        <p:spPr>
          <a:xfrm>
            <a:off x="533520" y="10666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roblemas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8718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5800" y="144792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Line 11"/>
          <p:cNvSpPr/>
          <p:nvPr/>
        </p:nvSpPr>
        <p:spPr>
          <a:xfrm flipH="1" flipV="1">
            <a:off x="3886200" y="1676520"/>
            <a:ext cx="144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12"/>
          <p:cNvSpPr/>
          <p:nvPr/>
        </p:nvSpPr>
        <p:spPr>
          <a:xfrm>
            <a:off x="3886200" y="5257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3"/>
          <p:cNvSpPr/>
          <p:nvPr/>
        </p:nvSpPr>
        <p:spPr>
          <a:xfrm>
            <a:off x="3505320" y="1981080"/>
            <a:ext cx="4343400" cy="322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3526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8229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6"/>
          <p:cNvSpPr/>
          <p:nvPr/>
        </p:nvSpPr>
        <p:spPr>
          <a:xfrm>
            <a:off x="4495680" y="518148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4343400" y="5181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8"/>
          <p:cNvSpPr/>
          <p:nvPr/>
        </p:nvSpPr>
        <p:spPr>
          <a:xfrm>
            <a:off x="5791320" y="3733920"/>
            <a:ext cx="0" cy="1523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9"/>
          <p:cNvSpPr/>
          <p:nvPr/>
        </p:nvSpPr>
        <p:spPr>
          <a:xfrm>
            <a:off x="5562720" y="5181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0"/>
          <p:cNvSpPr/>
          <p:nvPr/>
        </p:nvSpPr>
        <p:spPr>
          <a:xfrm flipH="1">
            <a:off x="3885840" y="518148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2895480" y="48769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2"/>
          <p:cNvSpPr/>
          <p:nvPr/>
        </p:nvSpPr>
        <p:spPr>
          <a:xfrm flipH="1">
            <a:off x="3886200" y="373392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2971800" y="35053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4"/>
          <p:cNvSpPr/>
          <p:nvPr/>
        </p:nvSpPr>
        <p:spPr>
          <a:xfrm flipV="1">
            <a:off x="5181480" y="525780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5"/>
          <p:cNvSpPr/>
          <p:nvPr/>
        </p:nvSpPr>
        <p:spPr>
          <a:xfrm>
            <a:off x="4572000" y="571500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"/>
          <p:cNvSpPr/>
          <p:nvPr/>
        </p:nvSpPr>
        <p:spPr>
          <a:xfrm flipV="1">
            <a:off x="5181480" y="4876920"/>
            <a:ext cx="0" cy="380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7"/>
          <p:cNvSpPr/>
          <p:nvPr/>
        </p:nvSpPr>
        <p:spPr>
          <a:xfrm flipH="1">
            <a:off x="3886200" y="487692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8"/>
          <p:cNvSpPr/>
          <p:nvPr/>
        </p:nvSpPr>
        <p:spPr>
          <a:xfrm>
            <a:off x="2209680" y="487692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152280" y="472428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0"/>
          <p:cNvSpPr/>
          <p:nvPr/>
        </p:nvSpPr>
        <p:spPr>
          <a:xfrm flipH="1">
            <a:off x="2209320" y="441972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1"/>
          <p:cNvSpPr/>
          <p:nvPr/>
        </p:nvSpPr>
        <p:spPr>
          <a:xfrm>
            <a:off x="762120" y="411480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2"/>
          <p:cNvSpPr/>
          <p:nvPr/>
        </p:nvSpPr>
        <p:spPr>
          <a:xfrm>
            <a:off x="2590920" y="3200400"/>
            <a:ext cx="0" cy="12193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 flipV="1">
            <a:off x="2590920" y="487692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4"/>
          <p:cNvSpPr/>
          <p:nvPr/>
        </p:nvSpPr>
        <p:spPr>
          <a:xfrm>
            <a:off x="152280" y="3048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838080" y="3129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um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4127400" y="2895480"/>
                <a:ext cx="2719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Q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2" name="Text Box 4"/>
          <p:cNvSpPr/>
          <p:nvPr/>
        </p:nvSpPr>
        <p:spPr>
          <a:xfrm>
            <a:off x="914400" y="3890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abilidad agregada de la alternativa j. Supone conocer X para toda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14400" y="5033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36960" y="4983120"/>
                <a:ext cx="2641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Text Box 9"/>
          <p:cNvSpPr/>
          <p:nvPr/>
        </p:nvSpPr>
        <p:spPr>
          <a:xfrm>
            <a:off x="609480" y="2743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étodos teóric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533520" y="8380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Problemas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263600" y="1600200"/>
                <a:ext cx="1892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Text Box 14"/>
          <p:cNvSpPr/>
          <p:nvPr/>
        </p:nvSpPr>
        <p:spPr>
          <a:xfrm>
            <a:off x="3809880" y="1523880"/>
            <a:ext cx="53341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atributos, variables explicativ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logit, por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914400" y="5791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one la distribución de X en la población. Requiere integrar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83808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495680" y="1828800"/>
                <a:ext cx="19814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 Box 4"/>
          <p:cNvSpPr/>
          <p:nvPr/>
        </p:nvSpPr>
        <p:spPr>
          <a:xfrm>
            <a:off x="914400" y="2819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572000" y="2590920"/>
                <a:ext cx="21337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5" name="Text Box 6"/>
          <p:cNvSpPr/>
          <p:nvPr/>
        </p:nvSpPr>
        <p:spPr>
          <a:xfrm>
            <a:off x="914400" y="3733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038480" y="365760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7" name="Text Box 10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533520" y="1219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étodos prácticos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foque analí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3962520" y="4724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proximar la integ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83808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905120" y="1844640"/>
                <a:ext cx="2187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Text Box 4"/>
          <p:cNvSpPr/>
          <p:nvPr/>
        </p:nvSpPr>
        <p:spPr>
          <a:xfrm>
            <a:off x="914400" y="237816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-verosimilitud de un modelo en que todos los parámetros son iguales a ce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294160" y="2987640"/>
                <a:ext cx="12970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Text Box 6"/>
          <p:cNvSpPr/>
          <p:nvPr/>
        </p:nvSpPr>
        <p:spPr>
          <a:xfrm>
            <a:off x="914400" y="4054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-verosimilitud del modelo sólo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0" y="4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533520" y="1235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¿Cómo saber si un modelo es bue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914400" y="50450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: valor que se obtiene al reemplaza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óptimo en l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4191120" y="18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ímite superior inalcan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8380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t t asintótico para significancia de un parámetro (válido sólo para muestras gran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600200" y="2590920"/>
                <a:ext cx="18032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Text Box 4"/>
          <p:cNvSpPr/>
          <p:nvPr/>
        </p:nvSpPr>
        <p:spPr>
          <a:xfrm>
            <a:off x="914400" y="359712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valo de confianza asintótico para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981080" y="3962520"/>
                <a:ext cx="46688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7"/>
          <p:cNvSpPr/>
          <p:nvPr/>
        </p:nvSpPr>
        <p:spPr>
          <a:xfrm>
            <a:off x="0" y="4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iedades MN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533520" y="1235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est de hipó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914400" y="603576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/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uantil de la distribución N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3657600" y="2759040"/>
            <a:ext cx="4572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H0: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t&gt;1,96 para 95% confianza </a:t>
            </a:r>
            <a:r>
              <a:rPr b="0" lang="es-ES_tradnl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se rechaza H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143000" y="5105520"/>
                <a:ext cx="7176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2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380880" y="609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ueba restricciones lineales de un modelo gene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990720"/>
                <a:ext cx="40212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Text Box 4"/>
          <p:cNvSpPr/>
          <p:nvPr/>
        </p:nvSpPr>
        <p:spPr>
          <a:xfrm>
            <a:off x="457200" y="1828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H0: las restricciones son “verdaderas” el modelo restringido es correcto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886200" y="2362320"/>
                <a:ext cx="2104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&gt;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7"/>
          <p:cNvSpPr/>
          <p:nvPr/>
        </p:nvSpPr>
        <p:spPr>
          <a:xfrm>
            <a:off x="76320" y="15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est de razón de verosimil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57200" y="3124080"/>
            <a:ext cx="8381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 cosas que se pueden probar con el test 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la variable X3 no contribuye a explicar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atributo 1 es percibido de igual forma en todas las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2590920" y="10666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 r grados de libertad. r: número de restricciones lin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6248520" y="2403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chaza H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2" dur="indefinite" restart="never" nodeType="tmRoot">
          <p:childTnLst>
            <p:seq>
              <p:cTn id="1983" dur="indefinite" nodeType="mainSeq">
                <p:childTnLst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2280" y="54756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r PM antes de la distribu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14400" y="121932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ólo depende de la estructura del hogar y características socioeconómicas, no depende del par O/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y difícil evaluar cambios en  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8"/>
          <p:cNvSpPr/>
          <p:nvPr/>
        </p:nvSpPr>
        <p:spPr>
          <a:xfrm>
            <a:off x="6527880" y="270504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52280" y="374796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r distribución y PM conjunta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457200" y="714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ar si el modelo es equivalente al equiprob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009880" y="1371600"/>
                <a:ext cx="4878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≈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pa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9" name="Text Box 4"/>
          <p:cNvSpPr/>
          <p:nvPr/>
        </p:nvSpPr>
        <p:spPr>
          <a:xfrm>
            <a:off x="762120" y="1400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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008080" y="2009880"/>
                <a:ext cx="2508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Text Box 6"/>
          <p:cNvSpPr/>
          <p:nvPr/>
        </p:nvSpPr>
        <p:spPr>
          <a:xfrm>
            <a:off x="152280" y="257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est de ajuste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533520" y="2467080"/>
            <a:ext cx="8381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R(C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ermite probar si el modelo supera a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sólo constant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individuos tienen disponibles todas las alternativas,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4495680" y="2073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chaza H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267080" y="3886200"/>
                <a:ext cx="2311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81080" y="5678640"/>
                <a:ext cx="44640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6" name="Text Box 12"/>
          <p:cNvSpPr/>
          <p:nvPr/>
        </p:nvSpPr>
        <p:spPr>
          <a:xfrm>
            <a:off x="228600" y="5068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ndicadores de bondad de aju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6"/>
          <p:cNvSpPr/>
          <p:nvPr/>
        </p:nvSpPr>
        <p:spPr>
          <a:xfrm>
            <a:off x="0" y="53352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NL</a:t>
            </a:r>
            <a:r>
              <a:rPr b="0" lang="es-ES_tradnl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rrores iid Gumbel. No admite correlación ni heteroscedasti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as: IAI, paradoja de los buses de col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os que podrían causar correlación y heteroscedasticid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514600" y="36576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onente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milar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"/>
          <p:cNvSpPr/>
          <p:nvPr/>
        </p:nvSpPr>
        <p:spPr>
          <a:xfrm rot="18000000">
            <a:off x="762840" y="3656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rrel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8000000">
            <a:off x="553680" y="5347080"/>
            <a:ext cx="191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Heterosce-dastic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1"/>
          <p:cNvSpPr/>
          <p:nvPr/>
        </p:nvSpPr>
        <p:spPr>
          <a:xfrm>
            <a:off x="2590920" y="2743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tre alternativ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5791320" y="2743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tre observacion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6095880" y="3657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ciones de un mismo individu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2514600" y="5334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erente nivel de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6095880" y="54100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intos tipo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0" y="533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que permiten levantar esos 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git jerárquico, LHVE, Mixed Logit, Probi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J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illiams, 1977; McFadden, 197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57200" y="5181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al interior de cada nido l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son iid Gumbel, con parámetro de e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4114800" y="23623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alternativas que tienen una componente común del término de error, se agrupan en 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6477120" y="3962520"/>
            <a:ext cx="243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Supuesto: la componente común es separable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5943600" y="5638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arianza del término de error al interior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"/>
          <p:cNvSpPr/>
          <p:nvPr/>
        </p:nvSpPr>
        <p:spPr>
          <a:xfrm flipH="1">
            <a:off x="1447920" y="22352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2"/>
          <p:cNvSpPr/>
          <p:nvPr/>
        </p:nvSpPr>
        <p:spPr>
          <a:xfrm>
            <a:off x="2362320" y="223524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838080" y="345456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8"/>
          <p:cNvSpPr/>
          <p:nvPr/>
        </p:nvSpPr>
        <p:spPr>
          <a:xfrm>
            <a:off x="1447920" y="345456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19"/>
          <p:cNvSpPr/>
          <p:nvPr/>
        </p:nvSpPr>
        <p:spPr>
          <a:xfrm>
            <a:off x="990720" y="299736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20"/>
          <p:cNvSpPr/>
          <p:nvPr/>
        </p:nvSpPr>
        <p:spPr>
          <a:xfrm>
            <a:off x="609480" y="436896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495680" y="3886200"/>
                <a:ext cx="1832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362480" y="4419720"/>
                <a:ext cx="2098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505320" y="5410080"/>
                <a:ext cx="2562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0" dur="indefinite" restart="never" nodeType="tmRoot">
          <p:childTnLst>
            <p:seq>
              <p:cTn id="2211" dur="indefinite" nodeType="mainSeq">
                <p:childTnLst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434340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609480" y="411480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rrores a nivel superior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Gumbel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iene una distribución tal que sumada a una Gumbel da otra Gumb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emás se debe cumpli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692360" y="2590920"/>
                <a:ext cx="19494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β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3" name="Text Box 8"/>
          <p:cNvSpPr/>
          <p:nvPr/>
        </p:nvSpPr>
        <p:spPr>
          <a:xfrm>
            <a:off x="388620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433520" y="608040"/>
                <a:ext cx="21636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5" name="Line 13"/>
          <p:cNvSpPr/>
          <p:nvPr/>
        </p:nvSpPr>
        <p:spPr>
          <a:xfrm>
            <a:off x="457200" y="121932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380880" y="20574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n el nivel superior también rige un M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5"/>
          <p:cNvSpPr/>
          <p:nvPr/>
        </p:nvSpPr>
        <p:spPr>
          <a:xfrm>
            <a:off x="609480" y="320040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165560" y="3073320"/>
                <a:ext cx="24591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Text Box 18"/>
          <p:cNvSpPr/>
          <p:nvPr/>
        </p:nvSpPr>
        <p:spPr>
          <a:xfrm>
            <a:off x="6629400" y="326088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arianza de la Gumbel que rige el 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105520" y="5562720"/>
                <a:ext cx="17348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8" dur="indefinite" restart="never" nodeType="tmRoot">
          <p:childTnLst>
            <p:seq>
              <p:cTn id="2309" dur="indefinite" nodeType="mainSeq">
                <p:childTnLst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609480" y="498492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Comic Sans MS"/>
              </a:rPr>
              <a:t>ci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Comic Sans MS"/>
              </a:rPr>
              <a:t>ci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Comic Sans MS"/>
              </a:rPr>
              <a:t>ci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541760" y="3200400"/>
                <a:ext cx="254484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429000" y="762120"/>
                <a:ext cx="25732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Line 7"/>
          <p:cNvSpPr/>
          <p:nvPr/>
        </p:nvSpPr>
        <p:spPr>
          <a:xfrm>
            <a:off x="2438280" y="121932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9"/>
          <p:cNvSpPr/>
          <p:nvPr/>
        </p:nvSpPr>
        <p:spPr>
          <a:xfrm>
            <a:off x="3581280" y="380988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520" y="380880"/>
                <a:ext cx="1734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317760" y="762120"/>
                <a:ext cx="3387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33520" y="1905120"/>
                <a:ext cx="24778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3441600" y="1874880"/>
                <a:ext cx="31370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6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09440" y="3303720"/>
                <a:ext cx="319896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6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1" name="Rectangle 18"/>
          <p:cNvSpPr/>
          <p:nvPr/>
        </p:nvSpPr>
        <p:spPr>
          <a:xfrm>
            <a:off x="4419720" y="3124080"/>
            <a:ext cx="2895480" cy="160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1523880" y="4495680"/>
            <a:ext cx="678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ámetro estructural del nido i: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514600" y="2514600"/>
                <a:ext cx="36021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44" name="Text Box 5"/>
          <p:cNvSpPr/>
          <p:nvPr/>
        </p:nvSpPr>
        <p:spPr>
          <a:xfrm>
            <a:off x="1295280" y="1447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ilidad representativa del ni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85800" y="1371600"/>
                <a:ext cx="533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Text Box 8"/>
          <p:cNvSpPr/>
          <p:nvPr/>
        </p:nvSpPr>
        <p:spPr>
          <a:xfrm>
            <a:off x="2133720" y="2057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ilidad máxima esperada 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9"/>
          <p:cNvSpPr/>
          <p:nvPr/>
        </p:nvSpPr>
        <p:spPr>
          <a:xfrm>
            <a:off x="914400" y="228600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438280" y="3657600"/>
                <a:ext cx="20574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Text Box 11"/>
          <p:cNvSpPr/>
          <p:nvPr/>
        </p:nvSpPr>
        <p:spPr>
          <a:xfrm>
            <a:off x="4724280" y="3733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ogit Jerárqu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912960" y="4316400"/>
                <a:ext cx="5191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Text Box 13"/>
          <p:cNvSpPr/>
          <p:nvPr/>
        </p:nvSpPr>
        <p:spPr>
          <a:xfrm>
            <a:off x="380880" y="685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lección entre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914400" y="51814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r identificabilidad se normaliz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6762600" y="4992840"/>
                <a:ext cx="9334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0" dur="indefinite" restart="never" nodeType="tmRoot">
          <p:childTnLst>
            <p:seq>
              <p:cTn id="2481" dur="indefinite" nodeType="mainSeq">
                <p:childTnLst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700280" y="1609560"/>
                <a:ext cx="2181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533520" y="990720"/>
                <a:ext cx="18190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6858000" y="2971800"/>
                <a:ext cx="11700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7" name="Text Box 9"/>
          <p:cNvSpPr/>
          <p:nvPr/>
        </p:nvSpPr>
        <p:spPr>
          <a:xfrm>
            <a:off x="3200400" y="3048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ternativa elemental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85800" y="3124080"/>
                <a:ext cx="2438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Text Box 11"/>
          <p:cNvSpPr/>
          <p:nvPr/>
        </p:nvSpPr>
        <p:spPr>
          <a:xfrm>
            <a:off x="3049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 usar el modelo en la pr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914400" y="4648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de covaria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572000" y="4876920"/>
                <a:ext cx="312408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ρ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299120" y="1938240"/>
                <a:ext cx="3369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3" name="Line 16"/>
          <p:cNvSpPr/>
          <p:nvPr/>
        </p:nvSpPr>
        <p:spPr>
          <a:xfrm flipH="1">
            <a:off x="3047760" y="57913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3276720" y="5791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8"/>
          <p:cNvSpPr/>
          <p:nvPr/>
        </p:nvSpPr>
        <p:spPr>
          <a:xfrm flipH="1">
            <a:off x="1905120" y="5257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9"/>
          <p:cNvSpPr/>
          <p:nvPr/>
        </p:nvSpPr>
        <p:spPr>
          <a:xfrm flipH="1">
            <a:off x="2514240" y="525780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281952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500"/>
                            </p:stCondLst>
                            <p:childTnLst>
                              <p:par>
                                <p:cTn id="2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7"/>
          <p:cNvSpPr/>
          <p:nvPr/>
        </p:nvSpPr>
        <p:spPr>
          <a:xfrm>
            <a:off x="304920" y="457200"/>
            <a:ext cx="8381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iedades 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 correlación cruzada ni heteroscedast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ntiene propiedad de reproducir las particiones de mercado observadas sólo a nivel de n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lapsa a MNL 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inconsistente 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&gt;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o 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&l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extender a más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380880" y="4267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ón entr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495680" y="4005360"/>
                <a:ext cx="25146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1" name="Line 15"/>
          <p:cNvSpPr/>
          <p:nvPr/>
        </p:nvSpPr>
        <p:spPr>
          <a:xfrm>
            <a:off x="3581280" y="4494240"/>
            <a:ext cx="6098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914400" y="5029200"/>
                <a:ext cx="1163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209680" y="4989600"/>
                <a:ext cx="1322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657600" y="5029200"/>
                <a:ext cx="687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914400" y="5486400"/>
                <a:ext cx="1374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362320" y="5410080"/>
                <a:ext cx="153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962520" y="5486400"/>
                <a:ext cx="1295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969840" y="5977080"/>
                <a:ext cx="1111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286000" y="5900760"/>
                <a:ext cx="1295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3809880" y="5943600"/>
                <a:ext cx="739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Text Box 28"/>
          <p:cNvSpPr/>
          <p:nvPr/>
        </p:nvSpPr>
        <p:spPr>
          <a:xfrm>
            <a:off x="4495680" y="59436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El modelo se indetermina, caso de la paradoja de los buses de co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500"/>
                            </p:stCondLst>
                            <p:childTnLst>
                              <p:par>
                                <p:cTn id="2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304920" y="457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Usar test t para chequ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4232160" y="493560"/>
                <a:ext cx="1559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043520" y="1803240"/>
                <a:ext cx="182376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Text Box 15"/>
          <p:cNvSpPr/>
          <p:nvPr/>
        </p:nvSpPr>
        <p:spPr>
          <a:xfrm>
            <a:off x="4114800" y="320040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No hay restricción para parámetros parale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6"/>
          <p:cNvSpPr/>
          <p:nvPr/>
        </p:nvSpPr>
        <p:spPr>
          <a:xfrm flipH="1">
            <a:off x="25142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7"/>
          <p:cNvSpPr/>
          <p:nvPr/>
        </p:nvSpPr>
        <p:spPr>
          <a:xfrm>
            <a:off x="2743200" y="1752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8"/>
          <p:cNvSpPr/>
          <p:nvPr/>
        </p:nvSpPr>
        <p:spPr>
          <a:xfrm flipH="1">
            <a:off x="159984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9"/>
          <p:cNvSpPr/>
          <p:nvPr/>
        </p:nvSpPr>
        <p:spPr>
          <a:xfrm flipH="1">
            <a:off x="1980720" y="12193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20"/>
          <p:cNvSpPr/>
          <p:nvPr/>
        </p:nvSpPr>
        <p:spPr>
          <a:xfrm>
            <a:off x="2286000" y="12193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21"/>
          <p:cNvSpPr/>
          <p:nvPr/>
        </p:nvSpPr>
        <p:spPr>
          <a:xfrm flipH="1">
            <a:off x="990360" y="17524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22"/>
          <p:cNvSpPr/>
          <p:nvPr/>
        </p:nvSpPr>
        <p:spPr>
          <a:xfrm flipH="1">
            <a:off x="13712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3"/>
          <p:cNvSpPr/>
          <p:nvPr/>
        </p:nvSpPr>
        <p:spPr>
          <a:xfrm flipH="1">
            <a:off x="1676520" y="18288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24"/>
          <p:cNvSpPr/>
          <p:nvPr/>
        </p:nvSpPr>
        <p:spPr>
          <a:xfrm>
            <a:off x="1981080" y="18288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25"/>
          <p:cNvSpPr/>
          <p:nvPr/>
        </p:nvSpPr>
        <p:spPr>
          <a:xfrm flipH="1">
            <a:off x="190476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6"/>
          <p:cNvSpPr/>
          <p:nvPr/>
        </p:nvSpPr>
        <p:spPr>
          <a:xfrm>
            <a:off x="213372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27"/>
          <p:cNvSpPr/>
          <p:nvPr/>
        </p:nvSpPr>
        <p:spPr>
          <a:xfrm flipH="1">
            <a:off x="2895120" y="2438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8"/>
          <p:cNvSpPr/>
          <p:nvPr/>
        </p:nvSpPr>
        <p:spPr>
          <a:xfrm>
            <a:off x="3200400" y="2438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9"/>
          <p:cNvSpPr/>
          <p:nvPr/>
        </p:nvSpPr>
        <p:spPr>
          <a:xfrm>
            <a:off x="1219320" y="14320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0"/>
          <p:cNvSpPr/>
          <p:nvPr/>
        </p:nvSpPr>
        <p:spPr>
          <a:xfrm>
            <a:off x="1981080" y="160020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1"/>
          <p:cNvSpPr/>
          <p:nvPr/>
        </p:nvSpPr>
        <p:spPr>
          <a:xfrm>
            <a:off x="2743200" y="1447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2"/>
          <p:cNvSpPr/>
          <p:nvPr/>
        </p:nvSpPr>
        <p:spPr>
          <a:xfrm>
            <a:off x="2057400" y="205740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3"/>
          <p:cNvSpPr/>
          <p:nvPr/>
        </p:nvSpPr>
        <p:spPr>
          <a:xfrm>
            <a:off x="3124080" y="205740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487760" y="2282760"/>
                <a:ext cx="925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08640" y="2730600"/>
                <a:ext cx="8985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6" name="Text Box 36"/>
          <p:cNvSpPr/>
          <p:nvPr/>
        </p:nvSpPr>
        <p:spPr>
          <a:xfrm>
            <a:off x="380880" y="4191120"/>
            <a:ext cx="8458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uest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strar que colapsa al MNL 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alizar qué pasa en el caso en que todas las alternativas están cor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cular elasti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2" dur="indefinite" restart="never" nodeType="tmRoot">
          <p:childTnLst>
            <p:seq>
              <p:cTn id="2753" dur="indefinite" nodeType="mainSeq">
                <p:childTnLst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2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8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éntesis en recolección de datos para modelación de elecciones dis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cc33"/>
                </a:solidFill>
                <a:latin typeface="Comic Sans MS"/>
              </a:rPr>
              <a:t>Preferencias reveladas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: observar lo que la gente hace. Información muy vali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Comic Sans MS"/>
              </a:rPr>
              <a:t>Problemas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Medición de variables de nivel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Correlación entr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Varianza esc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No se puede en el caso de una alternativa inex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Alt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0" dur="indefinite" restart="never" nodeType="tmRoot">
          <p:childTnLst>
            <p:seq>
              <p:cTn id="2911" dur="indefinite" nodeType="mainSeq">
                <p:childTnLst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fill="hold">
                      <p:stCondLst>
                        <p:cond delay="indefinite"/>
                      </p:stCondLst>
                      <p:childTnLst>
                        <p:par>
                          <p:cTn id="2937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0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6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7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2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52280" y="533520"/>
            <a:ext cx="8991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r distribución y PM conjunta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x entrop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82680" y="1600200"/>
          <a:ext cx="344160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600200"/>
                    <a:ext cx="34416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753080" y="1676520"/>
                <a:ext cx="37051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Text Box 8"/>
          <p:cNvSpPr/>
          <p:nvPr/>
        </p:nvSpPr>
        <p:spPr>
          <a:xfrm>
            <a:off x="11430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90800" y="2438280"/>
                <a:ext cx="2604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955880" y="3276720"/>
                <a:ext cx="26780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52480" y="4114800"/>
                <a:ext cx="3117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Line 12"/>
          <p:cNvSpPr/>
          <p:nvPr/>
        </p:nvSpPr>
        <p:spPr>
          <a:xfrm>
            <a:off x="1752480" y="541008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766960" y="4948200"/>
                <a:ext cx="45482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Preferencias declaradas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: preguntar al individuo por sus preferencias en una situación control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cc33"/>
                </a:solidFill>
                <a:uFillTx/>
                <a:latin typeface="Comic Sans MS"/>
              </a:rPr>
              <a:t>Permite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Construir escenarios de correlación nula (ortog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Aislar efecto de variables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Incorporar factores e incluso alternativas in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Se puede hacer varias preguntas a un mismo individuo </a:t>
            </a: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baj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Problemas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La gente no siempre hace lo que dice que hará </a:t>
            </a: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s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de no 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de autoafi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aquí el error se concentra en la variable de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Ver encuestas metro. Discutir tipos de encu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4" dur="indefinite" restart="never" nodeType="tmRoot">
          <p:childTnLst>
            <p:seq>
              <p:cTn id="2955" dur="indefinite" nodeType="mainSeq">
                <p:childTnLst>
                  <p:par>
                    <p:cTn id="2956" fill="hold">
                      <p:stCondLst>
                        <p:cond delay="indefinite"/>
                      </p:stCondLst>
                      <p:childTnLst>
                        <p:par>
                          <p:cTn id="2957" fill="hold">
                            <p:stCondLst>
                              <p:cond delay="0"/>
                            </p:stCondLst>
                            <p:childTnLst>
                              <p:par>
                                <p:cTn id="2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0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4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0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fill="hold">
                      <p:stCondLst>
                        <p:cond delay="indefinite"/>
                      </p:stCondLst>
                      <p:childTnLst>
                        <p:par>
                          <p:cTn id="2993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6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6" dur="500" fill="hold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2" dur="500" fill="hold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5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Uso de datos para estimació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Sólo 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Sólo PD (Ej: tren rápido Santiago-Valparaí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Datos mixtos</a:t>
            </a: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aprovechar las ventajas de PD, reduciendo los ses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U</a:t>
            </a:r>
            <a:r>
              <a:rPr b="0" i="1" lang="es-ES_tradnl" sz="2400" spc="-1" strike="noStrike" baseline="30000">
                <a:solidFill>
                  <a:srgbClr val="33cc33"/>
                </a:solidFill>
                <a:latin typeface="Comic Sans MS"/>
              </a:rPr>
              <a:t>PR 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= </a:t>
            </a:r>
            <a:r>
              <a:rPr b="0" i="1" lang="es-ES_tradnl" sz="2400" spc="-1" strike="noStrike">
                <a:solidFill>
                  <a:srgbClr val="33cc33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X</a:t>
            </a:r>
            <a:r>
              <a:rPr b="0" i="1" lang="es-ES_tradnl" sz="2400" spc="-1" strike="noStrike" baseline="30000">
                <a:solidFill>
                  <a:srgbClr val="33cc33"/>
                </a:solidFill>
                <a:latin typeface="Comic Sans MS"/>
              </a:rPr>
              <a:t>PR 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+ </a:t>
            </a:r>
            <a:r>
              <a:rPr b="0" i="1" lang="es-ES_tradnl" sz="24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W + </a:t>
            </a:r>
            <a:r>
              <a:rPr b="0" i="1" lang="es-ES_tradnl" sz="2400" spc="-1" strike="noStrike">
                <a:solidFill>
                  <a:srgbClr val="33cc33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i="1" lang="es-ES_tradnl" sz="2400" spc="-1" strike="noStrike" baseline="30000">
                <a:solidFill>
                  <a:srgbClr val="3333cc"/>
                </a:solidFill>
                <a:latin typeface="Comic Sans MS"/>
              </a:rPr>
              <a:t>PD 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i="1" lang="es-ES_tradnl" sz="2400" spc="-1" strike="noStrike" baseline="30000">
                <a:solidFill>
                  <a:srgbClr val="3333cc"/>
                </a:solidFill>
                <a:latin typeface="Comic Sans MS"/>
              </a:rPr>
              <a:t>PD 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Z + </a:t>
            </a: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No es sensato asumir que </a:t>
            </a:r>
            <a:r>
              <a:rPr b="0" i="1" lang="es-ES_tradnl" sz="2400" spc="-1" strike="noStrike">
                <a:solidFill>
                  <a:srgbClr val="33cc33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y </a:t>
            </a: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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tengan la misma varianza </a:t>
            </a: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209680" y="4343400"/>
                <a:ext cx="15861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υ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Line 4"/>
          <p:cNvSpPr/>
          <p:nvPr/>
        </p:nvSpPr>
        <p:spPr>
          <a:xfrm>
            <a:off x="4191120" y="474012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670280" y="4479840"/>
                <a:ext cx="24847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Line 6"/>
          <p:cNvSpPr/>
          <p:nvPr/>
        </p:nvSpPr>
        <p:spPr>
          <a:xfrm>
            <a:off x="4191120" y="541800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948200" y="4921200"/>
                <a:ext cx="19288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υ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6" name="Line 8"/>
          <p:cNvSpPr/>
          <p:nvPr/>
        </p:nvSpPr>
        <p:spPr>
          <a:xfrm flipV="1">
            <a:off x="5029200" y="5028840"/>
            <a:ext cx="4572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9"/>
          <p:cNvSpPr/>
          <p:nvPr/>
        </p:nvSpPr>
        <p:spPr>
          <a:xfrm flipV="1">
            <a:off x="6324480" y="5054400"/>
            <a:ext cx="4572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0"/>
          <p:cNvSpPr/>
          <p:nvPr/>
        </p:nvSpPr>
        <p:spPr>
          <a:xfrm flipV="1">
            <a:off x="5029200" y="5486040"/>
            <a:ext cx="15228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1"/>
          <p:cNvSpPr/>
          <p:nvPr/>
        </p:nvSpPr>
        <p:spPr>
          <a:xfrm flipV="1">
            <a:off x="6324480" y="5486040"/>
            <a:ext cx="15264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4191120" y="625644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800600" y="5759280"/>
                <a:ext cx="10825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υ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Line 14"/>
          <p:cNvSpPr/>
          <p:nvPr/>
        </p:nvSpPr>
        <p:spPr>
          <a:xfrm>
            <a:off x="6080040" y="625644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754680" y="5759280"/>
                <a:ext cx="9511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4" name="Text Box 16"/>
          <p:cNvSpPr/>
          <p:nvPr/>
        </p:nvSpPr>
        <p:spPr>
          <a:xfrm>
            <a:off x="7772400" y="5867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7772400" y="6232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33cc33"/>
                </a:solidFill>
                <a:latin typeface="Comic Sans M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4" dur="indefinite" restart="never" nodeType="tmRoot">
          <p:childTnLst>
            <p:seq>
              <p:cTn id="3035" dur="indefinite" nodeType="mainSeq">
                <p:childTnLst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0" fill="hold">
                      <p:stCondLst>
                        <p:cond delay="indefinite"/>
                      </p:stCondLst>
                      <p:childTnLst>
                        <p:par>
                          <p:cTn id="3061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fill="hold">
                      <p:stCondLst>
                        <p:cond delay="indefinite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fill="hold">
                      <p:stCondLst>
                        <p:cond delay="indefinite"/>
                      </p:stCondLst>
                      <p:childTnLst>
                        <p:par>
                          <p:cTn id="3121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fill="hold">
                      <p:stCondLst>
                        <p:cond delay="indefinite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8" fill="hold">
                      <p:stCondLst>
                        <p:cond delay="indefinite"/>
                      </p:stCondLst>
                      <p:childTnLst>
                        <p:par>
                          <p:cTn id="3139" fill="hold">
                            <p:stCondLst>
                              <p:cond delay="0"/>
                            </p:stCondLst>
                            <p:childTnLst>
                              <p:par>
                                <p:cTn id="3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4" fill="hold">
                      <p:stCondLst>
                        <p:cond delay="indefinite"/>
                      </p:stCondLst>
                      <p:childTnLst>
                        <p:par>
                          <p:cTn id="3145" fill="hold">
                            <p:stCondLst>
                              <p:cond delay="0"/>
                            </p:stCondLst>
                            <p:childTnLst>
                              <p:par>
                                <p:cTn id="3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fill="hold">
                      <p:stCondLst>
                        <p:cond delay="indefinite"/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8" fill="hold">
                      <p:stCondLst>
                        <p:cond delay="indefinite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Ben-Akiva y Morikawa 1990 Estimation of switching models from </a:t>
            </a:r>
            <a:r>
              <a:rPr b="0" lang="es-ES_tradnl" sz="2400" spc="-1" strike="noStrike">
                <a:solidFill>
                  <a:srgbClr val="33cc33"/>
                </a:solidFill>
                <a:latin typeface="Comic Sans MS"/>
              </a:rPr>
              <a:t>revealed preferences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tated intentions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i="1" lang="es-ES_tradnl" sz="2400" spc="-1" strike="noStrike" baseline="30000">
                <a:solidFill>
                  <a:srgbClr val="3333cc"/>
                </a:solidFill>
                <a:latin typeface="Comic Sans MS"/>
              </a:rPr>
              <a:t>PD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=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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i="1" lang="es-ES_tradnl" sz="2400" spc="-1" strike="noStrike" baseline="30000">
                <a:solidFill>
                  <a:srgbClr val="3333cc"/>
                </a:solidFill>
                <a:latin typeface="Comic Sans MS"/>
              </a:rPr>
              <a:t>PD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+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 +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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tiene la misma varianza que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657600" y="4876920"/>
                <a:ext cx="2378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8" name="Line 8"/>
          <p:cNvSpPr/>
          <p:nvPr/>
        </p:nvSpPr>
        <p:spPr>
          <a:xfrm flipV="1">
            <a:off x="685800" y="4952880"/>
            <a:ext cx="762120" cy="990720"/>
          </a:xfrm>
          <a:prstGeom prst="line">
            <a:avLst/>
          </a:prstGeom>
          <a:ln w="936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9"/>
          <p:cNvSpPr/>
          <p:nvPr/>
        </p:nvSpPr>
        <p:spPr>
          <a:xfrm flipV="1">
            <a:off x="1143000" y="4952880"/>
            <a:ext cx="304920" cy="990720"/>
          </a:xfrm>
          <a:prstGeom prst="line">
            <a:avLst/>
          </a:prstGeom>
          <a:ln w="936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0"/>
          <p:cNvSpPr/>
          <p:nvPr/>
        </p:nvSpPr>
        <p:spPr>
          <a:xfrm flipH="1" flipV="1">
            <a:off x="1447560" y="4952880"/>
            <a:ext cx="609480" cy="4572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2"/>
          <p:cNvSpPr/>
          <p:nvPr/>
        </p:nvSpPr>
        <p:spPr>
          <a:xfrm>
            <a:off x="3429000" y="571500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962520" y="5486400"/>
                <a:ext cx="2271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β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γ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Line 14"/>
          <p:cNvSpPr/>
          <p:nvPr/>
        </p:nvSpPr>
        <p:spPr>
          <a:xfrm>
            <a:off x="3429000" y="6248520"/>
            <a:ext cx="4572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114800" y="6019920"/>
                <a:ext cx="3197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θβ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θγ</m:t>
                    </m:r>
                    <m:r>
                      <m:t xml:space="preserve">)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Text Box 16"/>
          <p:cNvSpPr/>
          <p:nvPr/>
        </p:nvSpPr>
        <p:spPr>
          <a:xfrm>
            <a:off x="182880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83808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33cc33"/>
                </a:solidFill>
                <a:latin typeface="Comic Sans MS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457200" y="2590920"/>
            <a:ext cx="8686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stimación conjunta. Bradley y Daly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V</a:t>
            </a:r>
            <a:r>
              <a:rPr b="0" i="1" lang="es-ES_tradnl" sz="24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i="1" lang="es-ES_tradnl" sz="2400" spc="-1" strike="noStrike" baseline="30000">
                <a:solidFill>
                  <a:srgbClr val="33cc33"/>
                </a:solidFill>
                <a:latin typeface="Comic Sans MS"/>
              </a:rPr>
              <a:t>PR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=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X</a:t>
            </a:r>
            <a:r>
              <a:rPr b="0" i="1" lang="es-ES_tradnl" sz="2400" spc="-1" strike="noStrike" baseline="30000">
                <a:solidFill>
                  <a:srgbClr val="33cc33"/>
                </a:solidFill>
                <a:latin typeface="Comic Sans MS"/>
              </a:rPr>
              <a:t>PR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+ </a:t>
            </a:r>
            <a:r>
              <a:rPr b="0" i="1" lang="es-ES_tradnl" sz="2400" spc="-1" strike="noStrike">
                <a:solidFill>
                  <a:srgbClr val="33cc33"/>
                </a:solidFill>
                <a:latin typeface="Symbol"/>
                <a:ea typeface="Symbol"/>
              </a:rPr>
              <a:t></a:t>
            </a:r>
            <a:r>
              <a:rPr b="0" i="1" lang="es-ES_tradnl" sz="2400" spc="-1" strike="noStrike">
                <a:solidFill>
                  <a:srgbClr val="33cc33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i="1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i="1" lang="es-ES_tradnl" sz="2400" spc="-1" strike="noStrike" baseline="30000">
                <a:solidFill>
                  <a:srgbClr val="3333cc"/>
                </a:solidFill>
                <a:latin typeface="Comic Sans MS"/>
              </a:rPr>
              <a:t>PD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=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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i="1" lang="es-ES_tradnl" sz="2400" spc="-1" strike="noStrike" baseline="30000">
                <a:solidFill>
                  <a:srgbClr val="3333cc"/>
                </a:solidFill>
                <a:latin typeface="Comic Sans MS"/>
              </a:rPr>
              <a:t>PD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+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3366"/>
              </a:buClr>
              <a:buFont typeface="Symbol" charset="2"/>
              <a:buChar char="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structura jerárquica 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9"/>
          <p:cNvSpPr/>
          <p:nvPr/>
        </p:nvSpPr>
        <p:spPr>
          <a:xfrm flipH="1" flipV="1">
            <a:off x="1447560" y="4952880"/>
            <a:ext cx="152280" cy="990720"/>
          </a:xfrm>
          <a:prstGeom prst="line">
            <a:avLst/>
          </a:prstGeom>
          <a:ln w="9360">
            <a:solidFill>
              <a:srgbClr val="33cc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20"/>
          <p:cNvSpPr/>
          <p:nvPr/>
        </p:nvSpPr>
        <p:spPr>
          <a:xfrm flipV="1">
            <a:off x="2057400" y="5410080"/>
            <a:ext cx="0" cy="5335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21"/>
          <p:cNvSpPr/>
          <p:nvPr/>
        </p:nvSpPr>
        <p:spPr>
          <a:xfrm flipH="1" flipV="1">
            <a:off x="1447920" y="4952880"/>
            <a:ext cx="914400" cy="4572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22"/>
          <p:cNvSpPr/>
          <p:nvPr/>
        </p:nvSpPr>
        <p:spPr>
          <a:xfrm flipV="1">
            <a:off x="2387520" y="542268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23"/>
          <p:cNvSpPr/>
          <p:nvPr/>
        </p:nvSpPr>
        <p:spPr>
          <a:xfrm flipH="1" flipV="1">
            <a:off x="1447920" y="4952880"/>
            <a:ext cx="1218960" cy="4701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24"/>
          <p:cNvSpPr/>
          <p:nvPr/>
        </p:nvSpPr>
        <p:spPr>
          <a:xfrm flipV="1">
            <a:off x="2666880" y="542268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6019920" y="480060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sando versión con error de Alo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4" dur="indefinite" restart="never" nodeType="tmRoot">
          <p:childTnLst>
            <p:seq>
              <p:cTn id="3175" dur="indefinite" nodeType="mainSeq">
                <p:childTnLst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6" fill="hold">
                      <p:stCondLst>
                        <p:cond delay="indefinite"/>
                      </p:stCondLst>
                      <p:childTnLst>
                        <p:par>
                          <p:cTn id="3207" fill="hold">
                            <p:stCondLst>
                              <p:cond delay="0"/>
                            </p:stCondLst>
                            <p:childTnLst>
                              <p:par>
                                <p:cTn id="3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1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500"/>
                            </p:stCondLst>
                            <p:childTnLst>
                              <p:par>
                                <p:cTn id="3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stimación de modelos con datos mixtos PR y PD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Supuesto: la única diferencia entre los datos de PR y los de PD es la varianza del término de error (discut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Logit jerárquico de nid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Heteroscedasticidad entre grupos de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Otros problemas de los datos de PD: correlación entre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Comic Sans MS"/>
              </a:rPr>
              <a:t>Ver modelos Alvarez-Videla XI Congreso Chileno de Ingeniería de Transp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3" dur="indefinite" restart="never" nodeType="tmRoot">
          <p:childTnLst>
            <p:seq>
              <p:cTn id="3314" dur="indefinite" nodeType="mainSeq">
                <p:childTnLst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1" fill="hold">
                      <p:stCondLst>
                        <p:cond delay="indefinite"/>
                      </p:stCondLst>
                      <p:childTnLst>
                        <p:par>
                          <p:cTn id="3322" fill="hold">
                            <p:stCondLst>
                              <p:cond delay="0"/>
                            </p:stCondLst>
                            <p:childTnLst>
                              <p:par>
                                <p:cTn id="3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8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3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4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Modelos que levantan el supuesto i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Logit heteroscedástico de valor extremo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Bhat (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U</a:t>
            </a:r>
            <a:r>
              <a:rPr b="0" i="1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= V</a:t>
            </a:r>
            <a:r>
              <a:rPr b="0" i="1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i="1" lang="es-ES_tradnl" sz="2400" spc="-1" strike="noStrike" baseline="30000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+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i="1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i="1" lang="es-ES_tradnl" sz="2400" spc="-1" strike="noStrike" baseline="-25000">
                <a:solidFill>
                  <a:srgbClr val="003366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~ Valor extremo tipo I. Independiente pero no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idént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distinta varianza para las distintas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66680" y="3581280"/>
                <a:ext cx="2895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029200" y="4876920"/>
                <a:ext cx="14796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4648320" y="3657600"/>
                <a:ext cx="198108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0" name="Text Box 6"/>
          <p:cNvSpPr/>
          <p:nvPr/>
        </p:nvSpPr>
        <p:spPr>
          <a:xfrm>
            <a:off x="762120" y="4952880"/>
            <a:ext cx="3962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parámetro de escala directamente proporcional a la desviación están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1" dur="indefinite" restart="never" nodeType="tmRoot">
          <p:childTnLst>
            <p:seq>
              <p:cTn id="3352" dur="indefinite" nodeType="mainSeq">
                <p:childTnLst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ogit heteroscedástico de valor extremo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143000" y="1295280"/>
                <a:ext cx="5440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1371600" y="3733920"/>
                <a:ext cx="170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4" name="Text Box 5"/>
          <p:cNvSpPr/>
          <p:nvPr/>
        </p:nvSpPr>
        <p:spPr>
          <a:xfrm>
            <a:off x="2971800" y="4572000"/>
            <a:ext cx="563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 dividir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hace homosced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838080" y="1981080"/>
                <a:ext cx="655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838080" y="2590920"/>
                <a:ext cx="638496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Λ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λ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sSub>
                              <m:e>
                                <m:r>
                                  <m:t xml:space="preserve">d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657600" y="3733920"/>
                <a:ext cx="2071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752480" y="4343400"/>
                <a:ext cx="10670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1071720" y="5257800"/>
                <a:ext cx="5918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ϖ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Λ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λ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3" dur="indefinite" restart="never" nodeType="tmRoot">
          <p:childTnLst>
            <p:seq>
              <p:cTn id="3414" dur="indefinite" nodeType="mainSeq">
                <p:childTnLst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fill="hold">
                      <p:stCondLst>
                        <p:cond delay="indefinite"/>
                      </p:stCondLst>
                      <p:childTnLst>
                        <p:par>
                          <p:cTn id="3458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Logit Heteroscedástico de valor extremo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Integral no puede ser evaluada analíticamente, pero se puede evaluar numéricamente usando cuadratura de Gauss-Laguer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No se cumple propiedad IAI, salvo cuando todos los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i="1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son iguales a uno (MN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Se debe fijar uno de los </a:t>
            </a:r>
            <a:r>
              <a:rPr b="0" i="1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</a:t>
            </a:r>
            <a:r>
              <a:rPr b="0" i="1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por identific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9" dur="indefinite" restart="never" nodeType="tmRoot">
          <p:childTnLst>
            <p:seq>
              <p:cTn id="3470" dur="indefinite" nodeType="mainSeq">
                <p:childTnLst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2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3" fill="hold">
                      <p:stCondLst>
                        <p:cond delay="indefinite"/>
                      </p:stCondLst>
                      <p:childTnLst>
                        <p:par>
                          <p:cTn id="3484" fill="hold">
                            <p:stCondLst>
                              <p:cond delay="0"/>
                            </p:stCondLst>
                            <p:childTnLst>
                              <p:par>
                                <p:cTn id="3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8" dur="5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4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Modelo Probit</a:t>
            </a:r>
            <a:r>
              <a:rPr b="0" lang="es-ES_tradnl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Comic Sans MS"/>
              </a:rPr>
              <a:t>Supuesto: e~Normal multivar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Pr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lt;=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o j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q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990720" y="2895480"/>
                <a:ext cx="67579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dε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3" name="Rectangle 4"/>
          <p:cNvSpPr/>
          <p:nvPr/>
        </p:nvSpPr>
        <p:spPr>
          <a:xfrm>
            <a:off x="380880" y="3733920"/>
            <a:ext cx="8382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Comic Sans MS"/>
              </a:rPr>
              <a:t>Estimación del modelo Pro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Historia</a:t>
            </a:r>
            <a:r>
              <a:rPr b="0" lang="es-ES_tradnl" sz="28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Comic Sans MS"/>
              </a:rPr>
              <a:t>Integración numérica: dividir la región de integración en elementos finitos, calcular el área bajo la curva y sumar. Tratable para un máximo de cuatro alterna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5" dur="indefinite" restart="never" nodeType="tmRoot">
          <p:childTnLst>
            <p:seq>
              <p:cTn id="3496" dur="indefinite" nodeType="mainSeq">
                <p:childTnLst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2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609480" y="152280"/>
            <a:ext cx="8382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imación del modelo Pro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Historia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Aproximación de Clark (Bouthelier y Sheff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U~max(U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,U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) ~ N(v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,v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-v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1</a:t>
            </a:r>
            <a:r>
              <a:rPr b="0" lang="es-ES_tradnl" sz="2400" spc="-1" strike="noStrike" baseline="30000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Grandes sesgos, especialmente en presencia de cor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Máxima verosimilitud simu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Idea original: Lerman y Manski (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valuar P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(V,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) a través de la generación de realizaciones de U, de una MVN(V,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), anotando como éxito cuando U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resulta mayor P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/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2819520" y="4876920"/>
            <a:ext cx="617220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puede ser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quiere muchas repeticiones </a:t>
            </a:r>
            <a:r>
              <a:rPr b="0" lang="es-ES_tradnl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 a 3 veces más caro que Cl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9" dur="indefinite" restart="never" nodeType="tmRoot">
          <p:childTnLst>
            <p:seq>
              <p:cTn id="3540" dur="indefinite" nodeType="mainSeq">
                <p:childTnLst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5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fill="hold">
                      <p:stCondLst>
                        <p:cond delay="indefinite"/>
                      </p:stCondLst>
                      <p:childTnLst>
                        <p:par>
                          <p:cTn id="3548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1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2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7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9" fill="hold">
                      <p:stCondLst>
                        <p:cond delay="indefinite"/>
                      </p:stCondLst>
                      <p:childTnLst>
                        <p:par>
                          <p:cTn id="3560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0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1" fill="hold">
                      <p:stCondLst>
                        <p:cond delay="indefinite"/>
                      </p:stCondLst>
                      <p:childTnLst>
                        <p:par>
                          <p:cTn id="3572" fill="hold">
                            <p:stCondLst>
                              <p:cond delay="0"/>
                            </p:stCondLst>
                            <p:childTnLst>
                              <p:par>
                                <p:cTn id="3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6" dur="500" fill="hold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1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2" dur="500" fill="hold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7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fill="hold">
                      <p:stCondLst>
                        <p:cond delay="indefinite"/>
                      </p:stCondLst>
                      <p:childTnLst>
                        <p:par>
                          <p:cTn id="3590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09480" y="7621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bit Borsch-Supan y Hajivassiliou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mulador GH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257800" y="1219320"/>
                <a:ext cx="312408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/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Text Box 4"/>
          <p:cNvSpPr/>
          <p:nvPr/>
        </p:nvSpPr>
        <p:spPr>
          <a:xfrm>
            <a:off x="762120" y="1905120"/>
            <a:ext cx="784836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*=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=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=LL’ (factorización de Cholesk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u~N(X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   s.a. A&lt;=Au&lt;=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mular e ~ N(0,I)    s.a. a*=a-AX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&lt;=Le&lt;=b*=b-Ax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c¡as a la estructura triangular de L, las restricciones son recursivas. Los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son simulados secuencialmente con un simulador truncado univar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orsch-Supan y Hajivassiliou demostraron que P(a&lt;=Au&lt;=b) es simulada correctamente por P(a*&lt;=Le&lt;=b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3" dur="indefinite" restart="never" nodeType="tmRoot">
          <p:childTnLst>
            <p:seq>
              <p:cTn id="3614" dur="indefinite" nodeType="mainSeq">
                <p:childTnLst>
                  <p:par>
                    <p:cTn id="3615" fill="hold">
                      <p:stCondLst>
                        <p:cond delay="indefinite"/>
                      </p:stCondLst>
                      <p:childTnLst>
                        <p:par>
                          <p:cTn id="3616" fill="hold">
                            <p:stCondLst>
                              <p:cond delay="0"/>
                            </p:stCondLst>
                            <p:childTnLst>
                              <p:par>
                                <p:cTn id="3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6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5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1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2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7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8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9" fill="hold">
                      <p:stCondLst>
                        <p:cond delay="indefinite"/>
                      </p:stCondLst>
                      <p:childTnLst>
                        <p:par>
                          <p:cTn id="3670" fill="hold">
                            <p:stCondLst>
                              <p:cond delay="0"/>
                            </p:stCondLst>
                            <p:childTnLst>
                              <p:par>
                                <p:cTn id="3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893880"/>
                <a:ext cx="9176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71600" y="588960"/>
                <a:ext cx="10270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14600" y="436680"/>
                <a:ext cx="36306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Line 6"/>
          <p:cNvSpPr/>
          <p:nvPr/>
        </p:nvSpPr>
        <p:spPr>
          <a:xfrm>
            <a:off x="2438280" y="127476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20840" y="1222200"/>
                <a:ext cx="421812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269040" y="546120"/>
                <a:ext cx="19810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Line 9"/>
          <p:cNvSpPr/>
          <p:nvPr/>
        </p:nvSpPr>
        <p:spPr>
          <a:xfrm>
            <a:off x="533520" y="2637000"/>
            <a:ext cx="684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523880" y="2395440"/>
            <a:ext cx="38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in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533520" y="3284640"/>
            <a:ext cx="6840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1523880" y="30243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it. Curva en forma de S, parecida a curvas empíricas encontradas. OBS: Se puede calibrar con datos agre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28600" y="4319640"/>
            <a:ext cx="8458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ble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umple doble rol, controla dispersión en PM y en la elección de destinos a distintas distancias del ori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aracterísticas de los usuarios no están inclu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6629400" y="588960"/>
            <a:ext cx="1676520" cy="1752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228600" y="4572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bit Borsch-Supan y Hajivassiliou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mulador GH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l problema de optimización a resolver con el Probit no es necesariamente convexo (i.e. Convergencia global no está garantiza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l esfuerzo computacional aumenta sólo linealmente con la dimensión de la integral, y es independiente de los valores de P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xisten varios algoritmos de optimización. Newton ha demostrado ser el más robusto. En cada iteración se calcula numéricamente el gradiente, el hessiano y su inverso (requiere muchas repeticiones). También funciona el BHHH (Berndt-Hall-Hall-Hausman) que aproxima el Hessiano por el producto del gradiente y su traspuesta. Converge mucho más rápido (cuando conver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9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1" fill="hold">
                      <p:stCondLst>
                        <p:cond delay="indefinite"/>
                      </p:stCondLst>
                      <p:childTnLst>
                        <p:par>
                          <p:cTn id="3702" fill="hold">
                            <p:stCondLst>
                              <p:cond delay="0"/>
                            </p:stCondLst>
                            <p:childTnLst>
                              <p:par>
                                <p:cTn id="3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5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228600" y="45720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bit Borsch-Supan y Hajivassiliou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mulador GH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¿Qué parámetros se puede calib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Parámetros de gusto para una matriz de covarianza dada (distinta de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30000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Parámetros de gusto y algunos elementos de la matriz de covarianza (también se puede incluir dependencias de variables en la matriz de covarianza) correlación, heteroscedasticidad, variaciones en los gu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identific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5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1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7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fill="hold">
                      <p:stCondLst>
                        <p:cond delay="indefinite"/>
                      </p:stCondLst>
                      <p:childTnLst>
                        <p:par>
                          <p:cTn id="3740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3049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s Mixed Log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(Logit Kernel, componente aleatoria, hybrid 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’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: componente aleatoria de media cero y matriz de covarianza </a:t>
            </a:r>
            <a:r>
              <a:rPr b="0" lang="es-ES_tradnl" sz="20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Z: datos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s-ES_tradnl" sz="20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: iid Gum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Formular distintos patrones de correlación, heteroscedasti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000" spc="-1" strike="noStrike">
                <a:solidFill>
                  <a:srgbClr val="003366"/>
                </a:solidFill>
                <a:latin typeface="Comic Sans MS"/>
              </a:rPr>
              <a:t>Ej: variaciones en los gu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   </a:t>
            </a: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U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kin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Comic Sans MS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Calib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304920" y="3809880"/>
                <a:ext cx="33526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in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n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jn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4948200" y="3919680"/>
                <a:ext cx="2293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4" name="Text Box 5"/>
          <p:cNvSpPr/>
          <p:nvPr/>
        </p:nvSpPr>
        <p:spPr>
          <a:xfrm>
            <a:off x="30492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Obteniendo valores de  a partir de su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33520" y="5257800"/>
                <a:ext cx="25905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6" name="Text Box 7"/>
          <p:cNvSpPr/>
          <p:nvPr/>
        </p:nvSpPr>
        <p:spPr>
          <a:xfrm>
            <a:off x="3505320" y="5181480"/>
            <a:ext cx="5486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probabilidad promedio es un estimador insesgado de la probabilidad to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petir en cada iteración (también para usar en modalidad predic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5" dur="indefinite" restart="never" nodeType="tmRoot">
          <p:childTnLst>
            <p:seq>
              <p:cTn id="3746" dur="indefinite" nodeType="mainSeq">
                <p:childTnLst>
                  <p:par>
                    <p:cTn id="3747" fill="hold">
                      <p:stCondLst>
                        <p:cond delay="indefinite"/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7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3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9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7" fill="hold">
                      <p:stCondLst>
                        <p:cond delay="indefinite"/>
                      </p:stCondLst>
                      <p:childTnLst>
                        <p:par>
                          <p:cTn id="3778" fill="hold">
                            <p:stCondLst>
                              <p:cond delay="0"/>
                            </p:stCondLst>
                            <p:childTnLst>
                              <p:par>
                                <p:cTn id="3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2" dur="500" fill="hold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8" dur="500" fill="hold"/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4" dur="5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9" dur="500" fill="hold"/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0" dur="500" fill="hold"/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3" fill="hold">
                      <p:stCondLst>
                        <p:cond delay="indefinite"/>
                      </p:stCondLst>
                      <p:childTnLst>
                        <p:par>
                          <p:cTn id="3814" fill="hold">
                            <p:stCondLst>
                              <p:cond delay="0"/>
                            </p:stCondLst>
                            <p:childTnLst>
                              <p:par>
                                <p:cTn id="3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228600" y="609480"/>
            <a:ext cx="85345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dentificabilidad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diciones de identificabilidad para Probit y Mixed Logit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=A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Condición de orden (neces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l número máximo de parámetros elementos de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que se puede calibrar es s=J(J-1)/2-1 (número de celdas distintas en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–1, J: número de altern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Comic Sans MS"/>
              </a:rPr>
              <a:t>Condición de rango (sufic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Toma en cuenta el número de ecuaciones l.i. en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que pueden ser usados para estimar los parámetros de la estructura d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Cómo analizar la condición de ra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1" dur="indefinite" restart="never" nodeType="tmRoot">
          <p:childTnLst>
            <p:seq>
              <p:cTn id="3832" dur="indefinite" nodeType="mainSeq">
                <p:childTnLst>
                  <p:par>
                    <p:cTn id="3833" fill="hold">
                      <p:stCondLst>
                        <p:cond delay="indefinite"/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7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0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6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7" fill="hold">
                      <p:stCondLst>
                        <p:cond delay="indefinite"/>
                      </p:stCondLst>
                      <p:childTnLst>
                        <p:par>
                          <p:cTn id="3858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9" dur="500" fill="hold"/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22860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dentificabilidad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Cómo analizar la condición de ra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Vectorizar los elementos únicos de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en un vector columna vecu(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). El número de elementos de 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 que se puede estimar está dado por el rango de la matriz jacobiana de vecu(</a:t>
            </a:r>
            <a:r>
              <a:rPr b="0" lang="es-ES_tradn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) menos u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jemplo: 4 alternativas, 2 cor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Comic Sans MS"/>
              </a:rPr>
              <a:t>Ejemplo 2: 4 alternativas, correlacionadas en grupos 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1" dur="indefinite" restart="never" nodeType="tmRoot">
          <p:childTnLst>
            <p:seq>
              <p:cTn id="3882" dur="indefinite" nodeType="mainSeq">
                <p:childTnLst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7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fill="hold">
                      <p:stCondLst>
                        <p:cond delay="indefinite"/>
                      </p:stCondLst>
                      <p:childTnLst>
                        <p:par>
                          <p:cTn id="3890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3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9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fill="hold">
                      <p:stCondLst>
                        <p:cond delay="indefinite"/>
                      </p:stCondLst>
                      <p:childTnLst>
                        <p:par>
                          <p:cTn id="3902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5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1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2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2"/>
          <p:cNvSpPr/>
          <p:nvPr/>
        </p:nvSpPr>
        <p:spPr>
          <a:xfrm>
            <a:off x="228600" y="765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xten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846000" y="1165320"/>
                <a:ext cx="68947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sup>
                    </m:sSup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Text Box 15"/>
          <p:cNvSpPr/>
          <p:nvPr/>
        </p:nvSpPr>
        <p:spPr>
          <a:xfrm>
            <a:off x="444600" y="3332160"/>
            <a:ext cx="845820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: 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β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: parámetro de dispersión para la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λ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: parámetro de dispersión para la elec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i="1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i="1" lang="es-ES_tradnl" sz="24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: costo compuesto de viaje entre i y j percibido por el usuario tip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55760" y="533520"/>
                <a:ext cx="9190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9"/>
          <p:cNvSpPr/>
          <p:nvPr/>
        </p:nvSpPr>
        <p:spPr>
          <a:xfrm>
            <a:off x="1371600" y="685800"/>
            <a:ext cx="7315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compuesto de viajar desde i hacia j para usuario del tipo 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cost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sube al agregar una alt. c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57200" y="3505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Williams (197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76720" y="3352680"/>
                <a:ext cx="399708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340160" y="4572000"/>
                <a:ext cx="1246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Text Box 17"/>
          <p:cNvSpPr/>
          <p:nvPr/>
        </p:nvSpPr>
        <p:spPr>
          <a:xfrm>
            <a:off x="457200" y="5410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Unica especificación correcta, consistente con teoría de comportamiento raci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49160" y="1828800"/>
          <a:ext cx="549936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828800"/>
                    <a:ext cx="549936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89120" y="762120"/>
          <a:ext cx="3173400" cy="12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762120"/>
                    <a:ext cx="317340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Box 8"/>
          <p:cNvSpPr/>
          <p:nvPr/>
        </p:nvSpPr>
        <p:spPr>
          <a:xfrm>
            <a:off x="4724280" y="6094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 al introducir una alternativa de mayor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838080" y="3581280"/>
            <a:ext cx="70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95280" y="3505320"/>
          <a:ext cx="238932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505320"/>
                    <a:ext cx="2389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285920" y="4167360"/>
          <a:ext cx="2981160" cy="73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4167360"/>
                    <a:ext cx="29811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357200" y="5154480"/>
          <a:ext cx="1538280" cy="101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57200" y="5154480"/>
                    <a:ext cx="1538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3:05:29Z</dcterms:created>
  <dc:creator>Marcela Munizaga</dc:creator>
  <dc:description/>
  <dc:language>en-US</dc:language>
  <cp:lastModifiedBy>marcela munizaga muñoz</cp:lastModifiedBy>
  <dcterms:modified xsi:type="dcterms:W3CDTF">2010-05-27T14:09:07Z</dcterms:modified>
  <cp:revision>146</cp:revision>
  <dc:subject/>
  <dc:title>Sin título de diapositiva</dc:title>
</cp:coreProperties>
</file>