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21EE83-BF44-4E1F-AC0E-FA74A36163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EB4569-EE67-494C-9190-EE0C2557262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A7DEB3-87F3-40CF-8865-EA6D7A5354A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2B39DD-18BF-49D0-9C51-53F5DF8FF21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00BBC9-B8FB-44A2-AA06-50E7E2257D7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11250C-FDE4-451C-AAC3-D3C6EAB5640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98BFD-99BC-4209-BDBE-48A8F722DC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36F14B-6743-4871-B063-CE369F5694B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8E317D-E677-4AF3-BBA7-B97BBD59406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DD9960-809F-4CF4-82E0-94652A90316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69A4C4-D0BD-439D-AFF4-5107987948A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57C888-E94E-41EF-BA27-A7FA547992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758053-3D5E-42ED-A701-24436D4713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BDD979-4C6D-46A4-A469-4419EB97F24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0E4BD9-C137-418B-A6F2-957BE6E0BBA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980FAB-9159-4B4E-B79B-584F102C57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1F2C84-B5F7-4CA0-9D69-F89B96F02C4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52D-C093-464E-BEDE-0DC64875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A54-E205-4B5B-A329-48FD00AE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31D-DE7C-482C-B63B-B928DD47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35F-423E-498C-8179-A927CDA8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4D-9BE4-45B9-9304-081FF66E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594-9DF6-4A89-82C4-2F3C4C7C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3F9-C10F-4910-890D-D10E19A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EC8-6D67-4C79-84BB-BC3A2D0D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25F-755F-45BD-B990-79732B5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DCD-75CE-4B1A-B770-083C86E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6F-37EB-4C07-B592-2F3086D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11E-DFD8-4230-959F-F99166B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77D-24AD-4324-A777-A30C7BF00D0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TextBox 4"/>
          <p:cNvSpPr/>
          <p:nvPr/>
        </p:nvSpPr>
        <p:spPr>
          <a:xfrm>
            <a:off x="2593440" y="100008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entamientos en suelo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9"/>
              <p:cNvSpPr txBox="1"/>
              <p:nvPr/>
            </p:nvSpPr>
            <p:spPr>
              <a:xfrm>
                <a:off x="3000240" y="1857240"/>
                <a:ext cx="31435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" name="TextBox 6"/>
          <p:cNvSpPr/>
          <p:nvPr/>
        </p:nvSpPr>
        <p:spPr>
          <a:xfrm>
            <a:off x="285840" y="3071880"/>
            <a:ext cx="85723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sponde al asentamiento tota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ntamiento Instantáneo 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+ Asentamiento por consolidación S</a:t>
            </a: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+ Asen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cundario o creep S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214800" cy="6515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3571920" y="571680"/>
            <a:ext cx="51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elos de la ciudad de México, mostrando altos valores de índice de va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crofósiles, diatomeas y cenisas vol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6220080" cy="5072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6357960" y="9288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cillas con altos ciclos de toma y expulsió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3876480" cy="38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514760" y="2143080"/>
            <a:ext cx="4629240" cy="4000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1292400" y="185724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pica curva para los l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022720" y="18572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pica curva para suelos orgá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210400" y="928800"/>
            <a:ext cx="54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PARA MEDIR PRECONSOLID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500200" y="1143000"/>
            <a:ext cx="4577040" cy="242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785880" y="3929040"/>
            <a:ext cx="4525920" cy="25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286240" y="4276800"/>
            <a:ext cx="3044880" cy="2098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334800" y="285840"/>
            <a:ext cx="816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ntamiento de una ar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asentamiento en un suelo no-cohesivo tienden a ser instan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3927960" y="2500200"/>
            <a:ext cx="1080" cy="858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20" name="Straight Arrow Connector 11"/>
          <p:cNvCxnSpPr/>
          <p:nvPr/>
        </p:nvCxnSpPr>
        <p:spPr>
          <a:xfrm flipH="1" flipV="1">
            <a:off x="2714040" y="2499480"/>
            <a:ext cx="12150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121" name="TextBox 14"/>
          <p:cNvSpPr/>
          <p:nvPr/>
        </p:nvSpPr>
        <p:spPr>
          <a:xfrm>
            <a:off x="3720600" y="3357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>
            <a:off x="3929040" y="249984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123" name="TextBox 18"/>
          <p:cNvSpPr/>
          <p:nvPr/>
        </p:nvSpPr>
        <p:spPr>
          <a:xfrm>
            <a:off x="3154320" y="171468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R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32"/>
          <p:cNvCxnSpPr/>
          <p:nvPr/>
        </p:nvCxnSpPr>
        <p:spPr>
          <a:xfrm>
            <a:off x="4213800" y="2500200"/>
            <a:ext cx="1080" cy="858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25" name="TextBox 33"/>
          <p:cNvSpPr/>
          <p:nvPr/>
        </p:nvSpPr>
        <p:spPr>
          <a:xfrm>
            <a:off x="4074480" y="33577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L" sz="1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34"/>
          <p:cNvCxnSpPr/>
          <p:nvPr/>
        </p:nvCxnSpPr>
        <p:spPr>
          <a:xfrm>
            <a:off x="1499040" y="5000760"/>
            <a:ext cx="1080" cy="357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127" name="TextBox 38"/>
          <p:cNvSpPr/>
          <p:nvPr/>
        </p:nvSpPr>
        <p:spPr>
          <a:xfrm>
            <a:off x="1582560" y="5000760"/>
            <a:ext cx="188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sentamiento remanente = S</a:t>
            </a: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9"/>
          <p:cNvSpPr/>
          <p:nvPr/>
        </p:nvSpPr>
        <p:spPr>
          <a:xfrm>
            <a:off x="6006600" y="5000760"/>
            <a:ext cx="31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ay un 100% de compresión de la muestra en 6 m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43320" y="6429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NT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85960" y="1285920"/>
            <a:ext cx="6432480" cy="221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412884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3357720" y="5500800"/>
            <a:ext cx="2970000" cy="7858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1"/>
          <p:cNvSpPr/>
          <p:nvPr/>
        </p:nvSpPr>
        <p:spPr>
          <a:xfrm>
            <a:off x="5730120" y="42861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 uni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6724440" y="5643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643320" y="6429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NT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785960" y="1285920"/>
            <a:ext cx="64324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4128840" cy="7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3357720" y="5500800"/>
            <a:ext cx="2970000" cy="785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1"/>
          <p:cNvSpPr/>
          <p:nvPr/>
        </p:nvSpPr>
        <p:spPr>
          <a:xfrm>
            <a:off x="5730120" y="42861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 uni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6724440" y="5643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643320" y="6429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NT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14320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714760" y="1500120"/>
            <a:ext cx="2306520" cy="642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714240" y="2714760"/>
            <a:ext cx="3267360" cy="714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785880" y="4214880"/>
            <a:ext cx="412092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5"/>
          <a:stretch/>
        </p:blipFill>
        <p:spPr>
          <a:xfrm>
            <a:off x="714240" y="5429160"/>
            <a:ext cx="1500480" cy="10843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591080" y="2786040"/>
            <a:ext cx="33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 unitaria vs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5032800" y="428616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vacios vs stress (escala lo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2811960" y="564372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ormación unitaria vs stress (escala lo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5626440" y="157176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vacios vs stres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" name="TextBox 7"/>
          <p:cNvSpPr/>
          <p:nvPr/>
        </p:nvSpPr>
        <p:spPr>
          <a:xfrm>
            <a:off x="246600" y="428760"/>
            <a:ext cx="51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olidación en una muestra de suelo Cohe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41324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419720" y="2143080"/>
            <a:ext cx="4724280" cy="1758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3265920" y="128592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tipos de consolido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76920" y="4071960"/>
            <a:ext cx="3938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illo fl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menor fricción del anillo en la 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permite la medición de E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permite la medición de permeabi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797000" y="4143240"/>
            <a:ext cx="386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illo ríg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mayor fricción del anillo en la 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permite la medición de E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 permite la medición de permeabi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TextBox 4"/>
          <p:cNvSpPr/>
          <p:nvPr/>
        </p:nvSpPr>
        <p:spPr>
          <a:xfrm>
            <a:off x="4214880" y="7858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maneras de representar los resultados de una prueba odo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4025880" cy="407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429080" y="1785960"/>
            <a:ext cx="4305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4143600" cy="409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643280" y="2214720"/>
            <a:ext cx="4224600" cy="4216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4286160" y="71424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aramente se observa dos pendientes en un grafico con escala logarít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lo tanto, a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-define en  Cc y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2714760" y="928800"/>
            <a:ext cx="81252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643880" y="2500200"/>
            <a:ext cx="81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143160" y="1143000"/>
            <a:ext cx="6000840" cy="5610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71520" y="4287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étodo de Casa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7120" y="857160"/>
            <a:ext cx="45496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343400" cy="602748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5"/>
          <p:cNvCxnSpPr/>
          <p:nvPr/>
        </p:nvCxnSpPr>
        <p:spPr>
          <a:xfrm flipV="1">
            <a:off x="2571480" y="1642680"/>
            <a:ext cx="314388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6"/>
          <p:cNvSpPr/>
          <p:nvPr/>
        </p:nvSpPr>
        <p:spPr>
          <a:xfrm>
            <a:off x="5715000" y="1285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ientras mas disturbado es la muestra mas difícil es determinar la preconsolid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006520" y="642960"/>
            <a:ext cx="419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DONDE NACE EL MET. CASA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8"/>
          <p:cNvCxnSpPr/>
          <p:nvPr/>
        </p:nvCxnSpPr>
        <p:spPr>
          <a:xfrm flipV="1">
            <a:off x="4571640" y="5143320"/>
            <a:ext cx="1072440" cy="78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TextBox 10"/>
          <p:cNvSpPr/>
          <p:nvPr/>
        </p:nvSpPr>
        <p:spPr>
          <a:xfrm>
            <a:off x="5643720" y="4572000"/>
            <a:ext cx="257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altas presiones de confinamiento, la muestra tiende a converger a la re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857920" y="3000240"/>
            <a:ext cx="1060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857240" y="103320"/>
            <a:ext cx="4786560" cy="6754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6643800" y="928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estras de suelo cercanas a Normalmente consolidadas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143000" y="896760"/>
            <a:ext cx="6912000" cy="5380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675800" y="57168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muestras de suelo Sobreconsolidadas 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5875200" y="1460520"/>
                <a:ext cx="1875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85920" y="1071720"/>
            <a:ext cx="6448320" cy="5072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383560" y="6429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 de arcillas altamente sensitiv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0:03:54Z</dcterms:created>
  <dc:creator>marcelo.gonzalez</dc:creator>
  <dc:description/>
  <dc:language>en-US</dc:language>
  <cp:lastModifiedBy>marcelo.gonzalez</cp:lastModifiedBy>
  <dcterms:modified xsi:type="dcterms:W3CDTF">2010-07-01T15:31:21Z</dcterms:modified>
  <cp:revision>264</cp:revision>
  <dc:subject/>
  <dc:title>Slide 1</dc:title>
</cp:coreProperties>
</file>