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302AC-7707-46D0-B041-8D9B91C23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07A58-0504-47EB-B5DD-FB54D73BF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8CFE2-A3B8-4AEC-A38B-CF5E475A3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86989-AFB3-4F8D-AAE9-438ACC35F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D57C8-F383-4253-A014-5B65F685A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0F22E-66A0-4D4D-9CF2-A1D7EA1A7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75234-022F-4BA8-9E2F-C5D54DF80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711B4-B690-4D65-9468-AC472687B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E1F3C-D438-47ED-95FE-FF7883DA7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BA594-C905-4143-AE13-35408F195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2176F-A4A6-48E5-B0C0-F991C1D8C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038DE-A477-45CD-AD96-BDBD529B3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45CEC-CC31-40C0-9462-F9A57DD20D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rcRect l="0" t="7745" r="0" b="0"/>
          <a:stretch/>
        </p:blipFill>
        <p:spPr>
          <a:xfrm>
            <a:off x="2209680" y="0"/>
            <a:ext cx="5059440" cy="649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26T12:49:12Z</dcterms:created>
  <dc:creator>IDIEM</dc:creator>
  <dc:description/>
  <dc:language>en-US</dc:language>
  <cp:lastModifiedBy> ivan</cp:lastModifiedBy>
  <cp:lastPrinted>2000-07-02T22:20:01Z</cp:lastPrinted>
  <dcterms:modified xsi:type="dcterms:W3CDTF">2005-06-09T03:51:30Z</dcterms:modified>
  <cp:revision>35</cp:revision>
  <dc:subject/>
  <dc:title>Sin título de diapositiva</dc:title>
</cp:coreProperties>
</file>