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D13F-07B8-4BED-B36C-2D3DDBA4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4446-BFBD-4CD2-832B-80B88527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2FA-8A07-4795-B832-374D5213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BF24-0940-4099-BB14-18E89D85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509B-E4D3-438B-89AA-F5BB93C5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6859-BDC4-46C6-89DE-982697A6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96A5-AC25-40BA-A401-4457D581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CBA4-72D2-4C49-9FE1-EF29522F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FF47-1004-4631-895F-B630A5E1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2731-92B9-461F-AAC4-31D94E03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E25-8B08-4FA5-A02E-A9C6E5DA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C974-3BF7-478C-8532-102CF32B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5207-2D26-4AEB-8799-978A5D33F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7745" r="0" b="0"/>
          <a:stretch/>
        </p:blipFill>
        <p:spPr>
          <a:xfrm>
            <a:off x="2209680" y="0"/>
            <a:ext cx="505944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6T12:49:12Z</dcterms:created>
  <dc:creator>IDIEM</dc:creator>
  <dc:description/>
  <dc:language>en-US</dc:language>
  <cp:lastModifiedBy> ivan</cp:lastModifiedBy>
  <cp:lastPrinted>2000-07-02T22:20:01Z</cp:lastPrinted>
  <dcterms:modified xsi:type="dcterms:W3CDTF">2005-06-09T03:51:30Z</dcterms:modified>
  <cp:revision>35</cp:revision>
  <dc:subject/>
  <dc:title>Sin título de diapositiva</dc:title>
</cp:coreProperties>
</file>