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AD42-73A9-46B7-8DB7-E6F126BF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A259-F153-45D1-8EF5-82D804D7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CA86-45AE-4ED7-A79D-161D9E55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5F3C-038F-4ADE-95FC-1BAB6BC28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FFBF-CCC1-49A9-BB8C-AE606811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1A36-8E1B-42AB-A073-1824B0F2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FA17-B370-44B3-A28E-8D24BE79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882F-0B9E-4D81-8595-ED562C9D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33DD-B442-46A7-A8D9-62809CE2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F844-6031-4DA1-84C8-4FD164F8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2DCC-3E1F-456C-B547-0FD1614D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93F2-3210-4FD0-AC2A-EDB3A5CE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6677-204A-4EE1-883E-569D06805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19320"/>
            <a:ext cx="69343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puede definir como la técnica para obtener información cuantitativa y cualitativa a partir de fotografías aé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 técnica puede dividirse principalmente en la fotogrametría métrica y la fotointerpre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productos más comunes obtenidos a partir de la fotogrametría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antamiento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ncipio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4469" b="11060"/>
          <a:stretch/>
        </p:blipFill>
        <p:spPr>
          <a:xfrm>
            <a:off x="1828800" y="83808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5638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estereoscópica de un par de fotografías aéreas con recubr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cubrimientos de los foto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444920" cy="432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76520" y="5105520"/>
            <a:ext cx="2163600" cy="160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10666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nera de poder reproducir en forma posterior el efecto de visión binocular es generando recubrimientos entre los fot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46166" t="0" r="0" b="27185"/>
          <a:stretch/>
        </p:blipFill>
        <p:spPr>
          <a:xfrm>
            <a:off x="5715000" y="4114800"/>
            <a:ext cx="29718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ndamentos geométricos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52480" y="990720"/>
            <a:ext cx="4038840" cy="5638680"/>
            <a:chOff x="1752480" y="990720"/>
            <a:chExt cx="4038840" cy="5638680"/>
          </a:xfrm>
        </p:grpSpPr>
        <p:pic>
          <p:nvPicPr>
            <p:cNvPr id="53" name="" descr=""/>
            <p:cNvPicPr/>
            <p:nvPr/>
          </p:nvPicPr>
          <p:blipFill>
            <a:blip r:embed="rId2"/>
            <a:srcRect l="13554" t="3867" r="9144" b="3943"/>
            <a:stretch/>
          </p:blipFill>
          <p:spPr>
            <a:xfrm>
              <a:off x="1752480" y="990720"/>
              <a:ext cx="403884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419720" y="1828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4952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1752480"/>
                <a:ext cx="990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2051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400800" y="2895480"/>
                <a:ext cx="1371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8862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248520" y="4114800"/>
                <a:ext cx="1904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s de fotogramas, visión estereoscóp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2109" r="6439" b="0"/>
          <a:stretch/>
        </p:blipFill>
        <p:spPr>
          <a:xfrm>
            <a:off x="609480" y="1752480"/>
            <a:ext cx="77724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titución Aerofotogramé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240" y="1192320"/>
            <a:ext cx="7551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fía Aérea e interpre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356000" cy="327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5880" y="914400"/>
            <a:ext cx="210348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3962520" cy="34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3962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5335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vantamientos Satel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795760" cy="227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44956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0:53:58Z</dcterms:created>
  <dc:creator> ivan</dc:creator>
  <dc:description/>
  <dc:language>en-US</dc:language>
  <cp:lastModifiedBy> ivan</cp:lastModifiedBy>
  <dcterms:modified xsi:type="dcterms:W3CDTF">2003-10-21T18:26:20Z</dcterms:modified>
  <cp:revision>5</cp:revision>
  <dc:subject/>
  <dc:title>Presentación de PowerPoint</dc:title>
</cp:coreProperties>
</file>