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51E1-2D74-4169-ACF6-482F77EEE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44D7-DC7E-4F46-A2DB-CF2731D8F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AE85-51D8-4B2E-B571-E406FB595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4E71-CFC6-4D68-B3AE-62AE1FDBF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3BF7-4FB9-4523-BD83-110765B06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801F-32BD-452A-A83A-33DD68356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9A7A-2B58-400D-95E8-AC8C8A330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EF3E-A27B-4296-BA51-125866C78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3A0F-127E-4E08-ABB4-21CA1D768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BEEF-6C21-4EAC-A767-69F07CAA7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DB61-BF44-4A0C-974C-EABFE7767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F025-9BB0-4A5F-A91C-CDFA754A6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59A14-903E-4A03-B2F9-CB90A068AB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533520"/>
            <a:ext cx="373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otogrametr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14400" y="1219320"/>
            <a:ext cx="6934320" cy="50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 puede definir como la técnica para obtener información cuantitativa y cualitativa a partir de fotografías aére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ta técnica puede dividirse principalmente en la fotogrametría métrica y la fotointerpret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s productos más comunes obtenidos a partir de la fotogrametría s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tanc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ev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Áre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olúme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il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vantamientos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09480" y="3049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rincipio de la Fotogrametr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0" r="4469" b="11060"/>
          <a:stretch/>
        </p:blipFill>
        <p:spPr>
          <a:xfrm>
            <a:off x="1828800" y="838080"/>
            <a:ext cx="4648320" cy="4800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990720" y="5638680"/>
            <a:ext cx="693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sión estereoscópica de un par de fotografías aéreas con recubr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066680" y="22860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Recubrimientos de los fotogram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33520" y="762120"/>
            <a:ext cx="4444920" cy="43210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1676520" y="5105520"/>
            <a:ext cx="2163600" cy="16081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257800" y="1066680"/>
            <a:ext cx="3505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manera de poder reproducir en forma posterior el efecto de visión binocular es generando recubrimientos entre los fotogram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4"/>
          <a:srcRect l="46166" t="0" r="0" b="27185"/>
          <a:stretch/>
        </p:blipFill>
        <p:spPr>
          <a:xfrm>
            <a:off x="5715000" y="4114800"/>
            <a:ext cx="2971800" cy="23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990720" y="30492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undamentos geométricos de la Fotogrametr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1752480" y="990720"/>
            <a:ext cx="4038840" cy="5638680"/>
            <a:chOff x="1752480" y="990720"/>
            <a:chExt cx="4038840" cy="5638680"/>
          </a:xfrm>
        </p:grpSpPr>
        <p:pic>
          <p:nvPicPr>
            <p:cNvPr id="53" name="" descr=""/>
            <p:cNvPicPr/>
            <p:nvPr/>
          </p:nvPicPr>
          <p:blipFill>
            <a:blip r:embed="rId2"/>
            <a:srcRect l="13554" t="3867" r="9144" b="3943"/>
            <a:stretch/>
          </p:blipFill>
          <p:spPr>
            <a:xfrm>
              <a:off x="1752480" y="990720"/>
              <a:ext cx="4038840" cy="563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4419720" y="18288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181480" y="34290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648320" y="49528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6477120" y="1752480"/>
                <a:ext cx="99036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E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H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8" name=""/>
          <p:cNvSpPr/>
          <p:nvPr/>
        </p:nvSpPr>
        <p:spPr>
          <a:xfrm>
            <a:off x="420516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6400800" y="2895480"/>
                <a:ext cx="1371600" cy="73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E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H</m:t>
                        </m:r>
                        <m:r>
                          <m:t xml:space="preserve">−</m:t>
                        </m:r>
                        <m:r>
                          <m:t xml:space="preserve">h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0" name=""/>
          <p:cNvSpPr/>
          <p:nvPr/>
        </p:nvSpPr>
        <p:spPr>
          <a:xfrm>
            <a:off x="388620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6248520" y="4114800"/>
                <a:ext cx="190476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H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990720" y="53352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ipos de fotogramas, visión estereoscóp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rcRect l="0" t="2109" r="6439" b="0"/>
          <a:stretch/>
        </p:blipFill>
        <p:spPr>
          <a:xfrm>
            <a:off x="609480" y="1752480"/>
            <a:ext cx="7772400" cy="31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914400" y="22860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Restitución Aerofotogramétr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795240" y="1192320"/>
            <a:ext cx="755172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914400" y="38088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otografía Aérea e interpre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572000" y="3352680"/>
            <a:ext cx="4356000" cy="32781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6095880" y="914400"/>
            <a:ext cx="2103480" cy="21337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457200" y="990720"/>
            <a:ext cx="3962520" cy="34923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5"/>
          <a:stretch/>
        </p:blipFill>
        <p:spPr>
          <a:xfrm>
            <a:off x="304920" y="5105520"/>
            <a:ext cx="3962160" cy="15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533520"/>
            <a:ext cx="579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Levantamientos Satelit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609480" y="1600200"/>
            <a:ext cx="2795760" cy="22795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3886200" y="2133720"/>
            <a:ext cx="4495680" cy="36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2T00:53:58Z</dcterms:created>
  <dc:creator> ivan</dc:creator>
  <dc:description/>
  <dc:language>en-US</dc:language>
  <cp:lastModifiedBy> ivan</cp:lastModifiedBy>
  <dcterms:modified xsi:type="dcterms:W3CDTF">2003-10-21T18:26:20Z</dcterms:modified>
  <cp:revision>5</cp:revision>
  <dc:subject/>
  <dc:title>Presentación de PowerPoint</dc:title>
</cp:coreProperties>
</file>