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6F63-27FE-4593-90E3-511CB317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E27A-E489-4448-B520-083A15B1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BCF8-6E72-42A0-9639-939F0247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BE33-8A9D-41A7-8365-8B4240CA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1626-16F1-4065-8477-6D09F5D2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E1E6-C4E9-47F9-BF98-AAC77F22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8428-E8C6-413B-BADB-871B9C31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82E9-17B9-4786-8010-8B35BDF9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4A68-0BE5-4A0A-BB5B-23B6D66B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F0E0-19D8-48CB-9B5B-EE677055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6215-A05D-4A32-BCC1-5BB1263A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87DA-0C67-48AF-B900-F058EAEB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B6C4-836D-4A55-B4CC-A66D3259F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7745" r="0" b="0"/>
          <a:stretch/>
        </p:blipFill>
        <p:spPr>
          <a:xfrm>
            <a:off x="2209680" y="0"/>
            <a:ext cx="5059440" cy="64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6T12:49:12Z</dcterms:created>
  <dc:creator>IDIEM</dc:creator>
  <dc:description/>
  <dc:language>en-US</dc:language>
  <cp:lastModifiedBy> ivan</cp:lastModifiedBy>
  <cp:lastPrinted>2000-07-02T22:20:01Z</cp:lastPrinted>
  <dcterms:modified xsi:type="dcterms:W3CDTF">2005-06-09T03:51:30Z</dcterms:modified>
  <cp:revision>35</cp:revision>
  <dc:subject/>
  <dc:title>Sin título de diapositiva</dc:title>
</cp:coreProperties>
</file>