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B68-975D-4689-B49E-DA24C490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FCD-BD6E-4A17-A118-B9916E6F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6FFC-DFE6-4CE6-B7DD-BFAC85CE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657-1F4F-497E-A323-7F1F6F85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FC0-8C95-404A-8F24-3687AD48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097-2527-4EBE-8159-6DEB53F2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7B4-F008-444D-8E1E-B6FB9AB4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FC0-0B16-4FB0-8636-0175C4F1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87DB-7AA2-4580-BE59-8680C1B9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C4C8-69B3-4FB5-8DCB-528C99C8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287-BBAD-4404-BFAD-8A5E1997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7FF-6D48-43DB-BFF0-303DBBC3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BAA0-F477-4B54-BB0A-C908102A1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745" r="0" b="0"/>
          <a:stretch/>
        </p:blipFill>
        <p:spPr>
          <a:xfrm>
            <a:off x="2209680" y="0"/>
            <a:ext cx="50594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6T12:49:12Z</dcterms:created>
  <dc:creator>IDIEM</dc:creator>
  <dc:description/>
  <dc:language>en-US</dc:language>
  <cp:lastModifiedBy> ivan</cp:lastModifiedBy>
  <cp:lastPrinted>2000-07-02T22:20:01Z</cp:lastPrinted>
  <dcterms:modified xsi:type="dcterms:W3CDTF">2005-06-09T03:51:30Z</dcterms:modified>
  <cp:revision>35</cp:revision>
  <dc:subject/>
  <dc:title>Sin título de diapositiva</dc:title>
</cp:coreProperties>
</file>