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6B13-33EA-4B30-8EC1-67F5E2DF3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126C-760E-462F-AC2B-86D99823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0120-F1F6-4331-B4D2-5E3A8970D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125B-828F-459C-91A6-E77C8D68D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5881-5169-4659-8331-89D8971D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DA09-C56D-44E4-9885-65A974AD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A287-AFC3-4A89-A43B-4ED7BB5C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10C5-E645-4D92-9A62-9ADFD1BA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0DCC-D202-48C9-9B59-BD0D9697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0443-65F2-4A74-929E-6E54609D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9A24-108F-4611-B23C-0581153A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638A-E97F-4778-9E2A-62CE9D23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58C7-95F2-405D-AEF2-24C829AEE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NOMÍA DE 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Astronomía de Posición es una ciencia derivada de la Astronomía cuyo objetivo principal es el estudio del Movimiento de los astros para determinar Coordenadas Geográficas de un Lugar y la orientación del Norte Astronó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Horizo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5072040" y="4152960"/>
            <a:ext cx="74520" cy="112680"/>
            <a:chOff x="5072040" y="4152960"/>
            <a:chExt cx="74520" cy="112680"/>
          </a:xfrm>
        </p:grpSpPr>
        <p:sp>
          <p:nvSpPr>
            <p:cNvPr id="790" name=""/>
            <p:cNvSpPr/>
            <p:nvPr/>
          </p:nvSpPr>
          <p:spPr>
            <a:xfrm>
              <a:off x="5072040" y="41529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189"/>
                  </a:lnTo>
                  <a:lnTo>
                    <a:pt x="94" y="0"/>
                  </a:lnTo>
                  <a:lnTo>
                    <a:pt x="189" y="189"/>
                  </a:lnTo>
                  <a:lnTo>
                    <a:pt x="189" y="28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72040" y="4227480"/>
              <a:ext cx="745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4930920" y="3285720"/>
            <a:ext cx="74520" cy="113040"/>
            <a:chOff x="4930920" y="3285720"/>
            <a:chExt cx="74520" cy="113040"/>
          </a:xfrm>
        </p:grpSpPr>
        <p:sp>
          <p:nvSpPr>
            <p:cNvPr id="793" name=""/>
            <p:cNvSpPr/>
            <p:nvPr/>
          </p:nvSpPr>
          <p:spPr>
            <a:xfrm flipV="1">
              <a:off x="4930920" y="3285720"/>
              <a:ext cx="1440" cy="112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930920" y="3324240"/>
              <a:ext cx="74520" cy="7452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94"/>
                  </a:moveTo>
                  <a:lnTo>
                    <a:pt x="94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18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730760" y="2917800"/>
            <a:ext cx="136440" cy="1174680"/>
          </a:xfrm>
          <a:custGeom>
            <a:avLst/>
            <a:gdLst/>
            <a:ahLst/>
            <a:rect l="l" t="t" r="r" b="b"/>
            <a:pathLst>
              <a:path w="343" h="2958">
                <a:moveTo>
                  <a:pt x="302" y="2958"/>
                </a:moveTo>
                <a:lnTo>
                  <a:pt x="333" y="2582"/>
                </a:lnTo>
                <a:lnTo>
                  <a:pt x="343" y="2203"/>
                </a:lnTo>
                <a:lnTo>
                  <a:pt x="335" y="1824"/>
                </a:lnTo>
                <a:lnTo>
                  <a:pt x="306" y="1448"/>
                </a:lnTo>
                <a:lnTo>
                  <a:pt x="258" y="1076"/>
                </a:lnTo>
                <a:lnTo>
                  <a:pt x="191" y="708"/>
                </a:lnTo>
                <a:lnTo>
                  <a:pt x="104" y="35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3760920" y="3405240"/>
            <a:ext cx="187200" cy="112680"/>
            <a:chOff x="3760920" y="3405240"/>
            <a:chExt cx="187200" cy="112680"/>
          </a:xfrm>
        </p:grpSpPr>
        <p:sp>
          <p:nvSpPr>
            <p:cNvPr id="797" name=""/>
            <p:cNvSpPr/>
            <p:nvPr/>
          </p:nvSpPr>
          <p:spPr>
            <a:xfrm>
              <a:off x="376092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4">
                  <a:moveTo>
                    <a:pt x="0" y="284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8" y="48"/>
                  </a:lnTo>
                  <a:lnTo>
                    <a:pt x="188" y="95"/>
                  </a:lnTo>
                  <a:lnTo>
                    <a:pt x="141" y="141"/>
                  </a:lnTo>
                  <a:lnTo>
                    <a:pt x="0" y="14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87360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36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89" y="236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89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2692440" y="4033800"/>
            <a:ext cx="187200" cy="112680"/>
            <a:chOff x="2692440" y="4033800"/>
            <a:chExt cx="187200" cy="112680"/>
          </a:xfrm>
        </p:grpSpPr>
        <p:sp>
          <p:nvSpPr>
            <p:cNvPr id="800" name=""/>
            <p:cNvSpPr/>
            <p:nvPr/>
          </p:nvSpPr>
          <p:spPr>
            <a:xfrm>
              <a:off x="269244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95"/>
                  </a:lnTo>
                  <a:lnTo>
                    <a:pt x="141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0512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778200" y="4038480"/>
            <a:ext cx="130320" cy="114480"/>
            <a:chOff x="3778200" y="4038480"/>
            <a:chExt cx="130320" cy="114480"/>
          </a:xfrm>
        </p:grpSpPr>
        <p:sp>
          <p:nvSpPr>
            <p:cNvPr id="803" name=""/>
            <p:cNvSpPr/>
            <p:nvPr/>
          </p:nvSpPr>
          <p:spPr>
            <a:xfrm>
              <a:off x="3778200" y="403848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778200" y="4094280"/>
              <a:ext cx="36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778200" y="4151160"/>
              <a:ext cx="74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3889440" y="4038480"/>
              <a:ext cx="19080" cy="3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2959200" y="3227400"/>
            <a:ext cx="74520" cy="114120"/>
            <a:chOff x="2959200" y="3227400"/>
            <a:chExt cx="74520" cy="114120"/>
          </a:xfrm>
        </p:grpSpPr>
        <p:sp>
          <p:nvSpPr>
            <p:cNvPr id="808" name=""/>
            <p:cNvSpPr/>
            <p:nvPr/>
          </p:nvSpPr>
          <p:spPr>
            <a:xfrm>
              <a:off x="2959200" y="32274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959200" y="328284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959200" y="334008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748040" y="2133720"/>
            <a:ext cx="428760" cy="296280"/>
            <a:chOff x="4748040" y="2133720"/>
            <a:chExt cx="428760" cy="296280"/>
          </a:xfrm>
        </p:grpSpPr>
        <p:sp>
          <p:nvSpPr>
            <p:cNvPr id="812" name=""/>
            <p:cNvSpPr/>
            <p:nvPr/>
          </p:nvSpPr>
          <p:spPr>
            <a:xfrm flipV="1">
              <a:off x="4748040" y="2276280"/>
              <a:ext cx="163800" cy="15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4876920" y="2133720"/>
              <a:ext cx="299880" cy="112680"/>
              <a:chOff x="4876920" y="2133720"/>
              <a:chExt cx="299880" cy="112680"/>
            </a:xfrm>
          </p:grpSpPr>
          <p:sp>
            <p:nvSpPr>
              <p:cNvPr id="814" name=""/>
              <p:cNvSpPr/>
              <p:nvPr/>
            </p:nvSpPr>
            <p:spPr>
              <a:xfrm>
                <a:off x="487692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89" y="46"/>
                    </a:lnTo>
                    <a:lnTo>
                      <a:pt x="189" y="94"/>
                    </a:lnTo>
                    <a:lnTo>
                      <a:pt x="143" y="141"/>
                    </a:lnTo>
                    <a:lnTo>
                      <a:pt x="0" y="14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98960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35"/>
                    </a:moveTo>
                    <a:lnTo>
                      <a:pt x="48" y="283"/>
                    </a:lnTo>
                    <a:lnTo>
                      <a:pt x="141" y="283"/>
                    </a:lnTo>
                    <a:lnTo>
                      <a:pt x="189" y="235"/>
                    </a:lnTo>
                    <a:lnTo>
                      <a:pt x="0" y="46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100840" y="213372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188" h="283">
                    <a:moveTo>
                      <a:pt x="188" y="235"/>
                    </a:moveTo>
                    <a:lnTo>
                      <a:pt x="142" y="283"/>
                    </a:lnTo>
                    <a:lnTo>
                      <a:pt x="47" y="283"/>
                    </a:lnTo>
                    <a:lnTo>
                      <a:pt x="0" y="235"/>
                    </a:lnTo>
                    <a:lnTo>
                      <a:pt x="0" y="46"/>
                    </a:lnTo>
                    <a:lnTo>
                      <a:pt x="47" y="0"/>
                    </a:lnTo>
                    <a:lnTo>
                      <a:pt x="142" y="0"/>
                    </a:lnTo>
                    <a:lnTo>
                      <a:pt x="188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7" name=""/>
          <p:cNvGrpSpPr/>
          <p:nvPr/>
        </p:nvGrpSpPr>
        <p:grpSpPr>
          <a:xfrm>
            <a:off x="5511960" y="3766680"/>
            <a:ext cx="131760" cy="113040"/>
            <a:chOff x="5511960" y="3766680"/>
            <a:chExt cx="131760" cy="113040"/>
          </a:xfrm>
        </p:grpSpPr>
        <p:sp>
          <p:nvSpPr>
            <p:cNvPr id="818" name=""/>
            <p:cNvSpPr/>
            <p:nvPr/>
          </p:nvSpPr>
          <p:spPr>
            <a:xfrm flipV="1">
              <a:off x="5511960" y="3766680"/>
              <a:ext cx="144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511960" y="382428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587920" y="3767040"/>
              <a:ext cx="180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5624640" y="376704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1019160" y="3733920"/>
            <a:ext cx="76320" cy="110880"/>
            <a:chOff x="1019160" y="3733920"/>
            <a:chExt cx="76320" cy="110880"/>
          </a:xfrm>
        </p:grpSpPr>
        <p:sp>
          <p:nvSpPr>
            <p:cNvPr id="823" name=""/>
            <p:cNvSpPr/>
            <p:nvPr/>
          </p:nvSpPr>
          <p:spPr>
            <a:xfrm flipV="1">
              <a:off x="1019160" y="3733920"/>
              <a:ext cx="144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19160" y="3789360"/>
              <a:ext cx="74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093680" y="3733920"/>
              <a:ext cx="180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4756320" y="5137200"/>
            <a:ext cx="14040" cy="147600"/>
          </a:xfrm>
          <a:custGeom>
            <a:avLst/>
            <a:gdLst/>
            <a:ahLst/>
            <a:rect l="l" t="t" r="r" b="b"/>
            <a:pathLst>
              <a:path w="36" h="374">
                <a:moveTo>
                  <a:pt x="0" y="374"/>
                </a:moveTo>
                <a:lnTo>
                  <a:pt x="36" y="157"/>
                </a:lnTo>
                <a:lnTo>
                  <a:pt x="3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 flipV="1">
            <a:off x="4592160" y="4751280"/>
            <a:ext cx="65160" cy="123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363920" y="4397400"/>
            <a:ext cx="81000" cy="115920"/>
          </a:xfrm>
          <a:custGeom>
            <a:avLst/>
            <a:gdLst/>
            <a:ahLst/>
            <a:rect l="l" t="t" r="r" b="b"/>
            <a:pathLst>
              <a:path w="202" h="289">
                <a:moveTo>
                  <a:pt x="202" y="289"/>
                </a:moveTo>
                <a:lnTo>
                  <a:pt x="196" y="27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4111560" y="4060440"/>
            <a:ext cx="85680" cy="1112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41920" y="3733920"/>
            <a:ext cx="90360" cy="106200"/>
          </a:xfrm>
          <a:custGeom>
            <a:avLst/>
            <a:gdLst/>
            <a:ahLst/>
            <a:rect l="l" t="t" r="r" b="b"/>
            <a:pathLst>
              <a:path w="229" h="269">
                <a:moveTo>
                  <a:pt x="229" y="269"/>
                </a:moveTo>
                <a:lnTo>
                  <a:pt x="70" y="7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 flipV="1">
            <a:off x="3700440" y="3579480"/>
            <a:ext cx="93600" cy="1047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557520" y="3425760"/>
            <a:ext cx="96840" cy="101520"/>
          </a:xfrm>
          <a:custGeom>
            <a:avLst/>
            <a:gdLst/>
            <a:ahLst/>
            <a:rect l="l" t="t" r="r" b="b"/>
            <a:pathLst>
              <a:path w="244" h="255">
                <a:moveTo>
                  <a:pt x="244" y="255"/>
                </a:moveTo>
                <a:lnTo>
                  <a:pt x="209" y="21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3260520" y="3126960"/>
            <a:ext cx="99720" cy="96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2950920" y="2839680"/>
            <a:ext cx="104760" cy="9540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625840" y="2575080"/>
            <a:ext cx="110880" cy="85680"/>
          </a:xfrm>
          <a:custGeom>
            <a:avLst/>
            <a:gdLst/>
            <a:ahLst/>
            <a:rect l="l" t="t" r="r" b="b"/>
            <a:pathLst>
              <a:path w="280" h="216">
                <a:moveTo>
                  <a:pt x="280" y="216"/>
                </a:moveTo>
                <a:lnTo>
                  <a:pt x="196" y="14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274840" y="2340000"/>
            <a:ext cx="120600" cy="73080"/>
          </a:xfrm>
          <a:custGeom>
            <a:avLst/>
            <a:gdLst/>
            <a:ahLst/>
            <a:rect l="l" t="t" r="r" b="b"/>
            <a:pathLst>
              <a:path w="303" h="184">
                <a:moveTo>
                  <a:pt x="303" y="184"/>
                </a:moveTo>
                <a:lnTo>
                  <a:pt x="87" y="4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882800" y="2238480"/>
            <a:ext cx="133200" cy="47520"/>
          </a:xfrm>
          <a:custGeom>
            <a:avLst/>
            <a:gdLst/>
            <a:ahLst/>
            <a:rect l="l" t="t" r="r" b="b"/>
            <a:pathLst>
              <a:path w="337" h="120">
                <a:moveTo>
                  <a:pt x="337" y="0"/>
                </a:moveTo>
                <a:lnTo>
                  <a:pt x="134" y="6"/>
                </a:lnTo>
                <a:lnTo>
                  <a:pt x="0" y="12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828800" y="2286000"/>
            <a:ext cx="2927520" cy="3009960"/>
          </a:xfrm>
          <a:custGeom>
            <a:avLst/>
            <a:gdLst/>
            <a:ahLst/>
            <a:rect l="l" t="t" r="r" b="b"/>
            <a:pathLst>
              <a:path w="7377" h="7582">
                <a:moveTo>
                  <a:pt x="7377" y="7556"/>
                </a:moveTo>
                <a:lnTo>
                  <a:pt x="7160" y="7582"/>
                </a:lnTo>
                <a:lnTo>
                  <a:pt x="6849" y="7503"/>
                </a:lnTo>
                <a:lnTo>
                  <a:pt x="6454" y="7324"/>
                </a:lnTo>
                <a:lnTo>
                  <a:pt x="5985" y="7048"/>
                </a:lnTo>
                <a:lnTo>
                  <a:pt x="5456" y="6682"/>
                </a:lnTo>
                <a:lnTo>
                  <a:pt x="4881" y="6237"/>
                </a:lnTo>
                <a:lnTo>
                  <a:pt x="4275" y="5725"/>
                </a:lnTo>
                <a:lnTo>
                  <a:pt x="3653" y="5160"/>
                </a:lnTo>
                <a:lnTo>
                  <a:pt x="3036" y="4558"/>
                </a:lnTo>
                <a:lnTo>
                  <a:pt x="2439" y="3934"/>
                </a:lnTo>
                <a:lnTo>
                  <a:pt x="1876" y="3306"/>
                </a:lnTo>
                <a:lnTo>
                  <a:pt x="1365" y="2690"/>
                </a:lnTo>
                <a:lnTo>
                  <a:pt x="920" y="2105"/>
                </a:lnTo>
                <a:lnTo>
                  <a:pt x="553" y="1564"/>
                </a:lnTo>
                <a:lnTo>
                  <a:pt x="271" y="1085"/>
                </a:lnTo>
                <a:lnTo>
                  <a:pt x="86" y="678"/>
                </a:lnTo>
                <a:lnTo>
                  <a:pt x="0" y="357"/>
                </a:lnTo>
                <a:lnTo>
                  <a:pt x="17" y="129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1403280" y="5140440"/>
            <a:ext cx="486000" cy="382320"/>
            <a:chOff x="1403280" y="5140440"/>
            <a:chExt cx="486000" cy="382320"/>
          </a:xfrm>
        </p:grpSpPr>
        <p:grpSp>
          <p:nvGrpSpPr>
            <p:cNvPr id="840" name=""/>
            <p:cNvGrpSpPr/>
            <p:nvPr/>
          </p:nvGrpSpPr>
          <p:grpSpPr>
            <a:xfrm>
              <a:off x="1403280" y="5410080"/>
              <a:ext cx="300240" cy="112680"/>
              <a:chOff x="1403280" y="5410080"/>
              <a:chExt cx="300240" cy="112680"/>
            </a:xfrm>
          </p:grpSpPr>
          <p:sp>
            <p:nvSpPr>
              <p:cNvPr id="841" name=""/>
              <p:cNvSpPr/>
              <p:nvPr/>
            </p:nvSpPr>
            <p:spPr>
              <a:xfrm>
                <a:off x="1403280" y="541008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89" y="48"/>
                    </a:lnTo>
                    <a:lnTo>
                      <a:pt x="189" y="95"/>
                    </a:lnTo>
                    <a:lnTo>
                      <a:pt x="141" y="142"/>
                    </a:lnTo>
                    <a:lnTo>
                      <a:pt x="0" y="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51596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89" y="284"/>
                    </a:lnTo>
                    <a:lnTo>
                      <a:pt x="18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62864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189" y="237"/>
                    </a:moveTo>
                    <a:lnTo>
                      <a:pt x="141" y="284"/>
                    </a:lnTo>
                    <a:lnTo>
                      <a:pt x="48" y="284"/>
                    </a:lnTo>
                    <a:lnTo>
                      <a:pt x="0" y="237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 flipV="1">
              <a:off x="1725480" y="5140440"/>
              <a:ext cx="1638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4578480" y="2798640"/>
            <a:ext cx="150840" cy="146160"/>
            <a:chOff x="4578480" y="2798640"/>
            <a:chExt cx="150840" cy="146160"/>
          </a:xfrm>
        </p:grpSpPr>
        <p:sp>
          <p:nvSpPr>
            <p:cNvPr id="846" name=""/>
            <p:cNvSpPr/>
            <p:nvPr/>
          </p:nvSpPr>
          <p:spPr>
            <a:xfrm flipH="1" flipV="1">
              <a:off x="4578480" y="2849040"/>
              <a:ext cx="568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672080" y="2854440"/>
              <a:ext cx="57240" cy="34920"/>
            </a:xfrm>
            <a:custGeom>
              <a:avLst/>
              <a:gdLst/>
              <a:ahLst/>
              <a:rect l="l" t="t" r="r" b="b"/>
              <a:pathLst>
                <a:path w="146" h="86">
                  <a:moveTo>
                    <a:pt x="23" y="86"/>
                  </a:moveTo>
                  <a:lnTo>
                    <a:pt x="146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602240" y="2886120"/>
              <a:ext cx="48960" cy="54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54" y="0"/>
                  </a:moveTo>
                  <a:lnTo>
                    <a:pt x="0" y="135"/>
                  </a:lnTo>
                  <a:lnTo>
                    <a:pt x="123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635360" y="2798640"/>
              <a:ext cx="36720" cy="55800"/>
            </a:xfrm>
            <a:custGeom>
              <a:avLst/>
              <a:gdLst/>
              <a:ahLst/>
              <a:rect l="l" t="t" r="r" b="b"/>
              <a:pathLst>
                <a:path w="90" h="141">
                  <a:moveTo>
                    <a:pt x="90" y="141"/>
                  </a:moveTo>
                  <a:lnTo>
                    <a:pt x="54" y="0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651200" y="2889360"/>
              <a:ext cx="44640" cy="55440"/>
            </a:xfrm>
            <a:custGeom>
              <a:avLst/>
              <a:gdLst/>
              <a:ahLst/>
              <a:rect l="l" t="t" r="r" b="b"/>
              <a:pathLst>
                <a:path w="113" h="141">
                  <a:moveTo>
                    <a:pt x="0" y="49"/>
                  </a:moveTo>
                  <a:lnTo>
                    <a:pt x="113" y="141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578480" y="2849400"/>
              <a:ext cx="4428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2984400" y="3436920"/>
            <a:ext cx="142920" cy="57240"/>
          </a:xfrm>
          <a:custGeom>
            <a:avLst/>
            <a:gdLst/>
            <a:ahLst/>
            <a:rect l="l" t="t" r="r" b="b"/>
            <a:pathLst>
              <a:path w="357" h="144">
                <a:moveTo>
                  <a:pt x="0" y="0"/>
                </a:moveTo>
                <a:lnTo>
                  <a:pt x="100" y="4"/>
                </a:lnTo>
                <a:lnTo>
                  <a:pt x="262" y="79"/>
                </a:lnTo>
                <a:lnTo>
                  <a:pt x="357" y="1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184560" y="3535200"/>
            <a:ext cx="108000" cy="88920"/>
          </a:xfrm>
          <a:custGeom>
            <a:avLst/>
            <a:gdLst/>
            <a:ahLst/>
            <a:rect l="l" t="t" r="r" b="b"/>
            <a:pathLst>
              <a:path w="271" h="227">
                <a:moveTo>
                  <a:pt x="0" y="0"/>
                </a:moveTo>
                <a:lnTo>
                  <a:pt x="207" y="168"/>
                </a:lnTo>
                <a:lnTo>
                  <a:pt x="271" y="22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343320" y="3673440"/>
            <a:ext cx="98280" cy="100080"/>
          </a:xfrm>
          <a:custGeom>
            <a:avLst/>
            <a:gdLst/>
            <a:ahLst/>
            <a:rect l="l" t="t" r="r" b="b"/>
            <a:pathLst>
              <a:path w="248" h="253">
                <a:moveTo>
                  <a:pt x="0" y="0"/>
                </a:moveTo>
                <a:lnTo>
                  <a:pt x="55" y="51"/>
                </a:lnTo>
                <a:lnTo>
                  <a:pt x="248" y="25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487680" y="3825720"/>
            <a:ext cx="87480" cy="109800"/>
          </a:xfrm>
          <a:custGeom>
            <a:avLst/>
            <a:gdLst/>
            <a:ahLst/>
            <a:rect l="l" t="t" r="r" b="b"/>
            <a:pathLst>
              <a:path w="221" h="277">
                <a:moveTo>
                  <a:pt x="0" y="0"/>
                </a:moveTo>
                <a:lnTo>
                  <a:pt x="142" y="166"/>
                </a:lnTo>
                <a:lnTo>
                  <a:pt x="221" y="27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616200" y="3992400"/>
            <a:ext cx="49320" cy="141480"/>
          </a:xfrm>
          <a:custGeom>
            <a:avLst/>
            <a:gdLst/>
            <a:ahLst/>
            <a:rect l="l" t="t" r="r" b="b"/>
            <a:pathLst>
              <a:path w="127" h="357">
                <a:moveTo>
                  <a:pt x="0" y="0"/>
                </a:moveTo>
                <a:lnTo>
                  <a:pt x="90" y="157"/>
                </a:lnTo>
                <a:lnTo>
                  <a:pt x="127" y="290"/>
                </a:lnTo>
                <a:lnTo>
                  <a:pt x="95" y="3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984400" y="3436920"/>
            <a:ext cx="668520" cy="709560"/>
          </a:xfrm>
          <a:custGeom>
            <a:avLst/>
            <a:gdLst/>
            <a:ahLst/>
            <a:rect l="l" t="t" r="r" b="b"/>
            <a:pathLst>
              <a:path w="1685" h="1786">
                <a:moveTo>
                  <a:pt x="0" y="0"/>
                </a:moveTo>
                <a:lnTo>
                  <a:pt x="0" y="100"/>
                </a:lnTo>
                <a:lnTo>
                  <a:pt x="69" y="264"/>
                </a:lnTo>
                <a:lnTo>
                  <a:pt x="200" y="479"/>
                </a:lnTo>
                <a:lnTo>
                  <a:pt x="384" y="725"/>
                </a:lnTo>
                <a:lnTo>
                  <a:pt x="604" y="983"/>
                </a:lnTo>
                <a:lnTo>
                  <a:pt x="844" y="1234"/>
                </a:lnTo>
                <a:lnTo>
                  <a:pt x="1084" y="1455"/>
                </a:lnTo>
                <a:lnTo>
                  <a:pt x="1303" y="1629"/>
                </a:lnTo>
                <a:lnTo>
                  <a:pt x="1486" y="1742"/>
                </a:lnTo>
                <a:lnTo>
                  <a:pt x="1617" y="1786"/>
                </a:lnTo>
                <a:lnTo>
                  <a:pt x="1685" y="17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835360" y="3300480"/>
            <a:ext cx="968400" cy="969840"/>
          </a:xfrm>
          <a:custGeom>
            <a:avLst/>
            <a:gdLst/>
            <a:ahLst/>
            <a:rect l="l" t="t" r="r" b="b"/>
            <a:pathLst>
              <a:path w="2441" h="2441">
                <a:moveTo>
                  <a:pt x="2441" y="1221"/>
                </a:moveTo>
                <a:lnTo>
                  <a:pt x="2400" y="905"/>
                </a:lnTo>
                <a:lnTo>
                  <a:pt x="2278" y="611"/>
                </a:lnTo>
                <a:lnTo>
                  <a:pt x="2084" y="358"/>
                </a:lnTo>
                <a:lnTo>
                  <a:pt x="1831" y="164"/>
                </a:lnTo>
                <a:lnTo>
                  <a:pt x="1537" y="42"/>
                </a:lnTo>
                <a:lnTo>
                  <a:pt x="1221" y="0"/>
                </a:lnTo>
                <a:lnTo>
                  <a:pt x="906" y="42"/>
                </a:lnTo>
                <a:lnTo>
                  <a:pt x="610" y="164"/>
                </a:lnTo>
                <a:lnTo>
                  <a:pt x="359" y="358"/>
                </a:lnTo>
                <a:lnTo>
                  <a:pt x="165" y="611"/>
                </a:lnTo>
                <a:lnTo>
                  <a:pt x="43" y="905"/>
                </a:lnTo>
                <a:lnTo>
                  <a:pt x="0" y="1221"/>
                </a:lnTo>
                <a:lnTo>
                  <a:pt x="43" y="1537"/>
                </a:lnTo>
                <a:lnTo>
                  <a:pt x="165" y="1831"/>
                </a:lnTo>
                <a:lnTo>
                  <a:pt x="359" y="2084"/>
                </a:lnTo>
                <a:lnTo>
                  <a:pt x="610" y="2278"/>
                </a:lnTo>
                <a:lnTo>
                  <a:pt x="906" y="2399"/>
                </a:lnTo>
                <a:lnTo>
                  <a:pt x="1221" y="2441"/>
                </a:lnTo>
                <a:lnTo>
                  <a:pt x="1537" y="2399"/>
                </a:lnTo>
                <a:lnTo>
                  <a:pt x="1831" y="2278"/>
                </a:lnTo>
                <a:lnTo>
                  <a:pt x="2084" y="2084"/>
                </a:lnTo>
                <a:lnTo>
                  <a:pt x="2278" y="1831"/>
                </a:lnTo>
                <a:lnTo>
                  <a:pt x="2400" y="1537"/>
                </a:lnTo>
                <a:lnTo>
                  <a:pt x="2441" y="122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773600" y="4133880"/>
            <a:ext cx="130320" cy="50760"/>
          </a:xfrm>
          <a:custGeom>
            <a:avLst/>
            <a:gdLst/>
            <a:ahLst/>
            <a:rect l="l" t="t" r="r" b="b"/>
            <a:pathLst>
              <a:path w="257" h="96">
                <a:moveTo>
                  <a:pt x="257" y="82"/>
                </a:moveTo>
                <a:lnTo>
                  <a:pt x="239" y="0"/>
                </a:lnTo>
                <a:lnTo>
                  <a:pt x="0" y="96"/>
                </a:lnTo>
                <a:lnTo>
                  <a:pt x="257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726080" y="2911320"/>
            <a:ext cx="65160" cy="130320"/>
          </a:xfrm>
          <a:custGeom>
            <a:avLst/>
            <a:gdLst/>
            <a:ahLst/>
            <a:rect l="l" t="t" r="r" b="b"/>
            <a:pathLst>
              <a:path w="130" h="254">
                <a:moveTo>
                  <a:pt x="50" y="254"/>
                </a:moveTo>
                <a:lnTo>
                  <a:pt x="130" y="224"/>
                </a:lnTo>
                <a:lnTo>
                  <a:pt x="0" y="0"/>
                </a:lnTo>
                <a:lnTo>
                  <a:pt x="50" y="25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773600" y="3935520"/>
            <a:ext cx="622440" cy="244440"/>
          </a:xfrm>
          <a:custGeom>
            <a:avLst/>
            <a:gdLst/>
            <a:ahLst/>
            <a:rect l="l" t="t" r="r" b="b"/>
            <a:pathLst>
              <a:path w="1568" h="619">
                <a:moveTo>
                  <a:pt x="0" y="619"/>
                </a:moveTo>
                <a:lnTo>
                  <a:pt x="591" y="491"/>
                </a:lnTo>
                <a:lnTo>
                  <a:pt x="1058" y="342"/>
                </a:lnTo>
                <a:lnTo>
                  <a:pt x="1387" y="176"/>
                </a:lnTo>
                <a:lnTo>
                  <a:pt x="1568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3317400" y="204480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317760" y="23814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3316320" y="2719440"/>
            <a:ext cx="1440" cy="111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3314880" y="3056040"/>
            <a:ext cx="144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314880" y="3392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3312720" y="3728880"/>
            <a:ext cx="180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3312720" y="406728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311640" y="4403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3311640" y="4740120"/>
            <a:ext cx="144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3309480" y="507852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309840" y="54151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241280" y="37861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79680" y="37879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917720" y="37908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254320" y="379260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590920" y="3795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928960" y="3797280"/>
            <a:ext cx="111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265560" y="3800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602160" y="3803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940200" y="38052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276800" y="38084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61340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950000" y="38131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288040" y="3816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319560" y="1703520"/>
            <a:ext cx="1481040" cy="4163760"/>
          </a:xfrm>
          <a:custGeom>
            <a:avLst/>
            <a:gdLst/>
            <a:ahLst/>
            <a:rect l="l" t="t" r="r" b="b"/>
            <a:pathLst>
              <a:path w="3732" h="10492">
                <a:moveTo>
                  <a:pt x="0" y="10492"/>
                </a:moveTo>
                <a:lnTo>
                  <a:pt x="728" y="10390"/>
                </a:lnTo>
                <a:lnTo>
                  <a:pt x="1428" y="10092"/>
                </a:lnTo>
                <a:lnTo>
                  <a:pt x="2073" y="9607"/>
                </a:lnTo>
                <a:lnTo>
                  <a:pt x="2639" y="8955"/>
                </a:lnTo>
                <a:lnTo>
                  <a:pt x="3103" y="8160"/>
                </a:lnTo>
                <a:lnTo>
                  <a:pt x="3448" y="7253"/>
                </a:lnTo>
                <a:lnTo>
                  <a:pt x="3660" y="6270"/>
                </a:lnTo>
                <a:lnTo>
                  <a:pt x="3732" y="5246"/>
                </a:lnTo>
                <a:lnTo>
                  <a:pt x="3660" y="4223"/>
                </a:lnTo>
                <a:lnTo>
                  <a:pt x="3448" y="3238"/>
                </a:lnTo>
                <a:lnTo>
                  <a:pt x="3103" y="2331"/>
                </a:lnTo>
                <a:lnTo>
                  <a:pt x="2639" y="1536"/>
                </a:lnTo>
                <a:lnTo>
                  <a:pt x="2073" y="884"/>
                </a:lnTo>
                <a:lnTo>
                  <a:pt x="1428" y="400"/>
                </a:lnTo>
                <a:lnTo>
                  <a:pt x="728" y="10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1633680" y="2108160"/>
            <a:ext cx="187200" cy="114480"/>
            <a:chOff x="1633680" y="2108160"/>
            <a:chExt cx="187200" cy="114480"/>
          </a:xfrm>
        </p:grpSpPr>
        <p:sp>
          <p:nvSpPr>
            <p:cNvPr id="888" name=""/>
            <p:cNvSpPr/>
            <p:nvPr/>
          </p:nvSpPr>
          <p:spPr>
            <a:xfrm>
              <a:off x="163368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633680" y="2163600"/>
              <a:ext cx="3780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633680" y="2220840"/>
              <a:ext cx="7452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74636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188" y="236"/>
                  </a:moveTo>
                  <a:lnTo>
                    <a:pt x="141" y="283"/>
                  </a:lnTo>
                  <a:lnTo>
                    <a:pt x="47" y="283"/>
                  </a:lnTo>
                  <a:lnTo>
                    <a:pt x="0" y="236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1" y="0"/>
                  </a:lnTo>
                  <a:lnTo>
                    <a:pt x="188" y="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4803840" y="5351400"/>
            <a:ext cx="243000" cy="112680"/>
            <a:chOff x="4803840" y="5351400"/>
            <a:chExt cx="243000" cy="112680"/>
          </a:xfrm>
        </p:grpSpPr>
        <p:sp>
          <p:nvSpPr>
            <p:cNvPr id="893" name=""/>
            <p:cNvSpPr/>
            <p:nvPr/>
          </p:nvSpPr>
          <p:spPr>
            <a:xfrm>
              <a:off x="480384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0" y="282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803840" y="5407200"/>
              <a:ext cx="363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803840" y="5462640"/>
              <a:ext cx="7452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91652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189" y="235"/>
                  </a:moveTo>
                  <a:lnTo>
                    <a:pt x="141" y="282"/>
                  </a:lnTo>
                  <a:lnTo>
                    <a:pt x="48" y="282"/>
                  </a:lnTo>
                  <a:lnTo>
                    <a:pt x="0" y="235"/>
                  </a:lnTo>
                  <a:lnTo>
                    <a:pt x="0" y="46"/>
                  </a:lnTo>
                  <a:lnTo>
                    <a:pt x="48" y="0"/>
                  </a:lnTo>
                  <a:lnTo>
                    <a:pt x="141" y="0"/>
                  </a:lnTo>
                  <a:lnTo>
                    <a:pt x="189" y="46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5027760" y="5351400"/>
              <a:ext cx="19080" cy="367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3276720" y="5756400"/>
            <a:ext cx="74520" cy="468360"/>
            <a:chOff x="3276720" y="5756400"/>
            <a:chExt cx="74520" cy="468360"/>
          </a:xfrm>
        </p:grpSpPr>
        <p:sp>
          <p:nvSpPr>
            <p:cNvPr id="899" name=""/>
            <p:cNvSpPr/>
            <p:nvPr/>
          </p:nvSpPr>
          <p:spPr>
            <a:xfrm>
              <a:off x="3276720" y="6111720"/>
              <a:ext cx="74520" cy="11304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319560" y="5756400"/>
              <a:ext cx="1440" cy="22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1409760" y="3594240"/>
            <a:ext cx="128520" cy="56880"/>
          </a:xfrm>
          <a:custGeom>
            <a:avLst/>
            <a:gdLst/>
            <a:ahLst/>
            <a:rect l="l" t="t" r="r" b="b"/>
            <a:pathLst>
              <a:path w="323" h="143">
                <a:moveTo>
                  <a:pt x="0" y="143"/>
                </a:moveTo>
                <a:lnTo>
                  <a:pt x="256" y="19"/>
                </a:lnTo>
                <a:lnTo>
                  <a:pt x="32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1808280" y="349200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222640" y="3429000"/>
            <a:ext cx="13968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2641680" y="3389400"/>
            <a:ext cx="1396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3062160" y="3370320"/>
            <a:ext cx="139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693960" y="3368520"/>
            <a:ext cx="139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114800" y="3387600"/>
            <a:ext cx="13968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533840" y="3429000"/>
            <a:ext cx="1382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948200" y="3503520"/>
            <a:ext cx="135000" cy="36720"/>
          </a:xfrm>
          <a:custGeom>
            <a:avLst/>
            <a:gdLst/>
            <a:ahLst/>
            <a:rect l="l" t="t" r="r" b="b"/>
            <a:pathLst>
              <a:path w="340" h="92">
                <a:moveTo>
                  <a:pt x="0" y="0"/>
                </a:moveTo>
                <a:lnTo>
                  <a:pt x="217" y="47"/>
                </a:lnTo>
                <a:lnTo>
                  <a:pt x="340" y="9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334120" y="3660840"/>
            <a:ext cx="61920" cy="125280"/>
          </a:xfrm>
          <a:custGeom>
            <a:avLst/>
            <a:gdLst/>
            <a:ahLst/>
            <a:rect l="l" t="t" r="r" b="b"/>
            <a:pathLst>
              <a:path w="156" h="314">
                <a:moveTo>
                  <a:pt x="0" y="0"/>
                </a:moveTo>
                <a:lnTo>
                  <a:pt x="107" y="77"/>
                </a:lnTo>
                <a:lnTo>
                  <a:pt x="156" y="3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41280" y="3786120"/>
            <a:ext cx="4154760" cy="422280"/>
          </a:xfrm>
          <a:custGeom>
            <a:avLst/>
            <a:gdLst/>
            <a:ahLst/>
            <a:rect l="l" t="t" r="r" b="b"/>
            <a:pathLst>
              <a:path w="10466" h="1063">
                <a:moveTo>
                  <a:pt x="0" y="0"/>
                </a:moveTo>
                <a:lnTo>
                  <a:pt x="106" y="152"/>
                </a:lnTo>
                <a:lnTo>
                  <a:pt x="316" y="299"/>
                </a:lnTo>
                <a:lnTo>
                  <a:pt x="626" y="442"/>
                </a:lnTo>
                <a:lnTo>
                  <a:pt x="1030" y="574"/>
                </a:lnTo>
                <a:lnTo>
                  <a:pt x="1520" y="696"/>
                </a:lnTo>
                <a:lnTo>
                  <a:pt x="2085" y="804"/>
                </a:lnTo>
                <a:lnTo>
                  <a:pt x="2714" y="894"/>
                </a:lnTo>
                <a:lnTo>
                  <a:pt x="3395" y="967"/>
                </a:lnTo>
                <a:lnTo>
                  <a:pt x="4112" y="1020"/>
                </a:lnTo>
                <a:lnTo>
                  <a:pt x="4853" y="1052"/>
                </a:lnTo>
                <a:lnTo>
                  <a:pt x="5602" y="1063"/>
                </a:lnTo>
                <a:lnTo>
                  <a:pt x="6343" y="1052"/>
                </a:lnTo>
                <a:lnTo>
                  <a:pt x="7061" y="1020"/>
                </a:lnTo>
                <a:lnTo>
                  <a:pt x="7742" y="967"/>
                </a:lnTo>
                <a:lnTo>
                  <a:pt x="8373" y="894"/>
                </a:lnTo>
                <a:lnTo>
                  <a:pt x="8938" y="804"/>
                </a:lnTo>
                <a:lnTo>
                  <a:pt x="9429" y="696"/>
                </a:lnTo>
                <a:lnTo>
                  <a:pt x="9834" y="574"/>
                </a:lnTo>
                <a:lnTo>
                  <a:pt x="10146" y="442"/>
                </a:lnTo>
                <a:lnTo>
                  <a:pt x="10358" y="299"/>
                </a:lnTo>
                <a:lnTo>
                  <a:pt x="10464" y="152"/>
                </a:lnTo>
                <a:lnTo>
                  <a:pt x="1046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298680" y="1382760"/>
            <a:ext cx="74880" cy="433440"/>
            <a:chOff x="3298680" y="1382760"/>
            <a:chExt cx="74880" cy="433440"/>
          </a:xfrm>
        </p:grpSpPr>
        <p:sp>
          <p:nvSpPr>
            <p:cNvPr id="913" name=""/>
            <p:cNvSpPr/>
            <p:nvPr/>
          </p:nvSpPr>
          <p:spPr>
            <a:xfrm>
              <a:off x="3298680" y="1382760"/>
              <a:ext cx="7488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0" y="0"/>
                  </a:moveTo>
                  <a:lnTo>
                    <a:pt x="188" y="0"/>
                  </a:lnTo>
                  <a:lnTo>
                    <a:pt x="0" y="283"/>
                  </a:lnTo>
                  <a:lnTo>
                    <a:pt x="188" y="2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319560" y="1590840"/>
              <a:ext cx="144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1236600" y="1703520"/>
            <a:ext cx="4164120" cy="4163760"/>
          </a:xfrm>
          <a:custGeom>
            <a:avLst/>
            <a:gdLst/>
            <a:ahLst/>
            <a:rect l="l" t="t" r="r" b="b"/>
            <a:pathLst>
              <a:path w="10493" h="10493">
                <a:moveTo>
                  <a:pt x="10493" y="5247"/>
                </a:moveTo>
                <a:lnTo>
                  <a:pt x="10361" y="4080"/>
                </a:lnTo>
                <a:lnTo>
                  <a:pt x="9973" y="2970"/>
                </a:lnTo>
                <a:lnTo>
                  <a:pt x="9347" y="1975"/>
                </a:lnTo>
                <a:lnTo>
                  <a:pt x="8517" y="1146"/>
                </a:lnTo>
                <a:lnTo>
                  <a:pt x="7522" y="520"/>
                </a:lnTo>
                <a:lnTo>
                  <a:pt x="6414" y="132"/>
                </a:lnTo>
                <a:lnTo>
                  <a:pt x="5246" y="0"/>
                </a:lnTo>
                <a:lnTo>
                  <a:pt x="4078" y="132"/>
                </a:lnTo>
                <a:lnTo>
                  <a:pt x="2970" y="520"/>
                </a:lnTo>
                <a:lnTo>
                  <a:pt x="1975" y="1146"/>
                </a:lnTo>
                <a:lnTo>
                  <a:pt x="1144" y="1975"/>
                </a:lnTo>
                <a:lnTo>
                  <a:pt x="519" y="2970"/>
                </a:lnTo>
                <a:lnTo>
                  <a:pt x="131" y="4080"/>
                </a:lnTo>
                <a:lnTo>
                  <a:pt x="0" y="5247"/>
                </a:lnTo>
                <a:lnTo>
                  <a:pt x="131" y="6414"/>
                </a:lnTo>
                <a:lnTo>
                  <a:pt x="519" y="7523"/>
                </a:lnTo>
                <a:lnTo>
                  <a:pt x="1144" y="8518"/>
                </a:lnTo>
                <a:lnTo>
                  <a:pt x="1975" y="9349"/>
                </a:lnTo>
                <a:lnTo>
                  <a:pt x="2970" y="9973"/>
                </a:lnTo>
                <a:lnTo>
                  <a:pt x="4078" y="10362"/>
                </a:lnTo>
                <a:lnTo>
                  <a:pt x="5246" y="10493"/>
                </a:lnTo>
                <a:lnTo>
                  <a:pt x="6414" y="10362"/>
                </a:lnTo>
                <a:lnTo>
                  <a:pt x="7522" y="9973"/>
                </a:lnTo>
                <a:lnTo>
                  <a:pt x="8517" y="9349"/>
                </a:lnTo>
                <a:lnTo>
                  <a:pt x="9347" y="8518"/>
                </a:lnTo>
                <a:lnTo>
                  <a:pt x="9973" y="7523"/>
                </a:lnTo>
                <a:lnTo>
                  <a:pt x="10361" y="6414"/>
                </a:lnTo>
                <a:lnTo>
                  <a:pt x="10493" y="52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176160" y="3581280"/>
            <a:ext cx="276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ff0000"/>
                </a:solidFill>
                <a:uFillTx/>
                <a:latin typeface="Times New Roman"/>
              </a:rPr>
              <a:t>Altur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edido desde el Ecuador Local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Astro. Se mide 0º a 90º. Se defin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oaltura (z) como z=90º-h, siendo lo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n Topografía se denomina ángu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vertical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5400" y="1143000"/>
            <a:ext cx="197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que p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 el Punto Cardinal 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4571640" y="1600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794560" y="5410080"/>
            <a:ext cx="190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 flipV="1">
            <a:off x="4724280" y="457200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59360" y="464832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Local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160020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16800" y="15238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4723920" y="17524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4120" y="12193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914400" y="1447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364120" y="1066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116600" y="63244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666880" y="12952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 flipV="1">
            <a:off x="3428640" y="61718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019920" y="243828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152244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ángulo de 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778280" y="6796080"/>
            <a:ext cx="79560" cy="92160"/>
          </a:xfrm>
          <a:custGeom>
            <a:avLst/>
            <a:gdLst/>
            <a:ahLst/>
            <a:rect l="l" t="t" r="r" b="b"/>
            <a:pathLst>
              <a:path w="200" h="231">
                <a:moveTo>
                  <a:pt x="200" y="231"/>
                </a:moveTo>
                <a:lnTo>
                  <a:pt x="103" y="14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5942160" y="1066680"/>
            <a:ext cx="2452680" cy="1265400"/>
            <a:chOff x="5942160" y="1066680"/>
            <a:chExt cx="2452680" cy="1265400"/>
          </a:xfrm>
        </p:grpSpPr>
        <p:sp>
          <p:nvSpPr>
            <p:cNvPr id="935" name=""/>
            <p:cNvSpPr/>
            <p:nvPr/>
          </p:nvSpPr>
          <p:spPr>
            <a:xfrm>
              <a:off x="7261200" y="1785960"/>
              <a:ext cx="428760" cy="272880"/>
            </a:xfrm>
            <a:custGeom>
              <a:avLst/>
              <a:gdLst/>
              <a:ahLst/>
              <a:rect l="l" t="t" r="r" b="b"/>
              <a:pathLst>
                <a:path w="1077" h="689">
                  <a:moveTo>
                    <a:pt x="1077" y="689"/>
                  </a:moveTo>
                  <a:lnTo>
                    <a:pt x="1046" y="438"/>
                  </a:lnTo>
                  <a:lnTo>
                    <a:pt x="918" y="218"/>
                  </a:lnTo>
                  <a:lnTo>
                    <a:pt x="716" y="65"/>
                  </a:lnTo>
                  <a:lnTo>
                    <a:pt x="470" y="0"/>
                  </a:lnTo>
                  <a:lnTo>
                    <a:pt x="219" y="34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24960" y="1816200"/>
              <a:ext cx="74520" cy="249120"/>
            </a:xfrm>
            <a:custGeom>
              <a:avLst/>
              <a:gdLst/>
              <a:ahLst/>
              <a:rect l="l" t="t" r="r" b="b"/>
              <a:pathLst>
                <a:path w="187" h="628">
                  <a:moveTo>
                    <a:pt x="187" y="0"/>
                  </a:moveTo>
                  <a:lnTo>
                    <a:pt x="34" y="179"/>
                  </a:lnTo>
                  <a:lnTo>
                    <a:pt x="0" y="411"/>
                  </a:lnTo>
                  <a:lnTo>
                    <a:pt x="93" y="6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40640" y="1284120"/>
              <a:ext cx="171360" cy="138240"/>
            </a:xfrm>
            <a:custGeom>
              <a:avLst/>
              <a:gdLst/>
              <a:ahLst/>
              <a:rect l="l" t="t" r="r" b="b"/>
              <a:pathLst>
                <a:path w="434" h="348">
                  <a:moveTo>
                    <a:pt x="0" y="312"/>
                  </a:moveTo>
                  <a:lnTo>
                    <a:pt x="160" y="348"/>
                  </a:lnTo>
                  <a:lnTo>
                    <a:pt x="316" y="294"/>
                  </a:lnTo>
                  <a:lnTo>
                    <a:pt x="417" y="163"/>
                  </a:lnTo>
                  <a:lnTo>
                    <a:pt x="43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8" name=""/>
            <p:cNvGrpSpPr/>
            <p:nvPr/>
          </p:nvGrpSpPr>
          <p:grpSpPr>
            <a:xfrm>
              <a:off x="7416720" y="1863720"/>
              <a:ext cx="141480" cy="187200"/>
              <a:chOff x="7416720" y="1863720"/>
              <a:chExt cx="141480" cy="187200"/>
            </a:xfrm>
          </p:grpSpPr>
          <p:sp>
            <p:nvSpPr>
              <p:cNvPr id="939" name=""/>
              <p:cNvSpPr/>
              <p:nvPr/>
            </p:nvSpPr>
            <p:spPr>
              <a:xfrm>
                <a:off x="7553520" y="2049480"/>
                <a:ext cx="4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534440" y="2035080"/>
                <a:ext cx="1908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518600" y="2020680"/>
                <a:ext cx="1584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518600" y="1995480"/>
                <a:ext cx="144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518600" y="1966680"/>
                <a:ext cx="144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518600" y="1952640"/>
                <a:ext cx="144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518600" y="1927080"/>
                <a:ext cx="144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513560" y="190800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508880" y="1893960"/>
                <a:ext cx="468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504200" y="1878120"/>
                <a:ext cx="46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491600" y="1871640"/>
                <a:ext cx="1260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480440" y="1868400"/>
                <a:ext cx="111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V="1">
                <a:off x="7454880" y="1868040"/>
                <a:ext cx="2556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V="1">
                <a:off x="7437600" y="1873080"/>
                <a:ext cx="172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454880" y="197172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454880" y="1962000"/>
                <a:ext cx="180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450200" y="1952640"/>
                <a:ext cx="468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450200" y="1936800"/>
                <a:ext cx="144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445520" y="1908000"/>
                <a:ext cx="468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435800" y="1882800"/>
                <a:ext cx="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416720" y="1863720"/>
                <a:ext cx="1908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 flipV="1">
              <a:off x="791532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915320" y="1992240"/>
              <a:ext cx="777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99308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704280" y="1254240"/>
              <a:ext cx="77760" cy="117360"/>
            </a:xfrm>
            <a:custGeom>
              <a:avLst/>
              <a:gdLst/>
              <a:ahLst/>
              <a:rect l="l" t="t" r="r" b="b"/>
              <a:pathLst>
                <a:path w="195" h="292">
                  <a:moveTo>
                    <a:pt x="0" y="292"/>
                  </a:moveTo>
                  <a:lnTo>
                    <a:pt x="0" y="195"/>
                  </a:lnTo>
                  <a:lnTo>
                    <a:pt x="98" y="0"/>
                  </a:lnTo>
                  <a:lnTo>
                    <a:pt x="195" y="195"/>
                  </a:lnTo>
                  <a:lnTo>
                    <a:pt x="195" y="29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704280" y="1332000"/>
              <a:ext cx="77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013960" y="2179440"/>
              <a:ext cx="52200" cy="93960"/>
            </a:xfrm>
            <a:custGeom>
              <a:avLst/>
              <a:gdLst/>
              <a:ahLst/>
              <a:rect l="l" t="t" r="r" b="b"/>
              <a:pathLst>
                <a:path w="133" h="238">
                  <a:moveTo>
                    <a:pt x="133" y="39"/>
                  </a:moveTo>
                  <a:lnTo>
                    <a:pt x="93" y="0"/>
                  </a:lnTo>
                  <a:lnTo>
                    <a:pt x="36" y="3"/>
                  </a:lnTo>
                  <a:lnTo>
                    <a:pt x="0" y="45"/>
                  </a:lnTo>
                  <a:lnTo>
                    <a:pt x="5" y="101"/>
                  </a:lnTo>
                  <a:lnTo>
                    <a:pt x="110" y="2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993080" y="2260440"/>
              <a:ext cx="71640" cy="7164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01" y="0"/>
                  </a:moveTo>
                  <a:lnTo>
                    <a:pt x="34" y="19"/>
                  </a:lnTo>
                  <a:lnTo>
                    <a:pt x="0" y="80"/>
                  </a:lnTo>
                  <a:lnTo>
                    <a:pt x="20" y="148"/>
                  </a:lnTo>
                  <a:lnTo>
                    <a:pt x="81" y="181"/>
                  </a:lnTo>
                  <a:lnTo>
                    <a:pt x="147" y="162"/>
                  </a:lnTo>
                  <a:lnTo>
                    <a:pt x="182" y="101"/>
                  </a:lnTo>
                  <a:lnTo>
                    <a:pt x="163" y="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667640" y="2192400"/>
              <a:ext cx="77760" cy="115920"/>
            </a:xfrm>
            <a:custGeom>
              <a:avLst/>
              <a:gdLst/>
              <a:ahLst/>
              <a:rect l="l" t="t" r="r" b="b"/>
              <a:pathLst>
                <a:path w="196" h="294">
                  <a:moveTo>
                    <a:pt x="49" y="294"/>
                  </a:moveTo>
                  <a:lnTo>
                    <a:pt x="99" y="294"/>
                  </a:lnTo>
                  <a:lnTo>
                    <a:pt x="196" y="195"/>
                  </a:lnTo>
                  <a:lnTo>
                    <a:pt x="196" y="49"/>
                  </a:lnTo>
                  <a:lnTo>
                    <a:pt x="148" y="0"/>
                  </a:lnTo>
                  <a:lnTo>
                    <a:pt x="49" y="0"/>
                  </a:lnTo>
                  <a:lnTo>
                    <a:pt x="0" y="49"/>
                  </a:lnTo>
                  <a:lnTo>
                    <a:pt x="0" y="98"/>
                  </a:lnTo>
                  <a:lnTo>
                    <a:pt x="49" y="147"/>
                  </a:lnTo>
                  <a:lnTo>
                    <a:pt x="196" y="1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785360" y="2192400"/>
              <a:ext cx="56880" cy="115920"/>
            </a:xfrm>
            <a:custGeom>
              <a:avLst/>
              <a:gdLst/>
              <a:ahLst/>
              <a:rect l="l" t="t" r="r" b="b"/>
              <a:pathLst>
                <a:path w="146" h="294">
                  <a:moveTo>
                    <a:pt x="49" y="294"/>
                  </a:moveTo>
                  <a:lnTo>
                    <a:pt x="0" y="244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97" y="0"/>
                  </a:lnTo>
                  <a:lnTo>
                    <a:pt x="146" y="49"/>
                  </a:lnTo>
                  <a:lnTo>
                    <a:pt x="146" y="244"/>
                  </a:lnTo>
                  <a:lnTo>
                    <a:pt x="97" y="294"/>
                  </a:lnTo>
                  <a:lnTo>
                    <a:pt x="49" y="2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7920000" y="2211480"/>
              <a:ext cx="1800" cy="77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7882200" y="2251080"/>
              <a:ext cx="77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811920" y="1643040"/>
              <a:ext cx="82800" cy="82440"/>
            </a:xfrm>
            <a:custGeom>
              <a:avLst/>
              <a:gdLst/>
              <a:ahLst/>
              <a:rect l="l" t="t" r="r" b="b"/>
              <a:pathLst>
                <a:path w="207" h="209">
                  <a:moveTo>
                    <a:pt x="13" y="0"/>
                  </a:moveTo>
                  <a:lnTo>
                    <a:pt x="207" y="15"/>
                  </a:lnTo>
                  <a:lnTo>
                    <a:pt x="0" y="196"/>
                  </a:lnTo>
                  <a:lnTo>
                    <a:pt x="194" y="209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2" name=""/>
            <p:cNvGrpSpPr/>
            <p:nvPr/>
          </p:nvGrpSpPr>
          <p:grpSpPr>
            <a:xfrm>
              <a:off x="7290000" y="1219320"/>
              <a:ext cx="417240" cy="279360"/>
              <a:chOff x="7290000" y="1219320"/>
              <a:chExt cx="417240" cy="279360"/>
            </a:xfrm>
          </p:grpSpPr>
          <p:sp>
            <p:nvSpPr>
              <p:cNvPr id="973" name=""/>
              <p:cNvSpPr/>
              <p:nvPr/>
            </p:nvSpPr>
            <p:spPr>
              <a:xfrm flipH="1">
                <a:off x="7581600" y="1361880"/>
                <a:ext cx="79560" cy="13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661520" y="1338120"/>
                <a:ext cx="45720" cy="23760"/>
              </a:xfrm>
              <a:custGeom>
                <a:avLst/>
                <a:gdLst/>
                <a:ahLst/>
                <a:rect l="l" t="t" r="r" b="b"/>
                <a:pathLst>
                  <a:path w="115" h="60">
                    <a:moveTo>
                      <a:pt x="115" y="52"/>
                    </a:moveTo>
                    <a:lnTo>
                      <a:pt x="94" y="14"/>
                    </a:lnTo>
                    <a:lnTo>
                      <a:pt x="54" y="0"/>
                    </a:lnTo>
                    <a:lnTo>
                      <a:pt x="14" y="19"/>
                    </a:lnTo>
                    <a:lnTo>
                      <a:pt x="0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631280" y="1359000"/>
                <a:ext cx="75960" cy="50760"/>
              </a:xfrm>
              <a:custGeom>
                <a:avLst/>
                <a:gdLst/>
                <a:ahLst/>
                <a:rect l="l" t="t" r="r" b="b"/>
                <a:pathLst>
                  <a:path w="191" h="132">
                    <a:moveTo>
                      <a:pt x="0" y="108"/>
                    </a:moveTo>
                    <a:lnTo>
                      <a:pt x="86" y="132"/>
                    </a:lnTo>
                    <a:lnTo>
                      <a:pt x="166" y="87"/>
                    </a:lnTo>
                    <a:lnTo>
                      <a:pt x="19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13640" y="132084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81" h="202">
                    <a:moveTo>
                      <a:pt x="81" y="0"/>
                    </a:moveTo>
                    <a:lnTo>
                      <a:pt x="15" y="50"/>
                    </a:lnTo>
                    <a:lnTo>
                      <a:pt x="0" y="131"/>
                    </a:lnTo>
                    <a:lnTo>
                      <a:pt x="44" y="20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290000" y="1219320"/>
                <a:ext cx="88920" cy="115560"/>
              </a:xfrm>
              <a:custGeom>
                <a:avLst/>
                <a:gdLst/>
                <a:ahLst/>
                <a:rect l="l" t="t" r="r" b="b"/>
                <a:pathLst>
                  <a:path w="220" h="293">
                    <a:moveTo>
                      <a:pt x="0" y="276"/>
                    </a:moveTo>
                    <a:lnTo>
                      <a:pt x="45" y="293"/>
                    </a:lnTo>
                    <a:lnTo>
                      <a:pt x="170" y="234"/>
                    </a:lnTo>
                    <a:lnTo>
                      <a:pt x="220" y="96"/>
                    </a:lnTo>
                    <a:lnTo>
                      <a:pt x="191" y="34"/>
                    </a:lnTo>
                    <a:lnTo>
                      <a:pt x="100" y="0"/>
                    </a:lnTo>
                    <a:lnTo>
                      <a:pt x="36" y="30"/>
                    </a:lnTo>
                    <a:lnTo>
                      <a:pt x="20" y="76"/>
                    </a:lnTo>
                    <a:lnTo>
                      <a:pt x="49" y="139"/>
                    </a:lnTo>
                    <a:lnTo>
                      <a:pt x="187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388280" y="1258920"/>
                <a:ext cx="81000" cy="115920"/>
              </a:xfrm>
              <a:custGeom>
                <a:avLst/>
                <a:gdLst/>
                <a:ahLst/>
                <a:rect l="l" t="t" r="r" b="b"/>
                <a:pathLst>
                  <a:path w="204" h="292">
                    <a:moveTo>
                      <a:pt x="29" y="275"/>
                    </a:moveTo>
                    <a:lnTo>
                      <a:pt x="0" y="213"/>
                    </a:lnTo>
                    <a:lnTo>
                      <a:pt x="66" y="29"/>
                    </a:lnTo>
                    <a:lnTo>
                      <a:pt x="129" y="0"/>
                    </a:lnTo>
                    <a:lnTo>
                      <a:pt x="175" y="16"/>
                    </a:lnTo>
                    <a:lnTo>
                      <a:pt x="204" y="79"/>
                    </a:lnTo>
                    <a:lnTo>
                      <a:pt x="138" y="262"/>
                    </a:lnTo>
                    <a:lnTo>
                      <a:pt x="75" y="292"/>
                    </a:lnTo>
                    <a:lnTo>
                      <a:pt x="29" y="27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7515360" y="1315440"/>
                <a:ext cx="27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 flipV="1">
                <a:off x="7492680" y="1339920"/>
                <a:ext cx="73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>
              <a:off x="7456680" y="2058840"/>
              <a:ext cx="938160" cy="198360"/>
            </a:xfrm>
            <a:custGeom>
              <a:avLst/>
              <a:gdLst/>
              <a:ahLst/>
              <a:rect l="l" t="t" r="r" b="b"/>
              <a:pathLst>
                <a:path w="2367" h="497">
                  <a:moveTo>
                    <a:pt x="0" y="44"/>
                  </a:moveTo>
                  <a:lnTo>
                    <a:pt x="720" y="0"/>
                  </a:lnTo>
                  <a:lnTo>
                    <a:pt x="1362" y="62"/>
                  </a:lnTo>
                  <a:lnTo>
                    <a:pt x="1914" y="229"/>
                  </a:lnTo>
                  <a:lnTo>
                    <a:pt x="2367" y="4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42160" y="1066680"/>
              <a:ext cx="2452680" cy="1190520"/>
            </a:xfrm>
            <a:custGeom>
              <a:avLst/>
              <a:gdLst/>
              <a:ahLst/>
              <a:rect l="l" t="t" r="r" b="b"/>
              <a:pathLst>
                <a:path w="6183" h="2997">
                  <a:moveTo>
                    <a:pt x="6183" y="2997"/>
                  </a:moveTo>
                  <a:lnTo>
                    <a:pt x="5457" y="2306"/>
                  </a:lnTo>
                  <a:lnTo>
                    <a:pt x="4663" y="1694"/>
                  </a:lnTo>
                  <a:lnTo>
                    <a:pt x="3811" y="1165"/>
                  </a:lnTo>
                  <a:lnTo>
                    <a:pt x="2908" y="728"/>
                  </a:lnTo>
                  <a:lnTo>
                    <a:pt x="1966" y="385"/>
                  </a:lnTo>
                  <a:lnTo>
                    <a:pt x="992" y="14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42160" y="1066680"/>
              <a:ext cx="1514520" cy="1009800"/>
            </a:xfrm>
            <a:custGeom>
              <a:avLst/>
              <a:gdLst/>
              <a:ahLst/>
              <a:rect l="l" t="t" r="r" b="b"/>
              <a:pathLst>
                <a:path w="3816" h="2544">
                  <a:moveTo>
                    <a:pt x="3816" y="2544"/>
                  </a:moveTo>
                  <a:lnTo>
                    <a:pt x="3148" y="1791"/>
                  </a:lnTo>
                  <a:lnTo>
                    <a:pt x="2421" y="1150"/>
                  </a:lnTo>
                  <a:lnTo>
                    <a:pt x="1647" y="634"/>
                  </a:lnTo>
                  <a:lnTo>
                    <a:pt x="835" y="24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3568680" y="1660680"/>
            <a:ext cx="108000" cy="109440"/>
          </a:xfrm>
          <a:custGeom>
            <a:avLst/>
            <a:gdLst/>
            <a:ahLst/>
            <a:rect l="l" t="t" r="r" b="b"/>
            <a:pathLst>
              <a:path w="275" h="275">
                <a:moveTo>
                  <a:pt x="128" y="0"/>
                </a:moveTo>
                <a:lnTo>
                  <a:pt x="275" y="127"/>
                </a:lnTo>
                <a:lnTo>
                  <a:pt x="0" y="147"/>
                </a:lnTo>
                <a:lnTo>
                  <a:pt x="148" y="27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67200" y="1390680"/>
            <a:ext cx="76320" cy="73080"/>
          </a:xfrm>
          <a:custGeom>
            <a:avLst/>
            <a:gdLst/>
            <a:ahLst/>
            <a:rect l="l" t="t" r="r" b="b"/>
            <a:pathLst>
              <a:path w="191" h="183">
                <a:moveTo>
                  <a:pt x="0" y="159"/>
                </a:moveTo>
                <a:lnTo>
                  <a:pt x="86" y="183"/>
                </a:lnTo>
                <a:lnTo>
                  <a:pt x="166" y="138"/>
                </a:lnTo>
                <a:lnTo>
                  <a:pt x="191" y="52"/>
                </a:lnTo>
                <a:lnTo>
                  <a:pt x="170" y="13"/>
                </a:lnTo>
                <a:lnTo>
                  <a:pt x="128" y="0"/>
                </a:lnTo>
                <a:lnTo>
                  <a:pt x="90" y="20"/>
                </a:lnTo>
                <a:lnTo>
                  <a:pt x="75" y="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949560" y="1374840"/>
            <a:ext cx="33480" cy="79200"/>
          </a:xfrm>
          <a:custGeom>
            <a:avLst/>
            <a:gdLst/>
            <a:ahLst/>
            <a:rect l="l" t="t" r="r" b="b"/>
            <a:pathLst>
              <a:path w="81" h="202">
                <a:moveTo>
                  <a:pt x="81" y="0"/>
                </a:moveTo>
                <a:lnTo>
                  <a:pt x="14" y="51"/>
                </a:lnTo>
                <a:lnTo>
                  <a:pt x="0" y="132"/>
                </a:lnTo>
                <a:lnTo>
                  <a:pt x="44" y="20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3917520" y="1414440"/>
            <a:ext cx="795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627360" y="1273320"/>
            <a:ext cx="87480" cy="115920"/>
          </a:xfrm>
          <a:custGeom>
            <a:avLst/>
            <a:gdLst/>
            <a:ahLst/>
            <a:rect l="l" t="t" r="r" b="b"/>
            <a:pathLst>
              <a:path w="221" h="292">
                <a:moveTo>
                  <a:pt x="0" y="276"/>
                </a:moveTo>
                <a:lnTo>
                  <a:pt x="46" y="292"/>
                </a:lnTo>
                <a:lnTo>
                  <a:pt x="171" y="234"/>
                </a:lnTo>
                <a:lnTo>
                  <a:pt x="221" y="96"/>
                </a:lnTo>
                <a:lnTo>
                  <a:pt x="192" y="33"/>
                </a:lnTo>
                <a:lnTo>
                  <a:pt x="99" y="0"/>
                </a:lnTo>
                <a:lnTo>
                  <a:pt x="36" y="29"/>
                </a:lnTo>
                <a:lnTo>
                  <a:pt x="20" y="76"/>
                </a:lnTo>
                <a:lnTo>
                  <a:pt x="50" y="138"/>
                </a:lnTo>
                <a:lnTo>
                  <a:pt x="188" y="1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726000" y="1311120"/>
            <a:ext cx="81000" cy="115920"/>
          </a:xfrm>
          <a:custGeom>
            <a:avLst/>
            <a:gdLst/>
            <a:ahLst/>
            <a:rect l="l" t="t" r="r" b="b"/>
            <a:pathLst>
              <a:path w="205" h="292">
                <a:moveTo>
                  <a:pt x="30" y="275"/>
                </a:moveTo>
                <a:lnTo>
                  <a:pt x="0" y="212"/>
                </a:lnTo>
                <a:lnTo>
                  <a:pt x="67" y="29"/>
                </a:lnTo>
                <a:lnTo>
                  <a:pt x="129" y="0"/>
                </a:lnTo>
                <a:lnTo>
                  <a:pt x="174" y="16"/>
                </a:lnTo>
                <a:lnTo>
                  <a:pt x="205" y="78"/>
                </a:lnTo>
                <a:lnTo>
                  <a:pt x="138" y="263"/>
                </a:lnTo>
                <a:lnTo>
                  <a:pt x="76" y="292"/>
                </a:lnTo>
                <a:lnTo>
                  <a:pt x="30" y="2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3852720" y="1370160"/>
            <a:ext cx="2700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 flipV="1">
            <a:off x="3828600" y="1391760"/>
            <a:ext cx="730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613400" y="2160720"/>
            <a:ext cx="41040" cy="5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610160" y="2120760"/>
            <a:ext cx="54000" cy="3996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38"/>
                </a:moveTo>
                <a:lnTo>
                  <a:pt x="93" y="0"/>
                </a:lnTo>
                <a:lnTo>
                  <a:pt x="38" y="2"/>
                </a:lnTo>
                <a:lnTo>
                  <a:pt x="0" y="45"/>
                </a:lnTo>
                <a:lnTo>
                  <a:pt x="6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589640" y="2200320"/>
            <a:ext cx="72720" cy="73080"/>
          </a:xfrm>
          <a:custGeom>
            <a:avLst/>
            <a:gdLst/>
            <a:ahLst/>
            <a:rect l="l" t="t" r="r" b="b"/>
            <a:pathLst>
              <a:path w="180" h="181">
                <a:moveTo>
                  <a:pt x="99" y="0"/>
                </a:moveTo>
                <a:lnTo>
                  <a:pt x="33" y="18"/>
                </a:lnTo>
                <a:lnTo>
                  <a:pt x="0" y="80"/>
                </a:lnTo>
                <a:lnTo>
                  <a:pt x="18" y="147"/>
                </a:lnTo>
                <a:lnTo>
                  <a:pt x="79" y="181"/>
                </a:lnTo>
                <a:lnTo>
                  <a:pt x="147" y="162"/>
                </a:lnTo>
                <a:lnTo>
                  <a:pt x="180" y="101"/>
                </a:lnTo>
                <a:lnTo>
                  <a:pt x="162" y="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265640" y="2133720"/>
            <a:ext cx="77760" cy="1159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48" y="294"/>
                </a:moveTo>
                <a:lnTo>
                  <a:pt x="97" y="294"/>
                </a:lnTo>
                <a:lnTo>
                  <a:pt x="195" y="196"/>
                </a:lnTo>
                <a:lnTo>
                  <a:pt x="195" y="50"/>
                </a:lnTo>
                <a:lnTo>
                  <a:pt x="146" y="0"/>
                </a:lnTo>
                <a:lnTo>
                  <a:pt x="48" y="0"/>
                </a:lnTo>
                <a:lnTo>
                  <a:pt x="0" y="50"/>
                </a:lnTo>
                <a:lnTo>
                  <a:pt x="0" y="99"/>
                </a:lnTo>
                <a:lnTo>
                  <a:pt x="48" y="147"/>
                </a:lnTo>
                <a:lnTo>
                  <a:pt x="195" y="1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381560" y="2133720"/>
            <a:ext cx="57240" cy="115920"/>
          </a:xfrm>
          <a:custGeom>
            <a:avLst/>
            <a:gdLst/>
            <a:ahLst/>
            <a:rect l="l" t="t" r="r" b="b"/>
            <a:pathLst>
              <a:path w="147" h="294">
                <a:moveTo>
                  <a:pt x="50" y="294"/>
                </a:moveTo>
                <a:lnTo>
                  <a:pt x="0" y="245"/>
                </a:lnTo>
                <a:lnTo>
                  <a:pt x="0" y="50"/>
                </a:lnTo>
                <a:lnTo>
                  <a:pt x="50" y="0"/>
                </a:lnTo>
                <a:lnTo>
                  <a:pt x="99" y="0"/>
                </a:lnTo>
                <a:lnTo>
                  <a:pt x="147" y="50"/>
                </a:lnTo>
                <a:lnTo>
                  <a:pt x="147" y="245"/>
                </a:lnTo>
                <a:lnTo>
                  <a:pt x="99" y="294"/>
                </a:lnTo>
                <a:lnTo>
                  <a:pt x="5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4516560" y="2152800"/>
            <a:ext cx="144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4478400" y="219060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627280" y="2224080"/>
            <a:ext cx="38160" cy="115920"/>
          </a:xfrm>
          <a:custGeom>
            <a:avLst/>
            <a:gdLst/>
            <a:ahLst/>
            <a:rect l="l" t="t" r="r" b="b"/>
            <a:pathLst>
              <a:path w="97" h="294">
                <a:moveTo>
                  <a:pt x="97" y="0"/>
                </a:moveTo>
                <a:lnTo>
                  <a:pt x="0" y="99"/>
                </a:lnTo>
                <a:lnTo>
                  <a:pt x="0" y="196"/>
                </a:lnTo>
                <a:lnTo>
                  <a:pt x="97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703600" y="228276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819520" y="2224080"/>
            <a:ext cx="39600" cy="115920"/>
          </a:xfrm>
          <a:custGeom>
            <a:avLst/>
            <a:gdLst/>
            <a:ahLst/>
            <a:rect l="l" t="t" r="r" b="b"/>
            <a:pathLst>
              <a:path w="98" h="294">
                <a:moveTo>
                  <a:pt x="0" y="0"/>
                </a:moveTo>
                <a:lnTo>
                  <a:pt x="98" y="99"/>
                </a:lnTo>
                <a:lnTo>
                  <a:pt x="98" y="196"/>
                </a:lnTo>
                <a:lnTo>
                  <a:pt x="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516040" y="2292480"/>
            <a:ext cx="73080" cy="712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01" y="0"/>
                </a:moveTo>
                <a:lnTo>
                  <a:pt x="34" y="20"/>
                </a:lnTo>
                <a:lnTo>
                  <a:pt x="0" y="81"/>
                </a:lnTo>
                <a:lnTo>
                  <a:pt x="20" y="147"/>
                </a:lnTo>
                <a:lnTo>
                  <a:pt x="81" y="182"/>
                </a:lnTo>
                <a:lnTo>
                  <a:pt x="147" y="162"/>
                </a:lnTo>
                <a:lnTo>
                  <a:pt x="182" y="101"/>
                </a:lnTo>
                <a:lnTo>
                  <a:pt x="163" y="3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540160" y="2251080"/>
            <a:ext cx="41040" cy="5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538360" y="2211480"/>
            <a:ext cx="52560" cy="3960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40"/>
                </a:moveTo>
                <a:lnTo>
                  <a:pt x="93" y="0"/>
                </a:lnTo>
                <a:lnTo>
                  <a:pt x="36" y="3"/>
                </a:lnTo>
                <a:lnTo>
                  <a:pt x="0" y="46"/>
                </a:lnTo>
                <a:lnTo>
                  <a:pt x="5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994040" y="1292400"/>
            <a:ext cx="37800" cy="115560"/>
          </a:xfrm>
          <a:custGeom>
            <a:avLst/>
            <a:gdLst/>
            <a:ahLst/>
            <a:rect l="l" t="t" r="r" b="b"/>
            <a:pathLst>
              <a:path w="97" h="292">
                <a:moveTo>
                  <a:pt x="97" y="0"/>
                </a:moveTo>
                <a:lnTo>
                  <a:pt x="0" y="97"/>
                </a:lnTo>
                <a:lnTo>
                  <a:pt x="0" y="195"/>
                </a:lnTo>
                <a:lnTo>
                  <a:pt x="97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071800" y="13492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187720" y="1292400"/>
            <a:ext cx="37800" cy="115560"/>
          </a:xfrm>
          <a:custGeom>
            <a:avLst/>
            <a:gdLst/>
            <a:ahLst/>
            <a:rect l="l" t="t" r="r" b="b"/>
            <a:pathLst>
              <a:path w="99" h="292">
                <a:moveTo>
                  <a:pt x="0" y="0"/>
                </a:moveTo>
                <a:lnTo>
                  <a:pt x="99" y="97"/>
                </a:lnTo>
                <a:lnTo>
                  <a:pt x="99" y="195"/>
                </a:lnTo>
                <a:lnTo>
                  <a:pt x="0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886040" y="1347840"/>
            <a:ext cx="3024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879560" y="1309680"/>
            <a:ext cx="39600" cy="38160"/>
          </a:xfrm>
          <a:custGeom>
            <a:avLst/>
            <a:gdLst/>
            <a:ahLst/>
            <a:rect l="l" t="t" r="r" b="b"/>
            <a:pathLst>
              <a:path w="97" h="97">
                <a:moveTo>
                  <a:pt x="97" y="16"/>
                </a:moveTo>
                <a:lnTo>
                  <a:pt x="57" y="0"/>
                </a:lnTo>
                <a:lnTo>
                  <a:pt x="17" y="18"/>
                </a:lnTo>
                <a:lnTo>
                  <a:pt x="0" y="57"/>
                </a:lnTo>
                <a:lnTo>
                  <a:pt x="16" y="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89280" y="1316160"/>
            <a:ext cx="44280" cy="82440"/>
          </a:xfrm>
          <a:custGeom>
            <a:avLst/>
            <a:gdLst/>
            <a:ahLst/>
            <a:rect l="l" t="t" r="r" b="b"/>
            <a:pathLst>
              <a:path w="112" h="206">
                <a:moveTo>
                  <a:pt x="0" y="206"/>
                </a:moveTo>
                <a:lnTo>
                  <a:pt x="82" y="168"/>
                </a:lnTo>
                <a:lnTo>
                  <a:pt x="112" y="83"/>
                </a:lnTo>
                <a:lnTo>
                  <a:pt x="7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841400" y="1327320"/>
            <a:ext cx="47880" cy="7128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17" y="0"/>
                </a:moveTo>
                <a:lnTo>
                  <a:pt x="0" y="81"/>
                </a:lnTo>
                <a:lnTo>
                  <a:pt x="42" y="152"/>
                </a:lnTo>
                <a:lnTo>
                  <a:pt x="120" y="1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3740040" y="1568160"/>
            <a:ext cx="10476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3681360" y="1536480"/>
            <a:ext cx="92160" cy="9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3621240" y="1509480"/>
            <a:ext cx="7776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3557520" y="1482840"/>
            <a:ext cx="6372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3490920" y="1458720"/>
            <a:ext cx="5256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3421080" y="1438200"/>
            <a:ext cx="396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3348000" y="1420560"/>
            <a:ext cx="270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3270240" y="1406160"/>
            <a:ext cx="17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3795840" y="1599840"/>
            <a:ext cx="12060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3848040" y="1634760"/>
            <a:ext cx="135000" cy="13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3898800" y="1671120"/>
            <a:ext cx="150840" cy="15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3948120" y="1711440"/>
            <a:ext cx="165240" cy="16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3994200" y="19126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4030560" y="1750680"/>
            <a:ext cx="146160" cy="144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4089240" y="1792440"/>
            <a:ext cx="147960" cy="14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4187880" y="1836720"/>
            <a:ext cx="1080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4281480" y="1882800"/>
            <a:ext cx="7128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4367160" y="1929960"/>
            <a:ext cx="396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4441680" y="19792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4508640" y="203004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1450800" y="2652840"/>
            <a:ext cx="180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450800" y="2711520"/>
            <a:ext cx="78120" cy="144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528920" y="2652840"/>
            <a:ext cx="144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909800" y="3116160"/>
            <a:ext cx="10476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69" y="0"/>
                </a:moveTo>
                <a:lnTo>
                  <a:pt x="0" y="55"/>
                </a:lnTo>
                <a:lnTo>
                  <a:pt x="198" y="234"/>
                </a:lnTo>
                <a:lnTo>
                  <a:pt x="6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366920" y="2100240"/>
            <a:ext cx="620640" cy="1109520"/>
          </a:xfrm>
          <a:custGeom>
            <a:avLst/>
            <a:gdLst/>
            <a:ahLst/>
            <a:rect l="l" t="t" r="r" b="b"/>
            <a:pathLst>
              <a:path w="1565" h="2795">
                <a:moveTo>
                  <a:pt x="1565" y="2795"/>
                </a:moveTo>
                <a:lnTo>
                  <a:pt x="1076" y="2171"/>
                </a:lnTo>
                <a:lnTo>
                  <a:pt x="667" y="1590"/>
                </a:lnTo>
                <a:lnTo>
                  <a:pt x="346" y="1069"/>
                </a:lnTo>
                <a:lnTo>
                  <a:pt x="124" y="623"/>
                </a:lnTo>
                <a:lnTo>
                  <a:pt x="9" y="26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 flipV="1">
            <a:off x="1401840" y="1872720"/>
            <a:ext cx="71280" cy="7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862440" y="1900080"/>
            <a:ext cx="136440" cy="46080"/>
          </a:xfrm>
          <a:custGeom>
            <a:avLst/>
            <a:gdLst/>
            <a:ahLst/>
            <a:rect l="l" t="t" r="r" b="b"/>
            <a:pathLst>
              <a:path w="268" h="93">
                <a:moveTo>
                  <a:pt x="0" y="7"/>
                </a:moveTo>
                <a:lnTo>
                  <a:pt x="16" y="93"/>
                </a:lnTo>
                <a:lnTo>
                  <a:pt x="268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95480" y="1900080"/>
            <a:ext cx="1971720" cy="1197000"/>
          </a:xfrm>
          <a:custGeom>
            <a:avLst/>
            <a:gdLst/>
            <a:ahLst/>
            <a:rect l="l" t="t" r="r" b="b"/>
            <a:pathLst>
              <a:path w="4972" h="3018">
                <a:moveTo>
                  <a:pt x="0" y="3018"/>
                </a:moveTo>
                <a:lnTo>
                  <a:pt x="584" y="2438"/>
                </a:lnTo>
                <a:lnTo>
                  <a:pt x="1207" y="1896"/>
                </a:lnTo>
                <a:lnTo>
                  <a:pt x="1855" y="1402"/>
                </a:lnTo>
                <a:lnTo>
                  <a:pt x="2517" y="967"/>
                </a:lnTo>
                <a:lnTo>
                  <a:pt x="3174" y="602"/>
                </a:lnTo>
                <a:lnTo>
                  <a:pt x="3811" y="315"/>
                </a:lnTo>
                <a:lnTo>
                  <a:pt x="4415" y="113"/>
                </a:lnTo>
                <a:lnTo>
                  <a:pt x="49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867040" y="1311120"/>
            <a:ext cx="136440" cy="46080"/>
          </a:xfrm>
          <a:custGeom>
            <a:avLst/>
            <a:gdLst/>
            <a:ahLst/>
            <a:rect l="l" t="t" r="r" b="b"/>
            <a:pathLst>
              <a:path w="264" h="88">
                <a:moveTo>
                  <a:pt x="0" y="0"/>
                </a:moveTo>
                <a:lnTo>
                  <a:pt x="3" y="88"/>
                </a:lnTo>
                <a:lnTo>
                  <a:pt x="264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433520" y="1325520"/>
            <a:ext cx="1538280" cy="588960"/>
          </a:xfrm>
          <a:custGeom>
            <a:avLst/>
            <a:gdLst/>
            <a:ahLst/>
            <a:rect l="l" t="t" r="r" b="b"/>
            <a:pathLst>
              <a:path w="3876" h="1482">
                <a:moveTo>
                  <a:pt x="3876" y="0"/>
                </a:moveTo>
                <a:lnTo>
                  <a:pt x="3027" y="43"/>
                </a:lnTo>
                <a:lnTo>
                  <a:pt x="2195" y="219"/>
                </a:lnTo>
                <a:lnTo>
                  <a:pt x="1401" y="523"/>
                </a:lnTo>
                <a:lnTo>
                  <a:pt x="663" y="948"/>
                </a:lnTo>
                <a:lnTo>
                  <a:pt x="0" y="148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243080" y="1949400"/>
            <a:ext cx="3292560" cy="3070440"/>
          </a:xfrm>
          <a:custGeom>
            <a:avLst/>
            <a:gdLst/>
            <a:ahLst/>
            <a:rect l="l" t="t" r="r" b="b"/>
            <a:pathLst>
              <a:path w="8295" h="7734">
                <a:moveTo>
                  <a:pt x="413" y="7734"/>
                </a:moveTo>
                <a:lnTo>
                  <a:pt x="181" y="7474"/>
                </a:lnTo>
                <a:lnTo>
                  <a:pt x="42" y="7136"/>
                </a:lnTo>
                <a:lnTo>
                  <a:pt x="0" y="6729"/>
                </a:lnTo>
                <a:lnTo>
                  <a:pt x="56" y="6259"/>
                </a:lnTo>
                <a:lnTo>
                  <a:pt x="207" y="5740"/>
                </a:lnTo>
                <a:lnTo>
                  <a:pt x="450" y="5182"/>
                </a:lnTo>
                <a:lnTo>
                  <a:pt x="781" y="4597"/>
                </a:lnTo>
                <a:lnTo>
                  <a:pt x="1192" y="3999"/>
                </a:lnTo>
                <a:lnTo>
                  <a:pt x="1673" y="3401"/>
                </a:lnTo>
                <a:lnTo>
                  <a:pt x="2214" y="2817"/>
                </a:lnTo>
                <a:lnTo>
                  <a:pt x="2804" y="2259"/>
                </a:lnTo>
                <a:lnTo>
                  <a:pt x="3427" y="1739"/>
                </a:lnTo>
                <a:lnTo>
                  <a:pt x="4072" y="1272"/>
                </a:lnTo>
                <a:lnTo>
                  <a:pt x="4721" y="864"/>
                </a:lnTo>
                <a:lnTo>
                  <a:pt x="5365" y="526"/>
                </a:lnTo>
                <a:lnTo>
                  <a:pt x="5984" y="266"/>
                </a:lnTo>
                <a:lnTo>
                  <a:pt x="6567" y="89"/>
                </a:lnTo>
                <a:lnTo>
                  <a:pt x="7101" y="0"/>
                </a:lnTo>
                <a:lnTo>
                  <a:pt x="7575" y="0"/>
                </a:lnTo>
                <a:lnTo>
                  <a:pt x="7974" y="89"/>
                </a:lnTo>
                <a:lnTo>
                  <a:pt x="8295" y="2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786200" y="3916440"/>
            <a:ext cx="76320" cy="11736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196"/>
                </a:lnTo>
                <a:lnTo>
                  <a:pt x="98" y="0"/>
                </a:lnTo>
                <a:lnTo>
                  <a:pt x="195" y="196"/>
                </a:lnTo>
                <a:lnTo>
                  <a:pt x="195" y="29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786200" y="3994200"/>
            <a:ext cx="7632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4568760" y="2784600"/>
            <a:ext cx="1800" cy="117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568760" y="2824200"/>
            <a:ext cx="77760" cy="77760"/>
          </a:xfrm>
          <a:custGeom>
            <a:avLst/>
            <a:gdLst/>
            <a:ahLst/>
            <a:rect l="l" t="t" r="r" b="b"/>
            <a:pathLst>
              <a:path w="195" h="195">
                <a:moveTo>
                  <a:pt x="0" y="97"/>
                </a:moveTo>
                <a:lnTo>
                  <a:pt x="98" y="0"/>
                </a:lnTo>
                <a:lnTo>
                  <a:pt x="146" y="0"/>
                </a:lnTo>
                <a:lnTo>
                  <a:pt x="195" y="48"/>
                </a:lnTo>
                <a:lnTo>
                  <a:pt x="195" y="19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119480" y="2021040"/>
            <a:ext cx="453960" cy="1833480"/>
          </a:xfrm>
          <a:custGeom>
            <a:avLst/>
            <a:gdLst/>
            <a:ahLst/>
            <a:rect l="l" t="t" r="r" b="b"/>
            <a:pathLst>
              <a:path w="1147" h="4622">
                <a:moveTo>
                  <a:pt x="1103" y="4622"/>
                </a:moveTo>
                <a:lnTo>
                  <a:pt x="1147" y="3782"/>
                </a:lnTo>
                <a:lnTo>
                  <a:pt x="1095" y="2943"/>
                </a:lnTo>
                <a:lnTo>
                  <a:pt x="950" y="2128"/>
                </a:lnTo>
                <a:lnTo>
                  <a:pt x="715" y="1352"/>
                </a:lnTo>
                <a:lnTo>
                  <a:pt x="396" y="63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42900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54492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44"/>
                </a:moveTo>
                <a:lnTo>
                  <a:pt x="49" y="293"/>
                </a:lnTo>
                <a:lnTo>
                  <a:pt x="148" y="293"/>
                </a:lnTo>
                <a:lnTo>
                  <a:pt x="195" y="244"/>
                </a:lnTo>
                <a:lnTo>
                  <a:pt x="0" y="49"/>
                </a:lnTo>
                <a:lnTo>
                  <a:pt x="49" y="0"/>
                </a:lnTo>
                <a:lnTo>
                  <a:pt x="148" y="0"/>
                </a:lnTo>
                <a:lnTo>
                  <a:pt x="195" y="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324160" y="3794040"/>
            <a:ext cx="7632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7"/>
                </a:lnTo>
                <a:lnTo>
                  <a:pt x="0" y="14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440080" y="3794040"/>
            <a:ext cx="7596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293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446640" y="379872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9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446640" y="3855960"/>
            <a:ext cx="37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446640" y="3914640"/>
            <a:ext cx="77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3562200" y="3798720"/>
            <a:ext cx="20880" cy="38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600280" y="2959200"/>
            <a:ext cx="76320" cy="1159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600280" y="3016080"/>
            <a:ext cx="381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600280" y="3075120"/>
            <a:ext cx="76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451400" y="197460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72428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46" y="0"/>
                </a:lnTo>
                <a:lnTo>
                  <a:pt x="195" y="47"/>
                </a:lnTo>
                <a:lnTo>
                  <a:pt x="195" y="97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84200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43"/>
                </a:moveTo>
                <a:lnTo>
                  <a:pt x="47" y="292"/>
                </a:lnTo>
                <a:lnTo>
                  <a:pt x="146" y="292"/>
                </a:lnTo>
                <a:lnTo>
                  <a:pt x="195" y="243"/>
                </a:lnTo>
                <a:lnTo>
                  <a:pt x="0" y="47"/>
                </a:lnTo>
                <a:lnTo>
                  <a:pt x="47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95792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9" y="292"/>
                </a:lnTo>
                <a:lnTo>
                  <a:pt x="0" y="243"/>
                </a:lnTo>
                <a:lnTo>
                  <a:pt x="0" y="47"/>
                </a:lnTo>
                <a:lnTo>
                  <a:pt x="49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988920" y="5216400"/>
            <a:ext cx="7776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47" y="0"/>
                </a:lnTo>
                <a:lnTo>
                  <a:pt x="196" y="49"/>
                </a:lnTo>
                <a:lnTo>
                  <a:pt x="196" y="98"/>
                </a:lnTo>
                <a:lnTo>
                  <a:pt x="147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104840" y="5216400"/>
            <a:ext cx="77760" cy="1177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0"/>
                </a:lnTo>
                <a:lnTo>
                  <a:pt x="195" y="294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222200" y="5216400"/>
            <a:ext cx="7812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196" y="244"/>
                </a:moveTo>
                <a:lnTo>
                  <a:pt x="147" y="294"/>
                </a:lnTo>
                <a:lnTo>
                  <a:pt x="48" y="294"/>
                </a:lnTo>
                <a:lnTo>
                  <a:pt x="0" y="244"/>
                </a:lnTo>
                <a:lnTo>
                  <a:pt x="0" y="49"/>
                </a:lnTo>
                <a:lnTo>
                  <a:pt x="48" y="0"/>
                </a:lnTo>
                <a:lnTo>
                  <a:pt x="147" y="0"/>
                </a:lnTo>
                <a:lnTo>
                  <a:pt x="196" y="4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524196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241960" y="357660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1972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5357880" y="3517920"/>
            <a:ext cx="190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59220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92200" y="35416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6996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389480" y="4729320"/>
            <a:ext cx="52200" cy="136440"/>
          </a:xfrm>
          <a:custGeom>
            <a:avLst/>
            <a:gdLst/>
            <a:ahLst/>
            <a:rect l="l" t="t" r="r" b="b"/>
            <a:pathLst>
              <a:path w="133" h="341">
                <a:moveTo>
                  <a:pt x="133" y="341"/>
                </a:moveTo>
                <a:lnTo>
                  <a:pt x="33" y="6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175280" y="4349880"/>
            <a:ext cx="75960" cy="123840"/>
          </a:xfrm>
          <a:custGeom>
            <a:avLst/>
            <a:gdLst/>
            <a:ahLst/>
            <a:rect l="l" t="t" r="r" b="b"/>
            <a:pathLst>
              <a:path w="193" h="310">
                <a:moveTo>
                  <a:pt x="193" y="310"/>
                </a:moveTo>
                <a:lnTo>
                  <a:pt x="75" y="11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 flipV="1">
            <a:off x="3924360" y="3994200"/>
            <a:ext cx="8712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652920" y="3652920"/>
            <a:ext cx="93600" cy="112680"/>
          </a:xfrm>
          <a:custGeom>
            <a:avLst/>
            <a:gdLst/>
            <a:ahLst/>
            <a:rect l="l" t="t" r="r" b="b"/>
            <a:pathLst>
              <a:path w="232" h="283">
                <a:moveTo>
                  <a:pt x="232" y="283"/>
                </a:moveTo>
                <a:lnTo>
                  <a:pt x="144" y="17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 flipV="1">
            <a:off x="3366720" y="3324240"/>
            <a:ext cx="968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067200" y="3008160"/>
            <a:ext cx="101520" cy="104760"/>
          </a:xfrm>
          <a:custGeom>
            <a:avLst/>
            <a:gdLst/>
            <a:ahLst/>
            <a:rect l="l" t="t" r="r" b="b"/>
            <a:pathLst>
              <a:path w="254" h="264">
                <a:moveTo>
                  <a:pt x="254" y="264"/>
                </a:move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 flipV="1">
            <a:off x="2910960" y="2854440"/>
            <a:ext cx="103320" cy="10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592360" y="2558880"/>
            <a:ext cx="108000" cy="96840"/>
          </a:xfrm>
          <a:custGeom>
            <a:avLst/>
            <a:gdLst/>
            <a:ahLst/>
            <a:rect l="l" t="t" r="r" b="b"/>
            <a:pathLst>
              <a:path w="272" h="244">
                <a:moveTo>
                  <a:pt x="272" y="244"/>
                </a:moveTo>
                <a:lnTo>
                  <a:pt x="82" y="7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 flipV="1">
            <a:off x="2253960" y="2282400"/>
            <a:ext cx="11412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 flipV="1">
            <a:off x="1891800" y="2041200"/>
            <a:ext cx="12564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484280" y="1933560"/>
            <a:ext cx="138240" cy="52560"/>
          </a:xfrm>
          <a:custGeom>
            <a:avLst/>
            <a:gdLst/>
            <a:ahLst/>
            <a:rect l="l" t="t" r="r" b="b"/>
            <a:pathLst>
              <a:path w="348" h="133">
                <a:moveTo>
                  <a:pt x="348" y="6"/>
                </a:moveTo>
                <a:lnTo>
                  <a:pt x="323" y="0"/>
                </a:lnTo>
                <a:lnTo>
                  <a:pt x="121" y="21"/>
                </a:lnTo>
                <a:lnTo>
                  <a:pt x="0" y="13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427040" y="1986120"/>
            <a:ext cx="3032280" cy="3112920"/>
          </a:xfrm>
          <a:custGeom>
            <a:avLst/>
            <a:gdLst/>
            <a:ahLst/>
            <a:rect l="l" t="t" r="r" b="b"/>
            <a:pathLst>
              <a:path w="7640" h="7846">
                <a:moveTo>
                  <a:pt x="7640" y="7818"/>
                </a:moveTo>
                <a:lnTo>
                  <a:pt x="7440" y="7846"/>
                </a:lnTo>
                <a:lnTo>
                  <a:pt x="7161" y="7787"/>
                </a:lnTo>
                <a:lnTo>
                  <a:pt x="6809" y="7641"/>
                </a:lnTo>
                <a:lnTo>
                  <a:pt x="6392" y="7411"/>
                </a:lnTo>
                <a:lnTo>
                  <a:pt x="5919" y="7104"/>
                </a:lnTo>
                <a:lnTo>
                  <a:pt x="5401" y="6726"/>
                </a:lnTo>
                <a:lnTo>
                  <a:pt x="4849" y="6283"/>
                </a:lnTo>
                <a:lnTo>
                  <a:pt x="4276" y="5789"/>
                </a:lnTo>
                <a:lnTo>
                  <a:pt x="3694" y="5252"/>
                </a:lnTo>
                <a:lnTo>
                  <a:pt x="3118" y="4685"/>
                </a:lnTo>
                <a:lnTo>
                  <a:pt x="2557" y="4100"/>
                </a:lnTo>
                <a:lnTo>
                  <a:pt x="2027" y="3513"/>
                </a:lnTo>
                <a:lnTo>
                  <a:pt x="1539" y="2932"/>
                </a:lnTo>
                <a:lnTo>
                  <a:pt x="1103" y="2374"/>
                </a:lnTo>
                <a:lnTo>
                  <a:pt x="728" y="1851"/>
                </a:lnTo>
                <a:lnTo>
                  <a:pt x="425" y="1374"/>
                </a:lnTo>
                <a:lnTo>
                  <a:pt x="201" y="952"/>
                </a:lnTo>
                <a:lnTo>
                  <a:pt x="57" y="598"/>
                </a:lnTo>
                <a:lnTo>
                  <a:pt x="0" y="316"/>
                </a:lnTo>
                <a:lnTo>
                  <a:pt x="29" y="115"/>
                </a:lnTo>
                <a:lnTo>
                  <a:pt x="1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324080" y="493848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 flipV="1">
            <a:off x="3944880" y="1932120"/>
            <a:ext cx="6048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041720" y="1936800"/>
            <a:ext cx="60480" cy="36360"/>
          </a:xfrm>
          <a:custGeom>
            <a:avLst/>
            <a:gdLst/>
            <a:ahLst/>
            <a:rect l="l" t="t" r="r" b="b"/>
            <a:pathLst>
              <a:path w="150" h="90">
                <a:moveTo>
                  <a:pt x="23" y="90"/>
                </a:moveTo>
                <a:lnTo>
                  <a:pt x="150" y="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70440" y="1969920"/>
            <a:ext cx="48960" cy="55800"/>
          </a:xfrm>
          <a:custGeom>
            <a:avLst/>
            <a:gdLst/>
            <a:ahLst/>
            <a:rect l="l" t="t" r="r" b="b"/>
            <a:pathLst>
              <a:path w="126" h="139">
                <a:moveTo>
                  <a:pt x="54" y="0"/>
                </a:moveTo>
                <a:lnTo>
                  <a:pt x="0" y="139"/>
                </a:lnTo>
                <a:lnTo>
                  <a:pt x="126" y="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005360" y="1879560"/>
            <a:ext cx="36360" cy="57240"/>
          </a:xfrm>
          <a:custGeom>
            <a:avLst/>
            <a:gdLst/>
            <a:ahLst/>
            <a:rect l="l" t="t" r="r" b="b"/>
            <a:pathLst>
              <a:path w="93" h="146">
                <a:moveTo>
                  <a:pt x="93" y="146"/>
                </a:moveTo>
                <a:lnTo>
                  <a:pt x="54" y="0"/>
                </a:lnTo>
                <a:lnTo>
                  <a:pt x="0" y="1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19400" y="1973160"/>
            <a:ext cx="47880" cy="57240"/>
          </a:xfrm>
          <a:custGeom>
            <a:avLst/>
            <a:gdLst/>
            <a:ahLst/>
            <a:rect l="l" t="t" r="r" b="b"/>
            <a:pathLst>
              <a:path w="117" h="146">
                <a:moveTo>
                  <a:pt x="0" y="50"/>
                </a:moveTo>
                <a:lnTo>
                  <a:pt x="117" y="146"/>
                </a:lnTo>
                <a:lnTo>
                  <a:pt x="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944880" y="1932120"/>
            <a:ext cx="46080" cy="3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625840" y="3176640"/>
            <a:ext cx="147600" cy="58680"/>
          </a:xfrm>
          <a:custGeom>
            <a:avLst/>
            <a:gdLst/>
            <a:ahLst/>
            <a:rect l="l" t="t" r="r" b="b"/>
            <a:pathLst>
              <a:path w="370" h="149">
                <a:moveTo>
                  <a:pt x="0" y="0"/>
                </a:moveTo>
                <a:lnTo>
                  <a:pt x="119" y="9"/>
                </a:lnTo>
                <a:lnTo>
                  <a:pt x="312" y="106"/>
                </a:lnTo>
                <a:lnTo>
                  <a:pt x="370" y="1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832120" y="3276720"/>
            <a:ext cx="111240" cy="93600"/>
          </a:xfrm>
          <a:custGeom>
            <a:avLst/>
            <a:gdLst/>
            <a:ahLst/>
            <a:rect l="l" t="t" r="r" b="b"/>
            <a:pathLst>
              <a:path w="281" h="235">
                <a:moveTo>
                  <a:pt x="0" y="0"/>
                </a:moveTo>
                <a:lnTo>
                  <a:pt x="40" y="29"/>
                </a:lnTo>
                <a:lnTo>
                  <a:pt x="281" y="235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995560" y="3419640"/>
            <a:ext cx="103320" cy="104760"/>
          </a:xfrm>
          <a:custGeom>
            <a:avLst/>
            <a:gdLst/>
            <a:ahLst/>
            <a:rect l="l" t="t" r="r" b="b"/>
            <a:pathLst>
              <a:path w="256" h="261">
                <a:moveTo>
                  <a:pt x="0" y="0"/>
                </a:moveTo>
                <a:lnTo>
                  <a:pt x="184" y="182"/>
                </a:lnTo>
                <a:lnTo>
                  <a:pt x="256" y="26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146400" y="3578400"/>
            <a:ext cx="90360" cy="112680"/>
          </a:xfrm>
          <a:custGeom>
            <a:avLst/>
            <a:gdLst/>
            <a:ahLst/>
            <a:rect l="l" t="t" r="r" b="b"/>
            <a:pathLst>
              <a:path w="228" h="286">
                <a:moveTo>
                  <a:pt x="0" y="0"/>
                </a:moveTo>
                <a:lnTo>
                  <a:pt x="62" y="70"/>
                </a:lnTo>
                <a:lnTo>
                  <a:pt x="228" y="28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278160" y="3751200"/>
            <a:ext cx="52560" cy="146160"/>
          </a:xfrm>
          <a:custGeom>
            <a:avLst/>
            <a:gdLst/>
            <a:ahLst/>
            <a:rect l="l" t="t" r="r" b="b"/>
            <a:pathLst>
              <a:path w="133" h="370">
                <a:moveTo>
                  <a:pt x="0" y="0"/>
                </a:moveTo>
                <a:lnTo>
                  <a:pt x="79" y="129"/>
                </a:lnTo>
                <a:lnTo>
                  <a:pt x="133" y="290"/>
                </a:lnTo>
                <a:lnTo>
                  <a:pt x="100" y="37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625840" y="3176640"/>
            <a:ext cx="691920" cy="733320"/>
          </a:xfrm>
          <a:custGeom>
            <a:avLst/>
            <a:gdLst/>
            <a:ahLst/>
            <a:rect l="l" t="t" r="r" b="b"/>
            <a:pathLst>
              <a:path w="1743" h="1847">
                <a:moveTo>
                  <a:pt x="0" y="0"/>
                </a:moveTo>
                <a:lnTo>
                  <a:pt x="5" y="118"/>
                </a:lnTo>
                <a:lnTo>
                  <a:pt x="94" y="315"/>
                </a:lnTo>
                <a:lnTo>
                  <a:pt x="260" y="569"/>
                </a:lnTo>
                <a:lnTo>
                  <a:pt x="485" y="857"/>
                </a:lnTo>
                <a:lnTo>
                  <a:pt x="748" y="1149"/>
                </a:lnTo>
                <a:lnTo>
                  <a:pt x="1024" y="1419"/>
                </a:lnTo>
                <a:lnTo>
                  <a:pt x="1285" y="1638"/>
                </a:lnTo>
                <a:lnTo>
                  <a:pt x="1504" y="1786"/>
                </a:lnTo>
                <a:lnTo>
                  <a:pt x="1663" y="1847"/>
                </a:lnTo>
                <a:lnTo>
                  <a:pt x="1743" y="181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470320" y="3035160"/>
            <a:ext cx="1002960" cy="1003320"/>
          </a:xfrm>
          <a:custGeom>
            <a:avLst/>
            <a:gdLst/>
            <a:ahLst/>
            <a:rect l="l" t="t" r="r" b="b"/>
            <a:pathLst>
              <a:path w="2526" h="2526">
                <a:moveTo>
                  <a:pt x="2526" y="1264"/>
                </a:moveTo>
                <a:lnTo>
                  <a:pt x="2464" y="873"/>
                </a:lnTo>
                <a:lnTo>
                  <a:pt x="2284" y="521"/>
                </a:lnTo>
                <a:lnTo>
                  <a:pt x="2005" y="242"/>
                </a:lnTo>
                <a:lnTo>
                  <a:pt x="1653" y="63"/>
                </a:lnTo>
                <a:lnTo>
                  <a:pt x="1262" y="0"/>
                </a:lnTo>
                <a:lnTo>
                  <a:pt x="873" y="63"/>
                </a:lnTo>
                <a:lnTo>
                  <a:pt x="521" y="242"/>
                </a:lnTo>
                <a:lnTo>
                  <a:pt x="240" y="521"/>
                </a:lnTo>
                <a:lnTo>
                  <a:pt x="62" y="873"/>
                </a:lnTo>
                <a:lnTo>
                  <a:pt x="0" y="1264"/>
                </a:lnTo>
                <a:lnTo>
                  <a:pt x="62" y="1653"/>
                </a:lnTo>
                <a:lnTo>
                  <a:pt x="240" y="2005"/>
                </a:lnTo>
                <a:lnTo>
                  <a:pt x="521" y="2284"/>
                </a:lnTo>
                <a:lnTo>
                  <a:pt x="873" y="2464"/>
                </a:lnTo>
                <a:lnTo>
                  <a:pt x="1262" y="2526"/>
                </a:lnTo>
                <a:lnTo>
                  <a:pt x="1653" y="2464"/>
                </a:lnTo>
                <a:lnTo>
                  <a:pt x="2005" y="2284"/>
                </a:lnTo>
                <a:lnTo>
                  <a:pt x="2284" y="2005"/>
                </a:lnTo>
                <a:lnTo>
                  <a:pt x="2464" y="1653"/>
                </a:lnTo>
                <a:lnTo>
                  <a:pt x="2526" y="12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452840" y="3892680"/>
            <a:ext cx="154080" cy="56880"/>
          </a:xfrm>
          <a:custGeom>
            <a:avLst/>
            <a:gdLst/>
            <a:ahLst/>
            <a:rect l="l" t="t" r="r" b="b"/>
            <a:pathLst>
              <a:path w="267" h="100">
                <a:moveTo>
                  <a:pt x="267" y="86"/>
                </a:moveTo>
                <a:lnTo>
                  <a:pt x="248" y="0"/>
                </a:lnTo>
                <a:lnTo>
                  <a:pt x="0" y="100"/>
                </a:lnTo>
                <a:lnTo>
                  <a:pt x="267" y="8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097160" y="1996920"/>
            <a:ext cx="10512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129" y="234"/>
                </a:moveTo>
                <a:lnTo>
                  <a:pt x="198" y="180"/>
                </a:lnTo>
                <a:lnTo>
                  <a:pt x="0" y="0"/>
                </a:lnTo>
                <a:lnTo>
                  <a:pt x="129" y="23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76600" y="3691080"/>
            <a:ext cx="644760" cy="253800"/>
          </a:xfrm>
          <a:custGeom>
            <a:avLst/>
            <a:gdLst/>
            <a:ahLst/>
            <a:rect l="l" t="t" r="r" b="b"/>
            <a:pathLst>
              <a:path w="1624" h="640">
                <a:moveTo>
                  <a:pt x="0" y="640"/>
                </a:moveTo>
                <a:lnTo>
                  <a:pt x="613" y="507"/>
                </a:lnTo>
                <a:lnTo>
                  <a:pt x="1096" y="353"/>
                </a:lnTo>
                <a:lnTo>
                  <a:pt x="1436" y="182"/>
                </a:lnTo>
                <a:lnTo>
                  <a:pt x="162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2970360" y="173520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2968200" y="20844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968560" y="24336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2968200" y="278136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2967120" y="31305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967120" y="34797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65320" y="365292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2964960" y="400212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963880" y="44560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963880" y="483552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2962440" y="52228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822240" y="353700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171440" y="354024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521000" y="3543480"/>
            <a:ext cx="11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870200" y="354492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217600" y="3546360"/>
            <a:ext cx="11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567160" y="3549600"/>
            <a:ext cx="11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916360" y="355284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265560" y="35542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613320" y="3557520"/>
            <a:ext cx="117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962520" y="356076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11720" y="356220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608360" y="356544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010120" y="356868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971800" y="1382760"/>
            <a:ext cx="1528920" cy="4308480"/>
          </a:xfrm>
          <a:custGeom>
            <a:avLst/>
            <a:gdLst/>
            <a:ahLst/>
            <a:rect l="l" t="t" r="r" b="b"/>
            <a:pathLst>
              <a:path w="3853" h="10855">
                <a:moveTo>
                  <a:pt x="0" y="10855"/>
                </a:moveTo>
                <a:lnTo>
                  <a:pt x="577" y="10794"/>
                </a:lnTo>
                <a:lnTo>
                  <a:pt x="1139" y="10614"/>
                </a:lnTo>
                <a:lnTo>
                  <a:pt x="1676" y="10317"/>
                </a:lnTo>
                <a:lnTo>
                  <a:pt x="2177" y="9912"/>
                </a:lnTo>
                <a:lnTo>
                  <a:pt x="2628" y="9406"/>
                </a:lnTo>
                <a:lnTo>
                  <a:pt x="3021" y="8812"/>
                </a:lnTo>
                <a:lnTo>
                  <a:pt x="3346" y="8141"/>
                </a:lnTo>
                <a:lnTo>
                  <a:pt x="3596" y="7410"/>
                </a:lnTo>
                <a:lnTo>
                  <a:pt x="3766" y="6635"/>
                </a:lnTo>
                <a:lnTo>
                  <a:pt x="3853" y="5833"/>
                </a:lnTo>
                <a:lnTo>
                  <a:pt x="3853" y="5021"/>
                </a:lnTo>
                <a:lnTo>
                  <a:pt x="3766" y="4220"/>
                </a:lnTo>
                <a:lnTo>
                  <a:pt x="3596" y="3444"/>
                </a:lnTo>
                <a:lnTo>
                  <a:pt x="3346" y="2713"/>
                </a:lnTo>
                <a:lnTo>
                  <a:pt x="3021" y="2044"/>
                </a:lnTo>
                <a:lnTo>
                  <a:pt x="2628" y="1448"/>
                </a:lnTo>
                <a:lnTo>
                  <a:pt x="2177" y="943"/>
                </a:lnTo>
                <a:lnTo>
                  <a:pt x="1676" y="537"/>
                </a:lnTo>
                <a:lnTo>
                  <a:pt x="1139" y="241"/>
                </a:lnTo>
                <a:lnTo>
                  <a:pt x="577" y="6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212840" y="1736640"/>
            <a:ext cx="7632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212840" y="17938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212840" y="185256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328760" y="1736640"/>
            <a:ext cx="7776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195" y="244"/>
                </a:moveTo>
                <a:lnTo>
                  <a:pt x="146" y="293"/>
                </a:lnTo>
                <a:lnTo>
                  <a:pt x="49" y="293"/>
                </a:lnTo>
                <a:lnTo>
                  <a:pt x="0" y="244"/>
                </a:lnTo>
                <a:lnTo>
                  <a:pt x="0" y="50"/>
                </a:lnTo>
                <a:lnTo>
                  <a:pt x="49" y="0"/>
                </a:lnTo>
                <a:lnTo>
                  <a:pt x="146" y="0"/>
                </a:lnTo>
                <a:lnTo>
                  <a:pt x="195" y="5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08640" y="515628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292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08640" y="5214960"/>
            <a:ext cx="3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508640" y="527220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624560" y="515628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8" y="292"/>
                </a:lnTo>
                <a:lnTo>
                  <a:pt x="0" y="243"/>
                </a:lnTo>
                <a:lnTo>
                  <a:pt x="0" y="48"/>
                </a:lnTo>
                <a:lnTo>
                  <a:pt x="48" y="0"/>
                </a:lnTo>
                <a:lnTo>
                  <a:pt x="146" y="0"/>
                </a:lnTo>
                <a:lnTo>
                  <a:pt x="195" y="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4740120" y="5156280"/>
            <a:ext cx="1908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928960" y="5945040"/>
            <a:ext cx="76320" cy="115920"/>
          </a:xfrm>
          <a:custGeom>
            <a:avLst/>
            <a:gdLst/>
            <a:ahLst/>
            <a:rect l="l" t="t" r="r" b="b"/>
            <a:pathLst>
              <a:path w="194" h="292">
                <a:moveTo>
                  <a:pt x="0" y="292"/>
                </a:moveTo>
                <a:lnTo>
                  <a:pt x="0" y="0"/>
                </a:lnTo>
                <a:lnTo>
                  <a:pt x="194" y="292"/>
                </a:lnTo>
                <a:lnTo>
                  <a:pt x="19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951280" y="105084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0"/>
                </a:moveTo>
                <a:lnTo>
                  <a:pt x="196" y="0"/>
                </a:lnTo>
                <a:lnTo>
                  <a:pt x="0" y="292"/>
                </a:lnTo>
                <a:lnTo>
                  <a:pt x="196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971800" y="557532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822240" y="3429000"/>
            <a:ext cx="109800" cy="108000"/>
          </a:xfrm>
          <a:custGeom>
            <a:avLst/>
            <a:gdLst/>
            <a:ahLst/>
            <a:rect l="l" t="t" r="r" b="b"/>
            <a:pathLst>
              <a:path w="275" h="273">
                <a:moveTo>
                  <a:pt x="0" y="273"/>
                </a:moveTo>
                <a:lnTo>
                  <a:pt x="117" y="108"/>
                </a:lnTo>
                <a:lnTo>
                  <a:pt x="27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198440" y="3278160"/>
            <a:ext cx="139680" cy="38160"/>
          </a:xfrm>
          <a:custGeom>
            <a:avLst/>
            <a:gdLst/>
            <a:ahLst/>
            <a:rect l="l" t="t" r="r" b="b"/>
            <a:pathLst>
              <a:path w="352" h="98">
                <a:moveTo>
                  <a:pt x="0" y="98"/>
                </a:moveTo>
                <a:lnTo>
                  <a:pt x="208" y="33"/>
                </a:lnTo>
                <a:lnTo>
                  <a:pt x="35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622520" y="3193920"/>
            <a:ext cx="142920" cy="24120"/>
          </a:xfrm>
          <a:custGeom>
            <a:avLst/>
            <a:gdLst/>
            <a:ahLst/>
            <a:rect l="l" t="t" r="r" b="b"/>
            <a:pathLst>
              <a:path w="361" h="63">
                <a:moveTo>
                  <a:pt x="0" y="63"/>
                </a:moveTo>
                <a:lnTo>
                  <a:pt x="321" y="6"/>
                </a:lnTo>
                <a:lnTo>
                  <a:pt x="36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2054160" y="3143160"/>
            <a:ext cx="14436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2489040" y="3111120"/>
            <a:ext cx="14472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924280" y="3102120"/>
            <a:ext cx="145800" cy="1440"/>
          </a:xfrm>
          <a:custGeom>
            <a:avLst/>
            <a:gdLst/>
            <a:ahLst/>
            <a:rect l="l" t="t" r="r" b="b"/>
            <a:pathLst>
              <a:path w="365" h="3">
                <a:moveTo>
                  <a:pt x="0" y="3"/>
                </a:moveTo>
                <a:lnTo>
                  <a:pt x="94" y="0"/>
                </a:lnTo>
                <a:lnTo>
                  <a:pt x="3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360600" y="3103560"/>
            <a:ext cx="14472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795840" y="3124080"/>
            <a:ext cx="144360" cy="11160"/>
          </a:xfrm>
          <a:custGeom>
            <a:avLst/>
            <a:gdLst/>
            <a:ahLst/>
            <a:rect l="l" t="t" r="r" b="b"/>
            <a:pathLst>
              <a:path w="366" h="28">
                <a:moveTo>
                  <a:pt x="0" y="0"/>
                </a:moveTo>
                <a:lnTo>
                  <a:pt x="258" y="17"/>
                </a:lnTo>
                <a:lnTo>
                  <a:pt x="366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230720" y="3166920"/>
            <a:ext cx="14292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44920" y="3198960"/>
            <a:ext cx="14292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659480" y="3241800"/>
            <a:ext cx="13968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060880" y="3402000"/>
            <a:ext cx="60480" cy="135000"/>
          </a:xfrm>
          <a:custGeom>
            <a:avLst/>
            <a:gdLst/>
            <a:ahLst/>
            <a:rect l="l" t="t" r="r" b="b"/>
            <a:pathLst>
              <a:path w="150" h="339">
                <a:moveTo>
                  <a:pt x="0" y="0"/>
                </a:moveTo>
                <a:lnTo>
                  <a:pt x="21" y="15"/>
                </a:lnTo>
                <a:lnTo>
                  <a:pt x="146" y="174"/>
                </a:lnTo>
                <a:lnTo>
                  <a:pt x="150" y="3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822240" y="3537000"/>
            <a:ext cx="4299120" cy="436680"/>
          </a:xfrm>
          <a:custGeom>
            <a:avLst/>
            <a:gdLst/>
            <a:ahLst/>
            <a:rect l="l" t="t" r="r" b="b"/>
            <a:pathLst>
              <a:path w="10832" h="1097">
                <a:moveTo>
                  <a:pt x="0" y="0"/>
                </a:moveTo>
                <a:lnTo>
                  <a:pt x="117" y="163"/>
                </a:lnTo>
                <a:lnTo>
                  <a:pt x="354" y="324"/>
                </a:lnTo>
                <a:lnTo>
                  <a:pt x="702" y="477"/>
                </a:lnTo>
                <a:lnTo>
                  <a:pt x="1156" y="619"/>
                </a:lnTo>
                <a:lnTo>
                  <a:pt x="1705" y="748"/>
                </a:lnTo>
                <a:lnTo>
                  <a:pt x="2338" y="859"/>
                </a:lnTo>
                <a:lnTo>
                  <a:pt x="3038" y="952"/>
                </a:lnTo>
                <a:lnTo>
                  <a:pt x="3793" y="1024"/>
                </a:lnTo>
                <a:lnTo>
                  <a:pt x="4582" y="1072"/>
                </a:lnTo>
                <a:lnTo>
                  <a:pt x="5391" y="1097"/>
                </a:lnTo>
                <a:lnTo>
                  <a:pt x="6201" y="1097"/>
                </a:lnTo>
                <a:lnTo>
                  <a:pt x="6993" y="1072"/>
                </a:lnTo>
                <a:lnTo>
                  <a:pt x="7750" y="1024"/>
                </a:lnTo>
                <a:lnTo>
                  <a:pt x="8454" y="952"/>
                </a:lnTo>
                <a:lnTo>
                  <a:pt x="9091" y="859"/>
                </a:lnTo>
                <a:lnTo>
                  <a:pt x="9645" y="748"/>
                </a:lnTo>
                <a:lnTo>
                  <a:pt x="10105" y="619"/>
                </a:lnTo>
                <a:lnTo>
                  <a:pt x="10461" y="477"/>
                </a:lnTo>
                <a:lnTo>
                  <a:pt x="10703" y="324"/>
                </a:lnTo>
                <a:lnTo>
                  <a:pt x="10828" y="163"/>
                </a:lnTo>
                <a:lnTo>
                  <a:pt x="108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971800" y="126684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16120" y="1382760"/>
            <a:ext cx="4309920" cy="4308480"/>
          </a:xfrm>
          <a:custGeom>
            <a:avLst/>
            <a:gdLst/>
            <a:ahLst/>
            <a:rect l="l" t="t" r="r" b="b"/>
            <a:pathLst>
              <a:path w="10859" h="10856">
                <a:moveTo>
                  <a:pt x="10859" y="5429"/>
                </a:moveTo>
                <a:lnTo>
                  <a:pt x="10805" y="4655"/>
                </a:lnTo>
                <a:lnTo>
                  <a:pt x="10640" y="3899"/>
                </a:lnTo>
                <a:lnTo>
                  <a:pt x="10369" y="3174"/>
                </a:lnTo>
                <a:lnTo>
                  <a:pt x="9998" y="2494"/>
                </a:lnTo>
                <a:lnTo>
                  <a:pt x="9533" y="1873"/>
                </a:lnTo>
                <a:lnTo>
                  <a:pt x="8985" y="1326"/>
                </a:lnTo>
                <a:lnTo>
                  <a:pt x="8365" y="862"/>
                </a:lnTo>
                <a:lnTo>
                  <a:pt x="7686" y="490"/>
                </a:lnTo>
                <a:lnTo>
                  <a:pt x="6959" y="220"/>
                </a:lnTo>
                <a:lnTo>
                  <a:pt x="6203" y="56"/>
                </a:lnTo>
                <a:lnTo>
                  <a:pt x="5429" y="0"/>
                </a:lnTo>
                <a:lnTo>
                  <a:pt x="4657" y="56"/>
                </a:lnTo>
                <a:lnTo>
                  <a:pt x="3900" y="220"/>
                </a:lnTo>
                <a:lnTo>
                  <a:pt x="3174" y="490"/>
                </a:lnTo>
                <a:lnTo>
                  <a:pt x="2494" y="862"/>
                </a:lnTo>
                <a:lnTo>
                  <a:pt x="1875" y="1326"/>
                </a:lnTo>
                <a:lnTo>
                  <a:pt x="1326" y="1873"/>
                </a:lnTo>
                <a:lnTo>
                  <a:pt x="862" y="2494"/>
                </a:lnTo>
                <a:lnTo>
                  <a:pt x="491" y="3174"/>
                </a:lnTo>
                <a:lnTo>
                  <a:pt x="220" y="3899"/>
                </a:lnTo>
                <a:lnTo>
                  <a:pt x="55" y="4655"/>
                </a:lnTo>
                <a:lnTo>
                  <a:pt x="0" y="5429"/>
                </a:lnTo>
                <a:lnTo>
                  <a:pt x="55" y="6201"/>
                </a:lnTo>
                <a:lnTo>
                  <a:pt x="220" y="6958"/>
                </a:lnTo>
                <a:lnTo>
                  <a:pt x="491" y="7683"/>
                </a:lnTo>
                <a:lnTo>
                  <a:pt x="862" y="8362"/>
                </a:lnTo>
                <a:lnTo>
                  <a:pt x="1326" y="8983"/>
                </a:lnTo>
                <a:lnTo>
                  <a:pt x="1875" y="9530"/>
                </a:lnTo>
                <a:lnTo>
                  <a:pt x="2494" y="9994"/>
                </a:lnTo>
                <a:lnTo>
                  <a:pt x="3174" y="10366"/>
                </a:lnTo>
                <a:lnTo>
                  <a:pt x="3900" y="10637"/>
                </a:lnTo>
                <a:lnTo>
                  <a:pt x="4657" y="10801"/>
                </a:lnTo>
                <a:lnTo>
                  <a:pt x="5429" y="10856"/>
                </a:lnTo>
                <a:lnTo>
                  <a:pt x="6203" y="10801"/>
                </a:lnTo>
                <a:lnTo>
                  <a:pt x="6959" y="10637"/>
                </a:lnTo>
                <a:lnTo>
                  <a:pt x="7686" y="10366"/>
                </a:lnTo>
                <a:lnTo>
                  <a:pt x="8365" y="9994"/>
                </a:lnTo>
                <a:lnTo>
                  <a:pt x="8985" y="9530"/>
                </a:lnTo>
                <a:lnTo>
                  <a:pt x="9533" y="8983"/>
                </a:lnTo>
                <a:lnTo>
                  <a:pt x="9998" y="8362"/>
                </a:lnTo>
                <a:lnTo>
                  <a:pt x="10369" y="7683"/>
                </a:lnTo>
                <a:lnTo>
                  <a:pt x="10640" y="6958"/>
                </a:lnTo>
                <a:lnTo>
                  <a:pt x="10805" y="6201"/>
                </a:lnTo>
                <a:lnTo>
                  <a:pt x="10859" y="542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462480" y="1371600"/>
            <a:ext cx="3241440" cy="2057400"/>
          </a:xfrm>
          <a:custGeom>
            <a:avLst/>
            <a:gdLst>
              <a:gd name="textAreaLeft" fmla="*/ 0 w 3241440"/>
              <a:gd name="textAreaRight" fmla="*/ 3241800 w 324144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9351" y="19582"/>
                </a:moveTo>
                <a:arcTo wR="-8901" hR="-8901" stAng="5962088" swAng="-2610096"/>
                <a:lnTo>
                  <a:pt x="4740" y="1860"/>
                </a:lnTo>
                <a:arcTo wR="10800" hR="10800" stAng="-7448008" swAng="2610096"/>
                <a:lnTo>
                  <a:pt x="12997" y="-2520"/>
                </a:lnTo>
                <a:lnTo>
                  <a:pt x="16004" y="1675"/>
                </a:lnTo>
                <a:lnTo>
                  <a:pt x="11809" y="468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4874760" y="1752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799160" y="1523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Punto Cardinal S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5609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4452480" y="2133720"/>
            <a:ext cx="1793880" cy="8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03120" y="39387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988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85760" y="7462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Lu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100160" y="10508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38040" y="20415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633680" y="2270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09440" y="3032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947880" y="272700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252440" y="7462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enit del Observ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090880" y="97488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827360" y="472428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2436840" y="39625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683600" y="6699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4071960" y="89856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759560" y="7462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4071960" y="974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383160" y="3998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789520" y="4724280"/>
            <a:ext cx="335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66ff33"/>
                </a:solidFill>
                <a:uFillTx/>
                <a:latin typeface="Times New Roman"/>
              </a:rPr>
              <a:t>Ángulo Horari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Celeste medido a partir del Meridiano Celeste del Lugar, hacia el Oeste, hasta el Meridiano Celeste del Astro. Se mide de 0º a 360º o de 0 hr a 24 h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865840" y="37339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Meridiano Celeste del Astro medido desde el Ecuador Celeste hasta el Astro. Se mide de 0º a 90º con signo (+) para el Hemisferio Norte y signo (-) para el Hemisferio Su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865840" y="274320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865840" y="55627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ff6600"/>
                </a:solidFill>
                <a:uFillTx/>
                <a:latin typeface="Times New Roman"/>
              </a:rPr>
              <a:t>Altur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Meridiano Local del Astro medido desde el Ecuador Local hasta el Astro. Se mide 0º a 90º. Se define la coaltura (z) como z=90º-h, siendo lo que en Topografía se denomina ángulo vertical del A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327280" y="137160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Local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4494240" y="1676520"/>
            <a:ext cx="2362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480640" y="4952880"/>
            <a:ext cx="32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Celeste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 flipV="1">
            <a:off x="3045960" y="2362320"/>
            <a:ext cx="39625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de Bes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048120" y="2743200"/>
                <a:ext cx="29718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09680" y="4495680"/>
                <a:ext cx="48006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838080" y="365760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Co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fera Celeste es una abstracción matemática que considera a la Tierra como centro del Universo y sin movimiento, donde todos los astros rotan alrededor de la Tierra y se ubica sobre la superficie de la Esfera Cel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66880" y="2422440"/>
            <a:ext cx="286200" cy="273240"/>
            <a:chOff x="5366880" y="2422440"/>
            <a:chExt cx="286200" cy="273240"/>
          </a:xfrm>
        </p:grpSpPr>
        <p:sp>
          <p:nvSpPr>
            <p:cNvPr id="52" name=""/>
            <p:cNvSpPr/>
            <p:nvPr/>
          </p:nvSpPr>
          <p:spPr>
            <a:xfrm>
              <a:off x="5419800" y="2425680"/>
              <a:ext cx="88920" cy="103320"/>
            </a:xfrm>
            <a:custGeom>
              <a:avLst/>
              <a:gdLst/>
              <a:ahLst/>
              <a:rect l="l" t="t" r="r" b="b"/>
              <a:pathLst>
                <a:path w="224" h="258">
                  <a:moveTo>
                    <a:pt x="224" y="157"/>
                  </a:moveTo>
                  <a:lnTo>
                    <a:pt x="0" y="0"/>
                  </a:lnTo>
                  <a:lnTo>
                    <a:pt x="89" y="25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08720" y="2422440"/>
              <a:ext cx="87120" cy="104760"/>
            </a:xfrm>
            <a:custGeom>
              <a:avLst/>
              <a:gdLst/>
              <a:ahLst/>
              <a:rect l="l" t="t" r="r" b="b"/>
              <a:pathLst>
                <a:path w="219" h="262">
                  <a:moveTo>
                    <a:pt x="139" y="262"/>
                  </a:moveTo>
                  <a:lnTo>
                    <a:pt x="219" y="0"/>
                  </a:lnTo>
                  <a:lnTo>
                    <a:pt x="0" y="1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563800" y="252720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543640" y="25887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77040" y="2590920"/>
              <a:ext cx="66600" cy="104760"/>
            </a:xfrm>
            <a:custGeom>
              <a:avLst/>
              <a:gdLst/>
              <a:ahLst/>
              <a:rect l="l" t="t" r="r" b="b"/>
              <a:pathLst>
                <a:path w="168" h="262">
                  <a:moveTo>
                    <a:pt x="0" y="3"/>
                  </a:moveTo>
                  <a:lnTo>
                    <a:pt x="88" y="262"/>
                  </a:ln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367240" y="2592360"/>
              <a:ext cx="109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366880" y="2529000"/>
              <a:ext cx="874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931000" y="1425240"/>
            <a:ext cx="284040" cy="271800"/>
            <a:chOff x="5931000" y="1425240"/>
            <a:chExt cx="284040" cy="271800"/>
          </a:xfrm>
        </p:grpSpPr>
        <p:sp>
          <p:nvSpPr>
            <p:cNvPr id="60" name=""/>
            <p:cNvSpPr/>
            <p:nvPr/>
          </p:nvSpPr>
          <p:spPr>
            <a:xfrm flipH="1" flipV="1">
              <a:off x="5982840" y="142884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127920" y="142524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107040" y="1592280"/>
              <a:ext cx="10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40440" y="1593720"/>
              <a:ext cx="3492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931000" y="1530360"/>
              <a:ext cx="871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6127920" y="1528920"/>
              <a:ext cx="8712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931000" y="15933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071760" y="1425600"/>
              <a:ext cx="874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075360" y="159336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3200" y="1428840"/>
              <a:ext cx="3492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40560" y="2494080"/>
            <a:ext cx="1709640" cy="129960"/>
            <a:chOff x="5740560" y="2494080"/>
            <a:chExt cx="1709640" cy="129960"/>
          </a:xfrm>
        </p:grpSpPr>
        <p:sp>
          <p:nvSpPr>
            <p:cNvPr id="71" name=""/>
            <p:cNvSpPr/>
            <p:nvPr/>
          </p:nvSpPr>
          <p:spPr>
            <a:xfrm>
              <a:off x="5740560" y="2494080"/>
              <a:ext cx="6480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0560" y="2543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0560" y="259092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3740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2" y="163"/>
                  </a:lnTo>
                  <a:lnTo>
                    <a:pt x="163" y="123"/>
                  </a:lnTo>
                  <a:lnTo>
                    <a:pt x="122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34240" y="2527200"/>
              <a:ext cx="63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592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031080" y="2526840"/>
              <a:ext cx="14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31080" y="2527200"/>
              <a:ext cx="6336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1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2792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2" y="82"/>
                  </a:lnTo>
                  <a:lnTo>
                    <a:pt x="162" y="42"/>
                  </a:lnTo>
                  <a:lnTo>
                    <a:pt x="122" y="0"/>
                  </a:lnTo>
                  <a:lnTo>
                    <a:pt x="41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1" y="163"/>
                  </a:lnTo>
                  <a:lnTo>
                    <a:pt x="12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2476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228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2" h="243">
                  <a:moveTo>
                    <a:pt x="0" y="0"/>
                  </a:moveTo>
                  <a:lnTo>
                    <a:pt x="0" y="203"/>
                  </a:lnTo>
                  <a:lnTo>
                    <a:pt x="42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21600" y="2527200"/>
              <a:ext cx="475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6912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515280" y="252684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1528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42"/>
                  </a:moveTo>
                  <a:lnTo>
                    <a:pt x="40" y="0"/>
                  </a:lnTo>
                  <a:lnTo>
                    <a:pt x="122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2" y="163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611760" y="2526840"/>
              <a:ext cx="180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11760" y="2527200"/>
              <a:ext cx="6372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860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2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05440" y="2527200"/>
              <a:ext cx="320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5440" y="252720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0"/>
                  </a:moveTo>
                  <a:lnTo>
                    <a:pt x="40" y="245"/>
                  </a:lnTo>
                  <a:lnTo>
                    <a:pt x="0" y="2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0084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3" y="82"/>
                  </a:lnTo>
                  <a:lnTo>
                    <a:pt x="163" y="42"/>
                  </a:lnTo>
                  <a:lnTo>
                    <a:pt x="123" y="0"/>
                  </a:lnTo>
                  <a:lnTo>
                    <a:pt x="42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2" y="163"/>
                  </a:lnTo>
                  <a:lnTo>
                    <a:pt x="12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9912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1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6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94520" y="252720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2800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  <a:lnTo>
                    <a:pt x="81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2800" y="2527200"/>
              <a:ext cx="47880" cy="6372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068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8820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62" y="82"/>
                  </a:moveTo>
                  <a:lnTo>
                    <a:pt x="80" y="163"/>
                  </a:ln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62" y="8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53360" y="249408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85040" y="2527200"/>
              <a:ext cx="493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2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2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3436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353280" y="1486080"/>
            <a:ext cx="1081080" cy="96480"/>
            <a:chOff x="6353280" y="1486080"/>
            <a:chExt cx="1081080" cy="96480"/>
          </a:xfrm>
        </p:grpSpPr>
        <p:sp>
          <p:nvSpPr>
            <p:cNvPr id="102" name=""/>
            <p:cNvSpPr/>
            <p:nvPr/>
          </p:nvSpPr>
          <p:spPr>
            <a:xfrm>
              <a:off x="6353280" y="1486080"/>
              <a:ext cx="65160" cy="950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53280" y="1533600"/>
              <a:ext cx="3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53280" y="158112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50120" y="1517760"/>
              <a:ext cx="6516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1" y="163"/>
                  </a:lnTo>
                  <a:lnTo>
                    <a:pt x="163" y="123"/>
                  </a:lnTo>
                  <a:lnTo>
                    <a:pt x="121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46960" y="151776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0080" y="1486080"/>
              <a:ext cx="31680" cy="950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6438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438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406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1" y="82"/>
                  </a:lnTo>
                  <a:lnTo>
                    <a:pt x="162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3748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44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0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280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280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248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1" y="82"/>
                  </a:lnTo>
                  <a:lnTo>
                    <a:pt x="163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2168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82" y="163"/>
                  </a:moveTo>
                  <a:lnTo>
                    <a:pt x="41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82" y="0"/>
                  </a:lnTo>
                  <a:lnTo>
                    <a:pt x="123" y="42"/>
                  </a:lnTo>
                  <a:lnTo>
                    <a:pt x="123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6920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852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5486400" y="1600200"/>
            <a:ext cx="552600" cy="9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869000" y="4624560"/>
            <a:ext cx="63360" cy="98280"/>
            <a:chOff x="4869000" y="4624560"/>
            <a:chExt cx="63360" cy="98280"/>
          </a:xfrm>
        </p:grpSpPr>
        <p:sp>
          <p:nvSpPr>
            <p:cNvPr id="123" name=""/>
            <p:cNvSpPr/>
            <p:nvPr/>
          </p:nvSpPr>
          <p:spPr>
            <a:xfrm>
              <a:off x="4869000" y="462456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0" y="245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69000" y="46735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69000" y="4721400"/>
              <a:ext cx="6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21000" y="3579840"/>
            <a:ext cx="113040" cy="98280"/>
            <a:chOff x="4221000" y="3579840"/>
            <a:chExt cx="113040" cy="98280"/>
          </a:xfrm>
        </p:grpSpPr>
        <p:sp>
          <p:nvSpPr>
            <p:cNvPr id="127" name=""/>
            <p:cNvSpPr/>
            <p:nvPr/>
          </p:nvSpPr>
          <p:spPr>
            <a:xfrm>
              <a:off x="4221000" y="35798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21000" y="3629160"/>
              <a:ext cx="33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1000" y="367668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317840" y="3579840"/>
              <a:ext cx="1620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056200" y="3605040"/>
            <a:ext cx="162000" cy="96840"/>
            <a:chOff x="5056200" y="3605040"/>
            <a:chExt cx="162000" cy="96840"/>
          </a:xfrm>
        </p:grpSpPr>
        <p:sp>
          <p:nvSpPr>
            <p:cNvPr id="132" name=""/>
            <p:cNvSpPr/>
            <p:nvPr/>
          </p:nvSpPr>
          <p:spPr>
            <a:xfrm>
              <a:off x="5056200" y="360504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0"/>
                  </a:lnTo>
                  <a:lnTo>
                    <a:pt x="163" y="81"/>
                  </a:lnTo>
                  <a:lnTo>
                    <a:pt x="122" y="122"/>
                  </a:lnTo>
                  <a:lnTo>
                    <a:pt x="0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3040" y="36050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203"/>
                  </a:moveTo>
                  <a:lnTo>
                    <a:pt x="40" y="244"/>
                  </a:lnTo>
                  <a:lnTo>
                    <a:pt x="121" y="244"/>
                  </a:lnTo>
                  <a:lnTo>
                    <a:pt x="162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83040" y="4616280"/>
            <a:ext cx="162000" cy="96840"/>
            <a:chOff x="3983040" y="4616280"/>
            <a:chExt cx="162000" cy="96840"/>
          </a:xfrm>
        </p:grpSpPr>
        <p:sp>
          <p:nvSpPr>
            <p:cNvPr id="135" name=""/>
            <p:cNvSpPr/>
            <p:nvPr/>
          </p:nvSpPr>
          <p:spPr>
            <a:xfrm>
              <a:off x="398304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1"/>
                  </a:lnTo>
                  <a:lnTo>
                    <a:pt x="163" y="81"/>
                  </a:lnTo>
                  <a:lnTo>
                    <a:pt x="122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988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244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70640" y="4098960"/>
            <a:ext cx="111240" cy="95040"/>
            <a:chOff x="6470640" y="4098960"/>
            <a:chExt cx="111240" cy="95040"/>
          </a:xfrm>
        </p:grpSpPr>
        <p:sp>
          <p:nvSpPr>
            <p:cNvPr id="138" name=""/>
            <p:cNvSpPr/>
            <p:nvPr/>
          </p:nvSpPr>
          <p:spPr>
            <a:xfrm flipV="1">
              <a:off x="6470640" y="4098960"/>
              <a:ext cx="144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0640" y="414648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34000" y="4098960"/>
              <a:ext cx="180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566040" y="4098960"/>
              <a:ext cx="15840" cy="3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637000" y="4106520"/>
            <a:ext cx="66600" cy="97200"/>
            <a:chOff x="2637000" y="4106520"/>
            <a:chExt cx="66600" cy="97200"/>
          </a:xfrm>
        </p:grpSpPr>
        <p:sp>
          <p:nvSpPr>
            <p:cNvPr id="143" name=""/>
            <p:cNvSpPr/>
            <p:nvPr/>
          </p:nvSpPr>
          <p:spPr>
            <a:xfrm flipV="1">
              <a:off x="2637000" y="4106520"/>
              <a:ext cx="144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37000" y="41544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1800" y="41068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838840" y="5567400"/>
            <a:ext cx="162000" cy="98280"/>
            <a:chOff x="5838840" y="5567400"/>
            <a:chExt cx="162000" cy="98280"/>
          </a:xfrm>
        </p:grpSpPr>
        <p:sp>
          <p:nvSpPr>
            <p:cNvPr id="147" name=""/>
            <p:cNvSpPr/>
            <p:nvPr/>
          </p:nvSpPr>
          <p:spPr>
            <a:xfrm>
              <a:off x="583884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38840" y="561672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8840" y="566424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3568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163" y="203"/>
                  </a:moveTo>
                  <a:lnTo>
                    <a:pt x="121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3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130560" y="2671920"/>
            <a:ext cx="209520" cy="98280"/>
            <a:chOff x="3130560" y="2671920"/>
            <a:chExt cx="209520" cy="98280"/>
          </a:xfrm>
        </p:grpSpPr>
        <p:sp>
          <p:nvSpPr>
            <p:cNvPr id="152" name=""/>
            <p:cNvSpPr/>
            <p:nvPr/>
          </p:nvSpPr>
          <p:spPr>
            <a:xfrm>
              <a:off x="3130560" y="267192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0560" y="271944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0560" y="276876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28840" y="267192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163" y="203"/>
                  </a:moveTo>
                  <a:lnTo>
                    <a:pt x="122" y="244"/>
                  </a:lnTo>
                  <a:lnTo>
                    <a:pt x="40" y="244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324240" y="2671920"/>
              <a:ext cx="15840" cy="316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853240" y="2747880"/>
            <a:ext cx="465120" cy="269640"/>
            <a:chOff x="5853240" y="2747880"/>
            <a:chExt cx="465120" cy="269640"/>
          </a:xfrm>
        </p:grpSpPr>
        <p:sp>
          <p:nvSpPr>
            <p:cNvPr id="158" name=""/>
            <p:cNvSpPr/>
            <p:nvPr/>
          </p:nvSpPr>
          <p:spPr>
            <a:xfrm>
              <a:off x="606096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45"/>
                  </a:moveTo>
                  <a:lnTo>
                    <a:pt x="0" y="0"/>
                  </a:lnTo>
                  <a:lnTo>
                    <a:pt x="121" y="0"/>
                  </a:lnTo>
                  <a:lnTo>
                    <a:pt x="162" y="41"/>
                  </a:lnTo>
                  <a:lnTo>
                    <a:pt x="162" y="82"/>
                  </a:lnTo>
                  <a:lnTo>
                    <a:pt x="121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7800" y="274788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03"/>
                  </a:moveTo>
                  <a:lnTo>
                    <a:pt x="40" y="245"/>
                  </a:lnTo>
                  <a:lnTo>
                    <a:pt x="122" y="245"/>
                  </a:lnTo>
                  <a:lnTo>
                    <a:pt x="162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5464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203"/>
                  </a:moveTo>
                  <a:lnTo>
                    <a:pt x="122" y="245"/>
                  </a:lnTo>
                  <a:lnTo>
                    <a:pt x="42" y="245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2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853240" y="2889000"/>
              <a:ext cx="144360" cy="1285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7520" y="5286240"/>
            <a:ext cx="401400" cy="319320"/>
            <a:chOff x="2927520" y="5286240"/>
            <a:chExt cx="401400" cy="319320"/>
          </a:xfrm>
        </p:grpSpPr>
        <p:sp>
          <p:nvSpPr>
            <p:cNvPr id="163" name=""/>
            <p:cNvSpPr/>
            <p:nvPr/>
          </p:nvSpPr>
          <p:spPr>
            <a:xfrm>
              <a:off x="292752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80"/>
                  </a:lnTo>
                  <a:lnTo>
                    <a:pt x="122" y="121"/>
                  </a:lnTo>
                  <a:lnTo>
                    <a:pt x="0" y="12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2436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120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162" y="203"/>
                  </a:moveTo>
                  <a:lnTo>
                    <a:pt x="122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4560" y="5286240"/>
              <a:ext cx="144360" cy="1288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43480" y="5848200"/>
            <a:ext cx="387360" cy="385920"/>
            <a:chOff x="4443480" y="5848200"/>
            <a:chExt cx="387360" cy="385920"/>
          </a:xfrm>
        </p:grpSpPr>
        <p:sp>
          <p:nvSpPr>
            <p:cNvPr id="168" name=""/>
            <p:cNvSpPr/>
            <p:nvPr/>
          </p:nvSpPr>
          <p:spPr>
            <a:xfrm>
              <a:off x="4443480" y="613728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40320" y="6170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1">
                  <a:moveTo>
                    <a:pt x="81" y="161"/>
                  </a:moveTo>
                  <a:lnTo>
                    <a:pt x="40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0"/>
                  </a:lnTo>
                  <a:lnTo>
                    <a:pt x="121" y="121"/>
                  </a:lnTo>
                  <a:lnTo>
                    <a:pt x="81" y="16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87840" y="6218280"/>
              <a:ext cx="1584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7160" y="6170760"/>
              <a:ext cx="63360" cy="6336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163" y="81"/>
                  </a:moveTo>
                  <a:lnTo>
                    <a:pt x="81" y="161"/>
                  </a:lnTo>
                  <a:lnTo>
                    <a:pt x="41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1" y="0"/>
                  </a:lnTo>
                  <a:lnTo>
                    <a:pt x="81" y="0"/>
                  </a:lnTo>
                  <a:lnTo>
                    <a:pt x="163" y="8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00520" y="61372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32200" y="6170760"/>
              <a:ext cx="180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732200" y="6137280"/>
              <a:ext cx="180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765680" y="6170760"/>
              <a:ext cx="144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65680" y="6170760"/>
              <a:ext cx="65160" cy="31680"/>
            </a:xfrm>
            <a:custGeom>
              <a:avLst/>
              <a:gdLst/>
              <a:ahLst/>
              <a:rect l="l" t="t" r="r" b="b"/>
              <a:pathLst>
                <a:path w="162" h="81">
                  <a:moveTo>
                    <a:pt x="0" y="81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91080" y="584820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01880" y="4064040"/>
            <a:ext cx="90720" cy="87120"/>
          </a:xfrm>
          <a:custGeom>
            <a:avLst/>
            <a:gdLst/>
            <a:ahLst/>
            <a:rect l="l" t="t" r="r" b="b"/>
            <a:pathLst>
              <a:path w="229" h="223">
                <a:moveTo>
                  <a:pt x="0" y="223"/>
                </a:moveTo>
                <a:lnTo>
                  <a:pt x="149" y="44"/>
                </a:lnTo>
                <a:lnTo>
                  <a:pt x="229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14720" y="3936960"/>
            <a:ext cx="115920" cy="3348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83"/>
                </a:moveTo>
                <a:lnTo>
                  <a:pt x="148" y="33"/>
                </a:lnTo>
                <a:lnTo>
                  <a:pt x="2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468600" y="3868200"/>
            <a:ext cx="119160" cy="190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827520" y="3823920"/>
            <a:ext cx="1206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189320" y="3798360"/>
            <a:ext cx="120600" cy="82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370400" y="379224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32200" y="3789360"/>
            <a:ext cx="1224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15080" y="3792600"/>
            <a:ext cx="1206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76880" y="3808440"/>
            <a:ext cx="1206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0"/>
                </a:moveTo>
                <a:lnTo>
                  <a:pt x="291" y="18"/>
                </a:lnTo>
                <a:lnTo>
                  <a:pt x="304" y="2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7240" y="3843360"/>
            <a:ext cx="120600" cy="19080"/>
          </a:xfrm>
          <a:custGeom>
            <a:avLst/>
            <a:gdLst/>
            <a:ahLst/>
            <a:rect l="l" t="t" r="r" b="b"/>
            <a:pathLst>
              <a:path w="301" h="45">
                <a:moveTo>
                  <a:pt x="0" y="0"/>
                </a:moveTo>
                <a:lnTo>
                  <a:pt x="131" y="15"/>
                </a:lnTo>
                <a:lnTo>
                  <a:pt x="301" y="45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94360" y="3908520"/>
            <a:ext cx="117360" cy="316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27720" y="4043520"/>
            <a:ext cx="52560" cy="107640"/>
          </a:xfrm>
          <a:custGeom>
            <a:avLst/>
            <a:gdLst/>
            <a:ahLst/>
            <a:rect l="l" t="t" r="r" b="b"/>
            <a:pathLst>
              <a:path w="132" h="273">
                <a:moveTo>
                  <a:pt x="0" y="0"/>
                </a:moveTo>
                <a:lnTo>
                  <a:pt x="107" y="94"/>
                </a:lnTo>
                <a:lnTo>
                  <a:pt x="132" y="273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97200" y="4151160"/>
            <a:ext cx="358776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01880" y="4151160"/>
            <a:ext cx="3578400" cy="365400"/>
          </a:xfrm>
          <a:custGeom>
            <a:avLst/>
            <a:gdLst/>
            <a:ahLst/>
            <a:rect l="l" t="t" r="r" b="b"/>
            <a:pathLst>
              <a:path w="9016" h="916">
                <a:moveTo>
                  <a:pt x="0" y="0"/>
                </a:moveTo>
                <a:lnTo>
                  <a:pt x="149" y="179"/>
                </a:lnTo>
                <a:lnTo>
                  <a:pt x="465" y="351"/>
                </a:lnTo>
                <a:lnTo>
                  <a:pt x="937" y="509"/>
                </a:lnTo>
                <a:lnTo>
                  <a:pt x="1545" y="648"/>
                </a:lnTo>
                <a:lnTo>
                  <a:pt x="2268" y="762"/>
                </a:lnTo>
                <a:lnTo>
                  <a:pt x="3076" y="846"/>
                </a:lnTo>
                <a:lnTo>
                  <a:pt x="3940" y="899"/>
                </a:lnTo>
                <a:lnTo>
                  <a:pt x="4825" y="916"/>
                </a:lnTo>
                <a:lnTo>
                  <a:pt x="5699" y="899"/>
                </a:lnTo>
                <a:lnTo>
                  <a:pt x="6527" y="846"/>
                </a:lnTo>
                <a:lnTo>
                  <a:pt x="7277" y="762"/>
                </a:lnTo>
                <a:lnTo>
                  <a:pt x="7920" y="648"/>
                </a:lnTo>
                <a:lnTo>
                  <a:pt x="8432" y="509"/>
                </a:lnTo>
                <a:lnTo>
                  <a:pt x="8794" y="351"/>
                </a:lnTo>
                <a:lnTo>
                  <a:pt x="8991" y="179"/>
                </a:lnTo>
                <a:lnTo>
                  <a:pt x="901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16320" y="2817720"/>
            <a:ext cx="2473200" cy="2719440"/>
          </a:xfrm>
          <a:custGeom>
            <a:avLst/>
            <a:gdLst/>
            <a:ahLst/>
            <a:rect l="l" t="t" r="r" b="b"/>
            <a:pathLst>
              <a:path w="6234" h="6853">
                <a:moveTo>
                  <a:pt x="6234" y="6725"/>
                </a:moveTo>
                <a:lnTo>
                  <a:pt x="5961" y="6853"/>
                </a:lnTo>
                <a:lnTo>
                  <a:pt x="5582" y="6847"/>
                </a:lnTo>
                <a:lnTo>
                  <a:pt x="5112" y="6708"/>
                </a:lnTo>
                <a:lnTo>
                  <a:pt x="4570" y="6440"/>
                </a:lnTo>
                <a:lnTo>
                  <a:pt x="3974" y="6053"/>
                </a:lnTo>
                <a:lnTo>
                  <a:pt x="3351" y="5564"/>
                </a:lnTo>
                <a:lnTo>
                  <a:pt x="2722" y="4989"/>
                </a:lnTo>
                <a:lnTo>
                  <a:pt x="2110" y="4353"/>
                </a:lnTo>
                <a:lnTo>
                  <a:pt x="1543" y="3678"/>
                </a:lnTo>
                <a:lnTo>
                  <a:pt x="1039" y="2990"/>
                </a:lnTo>
                <a:lnTo>
                  <a:pt x="618" y="2317"/>
                </a:lnTo>
                <a:lnTo>
                  <a:pt x="298" y="1685"/>
                </a:lnTo>
                <a:lnTo>
                  <a:pt x="90" y="1117"/>
                </a:lnTo>
                <a:lnTo>
                  <a:pt x="0" y="635"/>
                </a:lnTo>
                <a:lnTo>
                  <a:pt x="36" y="259"/>
                </a:lnTo>
                <a:lnTo>
                  <a:pt x="193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89520" y="5359320"/>
            <a:ext cx="65160" cy="127080"/>
          </a:xfrm>
          <a:custGeom>
            <a:avLst/>
            <a:gdLst/>
            <a:ahLst/>
            <a:rect l="l" t="t" r="r" b="b"/>
            <a:pathLst>
              <a:path w="162" h="320">
                <a:moveTo>
                  <a:pt x="0" y="320"/>
                </a:moveTo>
                <a:lnTo>
                  <a:pt x="156" y="62"/>
                </a:lnTo>
                <a:lnTo>
                  <a:pt x="16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16520" y="5003640"/>
            <a:ext cx="28800" cy="115920"/>
          </a:xfrm>
          <a:custGeom>
            <a:avLst/>
            <a:gdLst/>
            <a:ahLst/>
            <a:rect l="l" t="t" r="r" b="b"/>
            <a:pathLst>
              <a:path w="73" h="295">
                <a:moveTo>
                  <a:pt x="73" y="295"/>
                </a:moveTo>
                <a:lnTo>
                  <a:pt x="37" y="10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5673600" y="4670280"/>
            <a:ext cx="54000" cy="108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5489280" y="4357800"/>
            <a:ext cx="651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280120" y="4061880"/>
            <a:ext cx="7128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5048280" y="3781440"/>
            <a:ext cx="77760" cy="93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798800" y="3519000"/>
            <a:ext cx="8244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30600" y="3273480"/>
            <a:ext cx="90720" cy="81000"/>
          </a:xfrm>
          <a:custGeom>
            <a:avLst/>
            <a:gdLst/>
            <a:ahLst/>
            <a:rect l="l" t="t" r="r" b="b"/>
            <a:pathLst>
              <a:path w="226" h="204">
                <a:moveTo>
                  <a:pt x="226" y="204"/>
                </a:moveTo>
                <a:lnTo>
                  <a:pt x="14" y="1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41880" y="3054240"/>
            <a:ext cx="98280" cy="69840"/>
          </a:xfrm>
          <a:custGeom>
            <a:avLst/>
            <a:gdLst/>
            <a:ahLst/>
            <a:rect l="l" t="t" r="r" b="b"/>
            <a:pathLst>
              <a:path w="247" h="177">
                <a:moveTo>
                  <a:pt x="247" y="177"/>
                </a:moveTo>
                <a:lnTo>
                  <a:pt x="118" y="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3930480" y="2870280"/>
            <a:ext cx="108000" cy="54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86320" y="2768760"/>
            <a:ext cx="117360" cy="15840"/>
          </a:xfrm>
          <a:custGeom>
            <a:avLst/>
            <a:gdLst/>
            <a:ahLst/>
            <a:rect l="l" t="t" r="r" b="b"/>
            <a:pathLst>
              <a:path w="298" h="43">
                <a:moveTo>
                  <a:pt x="298" y="43"/>
                </a:moveTo>
                <a:lnTo>
                  <a:pt x="163" y="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2640" y="2766960"/>
            <a:ext cx="133200" cy="50760"/>
          </a:xfrm>
          <a:custGeom>
            <a:avLst/>
            <a:gdLst/>
            <a:ahLst/>
            <a:rect l="l" t="t" r="r" b="b"/>
            <a:pathLst>
              <a:path w="335" h="128">
                <a:moveTo>
                  <a:pt x="335" y="0"/>
                </a:moveTo>
                <a:lnTo>
                  <a:pt x="273" y="0"/>
                </a:lnTo>
                <a:lnTo>
                  <a:pt x="0" y="128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45120" y="3776760"/>
            <a:ext cx="684000" cy="753840"/>
          </a:xfrm>
          <a:custGeom>
            <a:avLst/>
            <a:gdLst/>
            <a:ahLst/>
            <a:rect l="l" t="t" r="r" b="b"/>
            <a:pathLst>
              <a:path w="1724" h="1900">
                <a:moveTo>
                  <a:pt x="1724" y="1894"/>
                </a:moveTo>
                <a:lnTo>
                  <a:pt x="1572" y="1900"/>
                </a:lnTo>
                <a:lnTo>
                  <a:pt x="1314" y="1762"/>
                </a:lnTo>
                <a:lnTo>
                  <a:pt x="989" y="1499"/>
                </a:lnTo>
                <a:lnTo>
                  <a:pt x="645" y="1152"/>
                </a:lnTo>
                <a:lnTo>
                  <a:pt x="338" y="774"/>
                </a:lnTo>
                <a:lnTo>
                  <a:pt x="110" y="422"/>
                </a:lnTo>
                <a:lnTo>
                  <a:pt x="0" y="151"/>
                </a:lnTo>
                <a:lnTo>
                  <a:pt x="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06800" y="4392720"/>
            <a:ext cx="30240" cy="135000"/>
          </a:xfrm>
          <a:custGeom>
            <a:avLst/>
            <a:gdLst/>
            <a:ahLst/>
            <a:rect l="l" t="t" r="r" b="b"/>
            <a:pathLst>
              <a:path w="79" h="343">
                <a:moveTo>
                  <a:pt x="57" y="343"/>
                </a:moveTo>
                <a:lnTo>
                  <a:pt x="79" y="19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4812840" y="4235040"/>
            <a:ext cx="6516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4700520" y="4094280"/>
            <a:ext cx="7632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4575240" y="3963960"/>
            <a:ext cx="8568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4437000" y="3846240"/>
            <a:ext cx="936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53040" y="3773520"/>
            <a:ext cx="133200" cy="39600"/>
          </a:xfrm>
          <a:custGeom>
            <a:avLst/>
            <a:gdLst/>
            <a:ahLst/>
            <a:rect l="l" t="t" r="r" b="b"/>
            <a:pathLst>
              <a:path w="337" h="99">
                <a:moveTo>
                  <a:pt x="337" y="99"/>
                </a:moveTo>
                <a:lnTo>
                  <a:pt x="153" y="0"/>
                </a:lnTo>
                <a:lnTo>
                  <a:pt x="0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3392640" y="2817360"/>
            <a:ext cx="2396880" cy="266868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408560" y="2082960"/>
            <a:ext cx="387360" cy="372960"/>
            <a:chOff x="4408560" y="2082960"/>
            <a:chExt cx="387360" cy="372960"/>
          </a:xfrm>
        </p:grpSpPr>
        <p:sp>
          <p:nvSpPr>
            <p:cNvPr id="214" name=""/>
            <p:cNvSpPr/>
            <p:nvPr/>
          </p:nvSpPr>
          <p:spPr>
            <a:xfrm>
              <a:off x="4408560" y="2082960"/>
              <a:ext cx="65160" cy="9828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0"/>
                  </a:moveTo>
                  <a:lnTo>
                    <a:pt x="162" y="0"/>
                  </a:lnTo>
                  <a:lnTo>
                    <a:pt x="0" y="244"/>
                  </a:lnTo>
                  <a:lnTo>
                    <a:pt x="162" y="2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0540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2">
                  <a:moveTo>
                    <a:pt x="0" y="80"/>
                  </a:moveTo>
                  <a:lnTo>
                    <a:pt x="122" y="80"/>
                  </a:lnTo>
                  <a:lnTo>
                    <a:pt x="163" y="40"/>
                  </a:lnTo>
                  <a:lnTo>
                    <a:pt x="122" y="0"/>
                  </a:lnTo>
                  <a:lnTo>
                    <a:pt x="42" y="0"/>
                  </a:lnTo>
                  <a:lnTo>
                    <a:pt x="0" y="40"/>
                  </a:lnTo>
                  <a:lnTo>
                    <a:pt x="0" y="121"/>
                  </a:lnTo>
                  <a:lnTo>
                    <a:pt x="42" y="162"/>
                  </a:lnTo>
                  <a:lnTo>
                    <a:pt x="12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460224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0224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80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469908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699080" y="2082960"/>
              <a:ext cx="1440" cy="17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32200" y="21160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64240" y="2082960"/>
              <a:ext cx="31680" cy="98280"/>
            </a:xfrm>
            <a:custGeom>
              <a:avLst/>
              <a:gdLst/>
              <a:ahLst/>
              <a:rect l="l" t="t" r="r" b="b"/>
              <a:pathLst>
                <a:path w="82" h="244">
                  <a:moveTo>
                    <a:pt x="0" y="0"/>
                  </a:moveTo>
                  <a:lnTo>
                    <a:pt x="0" y="203"/>
                  </a:lnTo>
                  <a:lnTo>
                    <a:pt x="40" y="244"/>
                  </a:lnTo>
                  <a:lnTo>
                    <a:pt x="82" y="20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91080" y="226224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086360" y="3646440"/>
            <a:ext cx="1009440" cy="1011240"/>
          </a:xfrm>
          <a:custGeom>
            <a:avLst/>
            <a:gdLst/>
            <a:ahLst/>
            <a:rect l="l" t="t" r="r" b="b"/>
            <a:pathLst>
              <a:path w="2546" h="2544">
                <a:moveTo>
                  <a:pt x="2546" y="1272"/>
                </a:moveTo>
                <a:lnTo>
                  <a:pt x="2449" y="785"/>
                </a:lnTo>
                <a:lnTo>
                  <a:pt x="2173" y="373"/>
                </a:lnTo>
                <a:lnTo>
                  <a:pt x="1760" y="96"/>
                </a:lnTo>
                <a:lnTo>
                  <a:pt x="1274" y="0"/>
                </a:lnTo>
                <a:lnTo>
                  <a:pt x="787" y="96"/>
                </a:lnTo>
                <a:lnTo>
                  <a:pt x="373" y="373"/>
                </a:lnTo>
                <a:lnTo>
                  <a:pt x="98" y="785"/>
                </a:lnTo>
                <a:lnTo>
                  <a:pt x="0" y="1272"/>
                </a:lnTo>
                <a:lnTo>
                  <a:pt x="98" y="1759"/>
                </a:lnTo>
                <a:lnTo>
                  <a:pt x="373" y="2172"/>
                </a:lnTo>
                <a:lnTo>
                  <a:pt x="787" y="2447"/>
                </a:lnTo>
                <a:lnTo>
                  <a:pt x="1274" y="2544"/>
                </a:lnTo>
                <a:lnTo>
                  <a:pt x="1760" y="2447"/>
                </a:lnTo>
                <a:lnTo>
                  <a:pt x="2173" y="2172"/>
                </a:lnTo>
                <a:lnTo>
                  <a:pt x="2449" y="1759"/>
                </a:lnTo>
                <a:lnTo>
                  <a:pt x="2546" y="12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97200" y="2359080"/>
            <a:ext cx="3587760" cy="3585960"/>
          </a:xfrm>
          <a:custGeom>
            <a:avLst/>
            <a:gdLst/>
            <a:ahLst/>
            <a:rect l="l" t="t" r="r" b="b"/>
            <a:pathLst>
              <a:path w="9039" h="9039">
                <a:moveTo>
                  <a:pt x="9039" y="4519"/>
                </a:moveTo>
                <a:lnTo>
                  <a:pt x="8952" y="3637"/>
                </a:lnTo>
                <a:lnTo>
                  <a:pt x="8695" y="2789"/>
                </a:lnTo>
                <a:lnTo>
                  <a:pt x="8277" y="2009"/>
                </a:lnTo>
                <a:lnTo>
                  <a:pt x="7716" y="1324"/>
                </a:lnTo>
                <a:lnTo>
                  <a:pt x="7031" y="761"/>
                </a:lnTo>
                <a:lnTo>
                  <a:pt x="6249" y="344"/>
                </a:lnTo>
                <a:lnTo>
                  <a:pt x="5401" y="87"/>
                </a:lnTo>
                <a:lnTo>
                  <a:pt x="4520" y="0"/>
                </a:lnTo>
                <a:lnTo>
                  <a:pt x="3638" y="87"/>
                </a:lnTo>
                <a:lnTo>
                  <a:pt x="2790" y="344"/>
                </a:lnTo>
                <a:lnTo>
                  <a:pt x="2009" y="761"/>
                </a:lnTo>
                <a:lnTo>
                  <a:pt x="1324" y="1324"/>
                </a:lnTo>
                <a:lnTo>
                  <a:pt x="761" y="2009"/>
                </a:lnTo>
                <a:lnTo>
                  <a:pt x="344" y="2789"/>
                </a:lnTo>
                <a:lnTo>
                  <a:pt x="87" y="3637"/>
                </a:lnTo>
                <a:lnTo>
                  <a:pt x="0" y="4519"/>
                </a:lnTo>
                <a:lnTo>
                  <a:pt x="87" y="5401"/>
                </a:lnTo>
                <a:lnTo>
                  <a:pt x="344" y="6249"/>
                </a:lnTo>
                <a:lnTo>
                  <a:pt x="761" y="7030"/>
                </a:lnTo>
                <a:lnTo>
                  <a:pt x="1324" y="7715"/>
                </a:lnTo>
                <a:lnTo>
                  <a:pt x="2009" y="8277"/>
                </a:lnTo>
                <a:lnTo>
                  <a:pt x="2790" y="8695"/>
                </a:lnTo>
                <a:lnTo>
                  <a:pt x="3638" y="8952"/>
                </a:lnTo>
                <a:lnTo>
                  <a:pt x="4520" y="9039"/>
                </a:lnTo>
                <a:lnTo>
                  <a:pt x="5401" y="8952"/>
                </a:lnTo>
                <a:lnTo>
                  <a:pt x="6249" y="8695"/>
                </a:lnTo>
                <a:lnTo>
                  <a:pt x="7031" y="8277"/>
                </a:lnTo>
                <a:lnTo>
                  <a:pt x="7716" y="7715"/>
                </a:lnTo>
                <a:lnTo>
                  <a:pt x="8277" y="7030"/>
                </a:lnTo>
                <a:lnTo>
                  <a:pt x="8695" y="6249"/>
                </a:lnTo>
                <a:lnTo>
                  <a:pt x="8952" y="5401"/>
                </a:lnTo>
                <a:lnTo>
                  <a:pt x="9039" y="451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72000" y="2590920"/>
            <a:ext cx="914400" cy="156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de 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129280" y="2908440"/>
            <a:ext cx="141120" cy="1714320"/>
            <a:chOff x="5129280" y="2908440"/>
            <a:chExt cx="141120" cy="1714320"/>
          </a:xfrm>
        </p:grpSpPr>
        <p:sp>
          <p:nvSpPr>
            <p:cNvPr id="228" name=""/>
            <p:cNvSpPr/>
            <p:nvPr/>
          </p:nvSpPr>
          <p:spPr>
            <a:xfrm>
              <a:off x="5129280" y="4334040"/>
              <a:ext cx="109440" cy="74520"/>
            </a:xfrm>
            <a:custGeom>
              <a:avLst/>
              <a:gdLst/>
              <a:ahLst/>
              <a:rect l="l" t="t" r="r" b="b"/>
              <a:pathLst>
                <a:path w="206" h="140">
                  <a:moveTo>
                    <a:pt x="33" y="3"/>
                  </a:moveTo>
                  <a:lnTo>
                    <a:pt x="0" y="38"/>
                  </a:lnTo>
                  <a:lnTo>
                    <a:pt x="1" y="106"/>
                  </a:lnTo>
                  <a:lnTo>
                    <a:pt x="36" y="140"/>
                  </a:lnTo>
                  <a:lnTo>
                    <a:pt x="172" y="137"/>
                  </a:lnTo>
                  <a:lnTo>
                    <a:pt x="206" y="102"/>
                  </a:lnTo>
                  <a:lnTo>
                    <a:pt x="204" y="34"/>
                  </a:lnTo>
                  <a:lnTo>
                    <a:pt x="169" y="0"/>
                  </a:lnTo>
                  <a:lnTo>
                    <a:pt x="101" y="2"/>
                  </a:lnTo>
                  <a:lnTo>
                    <a:pt x="68" y="37"/>
                  </a:lnTo>
                  <a:lnTo>
                    <a:pt x="70" y="1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5137200" y="2908440"/>
              <a:ext cx="133200" cy="1714320"/>
              <a:chOff x="5137200" y="2908440"/>
              <a:chExt cx="133200" cy="1714320"/>
            </a:xfrm>
          </p:grpSpPr>
          <p:sp>
            <p:nvSpPr>
              <p:cNvPr id="230" name=""/>
              <p:cNvSpPr/>
              <p:nvPr/>
            </p:nvSpPr>
            <p:spPr>
              <a:xfrm>
                <a:off x="5137200" y="29084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206" h="205">
                    <a:moveTo>
                      <a:pt x="202" y="0"/>
                    </a:moveTo>
                    <a:lnTo>
                      <a:pt x="0" y="107"/>
                    </a:lnTo>
                    <a:lnTo>
                      <a:pt x="206" y="2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38640" y="30542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7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7"/>
                    </a:lnTo>
                    <a:lnTo>
                      <a:pt x="138" y="102"/>
                    </a:lnTo>
                    <a:lnTo>
                      <a:pt x="137" y="33"/>
                    </a:lnTo>
                    <a:lnTo>
                      <a:pt x="102" y="0"/>
                    </a:lnTo>
                    <a:lnTo>
                      <a:pt x="34" y="1"/>
                    </a:lnTo>
                    <a:lnTo>
                      <a:pt x="0" y="36"/>
                    </a:lnTo>
                    <a:lnTo>
                      <a:pt x="1" y="1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5140440" y="3161880"/>
                <a:ext cx="73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176800" y="316404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0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0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214960" y="3270240"/>
                <a:ext cx="144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145120" y="3305160"/>
                <a:ext cx="106200" cy="38160"/>
              </a:xfrm>
              <a:custGeom>
                <a:avLst/>
                <a:gdLst/>
                <a:ahLst/>
                <a:rect l="l" t="t" r="r" b="b"/>
                <a:pathLst>
                  <a:path w="203" h="72">
                    <a:moveTo>
                      <a:pt x="203" y="0"/>
                    </a:moveTo>
                    <a:lnTo>
                      <a:pt x="32" y="3"/>
                    </a:lnTo>
                    <a:lnTo>
                      <a:pt x="0" y="38"/>
                    </a:lnTo>
                    <a:lnTo>
                      <a:pt x="33" y="7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5145120" y="337824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235480" y="3378240"/>
                <a:ext cx="17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146560" y="34146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135"/>
                    </a:moveTo>
                    <a:lnTo>
                      <a:pt x="136" y="33"/>
                    </a:lnTo>
                    <a:lnTo>
                      <a:pt x="101" y="0"/>
                    </a:lnTo>
                    <a:lnTo>
                      <a:pt x="32" y="2"/>
                    </a:lnTo>
                    <a:lnTo>
                      <a:pt x="0" y="37"/>
                    </a:lnTo>
                    <a:lnTo>
                      <a:pt x="2" y="1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148360" y="352440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136" h="103">
                    <a:moveTo>
                      <a:pt x="0" y="69"/>
                    </a:moveTo>
                    <a:lnTo>
                      <a:pt x="0" y="36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3"/>
                    </a:lnTo>
                    <a:lnTo>
                      <a:pt x="136" y="66"/>
                    </a:lnTo>
                    <a:lnTo>
                      <a:pt x="103" y="101"/>
                    </a:lnTo>
                    <a:lnTo>
                      <a:pt x="35" y="103"/>
                    </a:lnTo>
                    <a:lnTo>
                      <a:pt x="0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5149440" y="3578400"/>
                <a:ext cx="1764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151600" y="3630600"/>
                <a:ext cx="106200" cy="20520"/>
              </a:xfrm>
              <a:custGeom>
                <a:avLst/>
                <a:gdLst/>
                <a:ahLst/>
                <a:rect l="l" t="t" r="r" b="b"/>
                <a:pathLst>
                  <a:path w="203" h="38">
                    <a:moveTo>
                      <a:pt x="203" y="0"/>
                    </a:moveTo>
                    <a:lnTo>
                      <a:pt x="33" y="3"/>
                    </a:lnTo>
                    <a:lnTo>
                      <a:pt x="0" y="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154480" y="3794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70" y="136"/>
                    </a:moveTo>
                    <a:lnTo>
                      <a:pt x="1" y="69"/>
                    </a:lnTo>
                    <a:lnTo>
                      <a:pt x="0" y="36"/>
                    </a:lnTo>
                    <a:lnTo>
                      <a:pt x="33" y="1"/>
                    </a:lnTo>
                    <a:lnTo>
                      <a:pt x="102" y="0"/>
                    </a:lnTo>
                    <a:lnTo>
                      <a:pt x="136" y="32"/>
                    </a:lnTo>
                    <a:lnTo>
                      <a:pt x="136" y="67"/>
                    </a:lnTo>
                    <a:lnTo>
                      <a:pt x="7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5154480" y="3865680"/>
                <a:ext cx="10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156280" y="390204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138" h="136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6"/>
                    </a:lnTo>
                    <a:lnTo>
                      <a:pt x="138" y="101"/>
                    </a:lnTo>
                    <a:lnTo>
                      <a:pt x="137" y="34"/>
                    </a:lnTo>
                    <a:lnTo>
                      <a:pt x="102" y="0"/>
                    </a:lnTo>
                    <a:lnTo>
                      <a:pt x="34" y="2"/>
                    </a:lnTo>
                    <a:lnTo>
                      <a:pt x="0" y="36"/>
                    </a:lnTo>
                    <a:lnTo>
                      <a:pt x="1" y="10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157720" y="400860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204" h="39">
                    <a:moveTo>
                      <a:pt x="204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160960" y="417204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205" h="39">
                    <a:moveTo>
                      <a:pt x="205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162400" y="422604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136" h="139">
                    <a:moveTo>
                      <a:pt x="136" y="0"/>
                    </a:moveTo>
                    <a:lnTo>
                      <a:pt x="34" y="2"/>
                    </a:lnTo>
                    <a:lnTo>
                      <a:pt x="0" y="37"/>
                    </a:lnTo>
                    <a:lnTo>
                      <a:pt x="1" y="72"/>
                    </a:lnTo>
                    <a:lnTo>
                      <a:pt x="71" y="1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5164200" y="4299120"/>
                <a:ext cx="712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67440" y="444348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137" h="103">
                    <a:moveTo>
                      <a:pt x="1" y="69"/>
                    </a:moveTo>
                    <a:lnTo>
                      <a:pt x="0" y="35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2"/>
                    </a:lnTo>
                    <a:lnTo>
                      <a:pt x="137" y="67"/>
                    </a:lnTo>
                    <a:lnTo>
                      <a:pt x="103" y="101"/>
                    </a:lnTo>
                    <a:lnTo>
                      <a:pt x="36" y="103"/>
                    </a:lnTo>
                    <a:lnTo>
                      <a:pt x="1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5168520" y="4497480"/>
                <a:ext cx="176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5168880" y="455148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05240" y="455148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1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1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4300560" y="5913360"/>
            <a:ext cx="142920" cy="49320"/>
          </a:xfrm>
          <a:custGeom>
            <a:avLst/>
            <a:gdLst/>
            <a:ahLst/>
            <a:rect l="l" t="t" r="r" b="b"/>
            <a:pathLst>
              <a:path w="270" h="93">
                <a:moveTo>
                  <a:pt x="270" y="93"/>
                </a:moveTo>
                <a:lnTo>
                  <a:pt x="22" y="2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48200" y="5570640"/>
            <a:ext cx="68040" cy="12672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127" y="238"/>
                </a:moveTo>
                <a:lnTo>
                  <a:pt x="41" y="10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909960" y="5163840"/>
            <a:ext cx="38160" cy="137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3825360" y="4743000"/>
            <a:ext cx="25560" cy="1414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82880" y="4314960"/>
            <a:ext cx="12960" cy="142920"/>
          </a:xfrm>
          <a:custGeom>
            <a:avLst/>
            <a:gdLst/>
            <a:ahLst/>
            <a:rect l="l" t="t" r="r" b="b"/>
            <a:pathLst>
              <a:path w="24" h="270">
                <a:moveTo>
                  <a:pt x="24" y="270"/>
                </a:moveTo>
                <a:lnTo>
                  <a:pt x="2" y="6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3776400" y="41000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72080" y="3884760"/>
            <a:ext cx="2880" cy="144360"/>
          </a:xfrm>
          <a:custGeom>
            <a:avLst/>
            <a:gdLst/>
            <a:ahLst/>
            <a:rect l="l" t="t" r="r" b="b"/>
            <a:pathLst>
              <a:path w="5" h="271">
                <a:moveTo>
                  <a:pt x="5" y="271"/>
                </a:moveTo>
                <a:lnTo>
                  <a:pt x="0" y="135"/>
                </a:lnTo>
                <a:lnTo>
                  <a:pt x="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82880" y="3456000"/>
            <a:ext cx="12960" cy="142920"/>
          </a:xfrm>
          <a:custGeom>
            <a:avLst/>
            <a:gdLst/>
            <a:ahLst/>
            <a:rect l="l" t="t" r="r" b="b"/>
            <a:pathLst>
              <a:path w="24" h="269">
                <a:moveTo>
                  <a:pt x="0" y="269"/>
                </a:moveTo>
                <a:lnTo>
                  <a:pt x="2" y="207"/>
                </a:lnTo>
                <a:lnTo>
                  <a:pt x="2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803760" y="324144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63880" y="2817720"/>
            <a:ext cx="28800" cy="141480"/>
          </a:xfrm>
          <a:custGeom>
            <a:avLst/>
            <a:gdLst/>
            <a:ahLst/>
            <a:rect l="l" t="t" r="r" b="b"/>
            <a:pathLst>
              <a:path w="53" h="266">
                <a:moveTo>
                  <a:pt x="0" y="266"/>
                </a:moveTo>
                <a:lnTo>
                  <a:pt x="40" y="46"/>
                </a:lnTo>
                <a:lnTo>
                  <a:pt x="5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7200" y="2409840"/>
            <a:ext cx="54000" cy="131760"/>
          </a:xfrm>
          <a:custGeom>
            <a:avLst/>
            <a:gdLst/>
            <a:ahLst/>
            <a:rect l="l" t="t" r="r" b="b"/>
            <a:pathLst>
              <a:path w="102" h="250">
                <a:moveTo>
                  <a:pt x="0" y="250"/>
                </a:moveTo>
                <a:lnTo>
                  <a:pt x="1" y="245"/>
                </a:lnTo>
                <a:lnTo>
                  <a:pt x="1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54400" y="2049480"/>
            <a:ext cx="93600" cy="10620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0" y="202"/>
                </a:moveTo>
                <a:lnTo>
                  <a:pt x="62" y="104"/>
                </a:lnTo>
                <a:lnTo>
                  <a:pt x="17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00560" y="1951200"/>
            <a:ext cx="142920" cy="48960"/>
          </a:xfrm>
          <a:custGeom>
            <a:avLst/>
            <a:gdLst/>
            <a:ahLst/>
            <a:rect l="l" t="t" r="r" b="b"/>
            <a:pathLst>
              <a:path w="270" h="92">
                <a:moveTo>
                  <a:pt x="0" y="92"/>
                </a:moveTo>
                <a:lnTo>
                  <a:pt x="22" y="73"/>
                </a:lnTo>
                <a:lnTo>
                  <a:pt x="27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43480" y="1951200"/>
            <a:ext cx="671400" cy="4011480"/>
          </a:xfrm>
          <a:custGeom>
            <a:avLst/>
            <a:gdLst/>
            <a:ahLst/>
            <a:rect l="l" t="t" r="r" b="b"/>
            <a:pathLst>
              <a:path w="1268" h="7580">
                <a:moveTo>
                  <a:pt x="0" y="7580"/>
                </a:moveTo>
                <a:lnTo>
                  <a:pt x="247" y="7507"/>
                </a:lnTo>
                <a:lnTo>
                  <a:pt x="485" y="7292"/>
                </a:lnTo>
                <a:lnTo>
                  <a:pt x="705" y="6941"/>
                </a:lnTo>
                <a:lnTo>
                  <a:pt x="897" y="6470"/>
                </a:lnTo>
                <a:lnTo>
                  <a:pt x="1055" y="5895"/>
                </a:lnTo>
                <a:lnTo>
                  <a:pt x="1172" y="5240"/>
                </a:lnTo>
                <a:lnTo>
                  <a:pt x="1243" y="4529"/>
                </a:lnTo>
                <a:lnTo>
                  <a:pt x="1268" y="3789"/>
                </a:lnTo>
                <a:lnTo>
                  <a:pt x="1243" y="3050"/>
                </a:lnTo>
                <a:lnTo>
                  <a:pt x="1172" y="2339"/>
                </a:lnTo>
                <a:lnTo>
                  <a:pt x="1055" y="1684"/>
                </a:lnTo>
                <a:lnTo>
                  <a:pt x="897" y="1110"/>
                </a:lnTo>
                <a:lnTo>
                  <a:pt x="705" y="638"/>
                </a:lnTo>
                <a:lnTo>
                  <a:pt x="485" y="288"/>
                </a:lnTo>
                <a:lnTo>
                  <a:pt x="247" y="7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63880" y="4430880"/>
            <a:ext cx="71640" cy="10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938840" y="3338640"/>
            <a:ext cx="71280" cy="109440"/>
            <a:chOff x="4938840" y="3338640"/>
            <a:chExt cx="71280" cy="109440"/>
          </a:xfrm>
        </p:grpSpPr>
        <p:sp>
          <p:nvSpPr>
            <p:cNvPr id="269" name=""/>
            <p:cNvSpPr/>
            <p:nvPr/>
          </p:nvSpPr>
          <p:spPr>
            <a:xfrm>
              <a:off x="4938840" y="333864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38840" y="3394080"/>
              <a:ext cx="34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38840" y="344664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 flipH="1">
            <a:off x="3903840" y="3557520"/>
            <a:ext cx="1064880" cy="7826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153040" y="1391760"/>
            <a:ext cx="2454120" cy="689400"/>
            <a:chOff x="5153040" y="1391760"/>
            <a:chExt cx="2454120" cy="689400"/>
          </a:xfrm>
        </p:grpSpPr>
        <p:sp>
          <p:nvSpPr>
            <p:cNvPr id="274" name=""/>
            <p:cNvSpPr/>
            <p:nvPr/>
          </p:nvSpPr>
          <p:spPr>
            <a:xfrm>
              <a:off x="6016680" y="1392120"/>
              <a:ext cx="65160" cy="98640"/>
            </a:xfrm>
            <a:custGeom>
              <a:avLst/>
              <a:gdLst/>
              <a:ahLst/>
              <a:rect l="l" t="t" r="r" b="b"/>
              <a:pathLst>
                <a:path w="123" h="184">
                  <a:moveTo>
                    <a:pt x="0" y="184"/>
                  </a:moveTo>
                  <a:lnTo>
                    <a:pt x="0" y="0"/>
                  </a:lnTo>
                  <a:lnTo>
                    <a:pt x="62" y="123"/>
                  </a:lnTo>
                  <a:lnTo>
                    <a:pt x="123" y="0"/>
                  </a:lnTo>
                  <a:lnTo>
                    <a:pt x="123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135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621180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11800" y="1425600"/>
              <a:ext cx="65160" cy="3168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3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30864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308640" y="139176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403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05480" y="1392120"/>
              <a:ext cx="180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4389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438960" y="139176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70640" y="1425600"/>
              <a:ext cx="4932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2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1996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56892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68920" y="1425600"/>
              <a:ext cx="63720" cy="6516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2" y="31"/>
                  </a:lnTo>
                  <a:lnTo>
                    <a:pt x="12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66576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93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93" y="0"/>
                  </a:lnTo>
                  <a:lnTo>
                    <a:pt x="124" y="31"/>
                  </a:lnTo>
                  <a:lnTo>
                    <a:pt x="124" y="92"/>
                  </a:lnTo>
                  <a:lnTo>
                    <a:pt x="9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612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26400" y="1392120"/>
              <a:ext cx="144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5808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492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0108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500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0" y="0"/>
                  </a:moveTo>
                  <a:lnTo>
                    <a:pt x="0" y="92"/>
                  </a:lnTo>
                  <a:lnTo>
                    <a:pt x="31" y="122"/>
                  </a:lnTo>
                  <a:lnTo>
                    <a:pt x="62" y="122"/>
                  </a:lnTo>
                  <a:lnTo>
                    <a:pt x="124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15200" y="142560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346880" y="1425600"/>
              <a:ext cx="65160" cy="96840"/>
            </a:xfrm>
            <a:custGeom>
              <a:avLst/>
              <a:gdLst/>
              <a:ahLst/>
              <a:rect l="l" t="t" r="r" b="b"/>
              <a:pathLst>
                <a:path w="123" h="183">
                  <a:moveTo>
                    <a:pt x="0" y="153"/>
                  </a:moveTo>
                  <a:lnTo>
                    <a:pt x="31" y="183"/>
                  </a:lnTo>
                  <a:lnTo>
                    <a:pt x="92" y="183"/>
                  </a:lnTo>
                  <a:lnTo>
                    <a:pt x="123" y="153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12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445520" y="1425600"/>
              <a:ext cx="4896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1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1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9448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5423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42360" y="1425600"/>
              <a:ext cx="64800" cy="31680"/>
            </a:xfrm>
            <a:custGeom>
              <a:avLst/>
              <a:gdLst/>
              <a:ahLst/>
              <a:rect l="l" t="t" r="r" b="b"/>
              <a:pathLst>
                <a:path w="124" h="61">
                  <a:moveTo>
                    <a:pt x="0" y="61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124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520" y="144144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224320" y="1441440"/>
              <a:ext cx="64620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53040" y="2003400"/>
              <a:ext cx="82440" cy="7776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158" y="46"/>
                  </a:moveTo>
                  <a:lnTo>
                    <a:pt x="117" y="0"/>
                  </a:lnTo>
                  <a:lnTo>
                    <a:pt x="0" y="145"/>
                  </a:lnTo>
                  <a:lnTo>
                    <a:pt x="158" y="4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644920" y="3807000"/>
            <a:ext cx="795240" cy="107640"/>
            <a:chOff x="2644920" y="3807000"/>
            <a:chExt cx="795240" cy="107640"/>
          </a:xfrm>
        </p:grpSpPr>
        <p:sp>
          <p:nvSpPr>
            <p:cNvPr id="305" name=""/>
            <p:cNvSpPr/>
            <p:nvPr/>
          </p:nvSpPr>
          <p:spPr>
            <a:xfrm>
              <a:off x="2644920" y="3807000"/>
              <a:ext cx="72720" cy="10764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69" y="137"/>
                  </a:lnTo>
                  <a:lnTo>
                    <a:pt x="136" y="0"/>
                  </a:lnTo>
                  <a:lnTo>
                    <a:pt x="136" y="2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5436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102" y="69"/>
                  </a:lnTo>
                  <a:lnTo>
                    <a:pt x="137" y="34"/>
                  </a:lnTo>
                  <a:lnTo>
                    <a:pt x="102" y="0"/>
                  </a:lnTo>
                  <a:lnTo>
                    <a:pt x="34" y="0"/>
                  </a:lnTo>
                  <a:lnTo>
                    <a:pt x="0" y="34"/>
                  </a:lnTo>
                  <a:lnTo>
                    <a:pt x="0" y="103"/>
                  </a:lnTo>
                  <a:lnTo>
                    <a:pt x="34" y="136"/>
                  </a:lnTo>
                  <a:lnTo>
                    <a:pt x="102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862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62360" y="3843360"/>
              <a:ext cx="71280" cy="3636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2970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97036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0672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137" y="69"/>
                  </a:moveTo>
                  <a:lnTo>
                    <a:pt x="68" y="136"/>
                  </a:ln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78000" y="3807000"/>
              <a:ext cx="1800" cy="10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311472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1472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51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3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3" y="34"/>
                  </a:lnTo>
                  <a:lnTo>
                    <a:pt x="103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05080" y="389736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259080" y="384336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59080" y="3843360"/>
              <a:ext cx="7164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  <a:lnTo>
                    <a:pt x="137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367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21080" y="3897360"/>
              <a:ext cx="1908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075120" y="2873520"/>
            <a:ext cx="425160" cy="645840"/>
            <a:chOff x="3075120" y="2873520"/>
            <a:chExt cx="425160" cy="645840"/>
          </a:xfrm>
        </p:grpSpPr>
        <p:sp>
          <p:nvSpPr>
            <p:cNvPr id="322" name=""/>
            <p:cNvSpPr/>
            <p:nvPr/>
          </p:nvSpPr>
          <p:spPr>
            <a:xfrm>
              <a:off x="3075120" y="2873520"/>
              <a:ext cx="129960" cy="61920"/>
            </a:xfrm>
            <a:custGeom>
              <a:avLst/>
              <a:gdLst/>
              <a:ahLst/>
              <a:rect l="l" t="t" r="r" b="b"/>
              <a:pathLst>
                <a:path w="247" h="117">
                  <a:moveTo>
                    <a:pt x="0" y="105"/>
                  </a:moveTo>
                  <a:lnTo>
                    <a:pt x="176" y="0"/>
                  </a:lnTo>
                  <a:lnTo>
                    <a:pt x="247" y="1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22640" y="2901960"/>
              <a:ext cx="172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75120" y="2928960"/>
              <a:ext cx="3780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39920" y="2994120"/>
              <a:ext cx="90720" cy="9036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70" y="98"/>
                  </a:moveTo>
                  <a:lnTo>
                    <a:pt x="117" y="11"/>
                  </a:lnTo>
                  <a:lnTo>
                    <a:pt x="70" y="0"/>
                  </a:lnTo>
                  <a:lnTo>
                    <a:pt x="12" y="34"/>
                  </a:lnTo>
                  <a:lnTo>
                    <a:pt x="0" y="81"/>
                  </a:lnTo>
                  <a:lnTo>
                    <a:pt x="53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95720" y="3076560"/>
              <a:ext cx="58680" cy="8100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100" y="0"/>
                  </a:moveTo>
                  <a:lnTo>
                    <a:pt x="12" y="54"/>
                  </a:lnTo>
                  <a:lnTo>
                    <a:pt x="0" y="100"/>
                  </a:lnTo>
                  <a:lnTo>
                    <a:pt x="18" y="130"/>
                  </a:lnTo>
                  <a:lnTo>
                    <a:pt x="111" y="1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224160" y="31384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52960" y="3179880"/>
              <a:ext cx="69840" cy="6480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17" y="111"/>
                  </a:moveTo>
                  <a:lnTo>
                    <a:pt x="0" y="82"/>
                  </a:lnTo>
                  <a:lnTo>
                    <a:pt x="11" y="35"/>
                  </a:lnTo>
                  <a:lnTo>
                    <a:pt x="70" y="0"/>
                  </a:lnTo>
                  <a:lnTo>
                    <a:pt x="117" y="12"/>
                  </a:lnTo>
                  <a:lnTo>
                    <a:pt x="134" y="41"/>
                  </a:lnTo>
                  <a:lnTo>
                    <a:pt x="123" y="89"/>
                  </a:lnTo>
                  <a:lnTo>
                    <a:pt x="65" y="123"/>
                  </a:lnTo>
                  <a:lnTo>
                    <a:pt x="17" y="1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279600" y="3244680"/>
              <a:ext cx="648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08400" y="3271680"/>
              <a:ext cx="71280" cy="7164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10" y="134"/>
                  </a:moveTo>
                  <a:lnTo>
                    <a:pt x="17" y="111"/>
                  </a:lnTo>
                  <a:lnTo>
                    <a:pt x="0" y="82"/>
                  </a:lnTo>
                  <a:lnTo>
                    <a:pt x="11" y="35"/>
                  </a:lnTo>
                  <a:lnTo>
                    <a:pt x="69" y="0"/>
                  </a:lnTo>
                  <a:lnTo>
                    <a:pt x="117" y="11"/>
                  </a:lnTo>
                  <a:lnTo>
                    <a:pt x="134" y="41"/>
                  </a:lnTo>
                  <a:lnTo>
                    <a:pt x="11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3335400" y="3305160"/>
              <a:ext cx="936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63840" y="3365640"/>
              <a:ext cx="81000" cy="7920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36" y="141"/>
                  </a:moveTo>
                  <a:lnTo>
                    <a:pt x="0" y="82"/>
                  </a:lnTo>
                  <a:lnTo>
                    <a:pt x="13" y="35"/>
                  </a:lnTo>
                  <a:lnTo>
                    <a:pt x="71" y="0"/>
                  </a:lnTo>
                  <a:lnTo>
                    <a:pt x="117" y="11"/>
                  </a:lnTo>
                  <a:lnTo>
                    <a:pt x="153" y="70"/>
                  </a:lnTo>
                  <a:lnTo>
                    <a:pt x="141" y="117"/>
                  </a:lnTo>
                  <a:lnTo>
                    <a:pt x="82" y="152"/>
                  </a:lnTo>
                  <a:lnTo>
                    <a:pt x="36" y="14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409920" y="34480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41600" y="3467160"/>
              <a:ext cx="58680" cy="52200"/>
            </a:xfrm>
            <a:custGeom>
              <a:avLst/>
              <a:gdLst/>
              <a:ahLst/>
              <a:rect l="l" t="t" r="r" b="b"/>
              <a:pathLst>
                <a:path w="111" h="99">
                  <a:moveTo>
                    <a:pt x="0" y="0"/>
                  </a:moveTo>
                  <a:lnTo>
                    <a:pt x="93" y="23"/>
                  </a:lnTo>
                  <a:lnTo>
                    <a:pt x="111" y="52"/>
                  </a:lnTo>
                  <a:lnTo>
                    <a:pt x="100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3530520" y="3643200"/>
            <a:ext cx="195480" cy="228600"/>
            <a:chOff x="3530520" y="3643200"/>
            <a:chExt cx="195480" cy="228600"/>
          </a:xfrm>
        </p:grpSpPr>
        <p:sp>
          <p:nvSpPr>
            <p:cNvPr id="336" name=""/>
            <p:cNvSpPr/>
            <p:nvPr/>
          </p:nvSpPr>
          <p:spPr>
            <a:xfrm>
              <a:off x="3530520" y="3643200"/>
              <a:ext cx="90720" cy="90720"/>
            </a:xfrm>
            <a:custGeom>
              <a:avLst/>
              <a:gdLst/>
              <a:ahLst/>
              <a:rect l="l" t="t" r="r" b="b"/>
              <a:pathLst>
                <a:path w="170" h="171">
                  <a:moveTo>
                    <a:pt x="170" y="100"/>
                  </a:moveTo>
                  <a:lnTo>
                    <a:pt x="117" y="13"/>
                  </a:lnTo>
                  <a:lnTo>
                    <a:pt x="70" y="0"/>
                  </a:lnTo>
                  <a:lnTo>
                    <a:pt x="12" y="36"/>
                  </a:lnTo>
                  <a:lnTo>
                    <a:pt x="0" y="82"/>
                  </a:lnTo>
                  <a:lnTo>
                    <a:pt x="53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87760" y="37353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0" y="17"/>
                  </a:moveTo>
                  <a:lnTo>
                    <a:pt x="93" y="106"/>
                  </a:lnTo>
                  <a:lnTo>
                    <a:pt x="140" y="117"/>
                  </a:lnTo>
                  <a:lnTo>
                    <a:pt x="152" y="70"/>
                  </a:lnTo>
                  <a:lnTo>
                    <a:pt x="116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43200" y="3800520"/>
              <a:ext cx="82800" cy="71280"/>
            </a:xfrm>
            <a:custGeom>
              <a:avLst/>
              <a:gdLst/>
              <a:ahLst/>
              <a:rect l="l" t="t" r="r" b="b"/>
              <a:pathLst>
                <a:path w="158" h="134">
                  <a:moveTo>
                    <a:pt x="158" y="0"/>
                  </a:moveTo>
                  <a:lnTo>
                    <a:pt x="12" y="87"/>
                  </a:lnTo>
                  <a:lnTo>
                    <a:pt x="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670200" y="3875040"/>
            <a:ext cx="81000" cy="74520"/>
          </a:xfrm>
          <a:custGeom>
            <a:avLst/>
            <a:gdLst/>
            <a:ahLst/>
            <a:rect l="l" t="t" r="r" b="b"/>
            <a:pathLst>
              <a:path w="152" h="141">
                <a:moveTo>
                  <a:pt x="41" y="18"/>
                </a:moveTo>
                <a:lnTo>
                  <a:pt x="93" y="106"/>
                </a:lnTo>
                <a:lnTo>
                  <a:pt x="141" y="117"/>
                </a:lnTo>
                <a:lnTo>
                  <a:pt x="152" y="71"/>
                </a:lnTo>
                <a:lnTo>
                  <a:pt x="117" y="13"/>
                </a:lnTo>
                <a:lnTo>
                  <a:pt x="70" y="0"/>
                </a:lnTo>
                <a:lnTo>
                  <a:pt x="11" y="36"/>
                </a:lnTo>
                <a:lnTo>
                  <a:pt x="0" y="83"/>
                </a:lnTo>
                <a:lnTo>
                  <a:pt x="35" y="1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716280" y="3967200"/>
            <a:ext cx="201600" cy="260280"/>
            <a:chOff x="3716280" y="3967200"/>
            <a:chExt cx="201600" cy="260280"/>
          </a:xfrm>
        </p:grpSpPr>
        <p:sp>
          <p:nvSpPr>
            <p:cNvPr id="341" name=""/>
            <p:cNvSpPr/>
            <p:nvPr/>
          </p:nvSpPr>
          <p:spPr>
            <a:xfrm>
              <a:off x="3716280" y="3967200"/>
              <a:ext cx="100080" cy="81000"/>
            </a:xfrm>
            <a:custGeom>
              <a:avLst/>
              <a:gdLst/>
              <a:ahLst/>
              <a:rect l="l" t="t" r="r" b="b"/>
              <a:pathLst>
                <a:path w="188" h="152">
                  <a:moveTo>
                    <a:pt x="0" y="53"/>
                  </a:moveTo>
                  <a:lnTo>
                    <a:pt x="54" y="140"/>
                  </a:lnTo>
                  <a:lnTo>
                    <a:pt x="100" y="152"/>
                  </a:lnTo>
                  <a:lnTo>
                    <a:pt x="112" y="106"/>
                  </a:lnTo>
                  <a:lnTo>
                    <a:pt x="76" y="47"/>
                  </a:lnTo>
                  <a:lnTo>
                    <a:pt x="88" y="0"/>
                  </a:lnTo>
                  <a:lnTo>
                    <a:pt x="135" y="11"/>
                  </a:lnTo>
                  <a:lnTo>
                    <a:pt x="188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35440" y="4051440"/>
              <a:ext cx="3636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00520" y="4064040"/>
              <a:ext cx="84240" cy="76320"/>
            </a:xfrm>
            <a:custGeom>
              <a:avLst/>
              <a:gdLst/>
              <a:ahLst/>
              <a:rect l="l" t="t" r="r" b="b"/>
              <a:pathLst>
                <a:path w="157" h="146">
                  <a:moveTo>
                    <a:pt x="157" y="0"/>
                  </a:moveTo>
                  <a:lnTo>
                    <a:pt x="12" y="88"/>
                  </a:lnTo>
                  <a:lnTo>
                    <a:pt x="0" y="135"/>
                  </a:lnTo>
                  <a:lnTo>
                    <a:pt x="46" y="1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38680" y="41529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1" y="17"/>
                  </a:moveTo>
                  <a:lnTo>
                    <a:pt x="93" y="104"/>
                  </a:lnTo>
                  <a:lnTo>
                    <a:pt x="141" y="117"/>
                  </a:lnTo>
                  <a:lnTo>
                    <a:pt x="152" y="69"/>
                  </a:lnTo>
                  <a:lnTo>
                    <a:pt x="117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591000" y="5230800"/>
            <a:ext cx="422280" cy="324000"/>
            <a:chOff x="3591000" y="5230800"/>
            <a:chExt cx="422280" cy="324000"/>
          </a:xfrm>
        </p:grpSpPr>
        <p:grpSp>
          <p:nvGrpSpPr>
            <p:cNvPr id="346" name=""/>
            <p:cNvGrpSpPr/>
            <p:nvPr/>
          </p:nvGrpSpPr>
          <p:grpSpPr>
            <a:xfrm>
              <a:off x="3591000" y="5289480"/>
              <a:ext cx="331560" cy="265320"/>
              <a:chOff x="3591000" y="5289480"/>
              <a:chExt cx="331560" cy="265320"/>
            </a:xfrm>
          </p:grpSpPr>
          <p:sp>
            <p:nvSpPr>
              <p:cNvPr id="347" name=""/>
              <p:cNvSpPr/>
              <p:nvPr/>
            </p:nvSpPr>
            <p:spPr>
              <a:xfrm flipH="1" flipV="1">
                <a:off x="3882960" y="5319720"/>
                <a:ext cx="39600" cy="6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3591000" y="5289480"/>
                <a:ext cx="282240" cy="265320"/>
                <a:chOff x="3591000" y="5289480"/>
                <a:chExt cx="282240" cy="2653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3591000" y="5424480"/>
                  <a:ext cx="119160" cy="130320"/>
                </a:xfrm>
                <a:custGeom>
                  <a:avLst/>
                  <a:gdLst/>
                  <a:ahLst/>
                  <a:rect l="l" t="t" r="r" b="b"/>
                  <a:pathLst>
                    <a:path w="225" h="246">
                      <a:moveTo>
                        <a:pt x="110" y="246"/>
                      </a:moveTo>
                      <a:lnTo>
                        <a:pt x="0" y="73"/>
                      </a:lnTo>
                      <a:lnTo>
                        <a:pt x="131" y="152"/>
                      </a:lnTo>
                      <a:lnTo>
                        <a:pt x="115" y="0"/>
                      </a:lnTo>
                      <a:lnTo>
                        <a:pt x="225" y="173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711600" y="5407200"/>
                  <a:ext cx="73080" cy="79200"/>
                </a:xfrm>
                <a:custGeom>
                  <a:avLst/>
                  <a:gdLst/>
                  <a:ahLst/>
                  <a:rect l="l" t="t" r="r" b="b"/>
                  <a:pathLst>
                    <a:path w="140" h="152">
                      <a:moveTo>
                        <a:pt x="18" y="112"/>
                      </a:moveTo>
                      <a:lnTo>
                        <a:pt x="105" y="58"/>
                      </a:lnTo>
                      <a:lnTo>
                        <a:pt x="115" y="11"/>
                      </a:lnTo>
                      <a:lnTo>
                        <a:pt x="68" y="0"/>
                      </a:lnTo>
                      <a:lnTo>
                        <a:pt x="10" y="36"/>
                      </a:lnTo>
                      <a:lnTo>
                        <a:pt x="0" y="83"/>
                      </a:lnTo>
                      <a:lnTo>
                        <a:pt x="36" y="141"/>
                      </a:lnTo>
                      <a:lnTo>
                        <a:pt x="83" y="152"/>
                      </a:lnTo>
                      <a:lnTo>
                        <a:pt x="140" y="1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flipV="1">
                  <a:off x="3792600" y="5376960"/>
                  <a:ext cx="38160" cy="6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811680" y="5348160"/>
                  <a:ext cx="50760" cy="5904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111"/>
                      </a:moveTo>
                      <a:lnTo>
                        <a:pt x="20" y="17"/>
                      </a:lnTo>
                      <a:lnTo>
                        <a:pt x="49" y="0"/>
                      </a:lnTo>
                      <a:lnTo>
                        <a:pt x="96" y="1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 flipV="1">
                  <a:off x="3863520" y="5289480"/>
                  <a:ext cx="9720" cy="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4" name=""/>
            <p:cNvGrpSpPr/>
            <p:nvPr/>
          </p:nvGrpSpPr>
          <p:grpSpPr>
            <a:xfrm>
              <a:off x="3924360" y="5230800"/>
              <a:ext cx="88920" cy="120600"/>
              <a:chOff x="3924360" y="5230800"/>
              <a:chExt cx="88920" cy="120600"/>
            </a:xfrm>
          </p:grpSpPr>
          <p:sp>
            <p:nvSpPr>
              <p:cNvPr id="355" name=""/>
              <p:cNvSpPr/>
              <p:nvPr/>
            </p:nvSpPr>
            <p:spPr>
              <a:xfrm>
                <a:off x="3924360" y="528012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133" h="134">
                    <a:moveTo>
                      <a:pt x="133" y="21"/>
                    </a:moveTo>
                    <a:lnTo>
                      <a:pt x="113" y="115"/>
                    </a:lnTo>
                    <a:lnTo>
                      <a:pt x="84" y="134"/>
                    </a:lnTo>
                    <a:lnTo>
                      <a:pt x="37" y="122"/>
                    </a:lnTo>
                    <a:lnTo>
                      <a:pt x="0" y="65"/>
                    </a:lnTo>
                    <a:lnTo>
                      <a:pt x="10" y="18"/>
                    </a:lnTo>
                    <a:lnTo>
                      <a:pt x="39" y="0"/>
                    </a:lnTo>
                    <a:lnTo>
                      <a:pt x="133" y="2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956040" y="5230800"/>
                <a:ext cx="57240" cy="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7" name=""/>
          <p:cNvGrpSpPr/>
          <p:nvPr/>
        </p:nvGrpSpPr>
        <p:grpSpPr>
          <a:xfrm>
            <a:off x="3986280" y="5076720"/>
            <a:ext cx="322200" cy="225000"/>
            <a:chOff x="3986280" y="5076720"/>
            <a:chExt cx="322200" cy="225000"/>
          </a:xfrm>
        </p:grpSpPr>
        <p:sp>
          <p:nvSpPr>
            <p:cNvPr id="358" name=""/>
            <p:cNvSpPr/>
            <p:nvPr/>
          </p:nvSpPr>
          <p:spPr>
            <a:xfrm flipH="1" flipV="1">
              <a:off x="4005360" y="5241600"/>
              <a:ext cx="3960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3986280" y="5211720"/>
              <a:ext cx="936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044960" y="5203800"/>
              <a:ext cx="65160" cy="6984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113" y="115"/>
                  </a:moveTo>
                  <a:lnTo>
                    <a:pt x="84" y="133"/>
                  </a:lnTo>
                  <a:lnTo>
                    <a:pt x="37" y="123"/>
                  </a:lnTo>
                  <a:lnTo>
                    <a:pt x="0" y="64"/>
                  </a:lnTo>
                  <a:lnTo>
                    <a:pt x="10" y="18"/>
                  </a:lnTo>
                  <a:lnTo>
                    <a:pt x="39" y="0"/>
                  </a:lnTo>
                  <a:lnTo>
                    <a:pt x="86" y="10"/>
                  </a:lnTo>
                  <a:lnTo>
                    <a:pt x="123" y="67"/>
                  </a:lnTo>
                  <a:lnTo>
                    <a:pt x="113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10120" y="5238720"/>
              <a:ext cx="252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4127400" y="5163840"/>
              <a:ext cx="3816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46480" y="5135400"/>
              <a:ext cx="81000" cy="59040"/>
            </a:xfrm>
            <a:custGeom>
              <a:avLst/>
              <a:gdLst/>
              <a:ahLst/>
              <a:rect l="l" t="t" r="r" b="b"/>
              <a:pathLst>
                <a:path w="152" h="112">
                  <a:moveTo>
                    <a:pt x="0" y="112"/>
                  </a:moveTo>
                  <a:lnTo>
                    <a:pt x="21" y="19"/>
                  </a:lnTo>
                  <a:lnTo>
                    <a:pt x="50" y="0"/>
                  </a:lnTo>
                  <a:lnTo>
                    <a:pt x="96" y="11"/>
                  </a:lnTo>
                  <a:lnTo>
                    <a:pt x="152" y="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29280" y="5076720"/>
              <a:ext cx="79200" cy="810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40" y="115"/>
                  </a:moveTo>
                  <a:lnTo>
                    <a:pt x="83" y="151"/>
                  </a:lnTo>
                  <a:lnTo>
                    <a:pt x="36" y="140"/>
                  </a:lnTo>
                  <a:lnTo>
                    <a:pt x="0" y="83"/>
                  </a:lnTo>
                  <a:lnTo>
                    <a:pt x="10" y="36"/>
                  </a:lnTo>
                  <a:lnTo>
                    <a:pt x="67" y="0"/>
                  </a:lnTo>
                  <a:lnTo>
                    <a:pt x="115" y="10"/>
                  </a:lnTo>
                  <a:lnTo>
                    <a:pt x="151" y="67"/>
                  </a:lnTo>
                  <a:lnTo>
                    <a:pt x="14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410000" y="4640400"/>
            <a:ext cx="577800" cy="399960"/>
            <a:chOff x="4410000" y="4640400"/>
            <a:chExt cx="577800" cy="399960"/>
          </a:xfrm>
        </p:grpSpPr>
        <p:sp>
          <p:nvSpPr>
            <p:cNvPr id="366" name=""/>
            <p:cNvSpPr/>
            <p:nvPr/>
          </p:nvSpPr>
          <p:spPr>
            <a:xfrm>
              <a:off x="4410000" y="4951440"/>
              <a:ext cx="90720" cy="8892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97" y="0"/>
                  </a:moveTo>
                  <a:lnTo>
                    <a:pt x="11" y="55"/>
                  </a:lnTo>
                  <a:lnTo>
                    <a:pt x="0" y="102"/>
                  </a:lnTo>
                  <a:lnTo>
                    <a:pt x="37" y="160"/>
                  </a:lnTo>
                  <a:lnTo>
                    <a:pt x="84" y="170"/>
                  </a:lnTo>
                  <a:lnTo>
                    <a:pt x="17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02160" y="490212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8"/>
                  </a:lnTo>
                  <a:lnTo>
                    <a:pt x="115" y="11"/>
                  </a:lnTo>
                  <a:lnTo>
                    <a:pt x="68" y="0"/>
                  </a:lnTo>
                  <a:lnTo>
                    <a:pt x="10" y="37"/>
                  </a:lnTo>
                  <a:lnTo>
                    <a:pt x="0" y="85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64080" y="4843440"/>
              <a:ext cx="73080" cy="810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0" y="0"/>
                  </a:moveTo>
                  <a:lnTo>
                    <a:pt x="92" y="143"/>
                  </a:lnTo>
                  <a:lnTo>
                    <a:pt x="139" y="1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38600" y="4815000"/>
              <a:ext cx="74520" cy="81000"/>
            </a:xfrm>
            <a:custGeom>
              <a:avLst/>
              <a:gdLst/>
              <a:ahLst/>
              <a:rect l="l" t="t" r="r" b="b"/>
              <a:pathLst>
                <a:path w="142" h="152">
                  <a:moveTo>
                    <a:pt x="19" y="113"/>
                  </a:moveTo>
                  <a:lnTo>
                    <a:pt x="105" y="58"/>
                  </a:lnTo>
                  <a:lnTo>
                    <a:pt x="115" y="12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2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30760" y="4746600"/>
              <a:ext cx="79200" cy="100080"/>
            </a:xfrm>
            <a:custGeom>
              <a:avLst/>
              <a:gdLst/>
              <a:ahLst/>
              <a:rect l="l" t="t" r="r" b="b"/>
              <a:pathLst>
                <a:path w="152" h="189">
                  <a:moveTo>
                    <a:pt x="55" y="189"/>
                  </a:moveTo>
                  <a:lnTo>
                    <a:pt x="141" y="133"/>
                  </a:lnTo>
                  <a:lnTo>
                    <a:pt x="152" y="86"/>
                  </a:lnTo>
                  <a:lnTo>
                    <a:pt x="104" y="76"/>
                  </a:lnTo>
                  <a:lnTo>
                    <a:pt x="47" y="113"/>
                  </a:lnTo>
                  <a:lnTo>
                    <a:pt x="0" y="103"/>
                  </a:lnTo>
                  <a:lnTo>
                    <a:pt x="10" y="55"/>
                  </a:lnTo>
                  <a:lnTo>
                    <a:pt x="9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811760" y="468936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22920" y="4678200"/>
              <a:ext cx="79200" cy="81000"/>
            </a:xfrm>
            <a:custGeom>
              <a:avLst/>
              <a:gdLst/>
              <a:ahLst/>
              <a:rect l="l" t="t" r="r" b="b"/>
              <a:pathLst>
                <a:path w="149" h="154">
                  <a:moveTo>
                    <a:pt x="0" y="0"/>
                  </a:moveTo>
                  <a:lnTo>
                    <a:pt x="91" y="143"/>
                  </a:lnTo>
                  <a:lnTo>
                    <a:pt x="139" y="154"/>
                  </a:lnTo>
                  <a:lnTo>
                    <a:pt x="149" y="1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13280" y="464040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7"/>
                  </a:lnTo>
                  <a:lnTo>
                    <a:pt x="115" y="10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6" y="141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276800" y="6176520"/>
            <a:ext cx="433440" cy="108360"/>
            <a:chOff x="4276800" y="6176520"/>
            <a:chExt cx="433440" cy="108360"/>
          </a:xfrm>
        </p:grpSpPr>
        <p:sp>
          <p:nvSpPr>
            <p:cNvPr id="390" name=""/>
            <p:cNvSpPr/>
            <p:nvPr/>
          </p:nvSpPr>
          <p:spPr>
            <a:xfrm>
              <a:off x="4276800" y="617688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86240" y="621360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68" y="135"/>
                  </a:move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1"/>
                  </a:lnTo>
                  <a:lnTo>
                    <a:pt x="68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40240" y="626760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94240" y="621360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5">
                  <a:moveTo>
                    <a:pt x="137" y="68"/>
                  </a:moveTo>
                  <a:lnTo>
                    <a:pt x="68" y="135"/>
                  </a:ln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65520" y="6176880"/>
              <a:ext cx="180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4602240" y="621360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4602240" y="617652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4638600" y="621360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38600" y="6213600"/>
              <a:ext cx="71640" cy="36360"/>
            </a:xfrm>
            <a:custGeom>
              <a:avLst/>
              <a:gdLst/>
              <a:ahLst/>
              <a:rect l="l" t="t" r="r" b="b"/>
              <a:pathLst>
                <a:path w="137" h="68">
                  <a:moveTo>
                    <a:pt x="0" y="68"/>
                  </a:moveTo>
                  <a:lnTo>
                    <a:pt x="68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238640" y="1642680"/>
            <a:ext cx="433440" cy="109800"/>
            <a:chOff x="4238640" y="1642680"/>
            <a:chExt cx="433440" cy="109800"/>
          </a:xfrm>
        </p:grpSpPr>
        <p:sp>
          <p:nvSpPr>
            <p:cNvPr id="400" name=""/>
            <p:cNvSpPr/>
            <p:nvPr/>
          </p:nvSpPr>
          <p:spPr>
            <a:xfrm>
              <a:off x="4238640" y="1643040"/>
              <a:ext cx="73080" cy="109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0" y="0"/>
                  </a:moveTo>
                  <a:lnTo>
                    <a:pt x="137" y="0"/>
                  </a:lnTo>
                  <a:lnTo>
                    <a:pt x="0" y="205"/>
                  </a:lnTo>
                  <a:lnTo>
                    <a:pt x="137" y="20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46640" y="1679400"/>
              <a:ext cx="73080" cy="730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8"/>
                  </a:moveTo>
                  <a:lnTo>
                    <a:pt x="103" y="68"/>
                  </a:lnTo>
                  <a:lnTo>
                    <a:pt x="137" y="34"/>
                  </a:lnTo>
                  <a:lnTo>
                    <a:pt x="103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0" y="102"/>
                  </a:lnTo>
                  <a:lnTo>
                    <a:pt x="35" y="136"/>
                  </a:lnTo>
                  <a:lnTo>
                    <a:pt x="103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4456080" y="1679040"/>
              <a:ext cx="180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56080" y="1679400"/>
              <a:ext cx="71640" cy="730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68"/>
                  </a:moveTo>
                  <a:lnTo>
                    <a:pt x="67" y="0"/>
                  </a:lnTo>
                  <a:lnTo>
                    <a:pt x="102" y="0"/>
                  </a:lnTo>
                  <a:lnTo>
                    <a:pt x="136" y="34"/>
                  </a:lnTo>
                  <a:lnTo>
                    <a:pt x="136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4564080" y="16790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4564080" y="16426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00440" y="1679400"/>
              <a:ext cx="71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35360" y="164304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0" y="171"/>
                  </a:lnTo>
                  <a:lnTo>
                    <a:pt x="34" y="205"/>
                  </a:lnTo>
                  <a:lnTo>
                    <a:pt x="69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545160" y="3886200"/>
            <a:ext cx="381240" cy="119160"/>
            <a:chOff x="6545160" y="3886200"/>
            <a:chExt cx="381240" cy="119160"/>
          </a:xfrm>
        </p:grpSpPr>
        <p:sp>
          <p:nvSpPr>
            <p:cNvPr id="409" name=""/>
            <p:cNvSpPr/>
            <p:nvPr/>
          </p:nvSpPr>
          <p:spPr>
            <a:xfrm flipV="1">
              <a:off x="6545160" y="3895200"/>
              <a:ext cx="180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545160" y="3951360"/>
              <a:ext cx="7164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16800" y="3895560"/>
              <a:ext cx="144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653160" y="3895560"/>
              <a:ext cx="17640" cy="36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10400" y="3886200"/>
              <a:ext cx="36360" cy="109440"/>
            </a:xfrm>
            <a:custGeom>
              <a:avLst/>
              <a:gdLst/>
              <a:ahLst/>
              <a:rect l="l" t="t" r="r" b="b"/>
              <a:pathLst>
                <a:path w="68" h="205">
                  <a:moveTo>
                    <a:pt x="68" y="0"/>
                  </a:moveTo>
                  <a:lnTo>
                    <a:pt x="0" y="68"/>
                  </a:lnTo>
                  <a:lnTo>
                    <a:pt x="0" y="137"/>
                  </a:lnTo>
                  <a:lnTo>
                    <a:pt x="68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81680" y="3886200"/>
              <a:ext cx="73080" cy="10944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1"/>
                  </a:moveTo>
                  <a:lnTo>
                    <a:pt x="34" y="205"/>
                  </a:lnTo>
                  <a:lnTo>
                    <a:pt x="103" y="205"/>
                  </a:lnTo>
                  <a:lnTo>
                    <a:pt x="136" y="17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89680" y="388620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69" y="68"/>
                  </a:lnTo>
                  <a:lnTo>
                    <a:pt x="69" y="137"/>
                  </a:lnTo>
                  <a:lnTo>
                    <a:pt x="0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981080" y="3908520"/>
            <a:ext cx="333360" cy="123840"/>
            <a:chOff x="1981080" y="3908520"/>
            <a:chExt cx="333360" cy="123840"/>
          </a:xfrm>
        </p:grpSpPr>
        <p:sp>
          <p:nvSpPr>
            <p:cNvPr id="417" name=""/>
            <p:cNvSpPr/>
            <p:nvPr/>
          </p:nvSpPr>
          <p:spPr>
            <a:xfrm flipV="1">
              <a:off x="198108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81080" y="3962520"/>
              <a:ext cx="730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5416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98800" y="3924360"/>
              <a:ext cx="34920" cy="108000"/>
            </a:xfrm>
            <a:custGeom>
              <a:avLst/>
              <a:gdLst/>
              <a:ahLst/>
              <a:rect l="l" t="t" r="r" b="b"/>
              <a:pathLst>
                <a:path w="67" h="204">
                  <a:moveTo>
                    <a:pt x="67" y="0"/>
                  </a:moveTo>
                  <a:lnTo>
                    <a:pt x="0" y="68"/>
                  </a:lnTo>
                  <a:lnTo>
                    <a:pt x="0" y="135"/>
                  </a:lnTo>
                  <a:lnTo>
                    <a:pt x="67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70080" y="3924360"/>
              <a:ext cx="730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0" y="204"/>
                  </a:moveTo>
                  <a:lnTo>
                    <a:pt x="0" y="0"/>
                  </a:lnTo>
                  <a:lnTo>
                    <a:pt x="137" y="204"/>
                  </a:lnTo>
                  <a:lnTo>
                    <a:pt x="137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78080" y="3924360"/>
              <a:ext cx="36360" cy="108000"/>
            </a:xfrm>
            <a:custGeom>
              <a:avLst/>
              <a:gdLst/>
              <a:ahLst/>
              <a:rect l="l" t="t" r="r" b="b"/>
              <a:pathLst>
                <a:path w="69" h="204">
                  <a:moveTo>
                    <a:pt x="0" y="0"/>
                  </a:moveTo>
                  <a:lnTo>
                    <a:pt x="69" y="68"/>
                  </a:lnTo>
                  <a:lnTo>
                    <a:pt x="69" y="135"/>
                  </a:ln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838840" y="5540400"/>
            <a:ext cx="181080" cy="109440"/>
            <a:chOff x="5838840" y="5540400"/>
            <a:chExt cx="181080" cy="109440"/>
          </a:xfrm>
        </p:grpSpPr>
        <p:sp>
          <p:nvSpPr>
            <p:cNvPr id="424" name=""/>
            <p:cNvSpPr/>
            <p:nvPr/>
          </p:nvSpPr>
          <p:spPr>
            <a:xfrm>
              <a:off x="5838840" y="554040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838840" y="5592600"/>
              <a:ext cx="36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38840" y="564840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948280" y="554040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2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809800" y="2301480"/>
            <a:ext cx="235080" cy="109800"/>
            <a:chOff x="2809800" y="2301480"/>
            <a:chExt cx="235080" cy="109800"/>
          </a:xfrm>
        </p:grpSpPr>
        <p:sp>
          <p:nvSpPr>
            <p:cNvPr id="429" name=""/>
            <p:cNvSpPr/>
            <p:nvPr/>
          </p:nvSpPr>
          <p:spPr>
            <a:xfrm>
              <a:off x="2809800" y="230184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09800" y="2355840"/>
              <a:ext cx="36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09800" y="240984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19240" y="230184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3027240" y="2301480"/>
              <a:ext cx="176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6019920" y="2438280"/>
            <a:ext cx="287280" cy="108000"/>
            <a:chOff x="6019920" y="2438280"/>
            <a:chExt cx="287280" cy="108000"/>
          </a:xfrm>
        </p:grpSpPr>
        <p:sp>
          <p:nvSpPr>
            <p:cNvPr id="435" name=""/>
            <p:cNvSpPr/>
            <p:nvPr/>
          </p:nvSpPr>
          <p:spPr>
            <a:xfrm>
              <a:off x="6019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5" h="205">
                  <a:moveTo>
                    <a:pt x="0" y="20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35" y="33"/>
                  </a:lnTo>
                  <a:lnTo>
                    <a:pt x="135" y="68"/>
                  </a:lnTo>
                  <a:lnTo>
                    <a:pt x="101" y="102"/>
                  </a:lnTo>
                  <a:lnTo>
                    <a:pt x="0" y="102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127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0"/>
                  </a:moveTo>
                  <a:lnTo>
                    <a:pt x="34" y="205"/>
                  </a:lnTo>
                  <a:lnTo>
                    <a:pt x="102" y="205"/>
                  </a:lnTo>
                  <a:lnTo>
                    <a:pt x="136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235920" y="243828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37" y="170"/>
                  </a:moveTo>
                  <a:lnTo>
                    <a:pt x="103" y="205"/>
                  </a:lnTo>
                  <a:lnTo>
                    <a:pt x="35" y="205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2590920" y="5334120"/>
            <a:ext cx="288360" cy="108000"/>
            <a:chOff x="2590920" y="5334120"/>
            <a:chExt cx="288360" cy="108000"/>
          </a:xfrm>
        </p:grpSpPr>
        <p:sp>
          <p:nvSpPr>
            <p:cNvPr id="439" name=""/>
            <p:cNvSpPr/>
            <p:nvPr/>
          </p:nvSpPr>
          <p:spPr>
            <a:xfrm>
              <a:off x="2590920" y="5334120"/>
              <a:ext cx="7272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36" y="33"/>
                  </a:lnTo>
                  <a:lnTo>
                    <a:pt x="136" y="67"/>
                  </a:lnTo>
                  <a:lnTo>
                    <a:pt x="102" y="101"/>
                  </a:lnTo>
                  <a:lnTo>
                    <a:pt x="0" y="10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00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808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137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017880" y="2465280"/>
            <a:ext cx="2765520" cy="3040200"/>
          </a:xfrm>
          <a:custGeom>
            <a:avLst/>
            <a:gdLst/>
            <a:ahLst/>
            <a:rect l="l" t="t" r="r" b="b"/>
            <a:pathLst>
              <a:path w="5228" h="5747">
                <a:moveTo>
                  <a:pt x="5228" y="5639"/>
                </a:moveTo>
                <a:lnTo>
                  <a:pt x="4999" y="5747"/>
                </a:lnTo>
                <a:lnTo>
                  <a:pt x="4681" y="5742"/>
                </a:lnTo>
                <a:lnTo>
                  <a:pt x="4287" y="5625"/>
                </a:lnTo>
                <a:lnTo>
                  <a:pt x="3833" y="5400"/>
                </a:lnTo>
                <a:lnTo>
                  <a:pt x="3333" y="5076"/>
                </a:lnTo>
                <a:lnTo>
                  <a:pt x="2810" y="4666"/>
                </a:lnTo>
                <a:lnTo>
                  <a:pt x="2283" y="4184"/>
                </a:lnTo>
                <a:lnTo>
                  <a:pt x="1770" y="3650"/>
                </a:lnTo>
                <a:lnTo>
                  <a:pt x="1293" y="3084"/>
                </a:lnTo>
                <a:lnTo>
                  <a:pt x="871" y="2508"/>
                </a:lnTo>
                <a:lnTo>
                  <a:pt x="518" y="1943"/>
                </a:lnTo>
                <a:lnTo>
                  <a:pt x="249" y="1413"/>
                </a:lnTo>
                <a:lnTo>
                  <a:pt x="75" y="937"/>
                </a:lnTo>
                <a:lnTo>
                  <a:pt x="0" y="533"/>
                </a:lnTo>
                <a:lnTo>
                  <a:pt x="29" y="217"/>
                </a:lnTo>
                <a:lnTo>
                  <a:pt x="16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83400" y="5307120"/>
            <a:ext cx="72720" cy="141120"/>
          </a:xfrm>
          <a:custGeom>
            <a:avLst/>
            <a:gdLst/>
            <a:ahLst/>
            <a:rect l="l" t="t" r="r" b="b"/>
            <a:pathLst>
              <a:path w="137" h="267">
                <a:moveTo>
                  <a:pt x="0" y="267"/>
                </a:moveTo>
                <a:lnTo>
                  <a:pt x="132" y="51"/>
                </a:lnTo>
                <a:lnTo>
                  <a:pt x="137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57920" y="5105520"/>
            <a:ext cx="11160" cy="133200"/>
          </a:xfrm>
          <a:custGeom>
            <a:avLst/>
            <a:gdLst/>
            <a:ahLst/>
            <a:rect l="l" t="t" r="r" b="b"/>
            <a:pathLst>
              <a:path w="21" h="252">
                <a:moveTo>
                  <a:pt x="9" y="252"/>
                </a:moveTo>
                <a:lnTo>
                  <a:pt x="21" y="11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5743440" y="4718160"/>
            <a:ext cx="46080" cy="1267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56240" y="4357800"/>
            <a:ext cx="66600" cy="117360"/>
          </a:xfrm>
          <a:custGeom>
            <a:avLst/>
            <a:gdLst/>
            <a:ahLst/>
            <a:rect l="l" t="t" r="r" b="b"/>
            <a:pathLst>
              <a:path w="126" h="222">
                <a:moveTo>
                  <a:pt x="126" y="222"/>
                </a:moveTo>
                <a:lnTo>
                  <a:pt x="73" y="117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4019400"/>
            <a:ext cx="77760" cy="109800"/>
          </a:xfrm>
          <a:custGeom>
            <a:avLst/>
            <a:gdLst/>
            <a:ahLst/>
            <a:rect l="l" t="t" r="r" b="b"/>
            <a:pathLst>
              <a:path w="149" h="208">
                <a:moveTo>
                  <a:pt x="149" y="208"/>
                </a:moveTo>
                <a:lnTo>
                  <a:pt x="141" y="19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5084280" y="3699000"/>
            <a:ext cx="8748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4954680" y="3543480"/>
            <a:ext cx="8712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4675320" y="32493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52880" y="2728800"/>
            <a:ext cx="109440" cy="79560"/>
          </a:xfrm>
          <a:custGeom>
            <a:avLst/>
            <a:gdLst/>
            <a:ahLst/>
            <a:rect l="l" t="t" r="r" b="b"/>
            <a:pathLst>
              <a:path w="208" h="149">
                <a:moveTo>
                  <a:pt x="208" y="149"/>
                </a:moveTo>
                <a:lnTo>
                  <a:pt x="99" y="6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3703320" y="2522520"/>
            <a:ext cx="120600" cy="60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516480" y="2446200"/>
            <a:ext cx="126720" cy="47880"/>
          </a:xfrm>
          <a:custGeom>
            <a:avLst/>
            <a:gdLst/>
            <a:ahLst/>
            <a:rect l="l" t="t" r="r" b="b"/>
            <a:pathLst>
              <a:path w="239" h="88">
                <a:moveTo>
                  <a:pt x="239" y="88"/>
                </a:move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02120" y="2408400"/>
            <a:ext cx="149040" cy="56880"/>
          </a:xfrm>
          <a:custGeom>
            <a:avLst/>
            <a:gdLst/>
            <a:ahLst/>
            <a:rect l="l" t="t" r="r" b="b"/>
            <a:pathLst>
              <a:path w="281" h="107">
                <a:moveTo>
                  <a:pt x="281" y="0"/>
                </a:moveTo>
                <a:lnTo>
                  <a:pt x="230" y="0"/>
                </a:lnTo>
                <a:lnTo>
                  <a:pt x="0" y="107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3102120" y="2465280"/>
            <a:ext cx="2681280" cy="2982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656880" y="15238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656880" y="61722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06920" y="38098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554880" y="3809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952880" y="4267080"/>
            <a:ext cx="152640" cy="1526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5029200" y="3962520"/>
            <a:ext cx="131760" cy="115920"/>
            <a:chOff x="5029200" y="3962520"/>
            <a:chExt cx="131760" cy="115920"/>
          </a:xfrm>
        </p:grpSpPr>
        <p:sp>
          <p:nvSpPr>
            <p:cNvPr id="512" name=""/>
            <p:cNvSpPr/>
            <p:nvPr/>
          </p:nvSpPr>
          <p:spPr>
            <a:xfrm>
              <a:off x="5029200" y="396252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29200" y="401976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029200" y="407700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5141880" y="396252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3886200" y="3962520"/>
            <a:ext cx="74520" cy="114120"/>
            <a:chOff x="3886200" y="3962520"/>
            <a:chExt cx="74520" cy="114120"/>
          </a:xfrm>
        </p:grpSpPr>
        <p:sp>
          <p:nvSpPr>
            <p:cNvPr id="517" name=""/>
            <p:cNvSpPr/>
            <p:nvPr/>
          </p:nvSpPr>
          <p:spPr>
            <a:xfrm>
              <a:off x="3886200" y="396252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86200" y="401940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86200" y="407520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4343400" y="4495680"/>
            <a:ext cx="189000" cy="114120"/>
            <a:chOff x="4343400" y="4495680"/>
            <a:chExt cx="189000" cy="114120"/>
          </a:xfrm>
        </p:grpSpPr>
        <p:sp>
          <p:nvSpPr>
            <p:cNvPr id="521" name=""/>
            <p:cNvSpPr/>
            <p:nvPr/>
          </p:nvSpPr>
          <p:spPr>
            <a:xfrm>
              <a:off x="4343400" y="449568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56080" y="449568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343400" y="3352680"/>
            <a:ext cx="189000" cy="112680"/>
            <a:chOff x="4343400" y="3352680"/>
            <a:chExt cx="189000" cy="112680"/>
          </a:xfrm>
        </p:grpSpPr>
        <p:sp>
          <p:nvSpPr>
            <p:cNvPr id="524" name=""/>
            <p:cNvSpPr/>
            <p:nvPr/>
          </p:nvSpPr>
          <p:spPr>
            <a:xfrm>
              <a:off x="434340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5608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962520" y="3886200"/>
            <a:ext cx="970920" cy="100080"/>
            <a:chOff x="3962520" y="3886200"/>
            <a:chExt cx="970920" cy="100080"/>
          </a:xfrm>
        </p:grpSpPr>
        <p:sp>
          <p:nvSpPr>
            <p:cNvPr id="527" name=""/>
            <p:cNvSpPr/>
            <p:nvPr/>
          </p:nvSpPr>
          <p:spPr>
            <a:xfrm>
              <a:off x="3962520" y="3925800"/>
              <a:ext cx="139320" cy="60480"/>
            </a:xfrm>
            <a:custGeom>
              <a:avLst/>
              <a:gdLst/>
              <a:ahLst/>
              <a:rect l="l" t="t" r="r" b="b"/>
              <a:pathLst>
                <a:path w="350" h="153">
                  <a:moveTo>
                    <a:pt x="0" y="153"/>
                  </a:moveTo>
                  <a:lnTo>
                    <a:pt x="207" y="28"/>
                  </a:lnTo>
                  <a:lnTo>
                    <a:pt x="3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171680" y="3895560"/>
              <a:ext cx="139320" cy="17640"/>
            </a:xfrm>
            <a:custGeom>
              <a:avLst/>
              <a:gdLst/>
              <a:ahLst/>
              <a:rect l="l" t="t" r="r" b="b"/>
              <a:pathLst>
                <a:path w="353" h="41">
                  <a:moveTo>
                    <a:pt x="0" y="41"/>
                  </a:moveTo>
                  <a:lnTo>
                    <a:pt x="162" y="10"/>
                  </a:lnTo>
                  <a:lnTo>
                    <a:pt x="35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381200" y="3886200"/>
              <a:ext cx="141120" cy="6120"/>
            </a:xfrm>
            <a:custGeom>
              <a:avLst/>
              <a:gdLst/>
              <a:ahLst/>
              <a:rect l="l" t="t" r="r" b="b"/>
              <a:pathLst>
                <a:path w="356" h="14">
                  <a:moveTo>
                    <a:pt x="0" y="14"/>
                  </a:moveTo>
                  <a:lnTo>
                    <a:pt x="254" y="0"/>
                  </a:lnTo>
                  <a:lnTo>
                    <a:pt x="356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93960" y="3892320"/>
              <a:ext cx="139320" cy="9720"/>
            </a:xfrm>
            <a:custGeom>
              <a:avLst/>
              <a:gdLst/>
              <a:ahLst/>
              <a:rect l="l" t="t" r="r" b="b"/>
              <a:pathLst>
                <a:path w="356" h="25">
                  <a:moveTo>
                    <a:pt x="0" y="0"/>
                  </a:moveTo>
                  <a:lnTo>
                    <a:pt x="322" y="18"/>
                  </a:lnTo>
                  <a:lnTo>
                    <a:pt x="356" y="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803480" y="3917880"/>
              <a:ext cx="129960" cy="68400"/>
            </a:xfrm>
            <a:custGeom>
              <a:avLst/>
              <a:gdLst/>
              <a:ahLst/>
              <a:rect l="l" t="t" r="r" b="b"/>
              <a:pathLst>
                <a:path w="330" h="171">
                  <a:moveTo>
                    <a:pt x="0" y="0"/>
                  </a:moveTo>
                  <a:lnTo>
                    <a:pt x="210" y="46"/>
                  </a:lnTo>
                  <a:lnTo>
                    <a:pt x="330" y="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3962520" y="3962520"/>
            <a:ext cx="97128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962520" y="350532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627600" y="19810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5866920" y="24382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5105520" y="4446720"/>
            <a:ext cx="106200" cy="139680"/>
            <a:chOff x="5105520" y="4446720"/>
            <a:chExt cx="106200" cy="139680"/>
          </a:xfrm>
        </p:grpSpPr>
        <p:sp>
          <p:nvSpPr>
            <p:cNvPr id="537" name=""/>
            <p:cNvSpPr/>
            <p:nvPr/>
          </p:nvSpPr>
          <p:spPr>
            <a:xfrm>
              <a:off x="5105520" y="446580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4">
                  <a:moveTo>
                    <a:pt x="0" y="114"/>
                  </a:moveTo>
                  <a:lnTo>
                    <a:pt x="31" y="0"/>
                  </a:lnTo>
                  <a:lnTo>
                    <a:pt x="149" y="224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22800" y="4548240"/>
              <a:ext cx="42840" cy="38160"/>
            </a:xfrm>
            <a:custGeom>
              <a:avLst/>
              <a:gdLst/>
              <a:ahLst/>
              <a:rect l="l" t="t" r="r" b="b"/>
              <a:pathLst>
                <a:path w="109" h="95">
                  <a:moveTo>
                    <a:pt x="17" y="0"/>
                  </a:moveTo>
                  <a:lnTo>
                    <a:pt x="0" y="37"/>
                  </a:lnTo>
                  <a:lnTo>
                    <a:pt x="13" y="74"/>
                  </a:lnTo>
                  <a:lnTo>
                    <a:pt x="48" y="95"/>
                  </a:lnTo>
                  <a:lnTo>
                    <a:pt x="86" y="86"/>
                  </a:lnTo>
                  <a:lnTo>
                    <a:pt x="109" y="54"/>
                  </a:lnTo>
                  <a:lnTo>
                    <a:pt x="104" y="15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30720" y="4446720"/>
              <a:ext cx="81000" cy="101520"/>
            </a:xfrm>
            <a:custGeom>
              <a:avLst/>
              <a:gdLst/>
              <a:ahLst/>
              <a:rect l="l" t="t" r="r" b="b"/>
              <a:pathLst>
                <a:path w="206" h="257">
                  <a:moveTo>
                    <a:pt x="0" y="257"/>
                  </a:moveTo>
                  <a:lnTo>
                    <a:pt x="96" y="0"/>
                  </a:lnTo>
                  <a:lnTo>
                    <a:pt x="206" y="48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6171480" y="51814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to V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5257440" y="457164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251460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76920" y="42670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733920" y="350532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6520" y="137160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6095520" y="1676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397920" y="510552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Sept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5257440" y="457200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2920" y="5867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Dic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981080" y="5410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47960" y="1916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09680" y="228600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Astr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Absolu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Ecuatoriales Rel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Horizon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Astronómicas Absolu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4978440" y="3568680"/>
            <a:ext cx="96840" cy="231840"/>
            <a:chOff x="4978440" y="3568680"/>
            <a:chExt cx="96840" cy="231840"/>
          </a:xfrm>
        </p:grpSpPr>
        <p:sp>
          <p:nvSpPr>
            <p:cNvPr id="558" name=""/>
            <p:cNvSpPr/>
            <p:nvPr/>
          </p:nvSpPr>
          <p:spPr>
            <a:xfrm>
              <a:off x="5022720" y="3568680"/>
              <a:ext cx="52560" cy="166680"/>
            </a:xfrm>
            <a:custGeom>
              <a:avLst/>
              <a:gdLst/>
              <a:ahLst/>
              <a:rect l="l" t="t" r="r" b="b"/>
              <a:pathLst>
                <a:path w="134" h="420">
                  <a:moveTo>
                    <a:pt x="132" y="98"/>
                  </a:moveTo>
                  <a:lnTo>
                    <a:pt x="134" y="41"/>
                  </a:lnTo>
                  <a:lnTo>
                    <a:pt x="95" y="0"/>
                  </a:lnTo>
                  <a:lnTo>
                    <a:pt x="38" y="0"/>
                  </a:lnTo>
                  <a:lnTo>
                    <a:pt x="0" y="41"/>
                  </a:lnTo>
                  <a:lnTo>
                    <a:pt x="2" y="98"/>
                  </a:lnTo>
                  <a:lnTo>
                    <a:pt x="88" y="4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78440" y="3735360"/>
              <a:ext cx="83880" cy="65160"/>
            </a:xfrm>
            <a:custGeom>
              <a:avLst/>
              <a:gdLst/>
              <a:ahLst/>
              <a:rect l="l" t="t" r="r" b="b"/>
              <a:pathLst>
                <a:path w="214" h="164">
                  <a:moveTo>
                    <a:pt x="0" y="67"/>
                  </a:moveTo>
                  <a:lnTo>
                    <a:pt x="34" y="134"/>
                  </a:lnTo>
                  <a:lnTo>
                    <a:pt x="104" y="164"/>
                  </a:lnTo>
                  <a:lnTo>
                    <a:pt x="175" y="141"/>
                  </a:lnTo>
                  <a:lnTo>
                    <a:pt x="214" y="75"/>
                  </a:lnTo>
                  <a:lnTo>
                    <a:pt x="20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978440" y="3708360"/>
              <a:ext cx="61920" cy="52560"/>
            </a:xfrm>
            <a:custGeom>
              <a:avLst/>
              <a:gdLst/>
              <a:ahLst/>
              <a:rect l="l" t="t" r="r" b="b"/>
              <a:pathLst>
                <a:path w="158" h="133">
                  <a:moveTo>
                    <a:pt x="158" y="0"/>
                  </a:moveTo>
                  <a:lnTo>
                    <a:pt x="47" y="28"/>
                  </a:lnTo>
                  <a:lnTo>
                    <a:pt x="0" y="13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3013200" y="4357800"/>
            <a:ext cx="209520" cy="135000"/>
            <a:chOff x="3013200" y="4357800"/>
            <a:chExt cx="209520" cy="135000"/>
          </a:xfrm>
        </p:grpSpPr>
        <p:sp>
          <p:nvSpPr>
            <p:cNvPr id="562" name=""/>
            <p:cNvSpPr/>
            <p:nvPr/>
          </p:nvSpPr>
          <p:spPr>
            <a:xfrm>
              <a:off x="3137040" y="4457880"/>
              <a:ext cx="85680" cy="3492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0" y="0"/>
                  </a:moveTo>
                  <a:lnTo>
                    <a:pt x="91" y="88"/>
                  </a:lnTo>
                  <a:lnTo>
                    <a:pt x="215" y="6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013200" y="4357800"/>
              <a:ext cx="179280" cy="117360"/>
            </a:xfrm>
            <a:custGeom>
              <a:avLst/>
              <a:gdLst/>
              <a:ahLst/>
              <a:rect l="l" t="t" r="r" b="b"/>
              <a:pathLst>
                <a:path w="452" h="294">
                  <a:moveTo>
                    <a:pt x="314" y="252"/>
                  </a:moveTo>
                  <a:lnTo>
                    <a:pt x="264" y="169"/>
                  </a:lnTo>
                  <a:lnTo>
                    <a:pt x="182" y="117"/>
                  </a:lnTo>
                  <a:lnTo>
                    <a:pt x="87" y="104"/>
                  </a:lnTo>
                  <a:lnTo>
                    <a:pt x="18" y="143"/>
                  </a:lnTo>
                  <a:lnTo>
                    <a:pt x="0" y="218"/>
                  </a:lnTo>
                  <a:lnTo>
                    <a:pt x="43" y="282"/>
                  </a:lnTo>
                  <a:lnTo>
                    <a:pt x="119" y="294"/>
                  </a:lnTo>
                  <a:lnTo>
                    <a:pt x="321" y="187"/>
                  </a:lnTo>
                  <a:lnTo>
                    <a:pt x="45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714560" y="3014640"/>
            <a:ext cx="152640" cy="147600"/>
            <a:chOff x="4714560" y="3014640"/>
            <a:chExt cx="152640" cy="147600"/>
          </a:xfrm>
        </p:grpSpPr>
        <p:sp>
          <p:nvSpPr>
            <p:cNvPr id="565" name=""/>
            <p:cNvSpPr/>
            <p:nvPr/>
          </p:nvSpPr>
          <p:spPr>
            <a:xfrm flipH="1" flipV="1">
              <a:off x="4714560" y="3065040"/>
              <a:ext cx="586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808520" y="3070440"/>
              <a:ext cx="58680" cy="34920"/>
            </a:xfrm>
            <a:custGeom>
              <a:avLst/>
              <a:gdLst/>
              <a:ahLst/>
              <a:rect l="l" t="t" r="r" b="b"/>
              <a:pathLst>
                <a:path w="147" h="86">
                  <a:moveTo>
                    <a:pt x="23" y="86"/>
                  </a:moveTo>
                  <a:lnTo>
                    <a:pt x="147" y="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738680" y="3102120"/>
              <a:ext cx="48960" cy="5400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54" y="0"/>
                  </a:moveTo>
                  <a:lnTo>
                    <a:pt x="0" y="136"/>
                  </a:lnTo>
                  <a:lnTo>
                    <a:pt x="124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773600" y="3014640"/>
              <a:ext cx="34920" cy="5580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1" y="143"/>
                  </a:moveTo>
                  <a:lnTo>
                    <a:pt x="55" y="0"/>
                  </a:lnTo>
                  <a:lnTo>
                    <a:pt x="0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787640" y="3105360"/>
              <a:ext cx="44640" cy="568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49"/>
                  </a:moveTo>
                  <a:lnTo>
                    <a:pt x="114" y="142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714920" y="3065400"/>
              <a:ext cx="4572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4143240" y="3700440"/>
            <a:ext cx="131760" cy="115920"/>
            <a:chOff x="4143240" y="3700440"/>
            <a:chExt cx="131760" cy="115920"/>
          </a:xfrm>
        </p:grpSpPr>
        <p:sp>
          <p:nvSpPr>
            <p:cNvPr id="572" name=""/>
            <p:cNvSpPr/>
            <p:nvPr/>
          </p:nvSpPr>
          <p:spPr>
            <a:xfrm>
              <a:off x="4143240" y="370044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43240" y="375768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43240" y="381492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4255920" y="370044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3013200" y="3720960"/>
            <a:ext cx="74520" cy="114120"/>
            <a:chOff x="3013200" y="3720960"/>
            <a:chExt cx="74520" cy="114120"/>
          </a:xfrm>
        </p:grpSpPr>
        <p:sp>
          <p:nvSpPr>
            <p:cNvPr id="577" name=""/>
            <p:cNvSpPr/>
            <p:nvPr/>
          </p:nvSpPr>
          <p:spPr>
            <a:xfrm>
              <a:off x="3013200" y="372096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13200" y="377784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013200" y="383364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673440" y="4406760"/>
            <a:ext cx="189000" cy="114120"/>
            <a:chOff x="3673440" y="4406760"/>
            <a:chExt cx="189000" cy="114120"/>
          </a:xfrm>
        </p:grpSpPr>
        <p:sp>
          <p:nvSpPr>
            <p:cNvPr id="581" name=""/>
            <p:cNvSpPr/>
            <p:nvPr/>
          </p:nvSpPr>
          <p:spPr>
            <a:xfrm>
              <a:off x="3673440" y="440676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86120" y="440676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3691080" y="3205080"/>
            <a:ext cx="188280" cy="112680"/>
            <a:chOff x="3691080" y="3205080"/>
            <a:chExt cx="188280" cy="112680"/>
          </a:xfrm>
        </p:grpSpPr>
        <p:sp>
          <p:nvSpPr>
            <p:cNvPr id="584" name=""/>
            <p:cNvSpPr/>
            <p:nvPr/>
          </p:nvSpPr>
          <p:spPr>
            <a:xfrm>
              <a:off x="369108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0340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3130560" y="3789360"/>
            <a:ext cx="139680" cy="60480"/>
          </a:xfrm>
          <a:custGeom>
            <a:avLst/>
            <a:gdLst/>
            <a:ahLst/>
            <a:rect l="l" t="t" r="r" b="b"/>
            <a:pathLst>
              <a:path w="350" h="153">
                <a:moveTo>
                  <a:pt x="0" y="153"/>
                </a:moveTo>
                <a:lnTo>
                  <a:pt x="207" y="28"/>
                </a:lnTo>
                <a:lnTo>
                  <a:pt x="3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40080" y="3759120"/>
            <a:ext cx="139680" cy="17640"/>
          </a:xfrm>
          <a:custGeom>
            <a:avLst/>
            <a:gdLst/>
            <a:ahLst/>
            <a:rect l="l" t="t" r="r" b="b"/>
            <a:pathLst>
              <a:path w="353" h="41">
                <a:moveTo>
                  <a:pt x="0" y="41"/>
                </a:moveTo>
                <a:lnTo>
                  <a:pt x="162" y="10"/>
                </a:lnTo>
                <a:lnTo>
                  <a:pt x="35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549600" y="3749760"/>
            <a:ext cx="141480" cy="6120"/>
          </a:xfrm>
          <a:custGeom>
            <a:avLst/>
            <a:gdLst/>
            <a:ahLst/>
            <a:rect l="l" t="t" r="r" b="b"/>
            <a:pathLst>
              <a:path w="356" h="14">
                <a:moveTo>
                  <a:pt x="0" y="14"/>
                </a:moveTo>
                <a:lnTo>
                  <a:pt x="254" y="0"/>
                </a:lnTo>
                <a:lnTo>
                  <a:pt x="35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762360" y="3755880"/>
            <a:ext cx="139680" cy="9720"/>
          </a:xfrm>
          <a:custGeom>
            <a:avLst/>
            <a:gdLst/>
            <a:ahLst/>
            <a:rect l="l" t="t" r="r" b="b"/>
            <a:pathLst>
              <a:path w="356" h="25">
                <a:moveTo>
                  <a:pt x="0" y="0"/>
                </a:moveTo>
                <a:lnTo>
                  <a:pt x="322" y="18"/>
                </a:lnTo>
                <a:lnTo>
                  <a:pt x="356" y="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71880" y="3781440"/>
            <a:ext cx="130320" cy="68400"/>
          </a:xfrm>
          <a:custGeom>
            <a:avLst/>
            <a:gdLst/>
            <a:ahLst/>
            <a:rect l="l" t="t" r="r" b="b"/>
            <a:pathLst>
              <a:path w="330" h="171">
                <a:moveTo>
                  <a:pt x="0" y="0"/>
                </a:moveTo>
                <a:lnTo>
                  <a:pt x="210" y="46"/>
                </a:lnTo>
                <a:lnTo>
                  <a:pt x="330" y="1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30560" y="3849840"/>
            <a:ext cx="97164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29120" y="336060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734000" y="4275000"/>
            <a:ext cx="136440" cy="42840"/>
          </a:xfrm>
          <a:custGeom>
            <a:avLst/>
            <a:gdLst/>
            <a:ahLst/>
            <a:rect l="l" t="t" r="r" b="b"/>
            <a:pathLst>
              <a:path w="259" h="86">
                <a:moveTo>
                  <a:pt x="0" y="0"/>
                </a:moveTo>
                <a:lnTo>
                  <a:pt x="8" y="86"/>
                </a:lnTo>
                <a:lnTo>
                  <a:pt x="259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871880" y="3056040"/>
            <a:ext cx="46080" cy="136440"/>
          </a:xfrm>
          <a:custGeom>
            <a:avLst/>
            <a:gdLst/>
            <a:ahLst/>
            <a:rect l="l" t="t" r="r" b="b"/>
            <a:pathLst>
              <a:path w="88" h="260">
                <a:moveTo>
                  <a:pt x="4" y="260"/>
                </a:moveTo>
                <a:lnTo>
                  <a:pt x="88" y="244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71880" y="3056040"/>
            <a:ext cx="76320" cy="1143000"/>
          </a:xfrm>
          <a:custGeom>
            <a:avLst/>
            <a:gdLst/>
            <a:ahLst/>
            <a:rect l="l" t="t" r="r" b="b"/>
            <a:pathLst>
              <a:path w="191" h="2880">
                <a:moveTo>
                  <a:pt x="0" y="0"/>
                </a:moveTo>
                <a:lnTo>
                  <a:pt x="191" y="1419"/>
                </a:lnTo>
                <a:lnTo>
                  <a:pt x="141" y="288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32000" y="4218120"/>
            <a:ext cx="2604960" cy="126720"/>
          </a:xfrm>
          <a:custGeom>
            <a:avLst/>
            <a:gdLst/>
            <a:ahLst/>
            <a:rect l="l" t="t" r="r" b="b"/>
            <a:pathLst>
              <a:path w="6565" h="323">
                <a:moveTo>
                  <a:pt x="0" y="0"/>
                </a:moveTo>
                <a:lnTo>
                  <a:pt x="1174" y="177"/>
                </a:lnTo>
                <a:lnTo>
                  <a:pt x="2514" y="287"/>
                </a:lnTo>
                <a:lnTo>
                  <a:pt x="3927" y="323"/>
                </a:lnTo>
                <a:lnTo>
                  <a:pt x="5311" y="282"/>
                </a:lnTo>
                <a:lnTo>
                  <a:pt x="6565" y="168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614760" y="2095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614760" y="24354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3613320" y="2774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3613320" y="31147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611520" y="345276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611160" y="3792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610080" y="41324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610080" y="44719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3607920" y="48117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3607920" y="51498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06840" y="5489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525680" y="38498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65160" y="38512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05000" y="3854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4484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84320" y="385920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22272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562200" y="386388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02040" y="38671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24188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581360" y="3871800"/>
            <a:ext cx="1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91976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59240" y="387684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599080" y="3879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09680" y="1752480"/>
            <a:ext cx="1406520" cy="4192560"/>
          </a:xfrm>
          <a:custGeom>
            <a:avLst/>
            <a:gdLst/>
            <a:ahLst/>
            <a:rect l="l" t="t" r="r" b="b"/>
            <a:pathLst>
              <a:path w="3546" h="10564">
                <a:moveTo>
                  <a:pt x="3546" y="0"/>
                </a:moveTo>
                <a:lnTo>
                  <a:pt x="2757" y="132"/>
                </a:lnTo>
                <a:lnTo>
                  <a:pt x="2008" y="523"/>
                </a:lnTo>
                <a:lnTo>
                  <a:pt x="1336" y="1152"/>
                </a:lnTo>
                <a:lnTo>
                  <a:pt x="773" y="1989"/>
                </a:lnTo>
                <a:lnTo>
                  <a:pt x="352" y="2990"/>
                </a:lnTo>
                <a:lnTo>
                  <a:pt x="89" y="4107"/>
                </a:lnTo>
                <a:lnTo>
                  <a:pt x="0" y="5282"/>
                </a:lnTo>
                <a:lnTo>
                  <a:pt x="89" y="6457"/>
                </a:lnTo>
                <a:lnTo>
                  <a:pt x="352" y="7573"/>
                </a:lnTo>
                <a:lnTo>
                  <a:pt x="773" y="8575"/>
                </a:lnTo>
                <a:lnTo>
                  <a:pt x="1336" y="9411"/>
                </a:lnTo>
                <a:lnTo>
                  <a:pt x="2008" y="10040"/>
                </a:lnTo>
                <a:lnTo>
                  <a:pt x="2757" y="10431"/>
                </a:lnTo>
                <a:lnTo>
                  <a:pt x="3546" y="10564"/>
                </a:lnTo>
              </a:path>
            </a:pathLst>
          </a:custGeom>
          <a:noFill/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262160" y="3798720"/>
            <a:ext cx="188280" cy="114120"/>
            <a:chOff x="1262160" y="3798720"/>
            <a:chExt cx="188280" cy="114120"/>
          </a:xfrm>
        </p:grpSpPr>
        <p:sp>
          <p:nvSpPr>
            <p:cNvPr id="623" name=""/>
            <p:cNvSpPr/>
            <p:nvPr/>
          </p:nvSpPr>
          <p:spPr>
            <a:xfrm>
              <a:off x="1262160" y="379872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5">
                  <a:moveTo>
                    <a:pt x="0" y="285"/>
                  </a:moveTo>
                  <a:lnTo>
                    <a:pt x="0" y="0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262160" y="385416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262160" y="391140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376280" y="3798720"/>
              <a:ext cx="7416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2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5826240" y="3805200"/>
            <a:ext cx="245520" cy="114480"/>
            <a:chOff x="5826240" y="3805200"/>
            <a:chExt cx="245520" cy="114480"/>
          </a:xfrm>
        </p:grpSpPr>
        <p:sp>
          <p:nvSpPr>
            <p:cNvPr id="628" name=""/>
            <p:cNvSpPr/>
            <p:nvPr/>
          </p:nvSpPr>
          <p:spPr>
            <a:xfrm>
              <a:off x="5826240" y="3805200"/>
              <a:ext cx="75960" cy="113040"/>
            </a:xfrm>
            <a:custGeom>
              <a:avLst/>
              <a:gdLst/>
              <a:ahLst/>
              <a:rect l="l" t="t" r="r" b="b"/>
              <a:pathLst>
                <a:path w="189" h="285">
                  <a:moveTo>
                    <a:pt x="0" y="285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26240" y="386244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26240" y="391824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940360" y="3805200"/>
              <a:ext cx="74160" cy="11304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3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6053040" y="3805200"/>
              <a:ext cx="18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460680" y="6191280"/>
            <a:ext cx="301680" cy="112680"/>
            <a:chOff x="3460680" y="6191280"/>
            <a:chExt cx="301680" cy="112680"/>
          </a:xfrm>
        </p:grpSpPr>
        <p:sp>
          <p:nvSpPr>
            <p:cNvPr id="634" name=""/>
            <p:cNvSpPr/>
            <p:nvPr/>
          </p:nvSpPr>
          <p:spPr>
            <a:xfrm>
              <a:off x="3460680" y="6191280"/>
              <a:ext cx="7632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91" y="47"/>
                  </a:lnTo>
                  <a:lnTo>
                    <a:pt x="191" y="94"/>
                  </a:lnTo>
                  <a:lnTo>
                    <a:pt x="144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57480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37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9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8748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7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3483000" y="1430280"/>
            <a:ext cx="301320" cy="112680"/>
            <a:chOff x="3483000" y="1430280"/>
            <a:chExt cx="301320" cy="112680"/>
          </a:xfrm>
        </p:grpSpPr>
        <p:sp>
          <p:nvSpPr>
            <p:cNvPr id="638" name=""/>
            <p:cNvSpPr/>
            <p:nvPr/>
          </p:nvSpPr>
          <p:spPr>
            <a:xfrm>
              <a:off x="348300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84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5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59568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91" y="284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709800" y="143028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8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8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3616200" y="5832360"/>
            <a:ext cx="180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5680" y="3745080"/>
            <a:ext cx="104760" cy="104760"/>
          </a:xfrm>
          <a:custGeom>
            <a:avLst/>
            <a:gdLst/>
            <a:ahLst/>
            <a:rect l="l" t="t" r="r" b="b"/>
            <a:pathLst>
              <a:path w="265" h="262">
                <a:moveTo>
                  <a:pt x="0" y="262"/>
                </a:moveTo>
                <a:lnTo>
                  <a:pt x="214" y="23"/>
                </a:lnTo>
                <a:lnTo>
                  <a:pt x="2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1890720" y="3596760"/>
            <a:ext cx="136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03640" y="3514680"/>
            <a:ext cx="139680" cy="25560"/>
          </a:xfrm>
          <a:custGeom>
            <a:avLst/>
            <a:gdLst/>
            <a:ahLst/>
            <a:rect l="l" t="t" r="r" b="b"/>
            <a:pathLst>
              <a:path w="350" h="64">
                <a:moveTo>
                  <a:pt x="0" y="64"/>
                </a:moveTo>
                <a:lnTo>
                  <a:pt x="313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24120" y="3465360"/>
            <a:ext cx="139680" cy="16200"/>
          </a:xfrm>
          <a:custGeom>
            <a:avLst/>
            <a:gdLst/>
            <a:ahLst/>
            <a:rect l="l" t="t" r="r" b="b"/>
            <a:pathLst>
              <a:path w="353" h="40">
                <a:moveTo>
                  <a:pt x="0" y="40"/>
                </a:moveTo>
                <a:lnTo>
                  <a:pt x="298" y="4"/>
                </a:lnTo>
                <a:lnTo>
                  <a:pt x="3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3146400" y="3435480"/>
            <a:ext cx="1414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70120" y="3425400"/>
            <a:ext cx="141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94200" y="342900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17920" y="344952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40200" y="3490920"/>
            <a:ext cx="1396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256360" y="3565440"/>
            <a:ext cx="136440" cy="36720"/>
          </a:xfrm>
          <a:custGeom>
            <a:avLst/>
            <a:gdLst/>
            <a:ahLst/>
            <a:rect l="l" t="t" r="r" b="b"/>
            <a:pathLst>
              <a:path w="342" h="93">
                <a:moveTo>
                  <a:pt x="0" y="0"/>
                </a:moveTo>
                <a:lnTo>
                  <a:pt x="218" y="48"/>
                </a:lnTo>
                <a:lnTo>
                  <a:pt x="342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645160" y="3724200"/>
            <a:ext cx="61920" cy="125640"/>
          </a:xfrm>
          <a:custGeom>
            <a:avLst/>
            <a:gdLst/>
            <a:ahLst/>
            <a:rect l="l" t="t" r="r" b="b"/>
            <a:pathLst>
              <a:path w="156" h="317">
                <a:moveTo>
                  <a:pt x="0" y="0"/>
                </a:moveTo>
                <a:lnTo>
                  <a:pt x="107" y="78"/>
                </a:lnTo>
                <a:lnTo>
                  <a:pt x="156" y="3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5680" y="3849840"/>
            <a:ext cx="4181400" cy="423720"/>
          </a:xfrm>
          <a:custGeom>
            <a:avLst/>
            <a:gdLst/>
            <a:ahLst/>
            <a:rect l="l" t="t" r="r" b="b"/>
            <a:pathLst>
              <a:path w="10538" h="1071">
                <a:moveTo>
                  <a:pt x="0" y="0"/>
                </a:moveTo>
                <a:lnTo>
                  <a:pt x="214" y="238"/>
                </a:lnTo>
                <a:lnTo>
                  <a:pt x="682" y="464"/>
                </a:lnTo>
                <a:lnTo>
                  <a:pt x="1381" y="667"/>
                </a:lnTo>
                <a:lnTo>
                  <a:pt x="2274" y="837"/>
                </a:lnTo>
                <a:lnTo>
                  <a:pt x="3317" y="965"/>
                </a:lnTo>
                <a:lnTo>
                  <a:pt x="4459" y="1044"/>
                </a:lnTo>
                <a:lnTo>
                  <a:pt x="5641" y="1071"/>
                </a:lnTo>
                <a:lnTo>
                  <a:pt x="6803" y="1044"/>
                </a:lnTo>
                <a:lnTo>
                  <a:pt x="7890" y="965"/>
                </a:lnTo>
                <a:lnTo>
                  <a:pt x="8844" y="837"/>
                </a:lnTo>
                <a:lnTo>
                  <a:pt x="9620" y="667"/>
                </a:lnTo>
                <a:lnTo>
                  <a:pt x="10177" y="464"/>
                </a:lnTo>
                <a:lnTo>
                  <a:pt x="10489" y="238"/>
                </a:lnTo>
                <a:lnTo>
                  <a:pt x="105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06840" y="1752480"/>
            <a:ext cx="1265040" cy="4192560"/>
          </a:xfrm>
          <a:custGeom>
            <a:avLst/>
            <a:gdLst/>
            <a:ahLst/>
            <a:rect l="l" t="t" r="r" b="b"/>
            <a:pathLst>
              <a:path w="3189" h="10565">
                <a:moveTo>
                  <a:pt x="53" y="0"/>
                </a:moveTo>
                <a:lnTo>
                  <a:pt x="757" y="114"/>
                </a:lnTo>
                <a:lnTo>
                  <a:pt x="1422" y="486"/>
                </a:lnTo>
                <a:lnTo>
                  <a:pt x="2019" y="1099"/>
                </a:lnTo>
                <a:lnTo>
                  <a:pt x="2515" y="1921"/>
                </a:lnTo>
                <a:lnTo>
                  <a:pt x="2887" y="2913"/>
                </a:lnTo>
                <a:lnTo>
                  <a:pt x="3115" y="4022"/>
                </a:lnTo>
                <a:lnTo>
                  <a:pt x="3189" y="5196"/>
                </a:lnTo>
                <a:lnTo>
                  <a:pt x="3103" y="6373"/>
                </a:lnTo>
                <a:lnTo>
                  <a:pt x="2864" y="7497"/>
                </a:lnTo>
                <a:lnTo>
                  <a:pt x="2483" y="8508"/>
                </a:lnTo>
                <a:lnTo>
                  <a:pt x="1977" y="9359"/>
                </a:lnTo>
                <a:lnTo>
                  <a:pt x="1375" y="10004"/>
                </a:lnTo>
                <a:lnTo>
                  <a:pt x="705" y="10414"/>
                </a:lnTo>
                <a:lnTo>
                  <a:pt x="0" y="105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616200" y="1639800"/>
            <a:ext cx="180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521000" y="1752480"/>
            <a:ext cx="4192560" cy="4192560"/>
          </a:xfrm>
          <a:custGeom>
            <a:avLst/>
            <a:gdLst/>
            <a:ahLst/>
            <a:rect l="l" t="t" r="r" b="b"/>
            <a:pathLst>
              <a:path w="10565" h="10565">
                <a:moveTo>
                  <a:pt x="10565" y="5283"/>
                </a:moveTo>
                <a:lnTo>
                  <a:pt x="10432" y="4108"/>
                </a:lnTo>
                <a:lnTo>
                  <a:pt x="10042" y="2991"/>
                </a:lnTo>
                <a:lnTo>
                  <a:pt x="9412" y="1989"/>
                </a:lnTo>
                <a:lnTo>
                  <a:pt x="8575" y="1153"/>
                </a:lnTo>
                <a:lnTo>
                  <a:pt x="7573" y="524"/>
                </a:lnTo>
                <a:lnTo>
                  <a:pt x="6458" y="133"/>
                </a:lnTo>
                <a:lnTo>
                  <a:pt x="5282" y="0"/>
                </a:lnTo>
                <a:lnTo>
                  <a:pt x="4106" y="133"/>
                </a:lnTo>
                <a:lnTo>
                  <a:pt x="2990" y="524"/>
                </a:lnTo>
                <a:lnTo>
                  <a:pt x="1988" y="1153"/>
                </a:lnTo>
                <a:lnTo>
                  <a:pt x="1152" y="1989"/>
                </a:lnTo>
                <a:lnTo>
                  <a:pt x="522" y="2991"/>
                </a:lnTo>
                <a:lnTo>
                  <a:pt x="132" y="4108"/>
                </a:lnTo>
                <a:lnTo>
                  <a:pt x="0" y="5283"/>
                </a:lnTo>
                <a:lnTo>
                  <a:pt x="132" y="6458"/>
                </a:lnTo>
                <a:lnTo>
                  <a:pt x="522" y="7574"/>
                </a:lnTo>
                <a:lnTo>
                  <a:pt x="1152" y="8576"/>
                </a:lnTo>
                <a:lnTo>
                  <a:pt x="1988" y="9413"/>
                </a:lnTo>
                <a:lnTo>
                  <a:pt x="2990" y="10041"/>
                </a:lnTo>
                <a:lnTo>
                  <a:pt x="4106" y="10433"/>
                </a:lnTo>
                <a:lnTo>
                  <a:pt x="5282" y="10565"/>
                </a:lnTo>
                <a:lnTo>
                  <a:pt x="6458" y="10433"/>
                </a:lnTo>
                <a:lnTo>
                  <a:pt x="7573" y="10041"/>
                </a:lnTo>
                <a:lnTo>
                  <a:pt x="8575" y="9413"/>
                </a:lnTo>
                <a:lnTo>
                  <a:pt x="9412" y="8576"/>
                </a:lnTo>
                <a:lnTo>
                  <a:pt x="10042" y="7574"/>
                </a:lnTo>
                <a:lnTo>
                  <a:pt x="10432" y="6458"/>
                </a:lnTo>
                <a:lnTo>
                  <a:pt x="10565" y="52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2022480" y="4101840"/>
            <a:ext cx="242640" cy="242280"/>
            <a:chOff x="2022480" y="4101840"/>
            <a:chExt cx="242640" cy="242280"/>
          </a:xfrm>
        </p:grpSpPr>
        <p:grpSp>
          <p:nvGrpSpPr>
            <p:cNvPr id="658" name=""/>
            <p:cNvGrpSpPr/>
            <p:nvPr/>
          </p:nvGrpSpPr>
          <p:grpSpPr>
            <a:xfrm>
              <a:off x="2022480" y="4205160"/>
              <a:ext cx="106200" cy="138960"/>
              <a:chOff x="2022480" y="4205160"/>
              <a:chExt cx="106200" cy="138960"/>
            </a:xfrm>
          </p:grpSpPr>
          <p:sp>
            <p:nvSpPr>
              <p:cNvPr id="659" name=""/>
              <p:cNvSpPr/>
              <p:nvPr/>
            </p:nvSpPr>
            <p:spPr>
              <a:xfrm>
                <a:off x="2022480" y="4223880"/>
                <a:ext cx="58680" cy="88560"/>
              </a:xfrm>
              <a:custGeom>
                <a:avLst/>
                <a:gdLst/>
                <a:ahLst/>
                <a:rect l="l" t="t" r="r" b="b"/>
                <a:pathLst>
                  <a:path w="149" h="224">
                    <a:moveTo>
                      <a:pt x="0" y="114"/>
                    </a:moveTo>
                    <a:lnTo>
                      <a:pt x="31" y="0"/>
                    </a:lnTo>
                    <a:lnTo>
                      <a:pt x="149" y="224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039760" y="4306320"/>
                <a:ext cx="42840" cy="37800"/>
              </a:xfrm>
              <a:custGeom>
                <a:avLst/>
                <a:gdLst/>
                <a:ahLst/>
                <a:rect l="l" t="t" r="r" b="b"/>
                <a:pathLst>
                  <a:path w="109" h="95">
                    <a:moveTo>
                      <a:pt x="17" y="0"/>
                    </a:moveTo>
                    <a:lnTo>
                      <a:pt x="0" y="37"/>
                    </a:lnTo>
                    <a:lnTo>
                      <a:pt x="13" y="74"/>
                    </a:lnTo>
                    <a:lnTo>
                      <a:pt x="48" y="95"/>
                    </a:lnTo>
                    <a:lnTo>
                      <a:pt x="86" y="86"/>
                    </a:lnTo>
                    <a:lnTo>
                      <a:pt x="109" y="54"/>
                    </a:lnTo>
                    <a:lnTo>
                      <a:pt x="104" y="15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047680" y="4205160"/>
                <a:ext cx="81000" cy="101160"/>
              </a:xfrm>
              <a:custGeom>
                <a:avLst/>
                <a:gdLst/>
                <a:ahLst/>
                <a:rect l="l" t="t" r="r" b="b"/>
                <a:pathLst>
                  <a:path w="206" h="257">
                    <a:moveTo>
                      <a:pt x="0" y="257"/>
                    </a:moveTo>
                    <a:lnTo>
                      <a:pt x="96" y="0"/>
                    </a:lnTo>
                    <a:lnTo>
                      <a:pt x="206" y="4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 flipV="1">
              <a:off x="2189160" y="4101840"/>
              <a:ext cx="75960" cy="759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193680" y="19954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27200" y="24526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40320" y="1574640"/>
            <a:ext cx="20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4689360" y="184320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531040" y="519588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5222880" y="41288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834520" y="21477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842000" y="23763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248520" y="2209680"/>
            <a:ext cx="2895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Ascensión Recta</a:t>
            </a:r>
            <a:r>
              <a:rPr b="1" lang="es-ES_tradnl" sz="1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des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hasta el Meridiano Celeste del Astro en dirección E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0 hr a 24 h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31320" y="3886200"/>
            <a:ext cx="270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o de 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do desde el Ecuador Celeste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Astro. Se mide de 0º a 90º con sig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+) para el Hemisferio Norte y signo 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Ecuatoriales Rel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4657680" y="4322880"/>
            <a:ext cx="73080" cy="109440"/>
            <a:chOff x="4657680" y="4322880"/>
            <a:chExt cx="73080" cy="109440"/>
          </a:xfrm>
        </p:grpSpPr>
        <p:sp>
          <p:nvSpPr>
            <p:cNvPr id="675" name=""/>
            <p:cNvSpPr/>
            <p:nvPr/>
          </p:nvSpPr>
          <p:spPr>
            <a:xfrm flipV="1">
              <a:off x="4657680" y="4322880"/>
              <a:ext cx="144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657680" y="4376880"/>
              <a:ext cx="712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728960" y="4322880"/>
              <a:ext cx="180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2511360" y="3016080"/>
            <a:ext cx="111240" cy="1089360"/>
          </a:xfrm>
          <a:custGeom>
            <a:avLst/>
            <a:gdLst/>
            <a:ahLst/>
            <a:rect l="l" t="t" r="r" b="b"/>
            <a:pathLst>
              <a:path w="278" h="2747">
                <a:moveTo>
                  <a:pt x="278" y="0"/>
                </a:moveTo>
                <a:lnTo>
                  <a:pt x="83" y="887"/>
                </a:lnTo>
                <a:lnTo>
                  <a:pt x="0" y="1814"/>
                </a:lnTo>
                <a:lnTo>
                  <a:pt x="32" y="27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2389320" y="3314880"/>
            <a:ext cx="93600" cy="221760"/>
            <a:chOff x="2389320" y="3314880"/>
            <a:chExt cx="93600" cy="221760"/>
          </a:xfrm>
        </p:grpSpPr>
        <p:sp>
          <p:nvSpPr>
            <p:cNvPr id="680" name=""/>
            <p:cNvSpPr/>
            <p:nvPr/>
          </p:nvSpPr>
          <p:spPr>
            <a:xfrm>
              <a:off x="2432160" y="3314880"/>
              <a:ext cx="50760" cy="160200"/>
            </a:xfrm>
            <a:custGeom>
              <a:avLst/>
              <a:gdLst/>
              <a:ahLst/>
              <a:rect l="l" t="t" r="r" b="b"/>
              <a:pathLst>
                <a:path w="129" h="404">
                  <a:moveTo>
                    <a:pt x="127" y="94"/>
                  </a:moveTo>
                  <a:lnTo>
                    <a:pt x="129" y="4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0" y="40"/>
                  </a:lnTo>
                  <a:lnTo>
                    <a:pt x="3" y="94"/>
                  </a:lnTo>
                  <a:lnTo>
                    <a:pt x="86" y="40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389320" y="3475080"/>
              <a:ext cx="82440" cy="61560"/>
            </a:xfrm>
            <a:custGeom>
              <a:avLst/>
              <a:gdLst/>
              <a:ahLst/>
              <a:rect l="l" t="t" r="r" b="b"/>
              <a:pathLst>
                <a:path w="204" h="156">
                  <a:moveTo>
                    <a:pt x="0" y="63"/>
                  </a:moveTo>
                  <a:lnTo>
                    <a:pt x="32" y="129"/>
                  </a:lnTo>
                  <a:lnTo>
                    <a:pt x="99" y="156"/>
                  </a:lnTo>
                  <a:lnTo>
                    <a:pt x="168" y="134"/>
                  </a:lnTo>
                  <a:lnTo>
                    <a:pt x="204" y="71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389320" y="3449520"/>
              <a:ext cx="60480" cy="48960"/>
            </a:xfrm>
            <a:custGeom>
              <a:avLst/>
              <a:gdLst/>
              <a:ahLst/>
              <a:rect l="l" t="t" r="r" b="b"/>
              <a:pathLst>
                <a:path w="151" h="126">
                  <a:moveTo>
                    <a:pt x="151" y="0"/>
                  </a:moveTo>
                  <a:lnTo>
                    <a:pt x="44" y="26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2647800" y="2884320"/>
            <a:ext cx="146160" cy="141480"/>
            <a:chOff x="2647800" y="2884320"/>
            <a:chExt cx="146160" cy="141480"/>
          </a:xfrm>
        </p:grpSpPr>
        <p:sp>
          <p:nvSpPr>
            <p:cNvPr id="684" name=""/>
            <p:cNvSpPr/>
            <p:nvPr/>
          </p:nvSpPr>
          <p:spPr>
            <a:xfrm flipH="1" flipV="1">
              <a:off x="2647800" y="2933280"/>
              <a:ext cx="554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736720" y="2940120"/>
              <a:ext cx="57240" cy="31680"/>
            </a:xfrm>
            <a:custGeom>
              <a:avLst/>
              <a:gdLst/>
              <a:ahLst/>
              <a:rect l="l" t="t" r="r" b="b"/>
              <a:pathLst>
                <a:path w="141" h="83">
                  <a:moveTo>
                    <a:pt x="22" y="83"/>
                  </a:moveTo>
                  <a:lnTo>
                    <a:pt x="141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70120" y="2968560"/>
              <a:ext cx="47520" cy="5256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52" y="0"/>
                  </a:moveTo>
                  <a:lnTo>
                    <a:pt x="0" y="130"/>
                  </a:lnTo>
                  <a:lnTo>
                    <a:pt x="119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703240" y="2884320"/>
              <a:ext cx="33480" cy="55800"/>
            </a:xfrm>
            <a:custGeom>
              <a:avLst/>
              <a:gdLst/>
              <a:ahLst/>
              <a:rect l="l" t="t" r="r" b="b"/>
              <a:pathLst>
                <a:path w="87" h="136">
                  <a:moveTo>
                    <a:pt x="87" y="136"/>
                  </a:moveTo>
                  <a:lnTo>
                    <a:pt x="52" y="0"/>
                  </a:lnTo>
                  <a:lnTo>
                    <a:pt x="0" y="1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17640" y="2971800"/>
              <a:ext cx="42840" cy="54000"/>
            </a:xfrm>
            <a:custGeom>
              <a:avLst/>
              <a:gdLst/>
              <a:ahLst/>
              <a:rect l="l" t="t" r="r" b="b"/>
              <a:pathLst>
                <a:path w="109" h="136">
                  <a:moveTo>
                    <a:pt x="0" y="47"/>
                  </a:moveTo>
                  <a:lnTo>
                    <a:pt x="109" y="136"/>
                  </a:lnTo>
                  <a:lnTo>
                    <a:pt x="7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647800" y="2933640"/>
              <a:ext cx="428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444920" y="3695400"/>
            <a:ext cx="125280" cy="109800"/>
            <a:chOff x="4444920" y="3695400"/>
            <a:chExt cx="125280" cy="109800"/>
          </a:xfrm>
        </p:grpSpPr>
        <p:sp>
          <p:nvSpPr>
            <p:cNvPr id="691" name=""/>
            <p:cNvSpPr/>
            <p:nvPr/>
          </p:nvSpPr>
          <p:spPr>
            <a:xfrm>
              <a:off x="4444920" y="36957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44920" y="3749760"/>
              <a:ext cx="34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44920" y="3803760"/>
              <a:ext cx="71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4552920" y="3695400"/>
              <a:ext cx="17280" cy="36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360600" y="3714840"/>
            <a:ext cx="73080" cy="109440"/>
            <a:chOff x="3360600" y="3714840"/>
            <a:chExt cx="73080" cy="109440"/>
          </a:xfrm>
        </p:grpSpPr>
        <p:sp>
          <p:nvSpPr>
            <p:cNvPr id="696" name=""/>
            <p:cNvSpPr/>
            <p:nvPr/>
          </p:nvSpPr>
          <p:spPr>
            <a:xfrm>
              <a:off x="3360600" y="3714840"/>
              <a:ext cx="730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360600" y="3768840"/>
              <a:ext cx="36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60600" y="3822840"/>
              <a:ext cx="7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3994200" y="4371840"/>
            <a:ext cx="181080" cy="109800"/>
            <a:chOff x="3994200" y="4371840"/>
            <a:chExt cx="181080" cy="109800"/>
          </a:xfrm>
        </p:grpSpPr>
        <p:sp>
          <p:nvSpPr>
            <p:cNvPr id="700" name=""/>
            <p:cNvSpPr/>
            <p:nvPr/>
          </p:nvSpPr>
          <p:spPr>
            <a:xfrm>
              <a:off x="3994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2" y="45"/>
                  </a:lnTo>
                  <a:lnTo>
                    <a:pt x="182" y="91"/>
                  </a:lnTo>
                  <a:lnTo>
                    <a:pt x="137" y="137"/>
                  </a:lnTo>
                  <a:lnTo>
                    <a:pt x="0" y="1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102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27"/>
                  </a:moveTo>
                  <a:lnTo>
                    <a:pt x="46" y="273"/>
                  </a:lnTo>
                  <a:lnTo>
                    <a:pt x="136" y="273"/>
                  </a:lnTo>
                  <a:lnTo>
                    <a:pt x="182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4011480" y="3219480"/>
            <a:ext cx="181080" cy="109440"/>
            <a:chOff x="4011480" y="3219480"/>
            <a:chExt cx="181080" cy="109440"/>
          </a:xfrm>
        </p:grpSpPr>
        <p:sp>
          <p:nvSpPr>
            <p:cNvPr id="703" name=""/>
            <p:cNvSpPr/>
            <p:nvPr/>
          </p:nvSpPr>
          <p:spPr>
            <a:xfrm>
              <a:off x="4011480" y="3219480"/>
              <a:ext cx="71280" cy="10944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3" y="45"/>
                  </a:lnTo>
                  <a:lnTo>
                    <a:pt x="183" y="91"/>
                  </a:lnTo>
                  <a:lnTo>
                    <a:pt x="137" y="136"/>
                  </a:lnTo>
                  <a:lnTo>
                    <a:pt x="0" y="13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19480" y="3219480"/>
              <a:ext cx="73080" cy="1094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273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3473280" y="3780000"/>
            <a:ext cx="133560" cy="56880"/>
          </a:xfrm>
          <a:custGeom>
            <a:avLst/>
            <a:gdLst/>
            <a:ahLst/>
            <a:rect l="l" t="t" r="r" b="b"/>
            <a:pathLst>
              <a:path w="336" h="147">
                <a:moveTo>
                  <a:pt x="0" y="147"/>
                </a:moveTo>
                <a:lnTo>
                  <a:pt x="199" y="26"/>
                </a:lnTo>
                <a:lnTo>
                  <a:pt x="33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673440" y="3751200"/>
            <a:ext cx="135000" cy="15840"/>
          </a:xfrm>
          <a:custGeom>
            <a:avLst/>
            <a:gdLst/>
            <a:ahLst/>
            <a:rect l="l" t="t" r="r" b="b"/>
            <a:pathLst>
              <a:path w="338" h="39">
                <a:moveTo>
                  <a:pt x="0" y="39"/>
                </a:moveTo>
                <a:lnTo>
                  <a:pt x="154" y="10"/>
                </a:lnTo>
                <a:lnTo>
                  <a:pt x="33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76840" y="3743280"/>
            <a:ext cx="134640" cy="4680"/>
          </a:xfrm>
          <a:custGeom>
            <a:avLst/>
            <a:gdLst/>
            <a:ahLst/>
            <a:rect l="l" t="t" r="r" b="b"/>
            <a:pathLst>
              <a:path w="340" h="13">
                <a:moveTo>
                  <a:pt x="0" y="13"/>
                </a:moveTo>
                <a:lnTo>
                  <a:pt x="243" y="0"/>
                </a:lnTo>
                <a:lnTo>
                  <a:pt x="340" y="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78440" y="3747960"/>
            <a:ext cx="134640" cy="9720"/>
          </a:xfrm>
          <a:custGeom>
            <a:avLst/>
            <a:gdLst/>
            <a:ahLst/>
            <a:rect l="l" t="t" r="r" b="b"/>
            <a:pathLst>
              <a:path w="341" h="24">
                <a:moveTo>
                  <a:pt x="0" y="0"/>
                </a:moveTo>
                <a:lnTo>
                  <a:pt x="309" y="18"/>
                </a:lnTo>
                <a:lnTo>
                  <a:pt x="341" y="2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80040" y="3773520"/>
            <a:ext cx="125280" cy="63360"/>
          </a:xfrm>
          <a:custGeom>
            <a:avLst/>
            <a:gdLst/>
            <a:ahLst/>
            <a:rect l="l" t="t" r="r" b="b"/>
            <a:pathLst>
              <a:path w="316" h="164">
                <a:moveTo>
                  <a:pt x="0" y="0"/>
                </a:moveTo>
                <a:lnTo>
                  <a:pt x="201" y="43"/>
                </a:lnTo>
                <a:lnTo>
                  <a:pt x="316" y="1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473280" y="3836880"/>
            <a:ext cx="932040" cy="95400"/>
          </a:xfrm>
          <a:custGeom>
            <a:avLst/>
            <a:gdLst/>
            <a:ahLst/>
            <a:rect l="l" t="t" r="r" b="b"/>
            <a:pathLst>
              <a:path w="2348" h="237">
                <a:moveTo>
                  <a:pt x="0" y="0"/>
                </a:moveTo>
                <a:lnTo>
                  <a:pt x="199" y="119"/>
                </a:lnTo>
                <a:lnTo>
                  <a:pt x="659" y="205"/>
                </a:lnTo>
                <a:lnTo>
                  <a:pt x="1257" y="237"/>
                </a:lnTo>
                <a:lnTo>
                  <a:pt x="1833" y="205"/>
                </a:lnTo>
                <a:lnTo>
                  <a:pt x="2233" y="119"/>
                </a:lnTo>
                <a:lnTo>
                  <a:pt x="234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484440" y="3352680"/>
            <a:ext cx="935280" cy="935280"/>
          </a:xfrm>
          <a:custGeom>
            <a:avLst/>
            <a:gdLst/>
            <a:ahLst/>
            <a:rect l="l" t="t" r="r" b="b"/>
            <a:pathLst>
              <a:path w="2355" h="2356">
                <a:moveTo>
                  <a:pt x="2355" y="1179"/>
                </a:moveTo>
                <a:lnTo>
                  <a:pt x="2266" y="728"/>
                </a:lnTo>
                <a:lnTo>
                  <a:pt x="2010" y="346"/>
                </a:lnTo>
                <a:lnTo>
                  <a:pt x="1628" y="91"/>
                </a:lnTo>
                <a:lnTo>
                  <a:pt x="1178" y="0"/>
                </a:lnTo>
                <a:lnTo>
                  <a:pt x="727" y="91"/>
                </a:lnTo>
                <a:lnTo>
                  <a:pt x="345" y="346"/>
                </a:lnTo>
                <a:lnTo>
                  <a:pt x="90" y="728"/>
                </a:lnTo>
                <a:lnTo>
                  <a:pt x="0" y="1179"/>
                </a:lnTo>
                <a:lnTo>
                  <a:pt x="90" y="1628"/>
                </a:lnTo>
                <a:lnTo>
                  <a:pt x="345" y="2011"/>
                </a:lnTo>
                <a:lnTo>
                  <a:pt x="727" y="2266"/>
                </a:lnTo>
                <a:lnTo>
                  <a:pt x="1178" y="2356"/>
                </a:lnTo>
                <a:lnTo>
                  <a:pt x="1628" y="2266"/>
                </a:lnTo>
                <a:lnTo>
                  <a:pt x="2010" y="2011"/>
                </a:lnTo>
                <a:lnTo>
                  <a:pt x="2266" y="1628"/>
                </a:lnTo>
                <a:lnTo>
                  <a:pt x="2355" y="117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612880" y="4189320"/>
            <a:ext cx="125640" cy="42840"/>
          </a:xfrm>
          <a:custGeom>
            <a:avLst/>
            <a:gdLst/>
            <a:ahLst/>
            <a:rect l="l" t="t" r="r" b="b"/>
            <a:pathLst>
              <a:path w="249" h="82">
                <a:moveTo>
                  <a:pt x="240" y="82"/>
                </a:moveTo>
                <a:lnTo>
                  <a:pt x="249" y="0"/>
                </a:lnTo>
                <a:lnTo>
                  <a:pt x="0" y="15"/>
                </a:lnTo>
                <a:lnTo>
                  <a:pt x="240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583000" y="2978280"/>
            <a:ext cx="50760" cy="12528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0" y="226"/>
                </a:moveTo>
                <a:lnTo>
                  <a:pt x="79" y="248"/>
                </a:lnTo>
                <a:lnTo>
                  <a:pt x="104" y="0"/>
                </a:lnTo>
                <a:lnTo>
                  <a:pt x="0" y="226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612880" y="3981600"/>
            <a:ext cx="3330720" cy="331560"/>
          </a:xfrm>
          <a:custGeom>
            <a:avLst/>
            <a:gdLst/>
            <a:ahLst/>
            <a:rect l="l" t="t" r="r" b="b"/>
            <a:pathLst>
              <a:path w="8393" h="837">
                <a:moveTo>
                  <a:pt x="0" y="527"/>
                </a:moveTo>
                <a:lnTo>
                  <a:pt x="545" y="620"/>
                </a:lnTo>
                <a:lnTo>
                  <a:pt x="1142" y="698"/>
                </a:lnTo>
                <a:lnTo>
                  <a:pt x="1781" y="760"/>
                </a:lnTo>
                <a:lnTo>
                  <a:pt x="2449" y="804"/>
                </a:lnTo>
                <a:lnTo>
                  <a:pt x="3135" y="829"/>
                </a:lnTo>
                <a:lnTo>
                  <a:pt x="3824" y="837"/>
                </a:lnTo>
                <a:lnTo>
                  <a:pt x="4506" y="824"/>
                </a:lnTo>
                <a:lnTo>
                  <a:pt x="5166" y="793"/>
                </a:lnTo>
                <a:lnTo>
                  <a:pt x="5792" y="744"/>
                </a:lnTo>
                <a:lnTo>
                  <a:pt x="6374" y="677"/>
                </a:lnTo>
                <a:lnTo>
                  <a:pt x="6899" y="594"/>
                </a:lnTo>
                <a:lnTo>
                  <a:pt x="7359" y="496"/>
                </a:lnTo>
                <a:lnTo>
                  <a:pt x="7745" y="387"/>
                </a:lnTo>
                <a:lnTo>
                  <a:pt x="8049" y="265"/>
                </a:lnTo>
                <a:lnTo>
                  <a:pt x="8267" y="137"/>
                </a:lnTo>
                <a:lnTo>
                  <a:pt x="839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3938760" y="21574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938760" y="248292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3936600" y="28083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3935520" y="31338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35520" y="3457440"/>
            <a:ext cx="1440" cy="109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3935520" y="37828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3933360" y="410832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933720" y="44337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3932280" y="47592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3930120" y="508464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930480" y="5408640"/>
            <a:ext cx="1800" cy="10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936800" y="383688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262240" y="384012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87680" y="384336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913120" y="384480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38560" y="384660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400560" y="3848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726000" y="385128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051440" y="385272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376880" y="385596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700520" y="385776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025960" y="3860640"/>
            <a:ext cx="10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51400" y="386244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676840" y="386568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590920" y="1828800"/>
            <a:ext cx="1349280" cy="4017960"/>
          </a:xfrm>
          <a:custGeom>
            <a:avLst/>
            <a:gdLst/>
            <a:ahLst/>
            <a:rect l="l" t="t" r="r" b="b"/>
            <a:pathLst>
              <a:path w="3398" h="10122">
                <a:moveTo>
                  <a:pt x="3398" y="0"/>
                </a:moveTo>
                <a:lnTo>
                  <a:pt x="2641" y="126"/>
                </a:lnTo>
                <a:lnTo>
                  <a:pt x="1924" y="500"/>
                </a:lnTo>
                <a:lnTo>
                  <a:pt x="1279" y="1104"/>
                </a:lnTo>
                <a:lnTo>
                  <a:pt x="740" y="1905"/>
                </a:lnTo>
                <a:lnTo>
                  <a:pt x="337" y="2864"/>
                </a:lnTo>
                <a:lnTo>
                  <a:pt x="85" y="3934"/>
                </a:lnTo>
                <a:lnTo>
                  <a:pt x="0" y="5061"/>
                </a:lnTo>
                <a:lnTo>
                  <a:pt x="85" y="6187"/>
                </a:lnTo>
                <a:lnTo>
                  <a:pt x="337" y="7256"/>
                </a:lnTo>
                <a:lnTo>
                  <a:pt x="740" y="8216"/>
                </a:lnTo>
                <a:lnTo>
                  <a:pt x="1279" y="9016"/>
                </a:lnTo>
                <a:lnTo>
                  <a:pt x="1924" y="9620"/>
                </a:lnTo>
                <a:lnTo>
                  <a:pt x="2641" y="9994"/>
                </a:lnTo>
                <a:lnTo>
                  <a:pt x="3398" y="10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684440" y="3789360"/>
            <a:ext cx="180360" cy="109440"/>
            <a:chOff x="1684440" y="3789360"/>
            <a:chExt cx="180360" cy="109440"/>
          </a:xfrm>
        </p:grpSpPr>
        <p:sp>
          <p:nvSpPr>
            <p:cNvPr id="741" name=""/>
            <p:cNvSpPr/>
            <p:nvPr/>
          </p:nvSpPr>
          <p:spPr>
            <a:xfrm>
              <a:off x="1684440" y="37893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684440" y="38433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84440" y="389736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792080" y="3789360"/>
              <a:ext cx="72720" cy="10800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183" y="227"/>
                  </a:moveTo>
                  <a:lnTo>
                    <a:pt x="137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7" y="0"/>
                  </a:lnTo>
                  <a:lnTo>
                    <a:pt x="183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6058080" y="3795480"/>
            <a:ext cx="234360" cy="109800"/>
            <a:chOff x="6058080" y="3795480"/>
            <a:chExt cx="234360" cy="109800"/>
          </a:xfrm>
        </p:grpSpPr>
        <p:sp>
          <p:nvSpPr>
            <p:cNvPr id="746" name=""/>
            <p:cNvSpPr/>
            <p:nvPr/>
          </p:nvSpPr>
          <p:spPr>
            <a:xfrm>
              <a:off x="6058080" y="3795840"/>
              <a:ext cx="70920" cy="107640"/>
            </a:xfrm>
            <a:custGeom>
              <a:avLst/>
              <a:gdLst/>
              <a:ahLst/>
              <a:rect l="l" t="t" r="r" b="b"/>
              <a:pathLst>
                <a:path w="181" h="273">
                  <a:moveTo>
                    <a:pt x="0" y="273"/>
                  </a:moveTo>
                  <a:lnTo>
                    <a:pt x="0" y="0"/>
                  </a:lnTo>
                  <a:lnTo>
                    <a:pt x="18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58080" y="3849840"/>
              <a:ext cx="36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58080" y="3903480"/>
              <a:ext cx="70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165720" y="3795840"/>
              <a:ext cx="72720" cy="1076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182" y="227"/>
                  </a:moveTo>
                  <a:lnTo>
                    <a:pt x="136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6273720" y="3795480"/>
              <a:ext cx="1872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3790800" y="5737320"/>
            <a:ext cx="289080" cy="452160"/>
            <a:chOff x="3790800" y="5737320"/>
            <a:chExt cx="289080" cy="452160"/>
          </a:xfrm>
        </p:grpSpPr>
        <p:grpSp>
          <p:nvGrpSpPr>
            <p:cNvPr id="752" name=""/>
            <p:cNvGrpSpPr/>
            <p:nvPr/>
          </p:nvGrpSpPr>
          <p:grpSpPr>
            <a:xfrm>
              <a:off x="3790800" y="6081840"/>
              <a:ext cx="289080" cy="107640"/>
              <a:chOff x="3790800" y="6081840"/>
              <a:chExt cx="289080" cy="107640"/>
            </a:xfrm>
          </p:grpSpPr>
          <p:sp>
            <p:nvSpPr>
              <p:cNvPr id="753" name=""/>
              <p:cNvSpPr/>
              <p:nvPr/>
            </p:nvSpPr>
            <p:spPr>
              <a:xfrm>
                <a:off x="3790800" y="6081840"/>
                <a:ext cx="712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182" y="46"/>
                    </a:lnTo>
                    <a:lnTo>
                      <a:pt x="182" y="91"/>
                    </a:lnTo>
                    <a:lnTo>
                      <a:pt x="138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898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28"/>
                    </a:moveTo>
                    <a:lnTo>
                      <a:pt x="45" y="273"/>
                    </a:lnTo>
                    <a:lnTo>
                      <a:pt x="136" y="273"/>
                    </a:lnTo>
                    <a:lnTo>
                      <a:pt x="182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006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5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>
              <a:off x="3939840" y="5737320"/>
              <a:ext cx="1800" cy="21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1936800" y="3738600"/>
            <a:ext cx="100080" cy="98280"/>
          </a:xfrm>
          <a:custGeom>
            <a:avLst/>
            <a:gdLst/>
            <a:ahLst/>
            <a:rect l="l" t="t" r="r" b="b"/>
            <a:pathLst>
              <a:path w="254" h="252">
                <a:moveTo>
                  <a:pt x="0" y="252"/>
                </a:moveTo>
                <a:lnTo>
                  <a:pt x="206" y="22"/>
                </a:lnTo>
                <a:lnTo>
                  <a:pt x="2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2286000" y="3597120"/>
            <a:ext cx="13032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681280" y="3517920"/>
            <a:ext cx="133200" cy="23760"/>
          </a:xfrm>
          <a:custGeom>
            <a:avLst/>
            <a:gdLst/>
            <a:ahLst/>
            <a:rect l="l" t="t" r="r" b="b"/>
            <a:pathLst>
              <a:path w="335" h="61">
                <a:moveTo>
                  <a:pt x="0" y="61"/>
                </a:moveTo>
                <a:lnTo>
                  <a:pt x="299" y="4"/>
                </a:lnTo>
                <a:lnTo>
                  <a:pt x="3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084480" y="3468600"/>
            <a:ext cx="133560" cy="15840"/>
          </a:xfrm>
          <a:custGeom>
            <a:avLst/>
            <a:gdLst/>
            <a:ahLst/>
            <a:rect l="l" t="t" r="r" b="b"/>
            <a:pathLst>
              <a:path w="338" h="38">
                <a:moveTo>
                  <a:pt x="0" y="38"/>
                </a:moveTo>
                <a:lnTo>
                  <a:pt x="286" y="3"/>
                </a:lnTo>
                <a:lnTo>
                  <a:pt x="3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3489480" y="3440160"/>
            <a:ext cx="1346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3894120" y="3432240"/>
            <a:ext cx="13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302000" y="3435480"/>
            <a:ext cx="1350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707000" y="3454560"/>
            <a:ext cx="1350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111640" y="3494160"/>
            <a:ext cx="1350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511960" y="3565440"/>
            <a:ext cx="129960" cy="34920"/>
          </a:xfrm>
          <a:custGeom>
            <a:avLst/>
            <a:gdLst/>
            <a:ahLst/>
            <a:rect l="l" t="t" r="r" b="b"/>
            <a:pathLst>
              <a:path w="329" h="89">
                <a:moveTo>
                  <a:pt x="0" y="0"/>
                </a:moveTo>
                <a:lnTo>
                  <a:pt x="210" y="46"/>
                </a:lnTo>
                <a:lnTo>
                  <a:pt x="329" y="8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884920" y="3718080"/>
            <a:ext cx="58680" cy="118800"/>
          </a:xfrm>
          <a:custGeom>
            <a:avLst/>
            <a:gdLst/>
            <a:ahLst/>
            <a:rect l="l" t="t" r="r" b="b"/>
            <a:pathLst>
              <a:path w="150" h="304">
                <a:moveTo>
                  <a:pt x="0" y="0"/>
                </a:moveTo>
                <a:lnTo>
                  <a:pt x="103" y="74"/>
                </a:lnTo>
                <a:lnTo>
                  <a:pt x="150" y="30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36800" y="3836880"/>
            <a:ext cx="4006800" cy="408240"/>
          </a:xfrm>
          <a:custGeom>
            <a:avLst/>
            <a:gdLst/>
            <a:ahLst/>
            <a:rect l="l" t="t" r="r" b="b"/>
            <a:pathLst>
              <a:path w="10098" h="1025">
                <a:moveTo>
                  <a:pt x="0" y="0"/>
                </a:moveTo>
                <a:lnTo>
                  <a:pt x="103" y="146"/>
                </a:lnTo>
                <a:lnTo>
                  <a:pt x="305" y="288"/>
                </a:lnTo>
                <a:lnTo>
                  <a:pt x="605" y="426"/>
                </a:lnTo>
                <a:lnTo>
                  <a:pt x="994" y="553"/>
                </a:lnTo>
                <a:lnTo>
                  <a:pt x="1467" y="671"/>
                </a:lnTo>
                <a:lnTo>
                  <a:pt x="2012" y="775"/>
                </a:lnTo>
                <a:lnTo>
                  <a:pt x="2619" y="862"/>
                </a:lnTo>
                <a:lnTo>
                  <a:pt x="3276" y="933"/>
                </a:lnTo>
                <a:lnTo>
                  <a:pt x="3968" y="983"/>
                </a:lnTo>
                <a:lnTo>
                  <a:pt x="4683" y="1014"/>
                </a:lnTo>
                <a:lnTo>
                  <a:pt x="5405" y="1025"/>
                </a:lnTo>
                <a:lnTo>
                  <a:pt x="6120" y="1014"/>
                </a:lnTo>
                <a:lnTo>
                  <a:pt x="6813" y="983"/>
                </a:lnTo>
                <a:lnTo>
                  <a:pt x="7471" y="933"/>
                </a:lnTo>
                <a:lnTo>
                  <a:pt x="8079" y="862"/>
                </a:lnTo>
                <a:lnTo>
                  <a:pt x="8624" y="775"/>
                </a:lnTo>
                <a:lnTo>
                  <a:pt x="9098" y="671"/>
                </a:lnTo>
                <a:lnTo>
                  <a:pt x="9489" y="553"/>
                </a:lnTo>
                <a:lnTo>
                  <a:pt x="9790" y="426"/>
                </a:lnTo>
                <a:lnTo>
                  <a:pt x="9994" y="288"/>
                </a:lnTo>
                <a:lnTo>
                  <a:pt x="10097" y="146"/>
                </a:lnTo>
                <a:lnTo>
                  <a:pt x="1009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3811680" y="1519200"/>
            <a:ext cx="288360" cy="417600"/>
            <a:chOff x="3811680" y="1519200"/>
            <a:chExt cx="288360" cy="417600"/>
          </a:xfrm>
        </p:grpSpPr>
        <p:grpSp>
          <p:nvGrpSpPr>
            <p:cNvPr id="770" name=""/>
            <p:cNvGrpSpPr/>
            <p:nvPr/>
          </p:nvGrpSpPr>
          <p:grpSpPr>
            <a:xfrm>
              <a:off x="3811680" y="1519200"/>
              <a:ext cx="288360" cy="108000"/>
              <a:chOff x="3811680" y="1519200"/>
              <a:chExt cx="288360" cy="108000"/>
            </a:xfrm>
          </p:grpSpPr>
          <p:sp>
            <p:nvSpPr>
              <p:cNvPr id="771" name=""/>
              <p:cNvSpPr/>
              <p:nvPr/>
            </p:nvSpPr>
            <p:spPr>
              <a:xfrm>
                <a:off x="381168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3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83" y="46"/>
                    </a:lnTo>
                    <a:lnTo>
                      <a:pt x="183" y="92"/>
                    </a:lnTo>
                    <a:lnTo>
                      <a:pt x="137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91932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82" y="273"/>
                    </a:lnTo>
                    <a:lnTo>
                      <a:pt x="18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28760" y="1519200"/>
                <a:ext cx="7128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4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4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3939840" y="1720800"/>
              <a:ext cx="144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930320" y="1828800"/>
            <a:ext cx="4017960" cy="4017960"/>
          </a:xfrm>
          <a:custGeom>
            <a:avLst/>
            <a:gdLst/>
            <a:ahLst/>
            <a:rect l="l" t="t" r="r" b="b"/>
            <a:pathLst>
              <a:path w="10124" h="10124">
                <a:moveTo>
                  <a:pt x="10124" y="5063"/>
                </a:moveTo>
                <a:lnTo>
                  <a:pt x="9996" y="3936"/>
                </a:lnTo>
                <a:lnTo>
                  <a:pt x="9622" y="2866"/>
                </a:lnTo>
                <a:lnTo>
                  <a:pt x="9019" y="1906"/>
                </a:lnTo>
                <a:lnTo>
                  <a:pt x="8217" y="1106"/>
                </a:lnTo>
                <a:lnTo>
                  <a:pt x="7257" y="502"/>
                </a:lnTo>
                <a:lnTo>
                  <a:pt x="6188" y="128"/>
                </a:lnTo>
                <a:lnTo>
                  <a:pt x="5062" y="0"/>
                </a:lnTo>
                <a:lnTo>
                  <a:pt x="3934" y="128"/>
                </a:lnTo>
                <a:lnTo>
                  <a:pt x="2865" y="502"/>
                </a:lnTo>
                <a:lnTo>
                  <a:pt x="1905" y="1106"/>
                </a:lnTo>
                <a:lnTo>
                  <a:pt x="1104" y="1906"/>
                </a:lnTo>
                <a:lnTo>
                  <a:pt x="500" y="2866"/>
                </a:lnTo>
                <a:lnTo>
                  <a:pt x="126" y="3936"/>
                </a:lnTo>
                <a:lnTo>
                  <a:pt x="0" y="5063"/>
                </a:lnTo>
                <a:lnTo>
                  <a:pt x="126" y="6189"/>
                </a:lnTo>
                <a:lnTo>
                  <a:pt x="500" y="7258"/>
                </a:lnTo>
                <a:lnTo>
                  <a:pt x="1104" y="8218"/>
                </a:lnTo>
                <a:lnTo>
                  <a:pt x="1905" y="9020"/>
                </a:lnTo>
                <a:lnTo>
                  <a:pt x="2865" y="9622"/>
                </a:lnTo>
                <a:lnTo>
                  <a:pt x="3934" y="9997"/>
                </a:lnTo>
                <a:lnTo>
                  <a:pt x="5062" y="10124"/>
                </a:lnTo>
                <a:lnTo>
                  <a:pt x="6188" y="9997"/>
                </a:lnTo>
                <a:lnTo>
                  <a:pt x="7257" y="9622"/>
                </a:lnTo>
                <a:lnTo>
                  <a:pt x="8217" y="9020"/>
                </a:lnTo>
                <a:lnTo>
                  <a:pt x="9019" y="8218"/>
                </a:lnTo>
                <a:lnTo>
                  <a:pt x="9622" y="7258"/>
                </a:lnTo>
                <a:lnTo>
                  <a:pt x="9996" y="6189"/>
                </a:lnTo>
                <a:lnTo>
                  <a:pt x="10124" y="50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003640" y="18572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Terrestr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317840" y="208584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613480" y="1552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5689080" y="178128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346040" y="20858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84280" y="46767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650960" y="231444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1193760" y="4066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62120" y="1752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346040" y="1857240"/>
            <a:ext cx="1524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785280" y="3733920"/>
            <a:ext cx="14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inición anter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949360" y="4952880"/>
            <a:ext cx="301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Ángulo Horar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a part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el Meridiano Celeste del Lugar, hacia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Oeste, 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de 0 hr a 24 h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7:07:28Z</dcterms:created>
  <dc:creator>Eduardo Alvarez Ramírez</dc:creator>
  <dc:description/>
  <dc:language>en-US</dc:language>
  <cp:lastModifiedBy> ivan</cp:lastModifiedBy>
  <dcterms:modified xsi:type="dcterms:W3CDTF">2004-06-17T20:05:29Z</dcterms:modified>
  <cp:revision>286</cp:revision>
  <dc:subject/>
  <dc:title>Sin título de diapositiva</dc:title>
</cp:coreProperties>
</file>