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6D793-198E-4F19-86B6-2D7DD3DBC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620E4-8B10-496A-B015-350271BED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12B74-6732-4575-AB90-69FED61C3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DF6D8-7D89-4A67-AC5B-381E2108D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D025D-8110-48AB-A435-83F8791B5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31AA4-8F40-4851-961A-25AF69215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A6D13-095F-4CB9-87B3-ABEA6B9DA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3A6B1-B680-435D-A039-65543EEA6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A4181-6851-4EC0-9C9C-8A32AF474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C9754-1050-480B-8643-25E8B1B3E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A98EC-8073-42EE-84F7-58FCABEFD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DBBA7-282F-4968-810C-8817C7097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EA118-9A68-4A25-B416-0E48CE90FD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90720" y="533520"/>
            <a:ext cx="373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Fotogrametrí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914400" y="1219320"/>
            <a:ext cx="6934320" cy="50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 puede definir como la técnica para obtener información cuantitativa y cualitativa a partir de fotografías aére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sta técnica puede dividirse principalmente en la fotogrametría métrica y la fotointerpreta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s productos más comunes obtenidos a partir de la fotogrametría s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tanci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lev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Áre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olúme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il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vantamientos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09480" y="30492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Principio de la Fotogrametrí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0" r="4469" b="11060"/>
          <a:stretch/>
        </p:blipFill>
        <p:spPr>
          <a:xfrm>
            <a:off x="1828800" y="838080"/>
            <a:ext cx="4648320" cy="4800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990720" y="5638680"/>
            <a:ext cx="693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sión estereoscópica de un par de fotografías aéreas con recubr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066680" y="22860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Recubrimientos de los fotogram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533520" y="762120"/>
            <a:ext cx="4444920" cy="43210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1676520" y="5105520"/>
            <a:ext cx="2163600" cy="16081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257800" y="1066680"/>
            <a:ext cx="3505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 manera de poder reproducir en forma posterior el efecto de visión binocular es generando recubrimientos entre los fotogram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4"/>
          <a:srcRect l="46166" t="0" r="0" b="27185"/>
          <a:stretch/>
        </p:blipFill>
        <p:spPr>
          <a:xfrm>
            <a:off x="5715000" y="4114800"/>
            <a:ext cx="2971800" cy="23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990720" y="304920"/>
            <a:ext cx="78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Fundamentos geométricos de la Fotogrametrí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1752480" y="990720"/>
            <a:ext cx="4038840" cy="5638680"/>
            <a:chOff x="1752480" y="990720"/>
            <a:chExt cx="4038840" cy="5638680"/>
          </a:xfrm>
        </p:grpSpPr>
        <p:pic>
          <p:nvPicPr>
            <p:cNvPr id="53" name="" descr=""/>
            <p:cNvPicPr/>
            <p:nvPr/>
          </p:nvPicPr>
          <p:blipFill>
            <a:blip r:embed="rId2"/>
            <a:srcRect l="13554" t="3867" r="9144" b="3943"/>
            <a:stretch/>
          </p:blipFill>
          <p:spPr>
            <a:xfrm>
              <a:off x="1752480" y="990720"/>
              <a:ext cx="4038840" cy="563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4419720" y="182880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181480" y="34290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648320" y="49528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6477120" y="1752480"/>
                <a:ext cx="990360" cy="76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E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</m:num>
                      <m:den>
                        <m:r>
                          <m:t xml:space="preserve">H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8" name=""/>
          <p:cNvSpPr/>
          <p:nvPr/>
        </p:nvSpPr>
        <p:spPr>
          <a:xfrm>
            <a:off x="420516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6400800" y="2895480"/>
                <a:ext cx="1371600" cy="73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E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</m:num>
                      <m:den>
                        <m:r>
                          <m:t xml:space="preserve">H</m:t>
                        </m:r>
                        <m:r>
                          <m:t xml:space="preserve">−</m:t>
                        </m:r>
                        <m:r>
                          <m:t xml:space="preserve">h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0" name=""/>
          <p:cNvSpPr/>
          <p:nvPr/>
        </p:nvSpPr>
        <p:spPr>
          <a:xfrm>
            <a:off x="3886200" y="313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6248520" y="4114800"/>
                <a:ext cx="1904760" cy="80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</m:num>
                      <m:den>
                        <m:r>
                          <m:t xml:space="preserve">H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990720" y="53352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Tipos de fotogramas, visión estereoscóp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rcRect l="0" t="2109" r="6439" b="0"/>
          <a:stretch/>
        </p:blipFill>
        <p:spPr>
          <a:xfrm>
            <a:off x="609480" y="1752480"/>
            <a:ext cx="7772400" cy="317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914400" y="228600"/>
            <a:ext cx="579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Restitución Aerofotogramétr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795240" y="1192320"/>
            <a:ext cx="7551720" cy="44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914400" y="380880"/>
            <a:ext cx="579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Fotografía Aérea e interpret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572000" y="3352680"/>
            <a:ext cx="4356000" cy="32781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6095880" y="914400"/>
            <a:ext cx="2103480" cy="21337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4"/>
          <a:stretch/>
        </p:blipFill>
        <p:spPr>
          <a:xfrm>
            <a:off x="457200" y="990720"/>
            <a:ext cx="3962520" cy="34923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5"/>
          <a:stretch/>
        </p:blipFill>
        <p:spPr>
          <a:xfrm>
            <a:off x="304920" y="5105520"/>
            <a:ext cx="3962160" cy="15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533520"/>
            <a:ext cx="579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Levantamientos Satelit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609480" y="1600200"/>
            <a:ext cx="2795760" cy="22795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3886200" y="2133720"/>
            <a:ext cx="4495680" cy="36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2T00:53:58Z</dcterms:created>
  <dc:creator> ivan</dc:creator>
  <dc:description/>
  <dc:language>en-US</dc:language>
  <cp:lastModifiedBy> ivan</cp:lastModifiedBy>
  <dcterms:modified xsi:type="dcterms:W3CDTF">2003-10-21T18:26:20Z</dcterms:modified>
  <cp:revision>5</cp:revision>
  <dc:subject/>
  <dc:title>Presentación de PowerPoint</dc:title>
</cp:coreProperties>
</file>