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ct" ContentType="image/x-pict"/>
  <Override PartName="/ppt/media/image3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3CC4-805F-45C8-806B-EC4ED03F144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8848-57D2-4473-89C5-709146406CA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EFD6-B5D7-4B7E-BFCE-8345FB1E892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417F-FE0D-4789-B050-20EBF944906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3E75-E396-4823-8FB2-974F0646FED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2F04-814A-483E-AEEC-B2578A7D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0F6B-4BF1-4545-A280-EBB7499B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F330-7559-4237-BFC3-65F65A4F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190-7986-4858-9721-0E7566C8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FC5C-CA96-4440-8DAD-73BEBEF1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69B6-1651-4F11-A743-8E9C7C2A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AE05-570D-433A-8368-992AB9BE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4208-CBF5-4BD9-B5F4-2A063517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3FA5-8C0F-46DD-B67B-BD8A4B62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2A55-08B5-47CF-89B2-324249E3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F262-2911-42FD-88BF-9AA68E92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EB2-0F14-4A6F-8130-8DDCF953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5085-A924-4BBF-A67C-709ECF18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F1CB-95BB-44FA-BCF8-A85B7DD3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D7E6-9A16-4A39-86CE-7F8E4A9D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DD4B-A66E-43D4-A9A3-67E1ABA2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0F4E-8082-4D89-8FED-AAB6218E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E74B9-79AB-4FFA-B380-E6A5E714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DC51E-E291-4E97-951B-8A692F4D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77426-F118-4A10-9291-2A6203B6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2F520-71AA-447A-9593-05220452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19AD1-A226-4B4C-8790-B553153A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B07-0642-4E3D-B28D-4832A926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14FF2-2223-42C5-8685-AF058587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A4DF9-FE1F-4D08-8618-2537D32C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FE056-40F5-4C61-BEA6-229D8D07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FD4CD-341C-419D-8EA0-8695DF0C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4AD4A-F99B-41F2-B9A1-685271F3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66366-BF71-4907-9A18-2B985F0C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E02A3-5DCB-4BC7-A1D1-7743A4E2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1007D-60CB-4DF8-B74F-4C83AE19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45374-6965-4F58-AE25-CEE77D9E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0F23B-20C9-4B46-9EB8-178F2266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FD35-8A20-4B67-8E2E-4A1B4B99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22B11-2D21-49DA-9D93-5A923020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951EA-5C9D-41AA-84ED-016B9C65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B67C6-76C0-4289-877F-E49BB384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CDB22-4693-42DE-B3CC-840B82E3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61263-C164-406C-9104-ECB950C8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3B0CF-FFF4-4ACE-950A-56E64002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B8FBF-A0BA-4A24-AC8A-462D9773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7F5A3-7133-4DEB-A7B5-9F3C1089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AAD46-6510-4C8D-B2B8-96C0DC25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36ACF-609A-4F13-89AE-39439842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68A-B025-4D39-91BD-FF5D7DE5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78096A-4126-4C2D-A2E0-9801554B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FD945-6844-4DAD-9882-149D9D94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CA3F14-C4FF-4B91-A91D-E1946E58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7821BC-6A18-44FF-A418-F2DB5851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B88A2-EF25-46F8-A9C2-503BEC9E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A02DB1-9F84-47EF-99A5-13226166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51B6A-E181-470D-B168-6F215B7A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9D1D1-0E07-4381-A88F-1751C408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3C48A-34C9-4DFD-95BE-5916EDB5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74FB45-6E0B-4BF0-9672-403B1A87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950B-9759-48A8-A1A9-C20780C1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632E91-7F12-491F-A528-44352B0E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C8D03-B372-45C9-A479-369655BE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13E9F-2C19-46F7-9801-684F7BF2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ADB1A1-368E-4777-99D9-EF39E63A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2A2ED9-CC55-4D1E-9775-485CAE01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1B521B-465C-42D0-A651-E0155306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E99AE2-E976-4197-A7BD-0A3F0229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E18FA-142D-4413-A547-99ADC91E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B552B1-3678-4B53-A9ED-A0F80A50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58A9D-49AF-44F6-B6D2-550A1307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8DD-6683-4971-AD10-E2324569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8A6A7F-3A44-4E90-9679-D1AC7959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2BC02-17B6-49EC-8DCE-9879D734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3D368C-4ECC-4789-B0A7-8D525F4A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B5D7E8-34A5-4ED5-8762-C74BA90F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1811AC-316D-4D6F-BF2A-0112CD02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437840-D340-4F6D-AA35-53A6DD5B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ECF54-E5FE-4DDB-90B2-A4999ADE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8C1C54-53D6-4894-9D1E-C20313F7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5475AF-3572-42DB-82DA-AA6FFF93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CC28D7-F754-481F-A03B-1280B54D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C38-F723-47F1-9AE6-889B5B21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0D0E0F-98FA-4842-A9FF-8DDB8311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3D68EA-B45C-4775-8A80-39F8D8DB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E2DED8-0FF9-478C-8168-D7F8EF7F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2B875D-6282-4691-928D-4907AF65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3E8227-CE5A-4257-A831-1B5322A9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39A-4DF7-4503-8D49-E1BA40BF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0035-98F3-4960-AC43-F1B05EB5FB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EDFB-159C-431B-A74A-5AC3852D66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C490-F469-4EC4-A162-CD5CB65462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AA00-17F7-43E5-A95D-F15E851210A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5092-DD9C-4B8C-B427-E7189600DD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E567-5EE2-465B-BA84-48D64AE0E9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20FF-7E57-4144-92C7-7D130D8629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831960" y="2255760"/>
          <a:ext cx="7781760" cy="265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2255760"/>
                    <a:ext cx="77817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425520" y="345960"/>
          <a:ext cx="8345520" cy="689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5960"/>
                    <a:ext cx="8345520" cy="689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506520" y="407880"/>
          <a:ext cx="8184960" cy="65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07880"/>
                    <a:ext cx="818496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558720" y="399960"/>
          <a:ext cx="8221680" cy="637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399960"/>
                    <a:ext cx="822168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1020600" y="754200"/>
          <a:ext cx="7209000" cy="52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754200"/>
                    <a:ext cx="7209000" cy="52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835200" y="496800"/>
          <a:ext cx="7775280" cy="61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496800"/>
                    <a:ext cx="777528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5"/>
          <p:cNvSpPr/>
          <p:nvPr/>
        </p:nvSpPr>
        <p:spPr>
          <a:xfrm>
            <a:off x="468360" y="292680"/>
            <a:ext cx="8424720" cy="64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2.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cribir una función que reciba dos enteros y entregue el mayor de los dos (sin usar Math.max). Ej: int m = mayor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1055520" y="684360"/>
          <a:ext cx="767088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684360"/>
                    <a:ext cx="767088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434880" y="274680"/>
          <a:ext cx="798984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74680"/>
                    <a:ext cx="798984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Line 8"/>
          <p:cNvSpPr/>
          <p:nvPr/>
        </p:nvSpPr>
        <p:spPr>
          <a:xfrm>
            <a:off x="6227640" y="4076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9"/>
          <p:cNvSpPr/>
          <p:nvPr/>
        </p:nvSpPr>
        <p:spPr>
          <a:xfrm flipH="1">
            <a:off x="3850920" y="6308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Victor Ramiro</cp:lastModifiedBy>
  <cp:lastPrinted>2006-03-17T17:08:51Z</cp:lastPrinted>
  <dcterms:modified xsi:type="dcterms:W3CDTF">2010-03-31T03:26:30Z</dcterms:modified>
  <cp:revision>40</cp:revision>
  <dc:subject/>
  <dc:title>Sin título de diapositiva</dc:title>
</cp:coreProperties>
</file>