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ct" ContentType="image/x-pict"/>
  <Override PartName="/ppt/media/image2.pct" ContentType="image/x-pict"/>
  <Override PartName="/ppt/media/image4.wmf" ContentType="image/x-wmf"/>
  <Override PartName="/ppt/media/image3.pct" ContentType="image/x-pict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EF61FD-DE63-4C63-8992-EC3028ACB0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9CC1D9-BDAD-48EA-A2CB-1A1941D770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4: instrucción w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4C6D35-6849-4410-AA2E-2E94A82CFB8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B1B-62C8-4B6E-BD80-93BBC79A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48E-DE1E-4737-A64D-A0F17725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C489-B3A5-46AE-A433-1556997E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6CC-F14D-4AE1-BE33-8C1601AA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7FA9-9571-4413-8595-E6FD523A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A20E-EF67-4F8C-8259-5B3C9B19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079F-CD16-4565-9097-E5D5B1C0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DB3B-451A-4C52-B602-DF6AB36B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4051-723E-4262-8C25-940081BB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3CA5-3B36-44ED-822E-9FB59B8E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0A35-BAC8-4F4C-B384-82F0FD2B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E53-4903-4EDC-BE5A-A3BC774E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5381-0CDE-42D0-BD86-D21F4BB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67E4-89E1-4731-A55A-2FAAD56F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5628-1E0C-493D-B61F-36843F85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E473-D03F-44CA-A631-DDA6605C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339C-844D-446C-B2E8-BBF7B697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15751-0BF2-44FE-9803-722F2026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44819-7BFA-41BD-B06B-A147DE5B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59D06-1BDA-42FC-BB67-E3CB0457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FEFFE0-13A9-439A-84F7-B9B1290E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A0220F-20A6-40A0-85AD-DC4FE116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E5E-B9CC-4079-97AD-6A9EEBAF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E473C5-34CC-44DC-9CD1-D6B74ADC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2762A-E04E-4087-8231-65DDCEAB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E2C67-866A-40CE-9537-CCBD2AB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9E9E13-4183-4010-99ED-EA960692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98D57B-3330-4D4C-A79F-F58EF4DB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06AC6-8B11-44C5-8859-37981658A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8F32F1-AA0A-484D-B6DD-737366DC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BC918-02AD-4C81-8D1E-28EADF81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8D2C-822B-428B-BEFB-4C790E78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F9E5-3248-4E34-857B-F30457A4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69B-09DE-490A-8B8E-2E088599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759D-C715-495F-848C-81D47053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A358-1669-4B96-BA6E-C0460061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25680-38AB-4DE2-AA3F-FCC49A09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7E819-7E0E-4504-8335-971AD01A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006E-4379-41EE-9933-9FF18BDA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CC85A-9973-409B-B1B8-183D732C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6475-56D8-4122-8FF9-B4B74B84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E021-81B7-4C1C-9CA1-815D5E8D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05B5-6E81-4F0A-A956-14AF1D9C6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891D64-7E2E-4897-8916-ACE2ACAA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E04-891E-49F2-9198-92E717E7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6A885-A9D9-4E2C-851F-04F2667C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B08829-8B3E-4E19-A903-8906C5C8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E1D22B-D87A-483B-9F09-37609DB6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85FA5-FA0B-4F1E-899D-02AA396C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09CC5-1603-4F2C-A60F-6DBDE8E5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98AF16-C2ED-4EE0-89D5-5983CF0A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B9D22-CEFE-4D42-A473-32DAA706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EF812D-1971-4677-A1E3-860BA8EC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D3C5FE-A681-4BF3-B412-F315C10D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57FA7-452A-46DD-B268-D9EA4A3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A9AA-274F-46E6-898A-E2E66456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82C00-3A13-4F78-A2D0-975A3D45A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0C64C-756A-4D5A-91F3-C6B933A3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431B4-730E-479E-AAF1-89FF5EB7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D4FADB-566A-4848-A5E7-29BEB33C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23F3F0-9662-4F2B-BE72-E41BC4F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3A06F-D266-42BB-935A-A434AB97D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98380-8928-482E-9945-123C893A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6FA5A-297B-44D2-87A4-7FF1EEF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C8B891-3DE4-4A2C-BDC3-1456226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35C628-0481-47D4-96DB-AA74523A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D21-A7EF-43C7-9398-BC0344F2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C21C6C-F134-47E4-BC03-97C72467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A6F9EE-65AB-4249-92AC-9E00B01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AC25C-6315-411D-B70F-0F173954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B36E3C-76F3-40A8-82CE-1AD8DB8B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63C968-C85F-4525-994B-2A821000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0A859D-A86C-4AA6-A468-D02CA62A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96180E-4163-4990-AD1F-7A879BBA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072BA5-EC32-414B-8725-D1D3EAA8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77FB2-11AC-468E-B15B-E6476B4D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A0AF43-72E0-45AC-B8E7-E347988D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EEF-BF5E-4598-B94E-FD23BA1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7A75B-DDE0-44E4-BB21-0C6F1175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8C7EE3-9E2B-4727-97D5-641167E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39682-4A49-4939-A464-2CFBC457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B34CDF-6975-4952-AD52-D85C175A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10F19-4F28-40B8-8265-0429185C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0D8CB-344E-4304-B3F2-CB97201B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36A6C-01F1-44B0-AF79-3B7CD88E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1F4B8-6D9E-41E2-8278-AC73E5BA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46D2F-18DB-459E-806D-10F8447D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0A8C8-A099-4F17-8FD8-9AF19067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79C5-F25F-463C-988C-7FE7FCA8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A2372-9066-403E-A51E-5F3D1B9D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61EC6-E32E-4EB0-BA3C-35379812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43997-5AD2-42DC-87D9-8D174A36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09A4A-2F21-4723-BE24-E590766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084F9-6049-407F-93FE-CF560D0A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27427-4399-4952-A07A-93D467BE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5523B-2FAF-42F2-B359-F85BD661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8D4B-5ADD-441E-82DF-1C22D98B8B7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703E-4767-4E3C-A3B3-FEB5E30160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ABB9-2560-4AE8-A53A-3D0A321C78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94FC-F00F-4820-9018-4FCDFAFA34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BC37-1824-40DD-BCED-E4A15AA77A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4AF4-B0D5-4C05-9C56-00D5417612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70A-2038-49AE-AF61-63A10DF5E38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200E5-FBAE-432E-B490-3873F96479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992160" y="2000160"/>
          <a:ext cx="7526520" cy="306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000160"/>
                    <a:ext cx="752652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5"/>
          <p:cNvSpPr/>
          <p:nvPr/>
        </p:nvSpPr>
        <p:spPr>
          <a:xfrm>
            <a:off x="331920" y="2685960"/>
            <a:ext cx="8202600" cy="31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"/>
          <p:cNvGraphicFramePr/>
          <p:nvPr/>
        </p:nvGraphicFramePr>
        <p:xfrm>
          <a:off x="390600" y="444600"/>
          <a:ext cx="8585280" cy="69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44600"/>
                    <a:ext cx="8585280" cy="69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511200" y="523800"/>
          <a:ext cx="8350200" cy="585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23800"/>
                    <a:ext cx="8350200" cy="585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0" name=""/>
          <p:cNvGraphicFramePr/>
          <p:nvPr/>
        </p:nvGraphicFramePr>
        <p:xfrm>
          <a:off x="870120" y="568440"/>
          <a:ext cx="773244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0120" y="568440"/>
                    <a:ext cx="7732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736560" y="550800"/>
          <a:ext cx="8194680" cy="61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550800"/>
                    <a:ext cx="819468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1187280" y="806400"/>
          <a:ext cx="6624720" cy="6066000"/>
        </p:xfrm>
        <a:graphic>
          <a:graphicData uri="http://schemas.openxmlformats.org/drawingml/2006/table">
            <a:tbl>
              <a:tblPr/>
              <a:tblGrid>
                <a:gridCol w="619200"/>
                <a:gridCol w="4205520"/>
                <a:gridCol w="1800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suma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uble 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 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suma+numero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ma=1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.println(…n…suma/n…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 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U.readDouble(“…”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ero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umero!=0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148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49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479520" y="444600"/>
          <a:ext cx="8478720" cy="706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444600"/>
                    <a:ext cx="8478720" cy="70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1092240" y="595440"/>
          <a:ext cx="76341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595440"/>
                    <a:ext cx="76341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712800" y="592200"/>
          <a:ext cx="7005600" cy="580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592200"/>
                    <a:ext cx="70056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709560" y="595440"/>
          <a:ext cx="746604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595440"/>
                    <a:ext cx="746604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704880" y="1362240"/>
          <a:ext cx="7978680" cy="443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362240"/>
                    <a:ext cx="7978680" cy="44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5" name=""/>
          <p:cNvGraphicFramePr/>
          <p:nvPr/>
        </p:nvGraphicFramePr>
        <p:xfrm>
          <a:off x="390600" y="355680"/>
          <a:ext cx="8558280" cy="64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355680"/>
                    <a:ext cx="855828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399960" y="257040"/>
          <a:ext cx="8309160" cy="695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57040"/>
                    <a:ext cx="8309160" cy="695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704880" y="2265480"/>
          <a:ext cx="797868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265480"/>
                    <a:ext cx="797868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380880" y="345960"/>
          <a:ext cx="860292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45960"/>
                    <a:ext cx="860292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JECUCIÓN DEL PROGRA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85800" y="1981080"/>
          <a:ext cx="7918560" cy="414504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3:38:12Z</dcterms:created>
  <dc:creator>jalvarez</dc:creator>
  <dc:description/>
  <dc:language>en-US</dc:language>
  <cp:lastModifiedBy>Victor Ramiro</cp:lastModifiedBy>
  <cp:lastPrinted>2005-01-12T14:41:26Z</cp:lastPrinted>
  <dcterms:modified xsi:type="dcterms:W3CDTF">2010-04-07T04:26:59Z</dcterms:modified>
  <cp:revision>57</cp:revision>
  <dc:subject/>
  <dc:title>Sin título de diapositiva</dc:title>
</cp:coreProperties>
</file>